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648-5B69-4CB8-89D2-F1F01E8C0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817-7CDF-45E7-8E79-0FFD964ED0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1E8-CC76-4D3B-A3BD-83C1F1F4D5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B32-C255-4B1A-84A7-17606A60B3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3D7-CF6A-43F0-AA0E-1EEB20C75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E6E-DC25-44D5-985B-AA6A244C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5FF-2453-4398-89E5-3FA8158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202-F77E-4253-9790-43DACA40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9B4-54B0-4C7D-9E88-DBC19035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8CC9-47BB-4906-A5EC-62F8E105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15AB-2FE8-48A5-A0DF-D1D2BA3D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BA4-E5A3-4BE6-83DF-810828C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05ED-F308-415A-8DBC-EF8ECB7A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9F99-8678-4335-9A24-2CCD013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1187-D090-4755-9BA3-7A876CD7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BF7-18E8-4AC7-8581-EC2DF38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EC6-E247-432C-AAAD-F747629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B82-B1EE-4168-B120-76D7178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D74-2E91-404A-B906-FA018E5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4FFB-CE40-48D1-8851-364ED1E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261-3788-4A1A-B7C2-7B77C307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F6C-B290-407D-BC2F-6ADBB997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AA7-7BBF-42AD-B8FE-645AE0D3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479-5732-4F58-A96D-CF1E7C7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758-6015-4A92-90BC-5D3309A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51C-0231-4C89-BC28-B33543F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140-48C5-4E19-88DD-F08F824B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301-8CD2-4152-A301-4238F5F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44B-311B-40AC-BEBE-B652611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3D0-8833-4CE4-AD86-2F342A9D338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153-265C-46A1-99F0-77AA6B31A56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вторение по теме: «Слова, которые пишутся с заглавной буквы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4920" y="1341000"/>
            <a:ext cx="8856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e2ff"/>
                </a:solidFill>
                <a:latin typeface="Times New Roman"/>
              </a:rPr>
              <a:t>Упражнение 22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ИРАЛАМАРГАРИТАМАРГАРИТКИНАГ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15800" y="39337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</a:rPr>
              <a:t>Собирала Маргарита маргаритки на гор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50920" y="2852640"/>
            <a:ext cx="82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c090"/>
                </a:solidFill>
                <a:latin typeface="Times New Roman"/>
              </a:rPr>
              <a:t>СОБИРАЛА МАРГАРИТА МАРГАРИТКИ НА Г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D:\Документы\Desktop\s1200.jpg"/>
          <p:cNvPicPr/>
          <p:nvPr/>
        </p:nvPicPr>
        <p:blipFill>
          <a:blip r:embed="rId2"/>
          <a:stretch/>
        </p:blipFill>
        <p:spPr>
          <a:xfrm>
            <a:off x="6138720" y="4651200"/>
            <a:ext cx="24987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1258920" y="1052640"/>
            <a:ext cx="612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лове главное – это его значение. Иногда от значения слова зависит его напис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755640" y="620640"/>
            <a:ext cx="7488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Сегодня на уроке 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крепили умение писать слов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звивали  свою речь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рамотно и красиво писа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268360" y="2205000"/>
            <a:ext cx="44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248000" y="263304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 Тётя Соня и дядя – соня»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есть тётя Со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есть дядя- со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ять будильников трезвоня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часа в квартире зв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т кашу тётя Со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ядя – соня смотрит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j0343297"/>
          <p:cNvPicPr/>
          <p:nvPr/>
        </p:nvPicPr>
        <p:blipFill>
          <a:blip r:embed="rId1"/>
          <a:stretch/>
        </p:blipFill>
        <p:spPr>
          <a:xfrm>
            <a:off x="468360" y="404640"/>
            <a:ext cx="3489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50920" y="333360"/>
            <a:ext cx="842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Я ЛЮБЛЮ ГУЛЯТЬ С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ШАРИКОМ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2"/>
          <p:cNvSpPr/>
          <p:nvPr/>
        </p:nvSpPr>
        <p:spPr>
          <a:xfrm flipH="1">
            <a:off x="4066920" y="333360"/>
            <a:ext cx="144360" cy="1429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6"/>
          <p:cNvSpPr/>
          <p:nvPr/>
        </p:nvSpPr>
        <p:spPr>
          <a:xfrm flipH="1">
            <a:off x="1258560" y="1211400"/>
            <a:ext cx="144360" cy="1425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 flipH="1">
            <a:off x="6443280" y="385920"/>
            <a:ext cx="144360" cy="1425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4"/>
          <p:cNvSpPr/>
          <p:nvPr/>
        </p:nvSpPr>
        <p:spPr>
          <a:xfrm>
            <a:off x="2843280" y="1353960"/>
            <a:ext cx="36036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D:\Документы\Desktop\21580624cf40327.jpg"/>
          <p:cNvPicPr/>
          <p:nvPr/>
        </p:nvPicPr>
        <p:blipFill>
          <a:blip r:embed="rId1"/>
          <a:stretch/>
        </p:blipFill>
        <p:spPr>
          <a:xfrm>
            <a:off x="5580000" y="2457360"/>
            <a:ext cx="2952720" cy="3679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48320" y="1600200"/>
            <a:ext cx="3308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6" descr="D:\Документы\Desktop\fec7159561aa49937277e67fbaa6665b.png"/>
          <p:cNvPicPr/>
          <p:nvPr/>
        </p:nvPicPr>
        <p:blipFill>
          <a:blip r:embed="rId2"/>
          <a:stretch/>
        </p:blipFill>
        <p:spPr>
          <a:xfrm>
            <a:off x="900000" y="2247840"/>
            <a:ext cx="2519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0"/>
          <p:cNvSpPr txBox="1"/>
          <p:nvPr/>
        </p:nvSpPr>
        <p:spPr>
          <a:xfrm>
            <a:off x="7308720" y="3429000"/>
            <a:ext cx="13669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468360" y="1052640"/>
            <a:ext cx="71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слова , которые звучат одинаково, пишутся то с заглавной, то с маленькой 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79280" y="260280"/>
            <a:ext cx="8496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Я люблю гулять с щенком Шариком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D:\Документы\Desktop\21580624cf40327.jpg"/>
          <p:cNvPicPr/>
          <p:nvPr/>
        </p:nvPicPr>
        <p:blipFill>
          <a:blip r:embed="rId1"/>
          <a:stretch/>
        </p:blipFill>
        <p:spPr>
          <a:xfrm>
            <a:off x="2771640" y="2325600"/>
            <a:ext cx="3240360" cy="403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2771640" y="404640"/>
            <a:ext cx="144720" cy="144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3"/>
          <p:cNvSpPr/>
          <p:nvPr/>
        </p:nvSpPr>
        <p:spPr>
          <a:xfrm flipH="1">
            <a:off x="1171440" y="1330200"/>
            <a:ext cx="144720" cy="144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 flipH="1">
            <a:off x="7380000" y="422280"/>
            <a:ext cx="14436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15"/>
          <p:cNvSpPr/>
          <p:nvPr/>
        </p:nvSpPr>
        <p:spPr>
          <a:xfrm flipH="1">
            <a:off x="4248000" y="476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11"/>
          <p:cNvSpPr/>
          <p:nvPr/>
        </p:nvSpPr>
        <p:spPr>
          <a:xfrm>
            <a:off x="2340000" y="1474920"/>
            <a:ext cx="2160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468360" y="333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Я люблю гулять с воздушным шарик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D:\Документы\Desktop\fec7159561aa49937277e67fbaa6665b.png"/>
          <p:cNvPicPr/>
          <p:nvPr/>
        </p:nvPicPr>
        <p:blipFill>
          <a:blip r:embed="rId1"/>
          <a:stretch/>
        </p:blipFill>
        <p:spPr>
          <a:xfrm>
            <a:off x="2700360" y="2349360"/>
            <a:ext cx="2535120" cy="4121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3"/>
          <p:cNvSpPr/>
          <p:nvPr/>
        </p:nvSpPr>
        <p:spPr>
          <a:xfrm flipH="1">
            <a:off x="4500720" y="549360"/>
            <a:ext cx="142560" cy="1429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12"/>
          <p:cNvSpPr/>
          <p:nvPr/>
        </p:nvSpPr>
        <p:spPr>
          <a:xfrm flipH="1">
            <a:off x="5867280" y="1484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 flipH="1">
            <a:off x="2484000" y="1484280"/>
            <a:ext cx="1429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4"/>
          <p:cNvSpPr/>
          <p:nvPr/>
        </p:nvSpPr>
        <p:spPr>
          <a:xfrm flipH="1">
            <a:off x="6227640" y="557280"/>
            <a:ext cx="144720" cy="1443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1"/>
          <p:cNvSpPr/>
          <p:nvPr/>
        </p:nvSpPr>
        <p:spPr>
          <a:xfrm>
            <a:off x="1187280" y="1557360"/>
            <a:ext cx="28908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7308720" y="1557360"/>
            <a:ext cx="28764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476360" y="429264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, 2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71640" y="1125360"/>
            <a:ext cx="734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ва, которые пишутся с заглавной бук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84720" y="5661000"/>
            <a:ext cx="4859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мина О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еплять умение писать слова с заглавной бук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свою реч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мотно и красиво пис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ь друг друг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меть уступа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меть договариватьс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 нашим окном расцвела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и моя подруга ______ учимся во втором класс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огороде росла зелёная ___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клетке сидел попугай ___________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195640" y="24145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ро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68280" y="35971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Ро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937120" y="24051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петр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067440" y="35971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c090"/>
                </a:solidFill>
                <a:latin typeface="Times New Roman"/>
              </a:rPr>
              <a:t>Петр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56:24Z</dcterms:created>
  <dc:creator>Игорь</dc:creator>
  <dc:description/>
  <dc:language>en-US</dc:language>
  <cp:lastModifiedBy>777</cp:lastModifiedBy>
  <dcterms:modified xsi:type="dcterms:W3CDTF">2019-11-26T06:39:46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20000000000010243100207f6000400038000</vt:lpwstr>
  </property>
</Properties>
</file>