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3F4F-F74D-4111-809C-3EF7F0DFC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FC60-D91F-4F5A-86C6-0CB264692D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D265-CEC6-4B41-BBAE-EC1A3602C1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6351-F89F-45B7-AF5C-1425594FD6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F0AC-D5E3-43C7-A976-42D76BF4C8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1C0-FECD-4D9C-B16E-06C29860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9B6-7C4A-4D2C-9B14-D2795C89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080-98C4-4509-B084-02B80857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753-12FC-4AF4-A1A0-3243C70B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A580-3E10-4E62-BD8D-0D504C1F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145B-C221-4B35-A77B-E8E47606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17B0-A991-4C44-A96E-D5A0C853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2C01-FB6D-43BC-B1AF-9D58EE04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36E8-869D-492F-BC9B-755AC193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27EC-F590-4BD1-94D8-4FEC6B6C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8057-1F36-49B9-9C1B-3CC8B2FC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002-EB85-4664-B2BC-7227C550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EFB8-EB80-42C7-BDDC-C873E13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271A-5A9F-4659-8822-2D6FF82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72F5-B11E-4C61-A1A4-4F76094A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ECAE-E79C-4B53-94B5-701A4661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CD49-D575-4031-B47A-74D39394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5D5-D8C4-44EF-8D11-D74B0DD3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43A-AA70-4EF0-B84F-03CA640F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E8D-E255-419D-8379-50DFBCF2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A7B-F416-4F63-A81E-F083D115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5D9-8ADF-4149-9A10-99FE420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DBD-91B4-4CEC-8359-3045E7C4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C2F-1C21-40B8-A176-0578F751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C58E-B15B-4AF0-A7EF-F0B67D5ED37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6028-47EF-40AF-A54F-14EC84DFF61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5280" y="90756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вторение по теме: «Слова, которые пишутся с заглавной буквы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4920" y="1341000"/>
            <a:ext cx="8856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e2ff"/>
                </a:solidFill>
                <a:latin typeface="Times New Roman"/>
              </a:rPr>
              <a:t>Упражнение 22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БИРАЛАМАРГАРИТАМАРГАРИТКИНАГО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15800" y="393372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c090"/>
                </a:solidFill>
                <a:latin typeface="Times New Roman"/>
              </a:rPr>
              <a:t>Собирала Маргарита маргаритки на гор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50920" y="2852640"/>
            <a:ext cx="823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Times New Roman"/>
              </a:rPr>
              <a:t>СОБИРАЛА МАРГАРИТА МАРГАРИТКИ НА Г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D:\Документы\Desktop\s1200.jpg"/>
          <p:cNvPicPr/>
          <p:nvPr/>
        </p:nvPicPr>
        <p:blipFill>
          <a:blip r:embed="rId2"/>
          <a:stretch/>
        </p:blipFill>
        <p:spPr>
          <a:xfrm>
            <a:off x="6138720" y="4651200"/>
            <a:ext cx="24987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1258920" y="1052640"/>
            <a:ext cx="612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лове главное – это его значение. Иногда от значения слова зависит его написа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4"/>
          <p:cNvSpPr/>
          <p:nvPr/>
        </p:nvSpPr>
        <p:spPr>
          <a:xfrm>
            <a:off x="755640" y="620640"/>
            <a:ext cx="7488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Сегодня на уроке 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акрепили умение писать слов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звивали  свою речь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рамотно и красиво писал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4"/>
          <p:cNvSpPr/>
          <p:nvPr/>
        </p:nvSpPr>
        <p:spPr>
          <a:xfrm>
            <a:off x="2268360" y="2205000"/>
            <a:ext cx="44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248000" y="2633040"/>
            <a:ext cx="48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 Тётя Соня и дядя – соня»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меня есть тётя Сон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меня есть дядя- со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ять будильников трезвоня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часа в квартире зво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т кашу тётя Сон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ядя – соня смотрит с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j0343297"/>
          <p:cNvPicPr/>
          <p:nvPr/>
        </p:nvPicPr>
        <p:blipFill>
          <a:blip r:embed="rId1"/>
          <a:stretch/>
        </p:blipFill>
        <p:spPr>
          <a:xfrm>
            <a:off x="468360" y="404640"/>
            <a:ext cx="3489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50920" y="333360"/>
            <a:ext cx="842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Я ЛЮБЛЮ ГУЛЯТЬ С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ШАРИКОМ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2"/>
          <p:cNvSpPr/>
          <p:nvPr/>
        </p:nvSpPr>
        <p:spPr>
          <a:xfrm flipH="1">
            <a:off x="4066920" y="333360"/>
            <a:ext cx="144360" cy="1429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6"/>
          <p:cNvSpPr/>
          <p:nvPr/>
        </p:nvSpPr>
        <p:spPr>
          <a:xfrm flipH="1">
            <a:off x="1258560" y="1211400"/>
            <a:ext cx="144360" cy="1425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ая соединительная линия 7"/>
          <p:cNvSpPr/>
          <p:nvPr/>
        </p:nvSpPr>
        <p:spPr>
          <a:xfrm flipH="1">
            <a:off x="6443280" y="385920"/>
            <a:ext cx="144360" cy="1425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4"/>
          <p:cNvSpPr/>
          <p:nvPr/>
        </p:nvSpPr>
        <p:spPr>
          <a:xfrm>
            <a:off x="2843280" y="1353960"/>
            <a:ext cx="36036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D:\Документы\Desktop\21580624cf40327.jpg"/>
          <p:cNvPicPr/>
          <p:nvPr/>
        </p:nvPicPr>
        <p:blipFill>
          <a:blip r:embed="rId1"/>
          <a:stretch/>
        </p:blipFill>
        <p:spPr>
          <a:xfrm>
            <a:off x="5580000" y="2457360"/>
            <a:ext cx="2952720" cy="3679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48320" y="1600200"/>
            <a:ext cx="33084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6" descr="D:\Документы\Desktop\fec7159561aa49937277e67fbaa6665b.png"/>
          <p:cNvPicPr/>
          <p:nvPr/>
        </p:nvPicPr>
        <p:blipFill>
          <a:blip r:embed="rId2"/>
          <a:stretch/>
        </p:blipFill>
        <p:spPr>
          <a:xfrm>
            <a:off x="900000" y="2247840"/>
            <a:ext cx="2519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0"/>
          <p:cNvSpPr txBox="1"/>
          <p:nvPr/>
        </p:nvSpPr>
        <p:spPr>
          <a:xfrm>
            <a:off x="7308720" y="3429000"/>
            <a:ext cx="136692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00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468360" y="1052640"/>
            <a:ext cx="719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чему слова , которые звучат одинаково, пишутся то с заглавной, то с маленькой  букв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179280" y="260280"/>
            <a:ext cx="8496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Я люблю гулять с щенком Шариком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D:\Документы\Desktop\21580624cf40327.jpg"/>
          <p:cNvPicPr/>
          <p:nvPr/>
        </p:nvPicPr>
        <p:blipFill>
          <a:blip r:embed="rId1"/>
          <a:stretch/>
        </p:blipFill>
        <p:spPr>
          <a:xfrm>
            <a:off x="2771640" y="2325600"/>
            <a:ext cx="3240360" cy="403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 flipH="1">
            <a:off x="2771640" y="404640"/>
            <a:ext cx="144720" cy="1447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13"/>
          <p:cNvSpPr/>
          <p:nvPr/>
        </p:nvSpPr>
        <p:spPr>
          <a:xfrm flipH="1">
            <a:off x="1171440" y="1330200"/>
            <a:ext cx="144720" cy="1447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14"/>
          <p:cNvSpPr/>
          <p:nvPr/>
        </p:nvSpPr>
        <p:spPr>
          <a:xfrm flipH="1">
            <a:off x="7380000" y="422280"/>
            <a:ext cx="144360" cy="1443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15"/>
          <p:cNvSpPr/>
          <p:nvPr/>
        </p:nvSpPr>
        <p:spPr>
          <a:xfrm flipH="1">
            <a:off x="4248000" y="476280"/>
            <a:ext cx="144720" cy="1443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ая соединительная линия 11"/>
          <p:cNvSpPr/>
          <p:nvPr/>
        </p:nvSpPr>
        <p:spPr>
          <a:xfrm>
            <a:off x="2340000" y="1474920"/>
            <a:ext cx="21600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468360" y="333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Я люблю гулять с воздушным шарико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D:\Документы\Desktop\fec7159561aa49937277e67fbaa6665b.png"/>
          <p:cNvPicPr/>
          <p:nvPr/>
        </p:nvPicPr>
        <p:blipFill>
          <a:blip r:embed="rId1"/>
          <a:stretch/>
        </p:blipFill>
        <p:spPr>
          <a:xfrm>
            <a:off x="2700360" y="2349360"/>
            <a:ext cx="2535120" cy="4121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ая соединительная линия 3"/>
          <p:cNvSpPr/>
          <p:nvPr/>
        </p:nvSpPr>
        <p:spPr>
          <a:xfrm flipH="1">
            <a:off x="4500720" y="549360"/>
            <a:ext cx="142560" cy="1429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12"/>
          <p:cNvSpPr/>
          <p:nvPr/>
        </p:nvSpPr>
        <p:spPr>
          <a:xfrm flipH="1">
            <a:off x="5867280" y="1484280"/>
            <a:ext cx="144720" cy="1443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3"/>
          <p:cNvSpPr/>
          <p:nvPr/>
        </p:nvSpPr>
        <p:spPr>
          <a:xfrm flipH="1">
            <a:off x="2484000" y="1484280"/>
            <a:ext cx="142920" cy="1443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4"/>
          <p:cNvSpPr/>
          <p:nvPr/>
        </p:nvSpPr>
        <p:spPr>
          <a:xfrm flipH="1">
            <a:off x="6227640" y="557280"/>
            <a:ext cx="144720" cy="1443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1"/>
          <p:cNvSpPr/>
          <p:nvPr/>
        </p:nvSpPr>
        <p:spPr>
          <a:xfrm>
            <a:off x="1187280" y="1557360"/>
            <a:ext cx="28908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7"/>
          <p:cNvSpPr/>
          <p:nvPr/>
        </p:nvSpPr>
        <p:spPr>
          <a:xfrm>
            <a:off x="7308720" y="1557360"/>
            <a:ext cx="28764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476360" y="4292640"/>
            <a:ext cx="64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язык, 2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71640" y="1125360"/>
            <a:ext cx="734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ва, которые пишутся с заглавной бук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284720" y="5661000"/>
            <a:ext cx="48592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ьных класс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мина О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реплять умение писать слова с заглавной бук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свою речь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отно и красиво пис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шать друг друг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меть уступат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меть договариватьс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 нашим окном расцвела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 и моя подруга ______ учимся во втором класс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огороде росла зелёная ___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клетке сидел попугай ___________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195640" y="24145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c090"/>
                </a:solidFill>
                <a:latin typeface="Times New Roman"/>
              </a:rPr>
              <a:t>ро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368280" y="35971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c090"/>
                </a:solidFill>
                <a:latin typeface="Times New Roman"/>
              </a:rPr>
              <a:t>Ро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937120" y="24051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c090"/>
                </a:solidFill>
                <a:latin typeface="Times New Roman"/>
              </a:rPr>
              <a:t>петру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6067440" y="35971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c090"/>
                </a:solidFill>
                <a:latin typeface="Times New Roman"/>
              </a:rPr>
              <a:t>Петру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56:24Z</dcterms:created>
  <dc:creator>Игорь</dc:creator>
  <dc:description/>
  <dc:language>en-US</dc:language>
  <cp:lastModifiedBy>777</cp:lastModifiedBy>
  <dcterms:modified xsi:type="dcterms:W3CDTF">2019-11-26T06:39:46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20000000000010243100207f6000400038000</vt:lpwstr>
  </property>
</Properties>
</file>