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8DDD-F2C5-4E3F-A04B-E56D00962D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1EA1-D506-4C10-98F6-A584F2EF83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88E-D2CF-4188-8FE4-471E50D2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3C9E-1CA6-4277-BDC3-BA13D80B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761C-F1EC-4704-817E-DA6408FD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C278-D0D1-4951-90F9-3B01FFF34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5D4-9D83-478C-B48E-228C58E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3BBB-5927-42AE-A339-0A041D5CB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8FF8-E1D7-488B-A751-524D8540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B548-D35F-4BAD-AD6D-EEDC1F5F5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63C-0821-4266-869A-74A75B0B0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ACB6-DEB1-4CC8-B294-36EEC997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789-203E-4A77-923B-5D4557CC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8D68-4673-4D3B-A4EC-8FABC71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32C4-5122-40CF-9883-2A353F5100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/>
          <p:cNvPicPr/>
          <p:nvPr/>
        </p:nvPicPr>
        <p:blipFill>
          <a:blip r:embed="rId2"/>
          <a:stretch/>
        </p:blipFill>
        <p:spPr>
          <a:xfrm>
            <a:off x="2066760" y="1560600"/>
            <a:ext cx="5083200" cy="1658880"/>
          </a:xfrm>
          <a:prstGeom prst="rect">
            <a:avLst/>
          </a:prstGeom>
          <a:ln w="0">
            <a:noFill/>
          </a:ln>
        </p:spPr>
      </p:pic>
      <p:sp>
        <p:nvSpPr>
          <p:cNvPr id="50" name="Заголовок 1"/>
          <p:cNvSpPr/>
          <p:nvPr/>
        </p:nvSpPr>
        <p:spPr>
          <a:xfrm>
            <a:off x="1643040" y="500040"/>
            <a:ext cx="7086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Герб школы"/>
          <p:cNvPicPr/>
          <p:nvPr/>
        </p:nvPicPr>
        <p:blipFill>
          <a:blip r:embed="rId3"/>
          <a:stretch/>
        </p:blipFill>
        <p:spPr>
          <a:xfrm>
            <a:off x="214200" y="214200"/>
            <a:ext cx="1603440" cy="1785960"/>
          </a:xfrm>
          <a:prstGeom prst="rect">
            <a:avLst/>
          </a:prstGeom>
          <a:ln w="0">
            <a:noFill/>
          </a:ln>
        </p:spPr>
      </p:pic>
      <p:pic>
        <p:nvPicPr>
          <p:cNvPr id="52" name="Прямоугольник 6" descr=""/>
          <p:cNvPicPr/>
          <p:nvPr/>
        </p:nvPicPr>
        <p:blipFill>
          <a:blip r:embed="rId4"/>
          <a:stretch/>
        </p:blipFill>
        <p:spPr>
          <a:xfrm>
            <a:off x="2206800" y="3535200"/>
            <a:ext cx="458460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3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"/>
          <p:cNvSpPr/>
          <p:nvPr/>
        </p:nvSpPr>
        <p:spPr>
          <a:xfrm>
            <a:off x="468360" y="810000"/>
            <a:ext cx="8351640" cy="50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Работу организую по следующему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бор тем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Постановка цели и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Изучение вопроса, объекта исслед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Сбор материа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бработка материала, получение результата, анализ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тчёт о проделан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Оформление результатов проекта  реферат или доклад, презентация, выпуск стенгазеты, выступление и т. д. – какой выход запланиро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214200" y="525960"/>
            <a:ext cx="842508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Проекты могут классифицировать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1. по составу участник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ые,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рные,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упповы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 по целевой установ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. по тематик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4. по уровню контактов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класс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нутришколь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гиональны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региональным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ждународными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5. по срокам реализации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"/>
          <p:cNvSpPr/>
          <p:nvPr/>
        </p:nvSpPr>
        <p:spPr>
          <a:xfrm>
            <a:off x="285840" y="550440"/>
            <a:ext cx="8280360" cy="54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Классификация проектов по продолж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Мини –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могут укладываться в один урок или ме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Краткосрочные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требуют выделения 4 – 6 уро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Уроки используются для координации деятельности   участников проектных групп, тогда как основная работа по сбору информации, изготовлению продукта и подготовке презентации осуществляется во внеклассной деятельности и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33"/>
              </a:buClr>
              <a:buFont typeface="Calibr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333333"/>
                </a:solidFill>
                <a:uFillTx/>
                <a:latin typeface="Calibri"/>
                <a:ea typeface="Times New Roman"/>
              </a:rPr>
              <a:t>Недельные проекты </a:t>
            </a: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выполняются в группах в ходе проектной недели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Calibri"/>
                <a:ea typeface="Times New Roman"/>
              </a:rPr>
              <a:t>Их выполнение занимает примерно 30 – 40 часов и целиком проходит при участии руководите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" name=""/>
          <p:cNvGraphicFramePr/>
          <p:nvPr/>
        </p:nvGraphicFramePr>
        <p:xfrm>
          <a:off x="142920" y="285840"/>
          <a:ext cx="8643960" cy="5317920"/>
        </p:xfrm>
        <a:graphic>
          <a:graphicData uri="http://schemas.openxmlformats.org/drawingml/2006/table">
            <a:tbl>
              <a:tblPr/>
              <a:tblGrid>
                <a:gridCol w="2208240"/>
                <a:gridCol w="2006640"/>
                <a:gridCol w="2719440"/>
                <a:gridCol w="1709640"/>
              </a:tblGrid>
              <a:tr h="701640">
                <a:tc gridSpan="4"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Проекты по ведущей деятельности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618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сследова-тель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лево - игров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нформационно-практико-ориентированн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ческ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448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1700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дети экспериментируют, а затем результаты оформляют в виде газет, драматизации, детского дизай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с элементами творческих игр, когда дети входят в образ персонажей сказки и решают по-своему поставленные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дети собирают информацию и реализуют ее, ориентируясь на социальные интересы (оформление и дизайн класса, витражи и др.)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6128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33"/>
                          </a:solidFill>
                          <a:latin typeface="Calibri"/>
                          <a:ea typeface="Times New Roman"/>
                        </a:rPr>
                        <a:t>оформление результата в виде урока, внеклассного мероприятия, предметной недели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324000" y="836640"/>
            <a:ext cx="849600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66"/>
                </a:solidFill>
                <a:uFillTx/>
                <a:latin typeface="Calibri"/>
              </a:rPr>
              <a:t>По комплексности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(иначе говоря, по предметно – содержательной области) можно выделить два типа проект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монопроекты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водятся  в рамках одного предмета или одной области знания, хотя и могут использовать информацию из других областей знания и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</a:rPr>
              <a:t>межпредметны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оекты выполняются во внеурочное время и под руководством нескольких специалистов в различных областях зн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468360" y="340920"/>
            <a:ext cx="80643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Задачи развития личности ребе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психологического благополучия и здоровья де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способносте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воображ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творческого мыш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коммуникативн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24000" y="1996560"/>
            <a:ext cx="84960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Calibri"/>
              </a:rPr>
              <a:t>Задачи исследовательской деятельности специфичны для каждого возр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Cambria"/>
                <a:ea typeface="Calibri"/>
              </a:rPr>
              <a:t>В младшем возрасте начальной школы (1-2-е классы) это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  <a:ea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вхождение детей в проблемную игровую ситуацию (ведущая роль учителя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активизация желания искать пути разрешения проблемной ситуации (вместе с учителем)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начальных предпосылок исследовательской деятельности (практические опыты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Cambria"/>
              </a:rPr>
              <a:t>В старшем возрасте начальной школы (3-4-е классы) – это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предпосылок поисковой деятельности, интеллектуальной инициатив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развитие умения определять возможные методы решения проблемы с помощью взрослого, а затем и самостоятельно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формирование умения применять данные методы, способствующие решению поставленной задачи, с использованием различных вариан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 </a:t>
            </a:r>
            <a:r>
              <a:rPr b="1" lang="ru-RU" sz="1400" spc="-1" strike="noStrike">
                <a:solidFill>
                  <a:srgbClr val="262626"/>
                </a:solidFill>
                <a:latin typeface="Cambria"/>
              </a:rPr>
              <a:t>развитие желания пользоваться специальной терминологией, ведение конструктивной беседы в процессе совместной исследовательско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324000" y="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alibri"/>
              </a:rPr>
              <a:t>Оформление про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324000" y="492840"/>
            <a:ext cx="8424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спорт проектной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( как правило, состоит из следующих пунктов, но могут быть внесены разнообразные дополнения и изменен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.Названи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2.Руководитель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3.Консультант(ы) проекта. ( 1 – 3 – на титульном лист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чебный предмет, в рамках которого проводится работа по проек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5.Учебные дисциплины, близкие к теме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6.Возраст учащихся, на который рассчитан проек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7.Состав проектной группы(Ф.И. учащихся, класс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8.Тип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9.Заказчик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0.Цель проекта (практическая и педагогическа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1.Задачи проекта (2 – 4 задачи, акцент на развивающ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2. Вопросы проекта ( 3 – 4 проблемных вопроса по теме, на которые нужно ответить в ходе выполн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3.Необходимое оборуд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4.Аннотация (актуальность проекта, значимость на уровне школы, района, воспитательный момент, краткое содержан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5.Предлагаемые продукты проек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6.Этапы работы над проектом ( для каждого указать форму, продолжительность, содержание работы, выход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17.Предполагаемое распределение ролей в проектной групп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"/>
          <p:cNvSpPr/>
          <p:nvPr/>
        </p:nvSpPr>
        <p:spPr>
          <a:xfrm>
            <a:off x="395280" y="631800"/>
            <a:ext cx="8424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формление проектной па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оектная папка (портфолио проекта) – один из обязательных выходов проекта, предъявляемых к защите (презентации ) проекта. Смысл предъявления папки на защите – показать ход работы проектной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 состав проектной папки вход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. Паспорт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2. Планы выполнения проектов и отдельных этап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3.Промежуточные отчёты груп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4. Вся собранная информация по теме проекта, в том числе необходимые ксерокопии, фотографии. Распечатки из Интерн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5. Результаты исследований и анали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6. Записи всех идей, гипотез, ре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7.Отчёты о совещаниях, дискуссиях, «мозговых штурма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8. Краткое описание проблем, с которыми столкнулись, пути их преодо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9. Эскизы, чертежи, наброски проду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10. Материалы к презентации и чернов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"/>
          <p:cNvSpPr/>
          <p:nvPr/>
        </p:nvSpPr>
        <p:spPr>
          <a:xfrm>
            <a:off x="285840" y="242640"/>
            <a:ext cx="8351640" cy="63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Защита про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бщие рекомендации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эмоциональное и короткое по времени выступление ( не более 15 минут) с использованием интересных пример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логика изло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использование только понятных термин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рассказ, а не чтение тек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использование наглядного материал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2.Техника подгот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редварительный хронометраж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детали рабочего мес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чёткий, красочный наглядный матери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тренировочное выступ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3.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Рекомендации выступающем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ачните своё выступление с приветств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огласите название проекта, сформулируйте основную идею и причину выбора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не забывайте об уважении к слушателям в течение всего выступл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поблагодарите слушателей за внимание, а руководителя за помощ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райтесь ответить на поставленные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"/>
          <p:cNvSpPr/>
          <p:nvPr/>
        </p:nvSpPr>
        <p:spPr>
          <a:xfrm>
            <a:off x="395280" y="502200"/>
            <a:ext cx="849780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Правила для учителя, решившего работать с помощью метода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.Учитель сам выбирает, будет ли он  работать с помощью метода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2.Учитель полностью отвечает за детей, участвующих в проекте, за  их успех и безопас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.Учитель доверяет ученикам, считает из равноправными участниками общей созидательной работы и постоянно подчёркивает своим поведением это довер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4.Учитель предоставляет возможности детям для самостоятельной рабо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5.Учитель вырабатывает новую позицию. Происходит смена позиции лектора  и контролёра на позицию помощника и наставн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.Учитель следит за своей речью (не  «Ты сделал неправильно!», а  «Почему ты это сделал так?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7.Учитель вмешивается  в самостоятельную работу детей только тогда, когда этого требуют обстоятельства или сами ученики об этом прос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"/>
          <p:cNvSpPr/>
          <p:nvPr/>
        </p:nvSpPr>
        <p:spPr>
          <a:xfrm>
            <a:off x="500040" y="1500120"/>
            <a:ext cx="8258040" cy="30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179280" tIns="12708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жи – и я забуду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кажи – и я запомню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ай попробовать –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Calibri"/>
                <a:ea typeface="Times New Roman"/>
              </a:rPr>
              <a:t> и я пойму.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468360" y="620640"/>
            <a:ext cx="784872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Главные условия организации работы над проектом</a:t>
            </a:r>
            <a:r>
              <a:rPr b="0" lang="ru-RU" sz="2400" spc="-1" strike="noStrike">
                <a:solidFill>
                  <a:srgbClr val="660066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изм учителя, знание проектной методики, осознание широких возможностей учащихся в процессе проектн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учащихся технологии проектной деятельности., умению чётко выполнять спланированную рабо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учащихся работать над проек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тую совместную деятельность учителя и учащихся по проекту следует доводить до конца, поэтапно согласуя промежуточные результа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ость информации о ходе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упная ученикам библиотека, медиат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чие уголки групп проек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материалов справочной литературы для самопрове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пособия и другие материалы, отобранные в соответствии с их полез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324000" y="344880"/>
            <a:ext cx="84960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62626"/>
                </a:solidFill>
                <a:latin typeface="Cambria"/>
                <a:ea typeface="Calibri"/>
              </a:rPr>
              <a:t> </a:t>
            </a:r>
            <a:r>
              <a:rPr b="1" lang="ru-RU" sz="2400" spc="-1" strike="noStrike">
                <a:solidFill>
                  <a:srgbClr val="660066"/>
                </a:solidFill>
                <a:latin typeface="Cambria"/>
                <a:ea typeface="Calibri"/>
              </a:rPr>
              <a:t>Плюсы и минусы метода проектов в начальной шк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  <a:ea typeface="Calibri"/>
              </a:rPr>
              <a:t>Плюс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+ навыки самообразования и самоконтро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моделируется реальная технологическая цепочка: задача-результа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навыки группов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индивидуальный подход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+ интерес к познаватель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Минусы проект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возрастает нагрузка на учител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ученик часто попадает в стрессовую ситуацию (переоценка возможностей, технические накладки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психологические коммуникативные проблем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- проблема субъективной оцен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214200" y="0"/>
            <a:ext cx="913788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"/>
          <p:cNvSpPr/>
          <p:nvPr/>
        </p:nvSpPr>
        <p:spPr>
          <a:xfrm>
            <a:off x="324000" y="577080"/>
            <a:ext cx="8569080" cy="600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Советы учителю, работающему по методу про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Вы должны быть уверенны, что тема проекта интересна в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Убедитесь, что тема проекта достаточно гибкая и её можно рассматривать с разных точек зр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Обратите внимание, предполагает ли решение проблемы различные виды деятельности ( изготовление предметов, рисунки, аппликации, записи на плёнку, интервью, короткую пьесу и.т.д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.Не ошеломляйте учащихся своим проектом. Лучше меньше, да луч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5.Всегда будьте рядом, чтобы протянуть руку помощ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6.Установите ограничители, чтобы не было состязаний между более и менее способны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7.Прокоментируйте и оцените работу учащихся. Сотрудничайте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Заголовок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66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одержимое 2"/>
          <p:cNvSpPr/>
          <p:nvPr/>
        </p:nvSpPr>
        <p:spPr>
          <a:xfrm>
            <a:off x="50004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оектная деятельность способствует формированию ключевых компетентностей учащихся и подготовки их к реальным условиям жизнедеятель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ыводит процесс обучения и воспитания из стен школы в окружающий мир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:\ЛОМОНОСОВ\ШКОЛА ФОТО. ЭКСКУРСИИ\2 класс 2011-2012\123\SP_A0640.jpg"/>
          <p:cNvPicPr/>
          <p:nvPr/>
        </p:nvPicPr>
        <p:blipFill>
          <a:blip r:embed="rId1"/>
          <a:stretch/>
        </p:blipFill>
        <p:spPr>
          <a:xfrm>
            <a:off x="1000080" y="1357200"/>
            <a:ext cx="7000920" cy="525168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7432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Фото-проект  по окружающему миру </a:t>
            </a:r>
            <a:br>
              <a:rPr sz="3600"/>
            </a:br>
            <a:r>
              <a:rPr b="1" lang="ru-RU" sz="4800" spc="-1" strike="noStrike">
                <a:solidFill>
                  <a:srgbClr val="7030a0"/>
                </a:solidFill>
                <a:latin typeface="Calibri"/>
              </a:rPr>
              <a:t>«Мой город»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Calibri"/>
              </a:rPr>
              <a:t>2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E:\ЛОМОНОСОВ\ШКОЛА ФОТО. ЭКСКУРСИИ\2 класс 2011-2012\123\SP_A0633.jpg"/>
          <p:cNvPicPr/>
          <p:nvPr/>
        </p:nvPicPr>
        <p:blipFill>
          <a:blip r:embed="rId2"/>
          <a:stretch/>
        </p:blipFill>
        <p:spPr>
          <a:xfrm>
            <a:off x="1071720" y="1214280"/>
            <a:ext cx="6786360" cy="5357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E:\ЛОМОНОСОВ\ШКОЛА ФОТО. ЭКСКУРСИИ\2 класс 2011-2012\123\SP_A0635.jpg"/>
          <p:cNvPicPr/>
          <p:nvPr/>
        </p:nvPicPr>
        <p:blipFill>
          <a:blip r:embed="rId3"/>
          <a:stretch/>
        </p:blipFill>
        <p:spPr>
          <a:xfrm>
            <a:off x="1000080" y="1285920"/>
            <a:ext cx="7000920" cy="521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E:\ЛОМОНОСОВ\ШКОЛА ФОТО. ЭКСКУРСИИ\2 класс 2011-2012\123\SP_A0636.jpg"/>
          <p:cNvPicPr/>
          <p:nvPr/>
        </p:nvPicPr>
        <p:blipFill>
          <a:blip r:embed="rId4"/>
          <a:stretch/>
        </p:blipFill>
        <p:spPr>
          <a:xfrm>
            <a:off x="4643280" y="1214280"/>
            <a:ext cx="4017960" cy="535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E:\ЛОМОНОСОВ\ШКОЛА ФОТО. ЭКСКУРСИИ\2 класс 2011-2012\123\SP_A0638.jpg"/>
          <p:cNvPicPr/>
          <p:nvPr/>
        </p:nvPicPr>
        <p:blipFill>
          <a:blip r:embed="rId5"/>
          <a:stretch/>
        </p:blipFill>
        <p:spPr>
          <a:xfrm>
            <a:off x="857160" y="1214280"/>
            <a:ext cx="369720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52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2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"/>
          <p:cNvSpPr/>
          <p:nvPr/>
        </p:nvSpPr>
        <p:spPr>
          <a:xfrm>
            <a:off x="357120" y="293400"/>
            <a:ext cx="8572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Метод проекта – это одна из личностно-ориентированных технологий, в основе которой лежи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познавательных навыков учащих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я самостоятельно конструировать свои знан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ния ориентироваться в информационном пространств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тие критического и творческого мыш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214200" y="2221560"/>
            <a:ext cx="860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чебный проект с точки зрения учащегос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, попробовать свои силы, приложить свои знания, принести пользу и показать публично достигнут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357120" y="4007520"/>
            <a:ext cx="86076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   </a:t>
            </a:r>
            <a:r>
              <a:rPr b="1" i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Учебный проект с точки зрения учащегося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Calibri"/>
                <a:ea typeface="Times New Roman"/>
              </a:rPr>
              <a:t>это возможность делать что-то интересное самостоятельно, в группе или самому, максимально используя свои возможности; это деятельность, позволяющая проявить себя, попробовать свои силы, приложить свои знания, принести пользу и показать публично достигнутый результ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"/>
          <p:cNvSpPr/>
          <p:nvPr/>
        </p:nvSpPr>
        <p:spPr>
          <a:xfrm>
            <a:off x="500040" y="173880"/>
            <a:ext cx="8358120" cy="64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Метод проектов позволяет решать</a:t>
            </a:r>
            <a:r>
              <a:rPr b="1" i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 </a:t>
            </a: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задачи формирования творческого мышления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 и развития </a:t>
            </a:r>
            <a:r>
              <a:rPr b="1" i="1" lang="ru-RU" sz="2800" spc="-1" strike="noStrike" u="sng">
                <a:solidFill>
                  <a:srgbClr val="660066"/>
                </a:solidFill>
                <a:uFillTx/>
                <a:latin typeface="Calibri"/>
                <a:ea typeface="Times New Roman"/>
              </a:rPr>
              <a:t>интеллектуальных умений</a:t>
            </a:r>
            <a:r>
              <a:rPr b="1" lang="ru-RU" sz="2800" spc="-1" strike="noStrike">
                <a:solidFill>
                  <a:srgbClr val="660066"/>
                </a:solidFill>
                <a:latin typeface="Calibri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бирать и анализировать нужную    информацию из различ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точ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истематизировать и обобщать полученные данные в соответствии с поставленной задач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являть проблемы в различных областя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двигать обоснованные гипотезы и их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тавить эксперимен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лать аргументированные выводы, выстраивать систему доказательст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ботать в коллективе, исполняя при этом разные социальные рол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ладеть искусством и культурой коммун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89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уметь пользоваться ресурсами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"/>
          <p:cNvSpPr/>
          <p:nvPr/>
        </p:nvSpPr>
        <p:spPr>
          <a:xfrm>
            <a:off x="428760" y="627120"/>
            <a:ext cx="828036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чностно-ориентированны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ающий взаимодействию в группе и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ющий умения самовыражени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амопрезентации и рефлекс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формирующий навыки самостоятельности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слительной, практической и волевой сфер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ывающий целеустремленно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ветственность,  инициативность и твор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ношение к дел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грирующий знания, умения и навыки из раз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сциплин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доровьесберегаю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24000" y="321120"/>
            <a:ext cx="835164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специально организованный учителем и самостоятельно выполняемый учащимися комплекс действий, завершающихся созданием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ого проду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"/>
          <p:cNvSpPr/>
          <p:nvPr/>
        </p:nvSpPr>
        <p:spPr>
          <a:xfrm>
            <a:off x="324000" y="1700280"/>
            <a:ext cx="828036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Проектный метод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это метод, идущий от детских потребностей и интересов, стимулирующий детскую самодеятельность, с его помощью реализуется принцип сотрудничества ребенка и взрослого, позволяющий сочетать коллективное и индивидуальное в образовательном проце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95280" y="3608640"/>
            <a:ext cx="83534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  <a:ea typeface="Times New Roman"/>
              </a:rPr>
              <a:t>В ходе выполнения проектов дети уча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овывать свой творческий потенц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самостоятельные исслед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имать самостоятельные реш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дить и использовать различную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ть   в   команде   и   отвечать   за  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й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"/>
          <p:cNvSpPr/>
          <p:nvPr/>
        </p:nvSpPr>
        <p:spPr>
          <a:xfrm>
            <a:off x="324000" y="222480"/>
            <a:ext cx="770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mbria"/>
                <a:ea typeface="Calibri"/>
              </a:rPr>
              <a:t>Целеполагание: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педагог помогает ребенку выбрать наиболее актуальную и посильную для него задачу на определенный отрезок време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Cambria"/>
                <a:ea typeface="Calibri"/>
              </a:rPr>
              <a:t>Разработка проекта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– план деятельности по достижению це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к кому обратиться за помощь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62626"/>
              </a:buClr>
              <a:buFont typeface="Cambr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в каких источниках можно найти информац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- какие предметы использовать (принадлежности, оборудование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62626"/>
                </a:solidFill>
                <a:latin typeface="Cambria"/>
                <a:ea typeface="Calibri"/>
              </a:rPr>
              <a:t>-с какими предметами научиться работать для достижения цел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mbria"/>
              </a:rPr>
              <a:t>Выполнение проекта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– практическая ча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Cambria"/>
              </a:rPr>
              <a:t>Подведение итогов </a:t>
            </a:r>
            <a:r>
              <a:rPr b="0" lang="ru-RU" sz="2400" spc="-1" strike="noStrike">
                <a:solidFill>
                  <a:srgbClr val="262626"/>
                </a:solidFill>
                <a:latin typeface="Cambria"/>
              </a:rPr>
              <a:t>– определение задач для новых про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2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142920" y="189000"/>
          <a:ext cx="8642160" cy="6387840"/>
        </p:xfrm>
        <a:graphic>
          <a:graphicData uri="http://schemas.openxmlformats.org/drawingml/2006/table">
            <a:tbl>
              <a:tblPr/>
              <a:tblGrid>
                <a:gridCol w="2571840"/>
                <a:gridCol w="3068640"/>
                <a:gridCol w="3001680"/>
              </a:tblGrid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Этапы проек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Деятельность педагог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800080"/>
                          </a:solidFill>
                          <a:latin typeface="Verdana"/>
                        </a:rPr>
                        <a:t>Деятельность дет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Формирует проблему (цел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Вхождение в проблем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пределяется продукт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Вживание в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Вводит в ситуацию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Принятие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Формирует задач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Дополнение задач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оектировоч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Помогает в решении задач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Объединение в рабочие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Помогает спланировать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Распределение амплу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. Организует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Прак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Практическая помощ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. Формирование специфических знаний, умений, навыко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Направляет и контролирует осуществлени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эта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Заключите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. Подготовка к презентации. 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. Готовый продукт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 презентац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4" descr="Рисунок1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" name=""/>
          <p:cNvGraphicFramePr/>
          <p:nvPr/>
        </p:nvGraphicFramePr>
        <p:xfrm>
          <a:off x="358920" y="428760"/>
          <a:ext cx="8785080" cy="6181560"/>
        </p:xfrm>
        <a:graphic>
          <a:graphicData uri="http://schemas.openxmlformats.org/drawingml/2006/table">
            <a:tbl>
              <a:tblPr/>
              <a:tblGrid>
                <a:gridCol w="4535280"/>
                <a:gridCol w="4249800"/>
              </a:tblGrid>
              <a:tr h="6181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Формы продуктов проектной деятель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b-сай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ализ данных социологического опрос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равнительно-сопоставительный анали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тлас, карта, учебное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об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еофиль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ыстав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Газета, журнал, справоч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остюм, модель, коллек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а, мультимидийный продук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узыкальное или художественное произведе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ановка, праздн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кскурсия, пох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конопроект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ы презентаций проек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лов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Демонстрация продукта, выполненного на основе информационных технолог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ценировка-диалог литературных или исторических персонаже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гра с зало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Научная конференция, докла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есс-конференц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утешествие, экскурс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клам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олевая игр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ектакл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рев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buClr>
                          <a:srgbClr val="0000ff"/>
                        </a:buClr>
                        <a:buSzPct val="80000"/>
                        <a:buFont typeface="Arial"/>
                        <a:buChar char="►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елепередача и т.д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1T07:10:29Z</dcterms:created>
  <dc:creator>www.PHILka.RU</dc:creator>
  <dc:description/>
  <dc:language>en-US</dc:language>
  <cp:lastModifiedBy>комп</cp:lastModifiedBy>
  <dcterms:modified xsi:type="dcterms:W3CDTF">2020-09-20T17:30:48Z</dcterms:modified>
  <cp:revision>11</cp:revision>
  <dc:subject/>
  <dc:title>Слайд 1</dc:title>
</cp:coreProperties>
</file>