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1BED-5552-4310-A16E-70E7A1C8CC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2463-303B-4CE1-8A85-C0726F4BA3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CE0-3C73-41DB-9E31-EA6E4534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7EC-3A79-4DBF-B295-D6C65389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1FC-B713-43AF-B132-EFE2F1C3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0FA-1DD4-44E6-AA6E-A8B50DBC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B1A-CC8A-403C-862E-05536854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381-DCEA-4E22-9AC5-687E27F9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D8A-10EF-4778-9C8F-C3F33898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2AD-365B-4F0D-B2AE-44D51684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AA4-4705-4BEB-AA9B-91BF6B49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FDB-13E2-4A7B-B724-BC2E3112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C2E-97D5-4D10-ACDF-E005C162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2AD-E972-40E8-BC74-7232EF1C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4F4A-AC95-4129-8A77-0F9AF2833E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2066760" y="1560600"/>
            <a:ext cx="5083200" cy="1658880"/>
          </a:xfrm>
          <a:prstGeom prst="rect">
            <a:avLst/>
          </a:prstGeom>
          <a:ln w="0">
            <a:noFill/>
          </a:ln>
        </p:spPr>
      </p:pic>
      <p:sp>
        <p:nvSpPr>
          <p:cNvPr id="50" name="Заголовок 1"/>
          <p:cNvSpPr/>
          <p:nvPr/>
        </p:nvSpPr>
        <p:spPr>
          <a:xfrm>
            <a:off x="1643040" y="500040"/>
            <a:ext cx="7086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Герб школы"/>
          <p:cNvPicPr/>
          <p:nvPr/>
        </p:nvPicPr>
        <p:blipFill>
          <a:blip r:embed="rId3"/>
          <a:stretch/>
        </p:blipFill>
        <p:spPr>
          <a:xfrm>
            <a:off x="214200" y="214200"/>
            <a:ext cx="1603440" cy="17859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4"/>
          <a:stretch/>
        </p:blipFill>
        <p:spPr>
          <a:xfrm>
            <a:off x="2206800" y="3535200"/>
            <a:ext cx="458460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468360" y="810000"/>
            <a:ext cx="835164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Работу организую по следующему пла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Выбор 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Постановка цели и зада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Изучение вопроса, объекта исслед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Сбор матери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Обработка материала, получение результата, анали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Отчёт о проделанн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Оформление результатов проекта  реферат или доклад, презентация, выпуск стенгазеты, выступление и т. д. – какой выход запланиров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214200" y="525960"/>
            <a:ext cx="842508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Проекты могут классифицирова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. по составу участнико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чные,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рные,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уппов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. по целевой установк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. по тематик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. по уровню контакто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триклассны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тришкольны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гиональны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жрегиональн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ждународными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. по срокам реализа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285840" y="550440"/>
            <a:ext cx="8280360" cy="54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Классификация проектов по продолж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Calibri"/>
                <a:ea typeface="Times New Roman"/>
              </a:rPr>
              <a:t>Мини – проекты 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могут укладываться в один урок или ме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Calibri"/>
                <a:ea typeface="Times New Roman"/>
              </a:rPr>
              <a:t>Краткосрочные проекты 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требуют выделения 4 – 6 уро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Уроки используются для координации деятельности   участников проектных групп, тогда как основная работа по сбору информации, изготовлению продукта и подготовке презентации осуществляется во внеклассной деятельности и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Calibri"/>
                <a:ea typeface="Times New Roman"/>
              </a:rPr>
              <a:t>Недельные проекты 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выполняются в группах в ходе проектной недели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Их выполнение занимает примерно 30 – 40 часов и целиком проходит при участии руковод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142920" y="285840"/>
          <a:ext cx="8643960" cy="5317920"/>
        </p:xfrm>
        <a:graphic>
          <a:graphicData uri="http://schemas.openxmlformats.org/drawingml/2006/table">
            <a:tbl>
              <a:tblPr/>
              <a:tblGrid>
                <a:gridCol w="2208240"/>
                <a:gridCol w="2006640"/>
                <a:gridCol w="2719440"/>
                <a:gridCol w="1709640"/>
              </a:tblGrid>
              <a:tr h="701640">
                <a:tc gridSpan="4"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екты по ведущей деятельност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1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70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следова-тель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лево - игр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ционно-практико-ориентирова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44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70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дети экспериментируют, а затем результаты оформляют в виде газет, драматизации, детского дизай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с элементами творческих игр, когда дети входят в образ персонажей сказки и решают по-своему поставленные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дети собирают информацию и реализуют ее, ориентируясь на социальные интересы (оформление и дизайн класса, витражи и др.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оформление результата в виде урока, внеклассного мероприятия, предметной недели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324000" y="836640"/>
            <a:ext cx="849600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0066"/>
                </a:solidFill>
                <a:uFillTx/>
                <a:latin typeface="Calibri"/>
              </a:rPr>
              <a:t>По комплексност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иначе говоря, по предметно – содержательной области) можно выделить два типа проек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Calibri"/>
              </a:rPr>
              <a:t>монопроекты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водятся  в рамках одного предмета или одной области знания, хотя и могут использовать информацию из других областей знания и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Calibri"/>
              </a:rPr>
              <a:t>межпредметны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екты выполняются во внеурочное время и под руководством нескольких специалистов в различных областях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468360" y="340920"/>
            <a:ext cx="806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Задачи развития личности реб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сихологического благополучия и здоровья де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ознавательных способнос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ого воображ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ого мыш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ммуникативных нав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24000" y="1996560"/>
            <a:ext cx="84960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  <a:ea typeface="Calibri"/>
              </a:rPr>
              <a:t>Задачи исследовательской деятельности специфичны для кажд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Cambria"/>
                <a:ea typeface="Calibri"/>
              </a:rPr>
              <a:t>В младшем возрасте начальной школы (1-2-е классы) это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вхождение детей в проблемную игровую ситуацию (ведущая роль учителя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активизация желания искать пути разрешения проблемной ситуации (вместе с учителем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формирование начальных предпосылок исследовательской деятельности (практические опыт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Cambria"/>
              </a:rPr>
              <a:t>В старшем возрасте начальной школы (3-4-е классы) – это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формирование предпосылок поисковой деятельности, интеллектуальной инициатив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развитие умения определять возможные методы решения проблемы с помощью взрослого, а затем и самостоятельн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формирование умения применять данные методы, способствующие решению поставленной задачи, с использованием различных вариант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развитие желания пользоваться специальной терминологией, ведение конструктивной беседы в процессе совместной исследовательск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Оформление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324000" y="492840"/>
            <a:ext cx="8424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спорт проектн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( как правило, состоит из следующих пунктов, но могут быть внесены разнообразные дополнения и измен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.Название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.Руководитель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3.Консультант(ы) проекта. ( 1 – 3 – на титульном лис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4.Учебный предмет, в рамках которого проводится работа по проек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5.Учебные дисциплины, близкие к теме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6.Возраст учащихся, на который рассчитан про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7.Состав проектной группы(Ф.И. учащихся, клас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8.Тип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9.Заказчик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0.Цель проекта (практическая и педагогическа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1.Задачи проекта (2 – 4 задачи, акцент на развивающ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2. Вопросы проекта ( 3 – 4 проблемных вопроса по теме, на которые нужно ответить в ходе выполн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3.Необходимое оборуд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4.Аннотация (актуальность проекта, значимость на уровне школы, района, воспитательный момент, краткое содержан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5.Предлагаемые продукты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6.Этапы работы над проектом ( для каждого указать форму, продолжительность, содержание работы, выход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7.Предполагаемое распределение ролей в проектной групп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395280" y="631800"/>
            <a:ext cx="84247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Оформление проектной па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ектная папка (портфолио проекта) – один из обязательных выходов проекта, предъявляемых к защите (презентации ) проекта. Смысл предъявления папки на защите – показать ход работы проектной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состав проектной папки вход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Паспорт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Планы выполнения проектов и отдельных этап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Промежуточные отчёты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Вся собранная информация по теме проекта, в том числе необходимые ксерокопии, фотографии. Распечатки из Интерн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. Результаты исследований и анали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Записи всех идей, гипотез,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7.Отчёты о совещаниях, дискуссиях, «мозговых штурма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8. Краткое описание проблем, с которыми столкнулись, пути их преод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9. Эскизы, чертежи, наброски проду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0. Материалы к презентации и чернов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285840" y="242640"/>
            <a:ext cx="835164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щита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Общие рекомендации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эмоциональное и короткое по времени выступление ( не более 15 минут) с использованием интересных приме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логика изло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использование только понятных терми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рассказ, а не чтение тек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использование наглядн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.Техника подготов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предварительный хронометраж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детали рабочего ме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чёткий, красочный наглядный материа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тренировочное выступ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.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Рекомендации выступающ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начните своё выступление с привет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огласите название проекта, сформулируйте основную идею и причину выбора 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не забывайте об уважении к слушателям в течение всего выступ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поблагодарите слушателей за внимание, а руководителя за помощ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райтесь ответить на поставленные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395280" y="502200"/>
            <a:ext cx="849780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Правила для учителя, решившего работать с помощью метода про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Учитель сам выбирает, будет ли он  работать с помощью метода про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Учитель полностью отвечает за детей, участвующих в проекте, за  их успех и безопас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.Учитель доверяет ученикам, считает из равноправными участниками общей созидательной работы и постоянно подчёркивает своим поведением это довер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.Учитель предоставляет возможности детям для самостоятель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5.Учитель вырабатывает новую позицию. Происходит смена позиции лектора  и контролёра на позицию помощника и настав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.Учитель следит за своей речью (не  «Ты сделал неправильно!», а  «Почему ты это сделал так?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7.Учитель вмешивается  в самостоятельную работу детей только тогда, когда этого требуют обстоятельства или сами ученики об этом прос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500040" y="1500120"/>
            <a:ext cx="8258040" cy="30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79280" tIns="12708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кажи – и я забуд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кажи – и я запомню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й попробовать –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я пойму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468360" y="620640"/>
            <a:ext cx="784872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Главные условия организации работы над проектом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изм учителя, знание проектной методики, осознание широких возможностей учащихся в процессе проект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учащихся технологии проектной деятельности., умению чётко выполнять спланированную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учащихся работать над проек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тую совместную деятельность учителя и учащихся по проекту следует доводить до конца, поэтапно согласуя промежуточны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ь информации о ходе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ая ученикам библиотека, медиат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е уголки групп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материалов справочной литературы для самопрове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пособия и другие материалы, отобранные в соответствии с их полез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324000" y="344880"/>
            <a:ext cx="8496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mbria"/>
                <a:ea typeface="Calibri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Cambria"/>
                <a:ea typeface="Calibri"/>
              </a:rPr>
              <a:t>Плюсы и минусы метода проектов в началь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  <a:ea typeface="Calibri"/>
              </a:rPr>
              <a:t>Плюсы проектн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+ навыки самообразования и самоконтро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+ моделируется реальная технологическая цепочка: задача-результ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+ навыки группов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+ индивидуальный подх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+ интерес к позна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Минусы проектн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- возрастает нагрузка на учи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- ученик часто попадает в стрессовую ситуацию (переоценка возможностей, технические наклад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- психологические коммуникативные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- проблема субъективной о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214200" y="0"/>
            <a:ext cx="91378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324000" y="577080"/>
            <a:ext cx="85690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оветы учителю, работающему по методу про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Вы должны быть уверенны, что тема проекта интересна в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Убедитесь, что тема проекта достаточно гибкая и её можно рассматривать с разных точек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Обратите внимание, предполагает ли решение проблемы различные виды деятельности ( изготовление предметов, рисунки, аппликации, записи на плёнку, интервью, короткую пьесу и.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Не ошеломляйте учащихся своим проектом. Лучше меньше, да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.Всегда будьте рядом, чтобы протянуть руку пом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.Установите ограничители, чтобы не было состязаний между более и менее спос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7.Прокоментируйте и оцените работу учащихся. Сотрудничайте с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ектная деятельность способствует формированию ключевых компетентностей учащихся и подготовки их к реальным условиям жизне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водит процесс обучения и воспитания из стен школы в окружающий мир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E:\ЛОМОНОСОВ\ШКОЛА ФОТО. ЭКСКУРСИИ\2 класс 2011-2012\123\SP_A0640.jpg"/>
          <p:cNvPicPr/>
          <p:nvPr/>
        </p:nvPicPr>
        <p:blipFill>
          <a:blip r:embed="rId1"/>
          <a:stretch/>
        </p:blipFill>
        <p:spPr>
          <a:xfrm>
            <a:off x="1000080" y="1357200"/>
            <a:ext cx="7000920" cy="5251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Фото-проект  по окружающему миру </a:t>
            </a:r>
            <a:br>
              <a:rPr sz="3600"/>
            </a:b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«Мой город»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2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E:\ЛОМОНОСОВ\ШКОЛА ФОТО. ЭКСКУРСИИ\2 класс 2011-2012\123\SP_A0633.jpg"/>
          <p:cNvPicPr/>
          <p:nvPr/>
        </p:nvPicPr>
        <p:blipFill>
          <a:blip r:embed="rId2"/>
          <a:stretch/>
        </p:blipFill>
        <p:spPr>
          <a:xfrm>
            <a:off x="1071720" y="1214280"/>
            <a:ext cx="6786360" cy="535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E:\ЛОМОНОСОВ\ШКОЛА ФОТО. ЭКСКУРСИИ\2 класс 2011-2012\123\SP_A0635.jpg"/>
          <p:cNvPicPr/>
          <p:nvPr/>
        </p:nvPicPr>
        <p:blipFill>
          <a:blip r:embed="rId3"/>
          <a:stretch/>
        </p:blipFill>
        <p:spPr>
          <a:xfrm>
            <a:off x="1000080" y="1285920"/>
            <a:ext cx="7000920" cy="5214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E:\ЛОМОНОСОВ\ШКОЛА ФОТО. ЭКСКУРСИИ\2 класс 2011-2012\123\SP_A0636.jpg"/>
          <p:cNvPicPr/>
          <p:nvPr/>
        </p:nvPicPr>
        <p:blipFill>
          <a:blip r:embed="rId4"/>
          <a:stretch/>
        </p:blipFill>
        <p:spPr>
          <a:xfrm>
            <a:off x="4643280" y="1214280"/>
            <a:ext cx="4017960" cy="535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E:\ЛОМОНОСОВ\ШКОЛА ФОТО. ЭКСКУРСИИ\2 класс 2011-2012\123\SP_A0638.jpg"/>
          <p:cNvPicPr/>
          <p:nvPr/>
        </p:nvPicPr>
        <p:blipFill>
          <a:blip r:embed="rId5"/>
          <a:stretch/>
        </p:blipFill>
        <p:spPr>
          <a:xfrm>
            <a:off x="857160" y="1214280"/>
            <a:ext cx="36972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357120" y="29340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тод проекта – это одна из личностно-ориентированных технологий, в основе которой леж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познавательных навыков учащих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я самостоятельно конструировать свои зн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я ориентироваться в информационном пространств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критического и творческого мыш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214200" y="2221560"/>
            <a:ext cx="8607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Учебный проект с точки зрения учащегося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это возможность делать что-то интересное самостоятельно, в группе или самому, максимально используя свои возможности; это деятельность, позволяющая проявить себя, попробовать свои силы, приложить свои знания, принести пользу и показать публично достигнут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357120" y="4007520"/>
            <a:ext cx="8607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Учебный проект с точки зрения учащегося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это возможность делать что-то интересное самостоятельно, в группе или самому, максимально используя свои возможности; это деятельность, позволяющая проявить себя, попробовать свои силы, приложить свои знания, принести пользу и показать публично достигнут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500040" y="173880"/>
            <a:ext cx="835812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  <a:ea typeface="Times New Roman"/>
              </a:rPr>
              <a:t>Метод проектов позволяет решать</a:t>
            </a:r>
            <a:r>
              <a:rPr b="1" i="1" lang="ru-RU" sz="2800" spc="-1" strike="noStrike">
                <a:solidFill>
                  <a:srgbClr val="660066"/>
                </a:solidFill>
                <a:latin typeface="Calibri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задачи формирования творческого мышления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 и развития </a:t>
            </a:r>
            <a:r>
              <a:rPr b="1" i="1" lang="ru-RU" sz="28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интеллектуальных умений</a:t>
            </a:r>
            <a:r>
              <a:rPr b="1" lang="ru-RU" sz="2800" spc="-1" strike="noStrike">
                <a:solidFill>
                  <a:srgbClr val="660066"/>
                </a:solidFill>
                <a:latin typeface="Calibri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бирать и анализировать нужную    информацию из различны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точ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стематизировать и обобщать полученные данные в соответствии с поставленной задач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являть проблемы в различных областях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двигать обоснованные гипотезы и их 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вить эксперимен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ать аргументированные выводы, выстраивать систему доказатель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тать в коллективе, исполняя при этом разные социальные ро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ладеть искусством и культурой коммун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ть пользоваться ресурсами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428760" y="627120"/>
            <a:ext cx="82803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чностно-ориентирова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учающий взаимодействию в группе и групп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вающий умения самовыраж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мопрезентации и рефлек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рмирующий навыки самостоятельности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слительной, практической и волевой сфер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спитывающий целеустремлен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етственность,  инициативность и твор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ношение к де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тегрирующий знания, умения и навыки из раз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ципл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доровьесберегаю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324000" y="321120"/>
            <a:ext cx="8351640" cy="13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пециально организованный учителем и самостоятельно выполняемый учащимися комплекс действий, завершающихся создание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го проду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324000" y="1700280"/>
            <a:ext cx="8280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Times New Roman"/>
              </a:rPr>
              <a:t>Проектный мето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метод, идущий от детских потребностей и интересов, стимулирующий детскую самодеятельность, с его помощью реализуется принцип сотрудничества ребенка и взрослого, позволяющий сочетать коллективное и индивидуальное в образовательном проце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95280" y="3608640"/>
            <a:ext cx="8353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В ходе выполнения проектов дети уча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овывать свой творческий потенци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самостоятельные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 самостоятельные 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ь и использовать различную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  в   команде   и   отвечать   за  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324000" y="222480"/>
            <a:ext cx="770400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Cambria"/>
                <a:ea typeface="Calibri"/>
              </a:rPr>
              <a:t>Целеполагание: </a:t>
            </a: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педагог помогает ребенку выбрать наиболее актуальную и посильную для него задачу на определенный отрезок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Cambria"/>
                <a:ea typeface="Calibri"/>
              </a:rPr>
              <a:t>Разработка проекта </a:t>
            </a: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– план деятельности по достижению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к кому обратиться за помощ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в каких источниках можно найти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- какие предметы использовать (принадлежности, оборудова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-с какими предметами научиться работать для достижения це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Cambria"/>
              </a:rPr>
              <a:t>Выполнение проекта </a:t>
            </a: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– практическая ча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Cambria"/>
              </a:rPr>
              <a:t>Подведение итогов </a:t>
            </a: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– определение задач для новых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142920" y="189000"/>
          <a:ext cx="8642160" cy="6387840"/>
        </p:xfrm>
        <a:graphic>
          <a:graphicData uri="http://schemas.openxmlformats.org/drawingml/2006/table">
            <a:tbl>
              <a:tblPr/>
              <a:tblGrid>
                <a:gridCol w="2571840"/>
                <a:gridCol w="3068640"/>
                <a:gridCol w="3001680"/>
              </a:tblGrid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800080"/>
                          </a:solidFill>
                          <a:latin typeface="Verdana"/>
                        </a:rPr>
                        <a:t>Этапы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800080"/>
                          </a:solidFill>
                          <a:latin typeface="Verdan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800080"/>
                          </a:solidFill>
                          <a:latin typeface="Verdan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Подготов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Формирует проблему (цел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Вхождение в проблем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ределяется продукт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Вживание в ситуац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Вводит в ситуац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Принятие зада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Формирует задач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Дополнение задач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Проектировоч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Помогает в решении зада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Объединение в рабочие групп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Помогает спланировать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 Распределение амплу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 Организует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Прак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 Практическая помощ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 Формирование специфических знаний, умений, навы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 Направляет и контролирует осуществление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Заключите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 Подготовка к презентации. Презент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 Готовый продукт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 презент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358920" y="428760"/>
          <a:ext cx="8785080" cy="6181560"/>
        </p:xfrm>
        <a:graphic>
          <a:graphicData uri="http://schemas.openxmlformats.org/drawingml/2006/table">
            <a:tbl>
              <a:tblPr/>
              <a:tblGrid>
                <a:gridCol w="4535280"/>
                <a:gridCol w="4249800"/>
              </a:tblGrid>
              <a:tr h="618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ормы продуктов проектной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-сай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ализ данных социологического опро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авнительно-сопоставительный анали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тлас, карта, учебное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об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еофиль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ста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азета, журнал, справоч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стюм, модель, коллек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гра, мультимидийный продук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узыкальное или художественное произвед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ановка, празд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скурсия, пох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конопроект и т.д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ы презентаций проек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ловая иг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монстрация продукта, выполненного на основе информационных технолог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сценировка-диалог литературных или исторических персонаж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гра с зал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учная конференция, докла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сс-конферен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утешествие, экскурс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кла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евая иг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ктак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рев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лепередача и т.д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7:10:29Z</dcterms:created>
  <dc:creator>www.PHILka.RU</dc:creator>
  <dc:description/>
  <dc:language>en-US</dc:language>
  <cp:lastModifiedBy>комп</cp:lastModifiedBy>
  <dcterms:modified xsi:type="dcterms:W3CDTF">2020-09-20T17:30:48Z</dcterms:modified>
  <cp:revision>11</cp:revision>
  <dc:subject/>
  <dc:title>Слайд 1</dc:title>
</cp:coreProperties>
</file>