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D26B-92FB-43F2-99FD-A917EE121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3080" y="171360"/>
            <a:ext cx="6170400" cy="19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617040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3080" y="5284440"/>
            <a:ext cx="617040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A0AB-7512-4B44-973D-C9F0E0BE5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3080" y="171360"/>
            <a:ext cx="6170400" cy="19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3080" y="528444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4960" y="528444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7ABA-B4E0-4711-9B60-2FAF77B12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3080" y="171360"/>
            <a:ext cx="6170400" cy="19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280" y="213336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5480" y="213336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3080" y="528444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280" y="528444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5480" y="528444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A00F-8600-49FF-8DB7-15C45FE21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3080" y="171360"/>
            <a:ext cx="6170400" cy="19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3080" y="2133360"/>
            <a:ext cx="617040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3C8E-6CBD-4661-B18B-D63742BDD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3080" y="171360"/>
            <a:ext cx="6170400" cy="19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617040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C397-F4C9-4935-893B-397705C68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3080" y="171360"/>
            <a:ext cx="6170400" cy="19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17D4-A968-4061-9AED-B68A7D581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3080" y="171360"/>
            <a:ext cx="6170400" cy="19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85A8-25C4-42EB-83E1-5B1700FFC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3080" y="171360"/>
            <a:ext cx="6170400" cy="88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83B7-2E93-47C7-AB5D-2A72FE960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3080" y="171360"/>
            <a:ext cx="6170400" cy="19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3080" y="528444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2DED-B155-454F-B077-A8CBA8DA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3080" y="171360"/>
            <a:ext cx="6170400" cy="19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4960" y="528444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0AF7-4F83-4938-B9FA-BBC951D4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3080" y="171360"/>
            <a:ext cx="6170400" cy="19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3080" y="5284440"/>
            <a:ext cx="617040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946D-F492-4DDA-BF79-85F35850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3080" y="171360"/>
            <a:ext cx="6170400" cy="19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3080" y="2133360"/>
            <a:ext cx="617040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3080" y="8326080"/>
            <a:ext cx="15984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080"/>
            <a:ext cx="2170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26080"/>
            <a:ext cx="15984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CC35C68-DA79-411D-8FFB-6E350D2248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s44.radikal.ru/i103/0810/0c/f17094fae179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858000" cy="50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ема урока: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Размещение и быт военнослужащих»</a:t>
            </a:r>
            <a:br>
              <a:rPr sz="2800"/>
            </a:br>
            <a:br>
              <a:rPr sz="28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чебные вопросы: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 Размещение военнослужащих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 Быт военнослужащ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-main-pic" descr="Картинка 190 из 1449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3360" y="4714920"/>
            <a:ext cx="617076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37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еннослужащие, проходящие военную службу по призыву, кроме находящихся на кораблях, размещаются в казарм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4067280"/>
            <a:ext cx="685800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300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азмещения военнослужащих в казарме предусмотрено спальное помещ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88640" y="3924360"/>
            <a:ext cx="6481800" cy="485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1" descr=""/>
          <p:cNvPicPr/>
          <p:nvPr/>
        </p:nvPicPr>
        <p:blipFill>
          <a:blip r:embed="rId1"/>
          <a:stretch/>
        </p:blipFill>
        <p:spPr>
          <a:xfrm>
            <a:off x="0" y="3203640"/>
            <a:ext cx="6858000" cy="59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642960"/>
            <a:ext cx="6858000" cy="16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лковое оружие и боеприпасы хранятся в отдельной комнате под постоянной охраной лиц суточного наря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81000" y="4066920"/>
            <a:ext cx="5112000" cy="453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3365640" y="3579840"/>
            <a:ext cx="95400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7" descr="https://imgprx.livejournal.net/ec517fdd2d4da08f9a889aa67311d8adf75d23e4/mVoepNNK0d_fM72aijL7yzyZFsqNtiyH2botA4wUZdpMHtxvBqfPPSztSQdTfXc1GW20XkzrQBFVA1-nApztOKLa9KgMZS4w-AhKm49qpq_OfcgcH50vkakH4lwN8RWeqO86nWgfGog7sV89L6F3XdtWtgpQ60wC_xrgmAQ0hWI"/>
          <p:cNvPicPr/>
          <p:nvPr/>
        </p:nvPicPr>
        <p:blipFill>
          <a:blip r:embed="rId1"/>
          <a:stretch/>
        </p:blipFill>
        <p:spPr>
          <a:xfrm>
            <a:off x="0" y="3214800"/>
            <a:ext cx="6858000" cy="59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171360"/>
            <a:ext cx="6858000" cy="19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хранения имущества роты  и  личных вещей военнослужащих предусмотрена кладов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3" descr=""/>
          <p:cNvPicPr/>
          <p:nvPr/>
        </p:nvPicPr>
        <p:blipFill>
          <a:blip r:embed="rId1"/>
          <a:stretch/>
        </p:blipFill>
        <p:spPr>
          <a:xfrm>
            <a:off x="0" y="2714760"/>
            <a:ext cx="685800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9-04-21T04:57:03Z</dcterms:modified>
  <cp:revision>95</cp:revision>
  <dc:subject/>
  <dc:title>PowerPoint Presentation</dc:title>
</cp:coreProperties>
</file>