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2D2E-41EB-4B6B-AB79-E73D675E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7CDE-CFAA-455E-AC8A-6D6EBBC4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4D3-CDF9-4749-9BBA-9AB351D5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053D-942F-495C-AA4B-22F9E33F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0B30-1FF2-4D16-AF82-AE81E108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4863-2371-42BA-92B9-E8AEDA9D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4E1B-0758-4553-9781-C29BF230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5E6-1285-49F2-B95B-EEE01C88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171360"/>
            <a:ext cx="6170400" cy="88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35C2-93AA-41CF-B5BD-CE9D46CA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7475-29EA-42DF-AEE6-5BB77321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DC7A-B34F-4D74-A14D-B3418E50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6DA-AF0D-4557-849C-3FB08D96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080"/>
            <a:ext cx="2170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4D4313D-3B3D-491F-9610-5D8D54CBD5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44.radikal.ru/i103/0810/0c/f17094fae179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50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ма урока: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Размещение и быт военнослужащих»</a:t>
            </a: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ебные вопросы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Размещение военнослужащих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Быт военнослужащ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-main-pic" descr="Картинка 190 из 144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3360" y="4714920"/>
            <a:ext cx="61707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37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ослужащие, проходящие военную службу по призыву, кроме находящихся на кораблях, размещаются в казарм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4067280"/>
            <a:ext cx="68580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30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мещения военнослужащих в казарме предусмотрено спальное помещ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8640" y="3924360"/>
            <a:ext cx="6481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1" descr=""/>
          <p:cNvPicPr/>
          <p:nvPr/>
        </p:nvPicPr>
        <p:blipFill>
          <a:blip r:embed="rId1"/>
          <a:stretch/>
        </p:blipFill>
        <p:spPr>
          <a:xfrm>
            <a:off x="0" y="3203640"/>
            <a:ext cx="6858000" cy="59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685800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лковое оружие и боеприпасы хранятся в отдельной комнате под постоянной охраной лиц суточного наря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1000" y="4066920"/>
            <a:ext cx="511200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365640" y="3579840"/>
            <a:ext cx="95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7" descr="https://imgprx.livejournal.net/ec517fdd2d4da08f9a889aa67311d8adf75d23e4/mVoepNNK0d_fM72aijL7yzyZFsqNtiyH2botA4wUZdpMHtxvBqfPPSztSQdTfXc1GW20XkzrQBFVA1-nApztOKLa9KgMZS4w-AhKm49qpq_OfcgcH50vkakH4lwN8RWeqO86nWgfGog7sV89L6F3XdtWtgpQ60wC_xrgmAQ0hWI"/>
          <p:cNvPicPr/>
          <p:nvPr/>
        </p:nvPicPr>
        <p:blipFill>
          <a:blip r:embed="rId1"/>
          <a:stretch/>
        </p:blipFill>
        <p:spPr>
          <a:xfrm>
            <a:off x="0" y="3214800"/>
            <a:ext cx="6858000" cy="59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71360"/>
            <a:ext cx="68580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хранения имущества роты  и  личных вещей военнослужащих предусмотрена клад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0" y="2714760"/>
            <a:ext cx="68580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04-21T04:57:03Z</dcterms:modified>
  <cp:revision>95</cp:revision>
  <dc:subject/>
  <dc:title>PowerPoint Presentation</dc:title>
</cp:coreProperties>
</file>