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2BAA-E2E7-4816-863F-23833E6C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63EE-6E17-4749-88B8-D31BDBCC8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89BC-3C46-43F4-8FEA-3034C55E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874-1C3D-4C03-B827-54F28013E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25E-78B7-4D8D-BD9E-93E7EB6D8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142C-AFAC-47D3-A15F-F0FC6CD1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B6A-71BD-4A11-B27F-0AE0054C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9F43-F9F7-4C34-AC11-3BEBEAAF3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171360"/>
            <a:ext cx="6170400" cy="88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44E5-CD05-4FF6-89DA-956642A3B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1F88-9AF2-49DC-8E23-484120D0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2386-A90B-4A6F-83B6-02F31BAE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9A98-8569-4B7E-91E6-91B0C6F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171360"/>
            <a:ext cx="61704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E139901-58E4-46FE-8910-0EAEBFF5491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44.radikal.ru/i103/0810/0c/f17094fae17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85800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ема урока: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Размещение и быт военнослужащих»</a:t>
            </a:r>
            <a:br>
              <a:rPr sz="2800"/>
            </a:br>
            <a:br>
              <a:rPr sz="28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чебные вопросы: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Размещение военнослужащих.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Быт военнослужащ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i-main-pic" descr="Картинка 190 из 1449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3360" y="4714920"/>
            <a:ext cx="61707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37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еннослужащие, проходящие военную службу по призыву, кроме находящихся на кораблях, размещаются в казарма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4067280"/>
            <a:ext cx="68580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300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змещения военнослужащих в казарме предусмотрено спальное помещ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8640" y="3924360"/>
            <a:ext cx="6481800" cy="485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1" descr=""/>
          <p:cNvPicPr/>
          <p:nvPr/>
        </p:nvPicPr>
        <p:blipFill>
          <a:blip r:embed="rId1"/>
          <a:stretch/>
        </p:blipFill>
        <p:spPr>
          <a:xfrm>
            <a:off x="0" y="3203640"/>
            <a:ext cx="6858000" cy="59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42960"/>
            <a:ext cx="6858000" cy="164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лковое оружие и боеприпасы хранятся в отдельной комнате под постоянной охраной лиц суточного наря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81000" y="4066920"/>
            <a:ext cx="5112000" cy="453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3365640" y="3579840"/>
            <a:ext cx="95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7" descr="https://imgprx.livejournal.net/ec517fdd2d4da08f9a889aa67311d8adf75d23e4/mVoepNNK0d_fM72aijL7yzyZFsqNtiyH2botA4wUZdpMHtxvBqfPPSztSQdTfXc1GW20XkzrQBFVA1-nApztOKLa9KgMZS4w-AhKm49qpq_OfcgcH50vkakH4lwN8RWeqO86nWgfGog7sV89L6F3XdtWtgpQ60wC_xrgmAQ0hWI"/>
          <p:cNvPicPr/>
          <p:nvPr/>
        </p:nvPicPr>
        <p:blipFill>
          <a:blip r:embed="rId1"/>
          <a:stretch/>
        </p:blipFill>
        <p:spPr>
          <a:xfrm>
            <a:off x="0" y="3214800"/>
            <a:ext cx="6858000" cy="59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171360"/>
            <a:ext cx="6858000" cy="19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хранения имущества роты  и  личных вещей военнослужащих предусмотрена кладов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1"/>
          <a:stretch/>
        </p:blipFill>
        <p:spPr>
          <a:xfrm>
            <a:off x="0" y="2714760"/>
            <a:ext cx="685800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9-04-21T04:57:03Z</dcterms:modified>
  <cp:revision>95</cp:revision>
  <dc:subject/>
  <dc:title>PowerPoint Presentation</dc:title>
</cp:coreProperties>
</file>