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DE9C3-415B-4F64-BBFE-02529E5EA6C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1C23-8CCA-402E-A00F-DC39C42F60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ОТИВАЦ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и помощ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оздушного шарика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торый перекидывают друг другу выяснить, что является главным  в жизни каждого в данном классе.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Без чего человек не может достичь вышеназванных це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УДИТЬ ПРОБЛЕМУ. (Варианты ответов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.- Без здоровья очень трудно достичь чего-либо, поэтому оно является - одним из  главных жизненных ценностей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обращает внимание коллег на тему урока, записанную на дос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О чём сегодня пойдёт речь на уроке? (Варианты ответ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Сегодня мы выясним,  из чего же складывается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B84E-381D-4D6A-934D-94A2C20E1E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-Попробуйте дать определение здоровью. (Варианты ответов)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615-EC9F-41EF-B6EB-998B8E9B1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B689-A096-4BF3-9DFF-CA07B114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ED61-E156-4C8A-ADC2-C0C88852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3556A4-D10C-471D-8B25-349C3117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EA313-43F5-4EC7-B03B-BFF6B951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856034-871C-4BA5-B002-55CF80E8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F5C1C-D4B6-46BE-B677-BE226CD5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1CE9A-3D74-453B-B45E-25CCAF9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E72E8-AE29-4358-A796-886FF6EA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67AA0-97CD-40A4-BB02-B04045A64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7705B3-70A3-4CDA-8478-7A9329368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C0D-2A53-489A-B5C3-84E6D91E9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97E5-F37E-4216-A63E-1BE79CA4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CD46F-E812-4798-90C1-14D524F9D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FD38-F338-4B46-82CA-BB19334F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C5DC-1634-47A1-A928-B2706FB31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19FD-2CDF-4C4A-821F-946D5D44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8333-211E-449D-84F9-FF1ACA3C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61B15-3FCC-4A06-9DE1-EB8295F3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BCB64-352C-4C66-A62A-EC4E55CEC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9E9C-4E43-4A18-8AC3-423A7A0BD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781-F204-477E-B76F-53C3BF85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EFF2-473A-4633-AFEE-A69FC375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9E4D-03F3-441E-9EB2-CE3A3D3D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9A86-E159-4BD7-AA35-FA9010757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6DD27-87FD-48EF-BBB7-F2E3712C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D55AC-6050-4E39-877A-96F61E99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C8B0-BC04-4ABA-BFF8-DB169F21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52059-08F4-4386-B2C0-609E747B0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86EB2-6DAD-41BB-9E7C-97E0F82F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3510F-F1DC-4AC6-9979-5AABEC1CE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1F2A-6B71-4666-8DEC-D72CC1488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8FB80-9B67-4C16-A311-B43FE187E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B18B7-8B85-4D01-A9E3-C5078583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2C30-1E97-44E4-AE37-6315074F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F2F28F-4FC7-4E1F-B0D2-D4D33C55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1EFA2-7814-41C9-85E2-535A021EB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AC8B9-3016-46A2-9E8A-6DF8099D3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ACC4B-5F1C-4E62-BBF3-8F6864B8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137A6C-2BB4-4009-993A-75CADC027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E010-EBD8-4325-AD80-FCDC69054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3A245-6160-4190-A6EF-C382A165D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1C6F-5030-4934-81CB-2C58C68ED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84BA-A9D3-4F95-BFEF-519EB4AD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9EC88-A772-4BB5-989C-61A4CC45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65E36-6792-422F-9D5A-4E4AA281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E4DAD-B821-4E6C-828A-5E2801E2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F54D-E8D1-41E3-8403-B497A66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A6106-6794-40C5-A99C-22D86AC9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8008-8DAA-466C-ACFA-F80052D7E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30703-9145-400F-9B3B-CC6061AF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17105-E495-41EC-9ABA-5710B1F33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FB688-1070-41EB-8001-491A83A7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99E3-0878-4D62-9EE9-E05D7CC4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CF078-1AD5-4C10-B55C-CD3C6AF6F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01A60-E954-40D5-A1BE-0A1F289C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CE88C-6997-457A-81F3-EB85A2607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3CD43-F3E2-4463-BE6A-7D75EB2B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A6D7A-ED97-4E88-8EDD-1CBC9D93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B43C1-4A61-4D3A-8D75-F57C18A4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C2975-7EAA-4127-A63A-A5FF2A9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04359-0813-4FCD-B344-E235AAFE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6AE2-83F2-4639-A366-2D993BF6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D3D67-4536-47C4-92B1-5C5F7291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05E-6383-4D4F-98E4-76C7EFEC1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C5774-DCC0-486C-B5F5-D54183CB1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1CD39-0C03-452E-BD85-FFC81AF6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287D6-7283-417D-A856-B00CEE888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696B0-6AEB-4CB1-BC17-E921C3C27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7ABDE-B8A8-4FD7-A4E7-E43A8F91C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F7D86-4861-4A9D-978C-D56B0750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F2DD0-A4CE-41F4-8647-B2FB1F23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54BFF-3201-47F9-9A18-470CCEF7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C9AE7-81F2-4675-8FD7-849A82DA0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0EA4EB-0371-467A-A3BA-7059DF66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183-CB09-4C07-B4B5-4063A5D6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42ADD-9CFB-42AA-B0A4-64008F2A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18081-485C-4172-AD29-53C64C1E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4CA52-F8EA-48BE-9562-12C73FB3B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536DF-5FCA-4BCC-BE9B-929AFD93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80A72-9B30-410D-B287-B77655F2A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7DB61-B916-44CF-8F9B-80B612082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FDD2-E234-41C2-BB64-D751CD2DD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6E8B3-359A-4D76-9DE2-7D2959B6E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94AFF-598D-479F-9719-B954653E3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A56FFB-64AB-4663-9A70-D37D6AFD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839-9F2F-4B83-A1C4-740B77D1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A51AF-3641-4B58-9118-E516CB05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A17F9-F7A2-424A-9DBD-877EEB7B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F67CE-05E9-4D35-BC78-A109F596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C195C2-3BF5-4CDD-9B0D-0F4C4FED4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E8C282-370B-4193-91B9-9A67D37D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D4163-8B22-4419-9E80-0BA6CBEBB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85EE1-CCF5-483C-A45D-D15146A8D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B00A6F-1DC7-4957-B7BB-7DCCF0FED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716285-8320-4912-9E40-ABDB02B7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4B7D4-FCC3-4EAD-91EA-44AB0D33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798-DC70-4539-A142-89E7FDE3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D140F-8E6D-4229-854F-C9F69C4C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6A863-E4AD-494F-9624-4B8185A5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53768C-F476-49EA-B19D-88EAF13F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05EAA-2CB0-4F3E-B38F-4B9605B3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C6AA8F-DD8F-445C-8033-8A0DEB95F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D48C4-435C-4340-A77A-C48D27072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AF2C-2688-436A-B227-82CC539BF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9DD76-67E7-4E11-80E9-C265078E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E9EC80-D2DA-4F33-A117-51CB6E70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B9E77-4199-439E-B205-6A96C8B84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4BCF-91BB-4440-9963-6A07C4BB215A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4D0B-C8E9-4785-B4E1-DD2895A758C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2A651-3BA2-4513-8271-1DAA0E35E24D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A50D-52D4-4830-A953-02155E1DEAC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AEFF-6455-4163-B596-9F1F38216827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4A7C4-3285-4A9F-822A-1EC1742C765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14C2E-3397-441B-A3DD-E619BB6225DB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FDF8B-B566-43EE-920E-1D4C2039E4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1A28-4E19-4C9D-9D9F-5980C3FE8289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7BCD0-EF6F-42D0-B169-DC0B832A09A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7F62F-BC8F-46A2-BA9B-099AF2FA27A0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E307-6194-4728-8023-7EF84285F9A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B72-5942-44EB-95EA-4B5B7C7341CC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63373-E9B2-4C5D-BEEF-68BCC7DF30A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8B9B-19F2-4A64-94EC-EB71F2E3FDC8}" type="datetime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99CE-6063-4864-9E85-350DB93EDC0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7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215CF-2376-4AAE-B7A9-55F0B63861B4}" type="datetime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3A4E-7F21-4FE7-A484-DB6A4D18100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Rectangle 2" descr=""/>
          <p:cNvPicPr/>
          <p:nvPr/>
        </p:nvPicPr>
        <p:blipFill>
          <a:blip r:embed="rId1"/>
          <a:stretch/>
        </p:blipFill>
        <p:spPr>
          <a:xfrm>
            <a:off x="743040" y="328680"/>
            <a:ext cx="7937280" cy="95076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58920" y="1699920"/>
            <a:ext cx="6400800" cy="4608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ff"/>
                </a:solidFill>
                <a:latin typeface="Lucida Sans Unicode"/>
              </a:rPr>
              <a:t>«Здоровьесберегающие технологии в образовательном процессе»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Выполнил Леванович Владимир Валентинович </a:t>
            </a:r>
            <a:br>
              <a:rPr sz="2400"/>
            </a:b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преподаватель-организатор ОБЖ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Lucida Sans Unicode"/>
              </a:rPr>
              <a:t>МКОУ Хандальская СОШ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1"/>
          <a:stretch/>
        </p:blipFill>
        <p:spPr>
          <a:xfrm>
            <a:off x="450720" y="128520"/>
            <a:ext cx="8699760" cy="84132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457200" y="114300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1214280" y="1428840"/>
          <a:ext cx="7358400" cy="5229000"/>
        </p:xfrm>
        <a:graphic>
          <a:graphicData uri="http://schemas.openxmlformats.org/drawingml/2006/table">
            <a:tbl>
              <a:tblPr/>
              <a:tblGrid>
                <a:gridCol w="3322800"/>
                <a:gridCol w="4035600"/>
              </a:tblGrid>
              <a:tr h="101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Название </a:t>
                      </a: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СУЩЕСТВИТЕЛЬНОЕ  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eef5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Описание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ПРИЛАГАТЕЛЬНОЕ -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Действ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ГЛАГОЛ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94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Чувство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ФРАЗА ИЗ 4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00000"/>
                          </a:solidFill>
                          <a:latin typeface="Times New Roman"/>
                          <a:ea typeface="Times New Roman"/>
                        </a:rPr>
                        <a:t>Повторение су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cc"/>
                          </a:solidFill>
                          <a:latin typeface="Times New Roman"/>
                          <a:ea typeface="Times New Roman"/>
                        </a:rPr>
                        <a:t>(СИНОНИМ) 1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sp>
        <p:nvSpPr>
          <p:cNvPr id="460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90A6F-1BEF-4076-A784-FC3172B90EC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мы песенку зап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уселись на каче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на лошади скак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четыре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поболт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зубкам постучали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мы в «часики» играл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лакали словно к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ем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спела нам гармошк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ять 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сделали «грибок»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сять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– ротик на замок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42A8-EA61-4295-B929-5E47264A608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C947-43B5-4254-8D8A-10EEE178F6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юдайте режим дня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щайте больше внимание на питани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 двигайтесь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те в прохладной комнате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гасите в себе гнев, дайте ему вырваться наруж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о занимайтесь интеллектуальной деятельностью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те прочь уныние и хандру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кватно реагируйте на всё проявления своего организм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получать как можно больше положительных эмоций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йте себе и окружающим только добра!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6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DF46-0B59-4F17-BF4C-54D112299001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7CC8-005C-41DE-BB95-A423E5A64B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Заголовок 4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кур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всегда завтрак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м не спеш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е переедаю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злоупотребляю алкоголе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плю не менее 8 часов в сутк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ддерживаю нормальную массу тела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знаю показатели своего здоровь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ежедневно хожу пешком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никогда не раздражаюсь и не выхожу из себ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7B3F-BC69-4BAD-98E7-CBF2902FB2E5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3AA7-864A-47DB-A76E-6AB785CC0ED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Rectangle 2" descr=""/>
          <p:cNvPicPr/>
          <p:nvPr/>
        </p:nvPicPr>
        <p:blipFill>
          <a:blip r:embed="rId1"/>
          <a:stretch/>
        </p:blipFill>
        <p:spPr>
          <a:xfrm>
            <a:off x="781200" y="146160"/>
            <a:ext cx="78562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4" name=""/>
          <p:cNvGraphicFramePr/>
          <p:nvPr/>
        </p:nvGraphicFramePr>
        <p:xfrm>
          <a:off x="785880" y="1112760"/>
          <a:ext cx="8107200" cy="4530960"/>
        </p:xfrm>
        <a:graphic>
          <a:graphicData uri="http://schemas.openxmlformats.org/drawingml/2006/table">
            <a:tbl>
              <a:tblPr/>
              <a:tblGrid>
                <a:gridCol w="1466640"/>
                <a:gridCol w="6640560"/>
              </a:tblGrid>
              <a:tr h="453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З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Д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Р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О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В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ru-RU" sz="28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Дата 3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C696-6B0C-4ACD-95BF-3C654BD7DA8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Номер слайда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744F-E98F-46D8-909B-E6EB957D988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Rectangle 5" descr=""/>
          <p:cNvPicPr/>
          <p:nvPr/>
        </p:nvPicPr>
        <p:blipFill>
          <a:blip r:embed="rId1"/>
          <a:stretch/>
        </p:blipFill>
        <p:spPr>
          <a:xfrm>
            <a:off x="244440" y="189000"/>
            <a:ext cx="9174240" cy="155412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990720" y="5661000"/>
            <a:ext cx="6781680" cy="93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464646"/>
                </a:solidFill>
                <a:latin typeface="Lucida Sans Unicode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Образовательный компоне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уроки, используя системно деятельностный подход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алеологические уро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элективные курсы здоровьесберегающего содержания.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Воспитательный компонент: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кружк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секции;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радиционные массовые мероприятия по пропаганде ЗОЖ и профилактике вредных привычек.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7" name="Дата 2"/>
          <p:cNvSpPr/>
          <p:nvPr/>
        </p:nvSpPr>
        <p:spPr>
          <a:xfrm flipV="1" rot="10800000">
            <a:off x="7002360" y="6850080"/>
            <a:ext cx="140976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250F-78A2-4C4E-88FD-D3D4330360E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ть школьнику возможность сохранения здоровья за период обучения в школе, сформировать у него необходимые знания, умения, навыки по здоровому образу жизни, научить использовать полученные знания в повседневной жизни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1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3878-B517-41F4-A603-EFD73123CD3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Заголовок 4" descr=""/>
          <p:cNvPicPr/>
          <p:nvPr/>
        </p:nvPicPr>
        <p:blipFill>
          <a:blip r:embed="rId1"/>
          <a:stretch/>
        </p:blipFill>
        <p:spPr>
          <a:xfrm>
            <a:off x="249120" y="133200"/>
            <a:ext cx="8444160" cy="13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овка учебной нагрузк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троение урока с учетом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оспособности учащихс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облюдение гигиенических требований к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ому кабинету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лагоприятный эмоциональный настрой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ведение физкультминуток и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х пауз на уроках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5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3580-9EE2-4E90-BFCB-2FBB8C7786F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313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личностно-ориент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 проектной деятельност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дифференцированного обуч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ю критического мышления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игровые технологии;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технология проблемного обучения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FE163-5BDF-4B70-BDC5-9B289763FF87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C1ED-B79A-40D8-8131-893635E3D15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Заголовок 4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ье – дороже золота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Чтоб больными лежать, надо спорт уважа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 спортом дружить – сильным не 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ми быть – горе забыть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истота- залог здоровья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Здоровье разум дари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Кто долго жуёт, тот без зубов живёт»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4C6F-C489-4AFC-900A-00CA00C5DA18}" type="datetime">
              <a:rPr b="0" lang="ru-RU" sz="10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A801-0E1A-49FC-919A-50658E861C5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Заголовок 4" descr=""/>
          <p:cNvPicPr/>
          <p:nvPr/>
        </p:nvPicPr>
        <p:blipFill>
          <a:blip r:embed="rId1"/>
          <a:stretch/>
        </p:blipFill>
        <p:spPr>
          <a:xfrm>
            <a:off x="450720" y="60480"/>
            <a:ext cx="824256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Rectangle 2" descr=""/>
          <p:cNvPicPr/>
          <p:nvPr/>
        </p:nvPicPr>
        <p:blipFill>
          <a:blip r:embed="rId1"/>
          <a:stretch/>
        </p:blipFill>
        <p:spPr>
          <a:xfrm>
            <a:off x="298440" y="195120"/>
            <a:ext cx="8699400" cy="8845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 txBox="1"/>
          <p:nvPr/>
        </p:nvSpPr>
        <p:spPr>
          <a:xfrm>
            <a:off x="928440" y="1213920"/>
            <a:ext cx="80010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иши это... (Опиши цвет, форму, размеры или другие характеристики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равни это... (На что это похоже? Чем отличается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ассоциируй это... (Что это напоминает?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уй это... (Как это сделано? Из чего состоит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 это... (Что с этим можно делать? Как это применяется?)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еди "за" и "против" (Поддержи или опровергни это)</a:t>
            </a:r>
            <a:br>
              <a:rPr sz="2200"/>
            </a:br>
            <a:br>
              <a:rPr sz="1600"/>
            </a:b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AA45F-0CEA-45C1-B37C-46A22D4E8CF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физм – (от греческого sophisma , «мастерство, умение, хитрая выдумка, уловка») - умозаключение или рассуждение, обосновывающее какую-нибудь заведомую нелепость, абсурд или парадоксальное утверждение, противоречащее общепринятым представлениям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0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7AFD-8F98-4A9E-8B32-9BA438CF04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Заголовок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ты не терял, то имеешь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а ты не терял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у тебя рога»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Picture 2" descr=""/>
          <p:cNvPicPr/>
          <p:nvPr/>
        </p:nvPicPr>
        <p:blipFill>
          <a:blip r:embed="rId2"/>
          <a:stretch/>
        </p:blipFill>
        <p:spPr>
          <a:xfrm>
            <a:off x="2771640" y="4005360"/>
            <a:ext cx="2438640" cy="2438280"/>
          </a:xfrm>
          <a:prstGeom prst="rect">
            <a:avLst/>
          </a:prstGeom>
          <a:ln w="0">
            <a:noFill/>
          </a:ln>
        </p:spPr>
      </p:pic>
      <p:sp>
        <p:nvSpPr>
          <p:cNvPr id="456" name="Номер слайда 4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390C-2B70-4698-B442-9DC47F0EAF0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2:04:27Z</dcterms:created>
  <dc:creator>Сергей</dc:creator>
  <dc:description/>
  <dc:language>en-US</dc:language>
  <cp:lastModifiedBy>User</cp:lastModifiedBy>
  <dcterms:modified xsi:type="dcterms:W3CDTF">2020-09-26T03:12:20Z</dcterms:modified>
  <cp:revision>48</cp:revision>
  <dc:subject/>
  <dc:title>МАСТЕР-КЛАСС</dc:title>
</cp:coreProperties>
</file>