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9522-E7EE-4E94-B1AC-C765F6F675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632E-E0FD-4C46-9434-68856DEBDC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МОТИВАЦ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 помощ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оздушного шарика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торый перекидывают друг другу выяснить, что является главным  в жизни каждого в данном классе. (Варианты ответ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Без чего человек не может достичь вышеназванных ценност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ДИТЬ ПРОБЛЕМУ. (Варианты ответов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ЕШЕНИЯ.- Без здоровья очень трудно достичь чего-либо, поэтому оно является - одним из  главных жизненных ценностей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обращает внимание коллег на тему урока, записанную на дос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 чём сегодня пойдёт речь на уроке? (Варианты ответ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егодня мы выясним,  из чего же складывается здоровье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523A-10A9-41F6-9C7C-FED96248A4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-Попробуйте дать определение здоровью. (Варианты ответов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F8D7-E4F3-41E5-A2DA-4F362BDD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7B2E-9FF1-43B6-AA8E-88959A83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13F7D-DA4F-4015-8659-84D07B93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B2626-3A46-4BF5-8E89-FB66CD94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7AF5B-1E64-4A0E-B138-B6793A9B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6E57C-0A7F-465F-8A44-7D058533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3451A-026A-4D16-BB17-C6897F05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7AB05-3815-4118-9936-D7436472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00307-71E7-4E6E-92F3-4C5D25B6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B9DA6-100C-49EC-8301-2B82A4DC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FC22E-418B-4160-9321-6E2B628E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68BD-6B24-49D5-A7AA-A4163E8C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CF37-54F8-4908-804C-F4B67B26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BE41-735A-427A-987A-40141AC7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3E02-C912-49BD-973A-EF176AF9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647B-D230-46DD-A87A-96F458D1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090E-CB0D-4ECB-BB72-85F5BF0B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1935-1815-4E16-816B-A659D708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0DE4-CEC0-43D8-80F4-16CBFDE8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7774-7E62-4505-8EEC-9722CA0C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ED9C-B841-419F-AA17-86FD523C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D09B-0DC1-407F-84FB-A95FBA14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A27A-1200-4F29-88DC-2E34A7F5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3A85-3BE5-444B-9A03-97628DFB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EB5B-0C6D-4793-B027-4FD595CF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7DC7-DC57-4DF9-9712-2CF7B26E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9A62C-0410-49E5-99BE-1C79B5DE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FBD4F-615D-433F-BF6A-EA89E445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027F0-B87D-4335-A048-DABC2C92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40592-318A-4127-98DD-B96CBED0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99FBB-21EE-4734-A9D2-5FFE3310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6AC4-07FC-4ADE-9E05-1B847D82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026EA-A4D5-4BCC-93F7-862094C8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97293-B384-4C5B-B3D1-9E67C7BD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81D06-2959-4847-BF9F-D7E20813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54E6C-5E1F-41F3-853B-F290DE71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6ED83-154D-45D4-973D-7874C2D3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C22B1-FDF2-4AE6-B2F2-EBC98428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4B4E2-85FB-4AE6-95DC-8B1724BE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9898B-771E-4863-AD04-110D6580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70605-F690-4808-9EAE-8CE3AECB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8BDD8-AB62-4B80-B7A1-1E7F750E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0A4C-FD35-485E-927B-6D95A74F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685C3-3E84-41AE-B5FC-FF4B16A2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EE669-FDA5-438B-912E-E2B73B96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32D0B-A82F-48E1-9978-1DACB38F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64D25-FB70-4668-BC08-46A6777F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19C84-FF43-4EBC-8D69-AC35A4C0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7A4D8-2AAF-4BF0-8600-2378F423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17DEF-2CAD-4D30-9117-4E5BBB17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54EA3-E170-4573-B0E6-1D199BD6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8524C-B3C9-4F16-BA13-6444C567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60079-5EA0-4475-87E8-2FFB3B58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39C3-D3CF-4490-815A-B91E6C5F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A47A4-8E13-4D44-B845-86163AAA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86E3F-7FED-4066-843C-C3BE71EE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EDE7D-90D0-4281-8724-0A725562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05285-E6A1-48FE-9A08-4FDDAB52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3E95D-11D4-4400-8426-3C34CF7D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AABF2-2D0B-4CE5-8D46-65A2D7B5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4D153-EB4F-49EE-8EF0-305EC416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158F0-3D96-4A9D-873E-9A958A4A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755B8-3BA0-4853-A082-61F6651F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60738-E71B-4DA7-8B26-C72797D2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E8B3-2AF3-41BA-9CD8-9294369B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AB977-378B-47EE-86A3-23C032A8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79A9A-EF14-4143-B011-4651A035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7266A-E44B-452A-9076-A7EF78EE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B55E4-57ED-4D23-9F1B-5E638B72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BE2EC-940C-4442-B4C2-6F3A7A81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3BBDE-6FD6-4E4E-B624-BBCBFEB1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51132-29DA-4842-847B-621871DC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E08A8-5F20-42D4-9D3C-CA26C7FD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17A81-57BA-4062-AC94-6996BA0A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5019F-1F50-4D1F-B2EC-5D566D46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7F4B-49D9-496A-AE6D-14E71A47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B6C54-FB8B-41FD-B0A6-73F0A442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D1B99-9E28-4864-A69F-C2E1C121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56FE9-BA0F-41C0-B973-7F8B320C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EC907-1913-4A25-B95A-7156A266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5C244-70EF-4B53-88B2-C6EFC051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3FE33-7B84-438B-83FA-8EA924A1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CB11F-D6D2-4622-9E05-BD414370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D760E-6D97-4C04-9531-34C4CE16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CBE7A-A7E6-4B1D-9C95-B63B6448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D8884-EA99-4410-8EDC-C377C446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91DD-70A7-441F-A185-91C1EEE2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57307-2213-438A-9EB1-08CAC9A8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E3C4E-A0FB-4AF9-B245-A5134CDF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2DC30-855F-4189-86F0-66D18767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36F75-4815-4B63-87E5-AEA54796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2B469-E8D8-479E-88E3-09785C6D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3A87F-4632-4FF1-9894-407FAFDB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D8863-056B-4319-9D06-19642BE8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AC74B-EF05-412E-B339-1442FA8C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D15F8-C841-4153-A70F-E787DB8D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808EE-64A6-43E9-BDD3-DFC58308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65DE-E59D-4951-895D-365279B5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EF63E-3BD8-431A-95DF-E1D32B9C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ACA30-8FAC-4D44-BE8B-A362D2BF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17CDF-1357-46BB-9EBA-AA8C31C2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286C2-0ED0-4169-9344-652F3FCE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5CE16-417E-48F0-A25E-CDAA8C32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ACC44-3583-4354-8F0C-276876AA6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A472D-679F-4C1A-9E81-33386922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B25D2-9D91-4571-825E-C487D50E6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62466-6407-4641-8EB9-FAC16FED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CED2F-8B6A-4646-B238-AE55E16F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9913-6F5B-4223-8557-493FE516E73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FA3E-663F-41BE-9332-9236C5B2965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A101-D7E5-4560-99AC-B03423B44A9A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5020-6229-40E6-BAEB-B333D468978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8E78-1065-4C5B-960B-4C146817A4B6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CEC2-A17A-4333-B396-E65A962759C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2C2F-1FE5-44AF-A83E-B0F24FF497A7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6C65-DA40-4814-90E7-4BEDD5F8274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F8DF-9405-4007-8379-299544FC7AE6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32B6-FEBC-417A-AE02-DF52E074E26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293A-5B49-4845-ABFE-5DB29AEE53DA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C78C-5CA1-432E-9C64-0A9DD620547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59F3-A59C-4FFA-B7EA-10E21B6DBCAD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07B9-E294-4F2A-91C7-E87603A40AF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3F32-3589-4C4C-ABA5-EA2FB9017741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2474-2EB9-4A1B-B90A-3C973CA183B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6039-C866-40C9-A642-642A11EAB96F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3B9F-B699-4763-9216-B2B0CAD654F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743040" y="328680"/>
            <a:ext cx="7937280" cy="9507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258920" y="1699920"/>
            <a:ext cx="6400800" cy="460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Lucida Sans Unicode"/>
              </a:rPr>
              <a:t>«Здоровьесберегающие технологии в образовательном процессе»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Lucida Sans Unicode"/>
              </a:rPr>
              <a:t>Выполнил Леванович Владимир Валентинович 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Lucida Sans Unicode"/>
              </a:rPr>
              <a:t>преподаватель-организатор ОБЖ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Lucida Sans Unicode"/>
              </a:rPr>
              <a:t>МКОУ Хандальская СОШ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Rectangle 2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699760" cy="8413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57200" y="1143000"/>
            <a:ext cx="8686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214280" y="1428840"/>
          <a:ext cx="7358400" cy="5229000"/>
        </p:xfrm>
        <a:graphic>
          <a:graphicData uri="http://schemas.openxmlformats.org/drawingml/2006/table">
            <a:tbl>
              <a:tblPr/>
              <a:tblGrid>
                <a:gridCol w="3322800"/>
                <a:gridCol w="4035600"/>
              </a:tblGrid>
              <a:tr h="101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Название </a:t>
                      </a: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СУЩЕСТВИТЕЛЬНОЕ  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/>
                    </a:solidFill>
                  </a:tcPr>
                </a:tc>
              </a:tr>
              <a:tr h="94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Описа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ПРИЛАГАТЕЛЬНОЕ -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Действ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ГЛАГОЛ -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94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Чувств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ФРАЗА ИЗ 4 С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Повторение су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(СИНОНИМ) 1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sp>
        <p:nvSpPr>
          <p:cNvPr id="460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D7E7-2364-4A30-9CD3-81D006BBF02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мы песенку запел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уселись на качел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на лошади скакал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етыре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поболтал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по зубкам постучал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мы в «часики» играл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лакали словно кошк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ем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спела нам гармошк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ять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делали «грибок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ротик на замо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B3AB-1124-4711-A9DF-B6CE50D5A3A7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77D0-90D5-43BE-9BBE-2E6E8E4A11C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юдайте режим дня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айте больше внимание на питание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двигайтесь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те в прохладной комнате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гасите в себе гнев, дайте ему вырваться наружу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занимайтесь интеллектуальной деятельностью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ите прочь уныние и хандру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 реагируйте на всё проявления своего организма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получать как можно больше положительных эмоций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йте себе и окружающим только добра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AD2E-E14F-4AB4-A0F6-BCB4AA5BBF2E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9F5F-42D8-4BDF-B245-FA246356A2E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Заголовок 4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икогда не курю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сегда завтракаю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ем не спеш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переедаю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икогда не злоупотребляю алкоголе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плю не менее 8 часов в сут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ддерживаю нормальную массу тел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наю показатели своего здоровь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ежедневно хожу пешко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икогда не раздражаюсь и не выхожу из себ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881D-5B7A-4822-9931-91B63E1DEB47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B214-75C1-4E32-8B6B-E0A093F4A19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Rectangle 2" descr=""/>
          <p:cNvPicPr/>
          <p:nvPr/>
        </p:nvPicPr>
        <p:blipFill>
          <a:blip r:embed="rId1"/>
          <a:stretch/>
        </p:blipFill>
        <p:spPr>
          <a:xfrm>
            <a:off x="781200" y="146160"/>
            <a:ext cx="78562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4" name=""/>
          <p:cNvGraphicFramePr/>
          <p:nvPr/>
        </p:nvGraphicFramePr>
        <p:xfrm>
          <a:off x="785880" y="1112760"/>
          <a:ext cx="8107200" cy="4530960"/>
        </p:xfrm>
        <a:graphic>
          <a:graphicData uri="http://schemas.openxmlformats.org/drawingml/2006/table">
            <a:tbl>
              <a:tblPr/>
              <a:tblGrid>
                <a:gridCol w="1466640"/>
                <a:gridCol w="6640560"/>
              </a:tblGrid>
              <a:tr h="453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З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Д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О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Р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О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В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0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18DD-61F3-4FF2-9F6C-49679B00FEAD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31A0-EF6D-459F-800D-1D0F55DB54E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Rectangle 5" descr=""/>
          <p:cNvPicPr/>
          <p:nvPr/>
        </p:nvPicPr>
        <p:blipFill>
          <a:blip r:embed="rId1"/>
          <a:stretch/>
        </p:blipFill>
        <p:spPr>
          <a:xfrm>
            <a:off x="244440" y="189000"/>
            <a:ext cx="9174240" cy="15541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990720" y="5661000"/>
            <a:ext cx="6781680" cy="93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64646"/>
                </a:solidFill>
                <a:latin typeface="Lucida Sans Unicode"/>
              </a:rPr>
              <a:t>Спасибо за работу!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Образовательный компонет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уроки, используя системно деятельностный подход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валеологические уроки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элективные курсы здоровьесберегающего содержания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Воспитательный компонент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кружки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секции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традиционные массовые мероприятия по пропаганде ЗОЖ и профилактике вредных привычек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Дата 2"/>
          <p:cNvSpPr/>
          <p:nvPr/>
        </p:nvSpPr>
        <p:spPr>
          <a:xfrm flipV="1" rot="10800000">
            <a:off x="7002360" y="6850080"/>
            <a:ext cx="1409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5626-D629-4B27-AEC1-2EA59116DD7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Заголовок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школьнику возможность сохранения здоровья за период обучения в школе, сформировать у него необходимые знания, умения, навыки по здоровому образу жизни, научить использовать полученные знания в повседневной жизн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2FC0-E668-4D84-B2E3-4BEF04A389A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Заголовок 4" descr=""/>
          <p:cNvPicPr/>
          <p:nvPr/>
        </p:nvPicPr>
        <p:blipFill>
          <a:blip r:embed="rId1"/>
          <a:stretch/>
        </p:blipFill>
        <p:spPr>
          <a:xfrm>
            <a:off x="249120" y="133200"/>
            <a:ext cx="84441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овка учебной нагрузки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троение урока с учетом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оспособности учащихся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блюдение гигиенических требований к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му кабинету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лагоприятный эмоциональный настрой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дение физкультминуток и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ческих пауз на уроках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A532-9372-474F-9F8E-52B74003688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Заголовок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313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технология личностно-ориентированного обучения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технология проектной деятельности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технология дифференцированного обучения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технологию критического мышления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игровые технологии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технология проблемного обучения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EB0F-9593-4547-8047-9800716E24FB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7C0B-50A8-4ADB-A8E4-2FC39CE6F04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Заголовок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доровье – дороже золота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Чтоб больными лежать, надо спорт уважать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 спортом дружить – сильным не быть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доровыми быть – горе забыть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стота- залог здоровья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Здоровье разум дарит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Кто долго жуёт, тот без зубов живёт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8ACA-D644-4AE4-8C53-987240200DD4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0D2F-1A4B-4F8B-A032-07CD3BCD5AA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Заголовок 4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298440" y="195120"/>
            <a:ext cx="8699400" cy="884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928440" y="1213920"/>
            <a:ext cx="80010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иши это... (Опиши цвет, форму, размеры или другие характеристики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равни это... (На что это похоже? Чем отличается?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ассоциируй это... (Что это напоминает?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уй это... (Как это сделано? Из чего состоит?)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 это... (Что с этим можно делать? Как это применяется?)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веди "за" и "против" (Поддержи или опровергни это)</a:t>
            </a:r>
            <a:br>
              <a:rPr sz="2200"/>
            </a:br>
            <a:br>
              <a:rPr sz="1600"/>
            </a:b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FAF6-482C-4E37-93A7-41697478F89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физм – (от греческого sophisma , «мастерство, умение, хитрая выдумка, уловка») - умозаключение или рассуждение, обосновывающее какую-нибудь заведомую нелепость, абсурд или парадоксальное утверждение, противоречащее общепринятым представлениям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BFEF-CBE2-4EBD-A985-44D5BB0B5CE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ты не терял, то имееш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га ты не теря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, у тебя рога»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2"/>
          <a:stretch/>
        </p:blipFill>
        <p:spPr>
          <a:xfrm>
            <a:off x="2771640" y="400536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456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2B8E-3D99-42C5-BE3A-CB07DC7BF4A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2:04:27Z</dcterms:created>
  <dc:creator>Сергей</dc:creator>
  <dc:description/>
  <dc:language>en-US</dc:language>
  <cp:lastModifiedBy>User</cp:lastModifiedBy>
  <dcterms:modified xsi:type="dcterms:W3CDTF">2020-09-26T03:12:20Z</dcterms:modified>
  <cp:revision>48</cp:revision>
  <dc:subject/>
  <dc:title>МАСТЕР-КЛАСС</dc:title>
</cp:coreProperties>
</file>