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1D3A-F931-412B-AC49-CB773B70BE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B11F-C87F-4CBF-9811-B17E92F63A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ОТИВАЦ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помощ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оздушного шарика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й перекидывают друг другу выяснить, что является главным  в жизни каждого в данном классе. (Варианты ответ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Без чего человек не может достичь вышеназванных ценност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Ь ПРОБЛЕМУ. (Варианты ответов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ЕШЕНИЯ.- Без здоровья очень трудно достичь чего-либо, поэтому оно является - одним из  главных жизненных ценносте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обращает внимание коллег на тему урока, записанную на дос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 чём сегодня пойдёт речь на уроке? (Варианты ответ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егодня мы выясним,  из чего же складывается здоровье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8B96-1207-487E-A033-A730B8A644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-Попробуйте дать определение здоровью. (Варианты ответов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7FD-F7F3-46EE-B615-E4C85FFB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75E-83F0-45CC-B443-F9831988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1E221-B947-4EB9-AF01-EF346907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DD701-5285-47AC-807D-64A7A53D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25D51-8859-4205-92CA-8D3E820E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6B0CC-5072-40F7-81DA-F94433DC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C35ED-CF98-4DFC-A42A-88DEC1AD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A87D1-2702-4E4E-9F94-2555A222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1788D-7D74-4B93-8144-38CF0B9A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D80F3-E60C-4059-968E-1FA7748B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01079-D16B-4CAC-A814-7293804D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53CE-8BEA-4C2E-9F21-7B0FA19D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A070-2C74-46BC-9D98-2DDA2EFE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18B8-B616-47B6-94A0-CA0A404F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E3B1-779C-4C59-9AA8-52F08F11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66E4-57EF-475E-935F-EB1C3B87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04FB-55FC-48B7-ACA2-3AC3BD96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0836-BE34-4500-B599-3751C07F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5C86-4E03-448A-970B-E07F58FB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E5EA-D6F2-49DE-B1F2-6174805F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287B-2AC7-41A5-A8C7-DC0115A1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9825-D40B-4BA3-BDEB-314B5575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A1B0-6E5F-4055-97DD-861C6556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E644-FDEE-491D-B933-884CE4A7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2E6C-C971-4DEC-92AA-C573FA81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D559-1E36-42E5-8125-9A3DC6BC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156FA-EB5E-4346-B1A9-0B747D80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75A9A-8B7B-47CA-9170-F63F4FB6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93D7B-3B08-4851-A67E-C1F35ACF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26419-605A-4D39-BEA1-14DE45CF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FA561-BCEF-4A87-AA1A-0458F979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4489-8AB6-4889-BE50-67B92931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7FFD4-04EF-48B2-AC2D-C337B854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5C13C-4EF8-44DB-9D4D-F2026EAF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83167-CF17-4BBF-BB25-0468A4EE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A41FB-564E-4245-A25A-998C9C69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51EA4-E1DF-4E84-B803-0E2F0D21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18B08-6F17-47AE-9DD8-91B992F4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AC27C-F0CF-463F-8D41-E847365C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1D303-D54F-4672-B99F-DD5080BC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EDDCE-948A-4961-B734-6621F732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676EB-CDEE-437C-B4AC-61491088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DC4-60C5-4EE4-B247-ED1D77F5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61517-C0E3-4639-BCD4-5CA2771E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41EF3-C39F-4194-BDC5-18AC1DF4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3298B-9B25-4BDD-A1F6-BD88E865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98CD8-7AD8-453F-9856-D11574EB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11EFB-71C8-4D54-B6D9-1D31C665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09265-D6E3-483E-A184-C49BAEA2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5DB63-76E1-4CE4-97BC-F43CD793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9EFCD-94EC-48FD-84EA-33692170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4EAA8-1EEE-4FBF-B348-01F9CF70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3D2D9-F15C-44DB-BE94-1A8C138D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B97B-40F9-46E3-A7D1-2866BF75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B9442-C888-4442-B980-D793D53A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30526-A5EF-4CC7-8231-4E4CCDE6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E5668-9E6C-4951-8900-F75C4530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022CA-8709-4058-89B7-5259F3AA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41829-F36A-4E25-B96C-BF499C9C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CE112-4678-4968-8FC8-3D4A49DB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93C62-4E64-4573-8F15-FB7DDC7D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85102-5338-4EA9-A97B-06256D59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639B4-E9F7-4B98-A1CB-20599FE6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9A086-B115-4512-A259-E0465A1A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E1F-670F-4A40-B9FD-FA8578C0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EB3C6-EFEB-4739-8A59-A732E48C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CCEC8-CF66-4418-9F69-50739D46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20E9D-96DB-4F6E-8587-F0E66C45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95BF6-3A12-4B4B-B0F7-41C50C1F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4FD10-D019-4BED-B4BB-6D75DF5F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91E86-8CC4-4621-B1A2-ED6B9896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6777D-8256-48BB-9C83-3ECA5001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7DC1F-B6B6-48FB-BF07-F128C581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64A87-4E14-4FC0-87EC-6003AA10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30D1E-7423-4AEA-B301-ACB735D0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7448-4A06-468C-8F56-ACB32EF4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5EB1E-3CC7-400C-8AFD-95137FDE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0D776-CE9C-4A7D-99EB-7BFF447D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1FB86-77A7-48CA-9BEA-EDAE2CEF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0F74C-7876-4D19-80FC-FD588244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35EFB-F5F7-4114-BAEA-ED66428D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70080-828A-4B31-B7CC-43184247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EB6A4-66C9-4C97-899F-BADDCAAE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AAD61-109A-47F0-B408-EC686112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790DD-F8AC-47E0-9445-114567B2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F13C1-1F77-424F-99F4-79246859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F2A-E8D9-4CDD-A4A8-F5D09EA8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9E631-464B-4E5A-AEB1-879D188A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340F9-D606-4A14-90C2-F0A2689F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85746-A750-48D7-88C7-A3C09305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43D7E-A100-48A0-817D-0D2B4790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92861-01A9-4396-B32C-1DF6DF81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44473-47F5-4AE4-A564-25F91EA2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65728-08AC-4B62-A33D-55FBA687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49833-22DD-422E-9311-8733073C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DF162-8FF0-408B-9DB3-CEF95663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FE157-3596-4228-A834-8C817325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CE32-AA2C-4DBE-BCBC-A2905B92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918A1-A6F9-40B8-BFAE-D4A7A54A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542A4-C364-4D7A-8A98-8391C9B2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42FAF-DAB6-4658-B540-E664DA9E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94B68-0577-4C97-9A00-8F6FBB17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4A14F-E53B-4038-BFF6-4C85166D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6CAF9-CBCC-4A10-88D2-E9E6C434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68507-6FAB-409E-B529-0779D3C7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52503-FA5D-4863-9B64-1783DF64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7A56E-1959-402B-9194-862A4F0E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69729-36A9-42DB-BF9A-3F8E707A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74EA-E750-45DE-9C82-48713C1CB96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8442-ABD1-47E4-B257-45ACB8F28E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E950-F30D-456C-B66B-60DCBBA61B95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7182-8644-4487-9EDD-F98188FA461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7524-ED63-4F68-982B-25AE4AE98B8A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256A-D715-4BF4-9FC4-4C5A87D89C8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BAEA-8287-4189-8E47-4BBB70766272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6AFD-AD44-49D1-B390-AD04689B86D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E0C3-5AFB-445F-AE91-746FDFD6DFA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4710-DF65-48CD-9610-0E158C416F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E6D2-38CF-46DC-8212-767CD6D407A9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1F31-E71E-4018-A8C3-72003343D4F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73DE-6F06-4198-B9B0-B8FC811EE62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DD50-6EE9-4FD1-AF90-10B740AE5BC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69E1-4F2C-4B28-B406-FE33E72F03E7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E717-52B1-449B-9F71-BDBD11FCC07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10F8-8849-4622-A2CE-1F18A30ED41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7E9A-6EC5-4374-9FA8-7199AF9801C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743040" y="328680"/>
            <a:ext cx="7937280" cy="9507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258920" y="1699920"/>
            <a:ext cx="6400800" cy="460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Lucida Sans Unicode"/>
              </a:rPr>
              <a:t>«Здоровьесберегающие технологии в образовательном процессе»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Lucida Sans Unicode"/>
              </a:rPr>
              <a:t>Выполнил Леванович Владимир Валентинович 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Lucida Sans Unicode"/>
              </a:rPr>
              <a:t>преподаватель-организатор ОБЖ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Lucida Sans Unicode"/>
              </a:rPr>
              <a:t>МКОУ Хандальская СОШ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699760" cy="8413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143000"/>
            <a:ext cx="8686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214280" y="1428840"/>
          <a:ext cx="7358400" cy="5229000"/>
        </p:xfrm>
        <a:graphic>
          <a:graphicData uri="http://schemas.openxmlformats.org/drawingml/2006/table">
            <a:tbl>
              <a:tblPr/>
              <a:tblGrid>
                <a:gridCol w="3322800"/>
                <a:gridCol w="4035600"/>
              </a:tblGrid>
              <a:tr h="101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Название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СУЩЕСТВИТЕЛЬНОЕ  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/>
                    </a:solidFill>
                  </a:tcPr>
                </a:tc>
              </a:tr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ПРИЛАГАТЕЛЬНОЕ -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Действ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ГЛАГОЛ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Чувств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ФРАЗА ИЗ 4 С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Повторение су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(СИНОНИМ) 1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sp>
        <p:nvSpPr>
          <p:cNvPr id="460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A86A-4ADF-4E0E-B0DB-C0650224601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мы песенку запе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уселись на каче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на лошади скака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тыре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поболта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по зубкам постучал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мы в «часики» игра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лакали словно кош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ем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спела нам гармош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ять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делали «грибок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ротик на замо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3EB3-BD3C-47C9-A38A-D17142677F40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459C-4BC7-423E-8E09-CB1E5575907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юдайте режим дня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айте больше внимание на питание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двигайтесь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те в прохладной комнате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гасите в себе гнев, дайте ему вырваться наружу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нимайтесь интеллектуальной деятельностью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ите прочь уныние и хандру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 реагируйте на всё проявления своего организма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получать как можно больше положительных эмоций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йте себе и окружающим только добра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F2BA-6D3B-49B1-A52E-51776EF2F99A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228D-E966-42D9-9AFD-6EB9D518B6F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Заголовок 4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икогда не кур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сегда завтрака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ем не спеш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перееда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икогда не злоупотребляю алкоголе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плю не менее 8 часов в сут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ддерживаю нормальную массу тел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наю показатели своего здоровь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ежедневно хожу пешко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икогда не раздражаюсь и не выхожу из себ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84E0-ADBF-4AF2-9BBF-30D656136364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021C-F239-406F-A675-A813B9EEB23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Rectangle 2" descr=""/>
          <p:cNvPicPr/>
          <p:nvPr/>
        </p:nvPicPr>
        <p:blipFill>
          <a:blip r:embed="rId1"/>
          <a:stretch/>
        </p:blipFill>
        <p:spPr>
          <a:xfrm>
            <a:off x="781200" y="146160"/>
            <a:ext cx="78562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4" name=""/>
          <p:cNvGraphicFramePr/>
          <p:nvPr/>
        </p:nvGraphicFramePr>
        <p:xfrm>
          <a:off x="785880" y="1112760"/>
          <a:ext cx="8107200" cy="4530960"/>
        </p:xfrm>
        <a:graphic>
          <a:graphicData uri="http://schemas.openxmlformats.org/drawingml/2006/table">
            <a:tbl>
              <a:tblPr/>
              <a:tblGrid>
                <a:gridCol w="1466640"/>
                <a:gridCol w="6640560"/>
              </a:tblGrid>
              <a:tr h="45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З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Д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О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Р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О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В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AEF7-2E40-4A05-915D-B771697D952A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7006-21DF-4653-BB7B-B7A4A2BB62B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5" descr=""/>
          <p:cNvPicPr/>
          <p:nvPr/>
        </p:nvPicPr>
        <p:blipFill>
          <a:blip r:embed="rId1"/>
          <a:stretch/>
        </p:blipFill>
        <p:spPr>
          <a:xfrm>
            <a:off x="244440" y="189000"/>
            <a:ext cx="9174240" cy="15541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990720" y="5661000"/>
            <a:ext cx="6781680" cy="93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64646"/>
                </a:solidFill>
                <a:latin typeface="Lucida Sans Unicode"/>
              </a:rPr>
              <a:t>Спасибо за работу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Образовательный компонет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уроки, используя системно деятельностный подход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алеологические уроки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элективные курсы здоровьесберегающего содержания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оспитательный компонент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ружки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секции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радиционные массовые мероприятия по пропаганде ЗОЖ и профилактике вредных привычек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Дата 2"/>
          <p:cNvSpPr/>
          <p:nvPr/>
        </p:nvSpPr>
        <p:spPr>
          <a:xfrm flipV="1" rot="10800000">
            <a:off x="7002360" y="6850080"/>
            <a:ext cx="1409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E2FE-0D63-458E-B9CD-E930A3AE91F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Заголовок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школьнику возможность сохранения здоровья за период обучения в школе, сформировать у него необходимые знания, умения, навыки по здоровому образу жизни, научить использовать полученные знания в повседневной жизн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FA77-B399-4E3B-8C6C-F7977B735CC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Заголовок 4" descr=""/>
          <p:cNvPicPr/>
          <p:nvPr/>
        </p:nvPicPr>
        <p:blipFill>
          <a:blip r:embed="rId1"/>
          <a:stretch/>
        </p:blipFill>
        <p:spPr>
          <a:xfrm>
            <a:off x="249120" y="133200"/>
            <a:ext cx="84441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овка учебной нагрузки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роение урока с учетом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оспособности учащихс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людение гигиенических требований к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му кабинету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лагоприятный эмоциональный настрой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дение физкультминуток и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ческих пауз на уроках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8578-E2CC-449E-B238-51E1850706A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Заголовок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31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я личностно-ориентированного обучени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я проектной деятельности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я дифференцированного обучени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ю критического мышлени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игровые технологии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я проблемного обучени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D9C5-11A6-4CA2-BE81-8F72D07091BE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95DE-C1DF-44D6-8762-1C385012E3F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Заголовок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ье – дороже золота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Чтоб больными лежать, надо спорт уважать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 спортом дружить – сильным не быть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ыми быть – горе забыть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тота- залог здоровья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Здоровье разум дарит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Кто долго жуёт, тот без зубов живёт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5C53-29A2-47C4-9DF4-D8992A3D12D3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7EA9-D8EC-4C4D-9A35-3C4B91FE03A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Заголовок 4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298440" y="195120"/>
            <a:ext cx="8699400" cy="884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928440" y="1213920"/>
            <a:ext cx="80010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иши это... (Опиши цвет, форму, размеры или другие характеристики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авни это... (На что это похоже? Чем отличается?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ассоциируй это... (Что это напоминает?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уй это... (Как это сделано? Из чего состоит?)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 это... (Что с этим можно делать? Как это применяется?)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еди "за" и "против" (Поддержи или опровергни это)</a:t>
            </a:r>
            <a:br>
              <a:rPr sz="2200"/>
            </a:br>
            <a:br>
              <a:rPr sz="1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F79A-687D-4BA1-978D-5B24786F14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физм – (от греческого sophisma , «мастерство, умение, хитрая выдумка, уловка») - умозаключение или рассуждение, обосновывающее какую-нибудь заведомую нелепость, абсурд или парадоксальное утверждение, противоречащее общепринятым представлениям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45F6-5A6A-41AB-9B01-C5380BEBFEB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ты не терял, то имееш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а ты не теря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у тебя рога»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2"/>
          <a:stretch/>
        </p:blipFill>
        <p:spPr>
          <a:xfrm>
            <a:off x="2771640" y="40053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456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D8D9-24D5-44D7-AA2C-F208E6BE1B0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2:04:27Z</dcterms:created>
  <dc:creator>Сергей</dc:creator>
  <dc:description/>
  <dc:language>en-US</dc:language>
  <cp:lastModifiedBy>User</cp:lastModifiedBy>
  <dcterms:modified xsi:type="dcterms:W3CDTF">2020-09-26T03:12:20Z</dcterms:modified>
  <cp:revision>48</cp:revision>
  <dc:subject/>
  <dc:title>МАСТЕР-КЛАСС</dc:title>
</cp:coreProperties>
</file>