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43E-3BF4-45AD-A7C1-0DBF19D6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5E1-98B8-4996-A626-12035F07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293-4C98-4918-BA8A-9054455F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BAC-878B-4026-B1D5-90B26E5F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A5BB-F1D9-4A74-A267-0EAFE9EF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C1E1-23D1-4FA4-991A-4D65F2C8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5E83-E074-46CD-A73B-B8B65A71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5B7F-35B8-42B0-8A4C-18CA554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23B1-7FED-4B7C-9C9D-44D5C66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878-4B4C-40A9-AB1F-3214530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5829-722A-43B7-97D7-39716F85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8AF-E772-470E-916D-C1E3B67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B329-943D-42C2-A172-77F2523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309A-2453-43DA-9EB7-6F9B44C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7FE0-9009-479B-85EA-30CDC23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553-9919-4351-8DF1-1502C9E3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4FE5-E792-438C-905F-D5880A81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983-5B90-4A83-A7F1-9F22CEE6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293-65FB-4901-A1FD-3CCD5F82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EDE-42E6-4B44-BB76-1533FFAA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9B7-516C-4AA7-8A47-C49E1F3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3FD-AF11-441E-A38A-0F2A28A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354-6CCF-4ACE-8842-E965744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CC6-B02F-4D03-ACA5-65C1D551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2FC-0758-489B-ABCA-0185C2807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99A2-AC3F-404C-8312-2E5151E305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тем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3760" y="1581840"/>
            <a:ext cx="91202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мнемотех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евческой дея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«Детский сад № 53 «Солнышк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унина А.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7" descr="зада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2514600" y="1676520"/>
            <a:ext cx="6161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вить слухов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зрительную память, психические процесс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шления, воображ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ния и реч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редством мнемотех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7" descr="зада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-646920" y="-6120"/>
            <a:ext cx="95216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 Развивать у детей умение с помощ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фического рисунка, понимать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зывать знакомые песни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мотабли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Развивать у детей психические процесс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ление, внимание, воображ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мять (различные виды), музыка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ть у детей умственную актив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бразительность, наблюда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ать детей правиль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укопроизнош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этапы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1475280" y="1389600"/>
            <a:ext cx="7201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этап: рассматривание таблиц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разбор того, что на ней изображен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: пересказ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младших группах с помощ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ател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ап: пение с помощ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зыкального    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" descr="53c4bceab39f8_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62280" y="1146960"/>
            <a:ext cx="8236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Планируемый результ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 помощью мнемотехн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жно добиться следующих результа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. Овладение высоким уровн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поминания, познаватель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 речевой активности на занят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.Развитие активности детей п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певании и п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3.Постепенное приучение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льному п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04920" y="3886200"/>
          <a:ext cx="8839080" cy="1050840"/>
        </p:xfrm>
        <a:graphic>
          <a:graphicData uri="http://schemas.openxmlformats.org/drawingml/2006/table">
            <a:tbl>
              <a:tblPr/>
              <a:tblGrid>
                <a:gridCol w="1577880"/>
                <a:gridCol w="1893960"/>
                <a:gridCol w="1973160"/>
                <a:gridCol w="1565280"/>
                <a:gridCol w="1828800"/>
              </a:tblGrid>
              <a:tr h="10522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тились санки вни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пче        куколка    держись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, смотри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упад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м канавка     впере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Рисунок 1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3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4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5" descr=""/>
          <p:cNvPicPr/>
          <p:nvPr/>
        </p:nvPicPr>
        <p:blipFill>
          <a:blip r:embed="rId5"/>
          <a:stretch/>
        </p:blipFill>
        <p:spPr>
          <a:xfrm>
            <a:off x="7543800" y="220968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304920" y="91800"/>
            <a:ext cx="8839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учивание песни «Кукл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(сл. О. Высотской, муз. М.Старокадомског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54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9" descr="00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006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2" descr="007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3" descr="008.jpg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3:22:38Z</dcterms:created>
  <dc:creator>Дима</dc:creator>
  <dc:description/>
  <dc:language>en-US</dc:language>
  <cp:lastModifiedBy>Евгения Климова</cp:lastModifiedBy>
  <dcterms:modified xsi:type="dcterms:W3CDTF">2020-09-27T03:22:21Z</dcterms:modified>
  <cp:revision>13</cp:revision>
  <dc:subject/>
  <dc:title>Слайд 1</dc:title>
</cp:coreProperties>
</file>