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5.png" ContentType="image/png"/>
  <Override PartName="/ppt/media/image6.wmf" ContentType="image/x-wmf"/>
  <Override PartName="/ppt/media/image7.wmf" ContentType="image/x-wmf"/>
  <Override PartName="/ppt/media/image11.jpeg" ContentType="image/jpeg"/>
  <Override PartName="/ppt/media/image9.wmf" ContentType="image/x-wmf"/>
  <Override PartName="/ppt/media/image4.jpeg" ContentType="image/jpeg"/>
  <Override PartName="/ppt/media/image10.wmf" ContentType="image/x-wmf"/>
  <Override PartName="/ppt/media/image12.jpeg" ContentType="image/jpe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595B-DF2E-415D-9F64-357C1318E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831D-55BD-44C8-B28C-192B7161D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83A3-0545-4BCF-A539-74D36951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CC89-3F44-41A3-9789-06A4626F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6F5E-CC6A-482F-B058-D1DB0F902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5A0A6-40B5-4060-862A-94F641F7A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2ED2-FAEE-4193-B134-B403E27F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6487B-8926-4E5B-917F-3C4B848C7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F2F5-C65F-4492-90F2-67B7F68D4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251FE-B78B-41A7-87AD-9F65B813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8CDB2-0C94-491A-8D83-4D8CDA8E7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328D-AB2C-4EE2-B8B9-EC93E7264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A21D8-D6FA-4EBD-986D-73B9CBD09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6F470-0258-457E-8840-B53F87C3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2C8F-844C-493F-AAFC-4965B5088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AAAF-A7BB-49DD-AC90-E96B45779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7412-7972-4920-8044-B0E5290A1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C1C7-6C59-4DDE-8D9A-F9BDEACF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064-6F09-4759-922D-A4D8C3AC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4C78-175C-4ED5-AEEC-9191F6F7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1E01-44E9-4728-97E8-DA01BA45D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C6D8-F8DA-4DF7-B618-E9406EE51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D3D0-5C74-45EC-8C39-7D9E3340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C64C-5DDF-45ED-B5A9-E5518AC3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DF036-050D-4B59-B54E-933CD194D57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E697-EB05-4DF0-B0EC-1EF5AF4E08A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1" descr="тем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2"/>
          <p:cNvSpPr/>
          <p:nvPr/>
        </p:nvSpPr>
        <p:spPr>
          <a:xfrm>
            <a:off x="23760" y="1581840"/>
            <a:ext cx="9120240" cy="42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</a:t>
            </a:r>
            <a:r>
              <a:rPr b="1" lang="en-US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Использование мнемотехник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в певческой деятельности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узыкальный руководите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БДОУ «Детский сад № 53 «Солнышко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Радунина А.Б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Рисунок 7" descr="задач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3"/>
          <p:cNvSpPr/>
          <p:nvPr/>
        </p:nvSpPr>
        <p:spPr>
          <a:xfrm>
            <a:off x="2514600" y="1676520"/>
            <a:ext cx="616104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Цель: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Развить слуховую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 зрительную память, психические процессы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ышления, воображе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имания и речи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редством мнемотехн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Рисунок 7" descr="задач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3"/>
          <p:cNvSpPr/>
          <p:nvPr/>
        </p:nvSpPr>
        <p:spPr>
          <a:xfrm>
            <a:off x="-646920" y="-6120"/>
            <a:ext cx="9521640" cy="62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адачи: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1.  Развивать у детей умение с помощью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графического рисунка, понимать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ссказывать знакомые песни 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немотаблиц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2. Развивать у детей психические процесс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мышление, внимание, воображение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память (различные виды), музыкальный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ух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3.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вивать у детей умственную активность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образительность, наблюдательность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4</a:t>
            </a:r>
            <a:r>
              <a:rPr b="1" i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Обучать детей правильном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звукопроизношению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Рисунок 2" descr="этапы.jpg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3"/>
          <p:cNvSpPr/>
          <p:nvPr/>
        </p:nvSpPr>
        <p:spPr>
          <a:xfrm>
            <a:off x="1475280" y="1389600"/>
            <a:ext cx="720180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</a:t>
            </a: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ап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1 этап: рассматривание таблиц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и разбор того, что на ней изображено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2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этап: пересказ тек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( младших группах с помощь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воспитателя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этап: пение с помощью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узыкального     руководител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2" descr="53c4bceab39f8_b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"/>
          <p:cNvSpPr/>
          <p:nvPr/>
        </p:nvSpPr>
        <p:spPr>
          <a:xfrm>
            <a:off x="62280" y="1146960"/>
            <a:ext cx="823644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33"/>
                </a:solidFill>
                <a:latin typeface="Calibri"/>
                <a:ea typeface="Times New Roman"/>
              </a:rPr>
              <a:t>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Планируемый результа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С помощью мнемотехники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можно добиться следующих результат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1. Овладение высоким уровне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запоминания, познавательной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и речевой активности на занятия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2.Развитие активности детей пр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подпевании и пен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3.Постепенное приучение 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Times New Roman"/>
              </a:rPr>
              <a:t>сольному пени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304920" y="3886200"/>
          <a:ext cx="8839080" cy="1050840"/>
        </p:xfrm>
        <a:graphic>
          <a:graphicData uri="http://schemas.openxmlformats.org/drawingml/2006/table">
            <a:tbl>
              <a:tblPr/>
              <a:tblGrid>
                <a:gridCol w="1577880"/>
                <a:gridCol w="1893960"/>
                <a:gridCol w="1973160"/>
                <a:gridCol w="1565280"/>
                <a:gridCol w="1828800"/>
              </a:tblGrid>
              <a:tr h="1052280"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катились санки вниз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репче        куколка    держись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ы, смотри,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упади!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2280" rIns="622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ам канавка     впереди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62280" marR="622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22" name="Рисунок 11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223" name="Рисунок 12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1295280" cy="1447920"/>
          </a:xfrm>
          <a:prstGeom prst="rect">
            <a:avLst/>
          </a:prstGeom>
          <a:ln w="0">
            <a:noFill/>
          </a:ln>
        </p:spPr>
      </p:pic>
      <p:pic>
        <p:nvPicPr>
          <p:cNvPr id="224" name="Рисунок 13" descr=""/>
          <p:cNvPicPr/>
          <p:nvPr/>
        </p:nvPicPr>
        <p:blipFill>
          <a:blip r:embed="rId3"/>
          <a:stretch/>
        </p:blipFill>
        <p:spPr>
          <a:xfrm>
            <a:off x="3886200" y="2286000"/>
            <a:ext cx="1143000" cy="144792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14" descr=""/>
          <p:cNvPicPr/>
          <p:nvPr/>
        </p:nvPicPr>
        <p:blipFill>
          <a:blip r:embed="rId4"/>
          <a:stretch/>
        </p:blipFill>
        <p:spPr>
          <a:xfrm>
            <a:off x="5562720" y="2057400"/>
            <a:ext cx="1371600" cy="1676520"/>
          </a:xfrm>
          <a:prstGeom prst="rect">
            <a:avLst/>
          </a:prstGeom>
          <a:ln w="0">
            <a:noFill/>
          </a:ln>
        </p:spPr>
      </p:pic>
      <p:pic>
        <p:nvPicPr>
          <p:cNvPr id="226" name="Рисунок 15" descr=""/>
          <p:cNvPicPr/>
          <p:nvPr/>
        </p:nvPicPr>
        <p:blipFill>
          <a:blip r:embed="rId5"/>
          <a:stretch/>
        </p:blipFill>
        <p:spPr>
          <a:xfrm>
            <a:off x="7543800" y="2209680"/>
            <a:ext cx="1219320" cy="144792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304920" y="91800"/>
            <a:ext cx="8839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Разучивание песни «Кукла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  <a:ea typeface="Times New Roman"/>
              </a:rPr>
              <a:t>(сл. О. Высотской, муз. М.Старокадомского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0" y="548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Рисунок 9" descr="005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3526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10" descr="006.jpg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231" name="Рисунок 12" descr="007.jpg"/>
          <p:cNvPicPr/>
          <p:nvPr/>
        </p:nvPicPr>
        <p:blipFill>
          <a:blip r:embed="rId3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232" name="Рисунок 13" descr="008.jpg"/>
          <p:cNvPicPr/>
          <p:nvPr/>
        </p:nvPicPr>
        <p:blipFill>
          <a:blip r:embed="rId4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3:22:38Z</dcterms:created>
  <dc:creator>Дима</dc:creator>
  <dc:description/>
  <dc:language>en-US</dc:language>
  <cp:lastModifiedBy>Евгения Климова</cp:lastModifiedBy>
  <dcterms:modified xsi:type="dcterms:W3CDTF">2020-09-27T03:22:21Z</dcterms:modified>
  <cp:revision>13</cp:revision>
  <dc:subject/>
  <dc:title>Слайд 1</dc:title>
</cp:coreProperties>
</file>