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5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9.wmf" ContentType="image/x-wmf"/>
  <Override PartName="/ppt/media/image4.jpeg" ContentType="image/jpeg"/>
  <Override PartName="/ppt/media/image10.wmf" ContentType="image/x-wmf"/>
  <Override PartName="/ppt/media/image12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9E3F-0B54-42C8-B335-92D51FCE5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EA41-22DB-4644-BD0E-EC3AD5A6C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3EFC-AE68-4C78-BE86-BF8725476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F55D-6F48-4480-9197-831F4A625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CF0D3-165D-4677-A229-3DA0499CC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2FE65-9E3D-4DB5-8042-F4C6AA15A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3C0E7-278E-4D13-9EE9-301DC2210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A3F92-516D-4957-A287-E547AF9B1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2B3F1-7B1A-4638-A4AF-D86D8A762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22B73-A4BA-4EF4-8195-E2732A58D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7A7C1-0524-4C94-8A85-36DF5D65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0D6E-F267-4F51-88D3-B169FE2AD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67327-7541-4E27-8FDE-C0395131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54126-7031-4FC1-AE07-F389A972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90547-D27C-4807-B08D-883E180B0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94F4B-1623-4799-B766-32E4B717B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8FE2C-6BC5-44C4-9B98-EEB398791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EDAD-A0D2-421D-A95C-1E02E67C5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F178-A9E3-480A-B9C2-AA8FE761E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F3B6-D8C3-46BF-8CB9-4348F6482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09E4-C91F-454C-9B94-06AAA4F3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D6D7-2CAD-4327-A427-FEF1DE2F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F918-C5D0-464C-A88E-7060DAF7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D5E9-D059-46B4-9584-BBA0A073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12C87-BCDA-404B-8AB8-72E2AB7E48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F4392-372B-435A-9291-274FC1F7BBA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Рисунок 1" descr="тем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2"/>
          <p:cNvSpPr/>
          <p:nvPr/>
        </p:nvSpPr>
        <p:spPr>
          <a:xfrm>
            <a:off x="23760" y="1581840"/>
            <a:ext cx="9120240" cy="42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Использование мнемотехни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в певческой деятельност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узыкальный руководите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БДОУ «Детский сад № 53 «Солнышко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адунина А.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Рисунок 7" descr="задач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3"/>
          <p:cNvSpPr/>
          <p:nvPr/>
        </p:nvSpPr>
        <p:spPr>
          <a:xfrm>
            <a:off x="2514600" y="1676520"/>
            <a:ext cx="616104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Развить слуховую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зрительную память, психические процессы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ышления, воображени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нимания и реч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средством мнемотехни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Рисунок 7" descr="задач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3"/>
          <p:cNvSpPr/>
          <p:nvPr/>
        </p:nvSpPr>
        <p:spPr>
          <a:xfrm>
            <a:off x="-646920" y="-6120"/>
            <a:ext cx="9521640" cy="62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      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дачи: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1.  Развивать у детей умение с помощь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графического рисунка, понимать 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ссказывать знакомые песни п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мнемотаблиц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2. Развивать у детей психические процессы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мышление, внимание, воображени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амять (различные виды), музыкальны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лух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3.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звивать у детей умственную активность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образительность, наблюдательнос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4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бучать детей правильном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звукопроизношен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Рисунок 2" descr="этапы.jpg"/>
          <p:cNvPicPr/>
          <p:nvPr/>
        </p:nvPicPr>
        <p:blipFill>
          <a:blip r:embed="rId1"/>
          <a:stretch/>
        </p:blipFill>
        <p:spPr>
          <a:xfrm>
            <a:off x="0" y="-380880"/>
            <a:ext cx="9144000" cy="746748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3"/>
          <p:cNvSpPr/>
          <p:nvPr/>
        </p:nvSpPr>
        <p:spPr>
          <a:xfrm>
            <a:off x="1475280" y="1389600"/>
            <a:ext cx="7201800" cy="39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Этап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1 этап: рассматривание таблиц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и разбор того, что на ней изображено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2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этап: пересказ текс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( младших группах с помощь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воспитателя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этап: пение с помощью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музыкального     руководите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Рисунок 2" descr="53c4bceab39f8_b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1"/>
          <p:cNvSpPr/>
          <p:nvPr/>
        </p:nvSpPr>
        <p:spPr>
          <a:xfrm>
            <a:off x="62280" y="1146960"/>
            <a:ext cx="823644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     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Планируемый результа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С помощью мнемотехник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можно добиться следующих результатов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1. Овладение высоким уровне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запоминания, познавательно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и речевой активности на занятия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2.Развитие активности детей пр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подпевании и пен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3.Постепенное приучение к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сольному пени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"/>
          <p:cNvGraphicFramePr/>
          <p:nvPr/>
        </p:nvGraphicFramePr>
        <p:xfrm>
          <a:off x="304920" y="3886200"/>
          <a:ext cx="8839080" cy="1050840"/>
        </p:xfrm>
        <a:graphic>
          <a:graphicData uri="http://schemas.openxmlformats.org/drawingml/2006/table">
            <a:tbl>
              <a:tblPr/>
              <a:tblGrid>
                <a:gridCol w="1577880"/>
                <a:gridCol w="1893960"/>
                <a:gridCol w="1973160"/>
                <a:gridCol w="1565280"/>
                <a:gridCol w="1828800"/>
              </a:tblGrid>
              <a:tr h="1052280"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катились санки вниз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епче        куколка    держись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ы, смотри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упади!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ам канавка     вперед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2" name="Рисунок 11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1295280" cy="144792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12" descr=""/>
          <p:cNvPicPr/>
          <p:nvPr/>
        </p:nvPicPr>
        <p:blipFill>
          <a:blip r:embed="rId2"/>
          <a:stretch/>
        </p:blipFill>
        <p:spPr>
          <a:xfrm>
            <a:off x="2057400" y="2209680"/>
            <a:ext cx="1295280" cy="144792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13" descr=""/>
          <p:cNvPicPr/>
          <p:nvPr/>
        </p:nvPicPr>
        <p:blipFill>
          <a:blip r:embed="rId3"/>
          <a:stretch/>
        </p:blipFill>
        <p:spPr>
          <a:xfrm>
            <a:off x="3886200" y="2286000"/>
            <a:ext cx="1143000" cy="144792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14" descr=""/>
          <p:cNvPicPr/>
          <p:nvPr/>
        </p:nvPicPr>
        <p:blipFill>
          <a:blip r:embed="rId4"/>
          <a:stretch/>
        </p:blipFill>
        <p:spPr>
          <a:xfrm>
            <a:off x="5562720" y="2057400"/>
            <a:ext cx="1371600" cy="167652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15" descr=""/>
          <p:cNvPicPr/>
          <p:nvPr/>
        </p:nvPicPr>
        <p:blipFill>
          <a:blip r:embed="rId5"/>
          <a:stretch/>
        </p:blipFill>
        <p:spPr>
          <a:xfrm>
            <a:off x="7543800" y="2209680"/>
            <a:ext cx="1219320" cy="144792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6"/>
          <p:cNvSpPr/>
          <p:nvPr/>
        </p:nvSpPr>
        <p:spPr>
          <a:xfrm>
            <a:off x="304920" y="91800"/>
            <a:ext cx="883908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Разучивание песни «Кукла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(сл. О. Высотской, муз. М.Старокадомского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0" y="548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Рисунок 9" descr="005.jpg"/>
          <p:cNvPicPr/>
          <p:nvPr/>
        </p:nvPicPr>
        <p:blipFill>
          <a:blip r:embed="rId1"/>
          <a:stretch/>
        </p:blipFill>
        <p:spPr>
          <a:xfrm>
            <a:off x="0" y="0"/>
            <a:ext cx="4572000" cy="335268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10" descr="006.jpg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335268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12" descr="007.jpg"/>
          <p:cNvPicPr/>
          <p:nvPr/>
        </p:nvPicPr>
        <p:blipFill>
          <a:blip r:embed="rId3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13" descr="008.jpg"/>
          <p:cNvPicPr/>
          <p:nvPr/>
        </p:nvPicPr>
        <p:blipFill>
          <a:blip r:embed="rId4"/>
          <a:stretch/>
        </p:blipFill>
        <p:spPr>
          <a:xfrm>
            <a:off x="4648320" y="3429000"/>
            <a:ext cx="44956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2T13:22:38Z</dcterms:created>
  <dc:creator>Дима</dc:creator>
  <dc:description/>
  <dc:language>en-US</dc:language>
  <cp:lastModifiedBy>Евгения Климова</cp:lastModifiedBy>
  <dcterms:modified xsi:type="dcterms:W3CDTF">2020-09-27T03:22:21Z</dcterms:modified>
  <cp:revision>13</cp:revision>
  <dc:subject/>
  <dc:title>Слайд 1</dc:title>
</cp:coreProperties>
</file>