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2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370-C1FB-4A78-B2C2-AD44222D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ADC-87DC-46EF-B452-8EF919D4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857-B297-42D2-95FE-4E2C88D1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2CF-A5B6-4EAB-A80E-5164A444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5F6B-E826-4EA4-A919-7F2C0366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21BF-CDA5-4F6F-894D-4B8D6AF9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8260-77EC-4F49-AE80-E553B7D1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B596-8009-47A3-AA8C-5C614836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89A1-5537-4038-8C6C-3CA7BBEC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D0A1-1420-4848-ACF2-3AB9AAE1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9BBA-9EBB-4CFF-ABC9-C46B418F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AAF-3D60-4850-87E0-1D5D750B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64A6-AF66-4319-A4BD-348D773D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08D5-D026-4141-ACD6-F63F66AB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E018-B071-4DAC-AA8B-3D314642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3025-D599-43B6-B05B-762D09F5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6A18-3984-482F-B0D7-4426A145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577-AA6C-4CC0-92D1-C586FCEA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18A-71FC-4AB9-B5A8-232BAF43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DFC-F6DD-484A-8023-46DFA111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4D4-F6F3-4626-809E-6F30EB86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0BA-F513-4E5C-A1B1-DC1A2D95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AB7-C35A-412C-AEFF-DC908797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B59-CA93-4BE9-B618-9BDD2950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D455-2170-4444-B112-2B95450339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6421-4650-4B33-ADF0-DAB85A9C74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769440" cy="38163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8000" y="1341000"/>
            <a:ext cx="511344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 ступенек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оздания мюзикла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2264400" y="620640"/>
            <a:ext cx="42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Фестиваль-конкурс «</a:t>
            </a:r>
            <a:r>
              <a:rPr b="1" i="1" lang="ru-RU" sz="1200" spc="-1" strike="noStrike">
                <a:solidFill>
                  <a:srgbClr val="33cc33"/>
                </a:solidFill>
                <a:latin typeface="Arial"/>
              </a:rPr>
              <a:t>Калейдоскоп методических идей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Arial"/>
              </a:rPr>
              <a:t>Конкурс электронных презентаций «Рассказ о нас»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484360" y="5300640"/>
            <a:ext cx="3648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МДОУ«ЗВЕЗДОЧК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Музыкальный руководите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Гаврикова Л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. Игри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14 Дорожка 1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6" name="14 Дорожка 14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14 Дорожка 14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8" name="14 Дорожка 14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9" name="14 Дорожка 14.mp3" descr=""/>
          <p:cNvPicPr/>
          <p:nvPr/>
        </p:nvPicPr>
        <p:blipFill>
          <a:blip r:embed="rId6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65038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4 ступень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Сценическое пространство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6425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ступило время «обжить» пространство, внести необходимые атрибуты, реквизит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Рисунок1"/>
          <p:cNvPicPr/>
          <p:nvPr/>
        </p:nvPicPr>
        <p:blipFill>
          <a:blip r:embed="rId1"/>
          <a:stretch/>
        </p:blipFill>
        <p:spPr>
          <a:xfrm>
            <a:off x="1042920" y="2781360"/>
            <a:ext cx="6972480" cy="2400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82" name="Rectangle 6"/>
          <p:cNvSpPr/>
          <p:nvPr/>
        </p:nvSpPr>
        <p:spPr>
          <a:xfrm>
            <a:off x="826920" y="551664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дагогу остается дать некоторые режиссерские указания, поощряя  детскую импровизацию, творческие наход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Music"/>
          <p:cNvSpPr/>
          <p:nvPr/>
        </p:nvSpPr>
        <p:spPr>
          <a:xfrm>
            <a:off x="971640" y="836640"/>
            <a:ext cx="250560" cy="431640"/>
          </a:xfrm>
          <a:custGeom>
            <a:avLst/>
            <a:gdLst>
              <a:gd name="textAreaLeft" fmla="*/ 92520 w 250560"/>
              <a:gd name="textAreaRight" fmla="*/ 243000 w 250560"/>
              <a:gd name="textAreaTop" fmla="*/ 18360 h 431640"/>
              <a:gd name="textAreaBottom" fmla="*/ 106920 h 43164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5 ступень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Премьера!»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8064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Наступил день премьеры!</a:t>
            </a:r>
            <a:r>
              <a:rPr b="0" i="1" lang="ru-RU" sz="1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ступление - самая ответственная ступенька в создании мюзикл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9" descr="DSCN6203"/>
          <p:cNvPicPr/>
          <p:nvPr/>
        </p:nvPicPr>
        <p:blipFill>
          <a:blip r:embed="rId1"/>
          <a:stretch/>
        </p:blipFill>
        <p:spPr>
          <a:xfrm>
            <a:off x="3348000" y="1916280"/>
            <a:ext cx="2551320" cy="3402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87" name="Picture 10" descr="DSCN6199"/>
          <p:cNvPicPr/>
          <p:nvPr/>
        </p:nvPicPr>
        <p:blipFill>
          <a:blip r:embed="rId2"/>
          <a:stretch/>
        </p:blipFill>
        <p:spPr>
          <a:xfrm>
            <a:off x="250920" y="2276640"/>
            <a:ext cx="2519280" cy="336204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288" name="Picture 12" descr="DSCN6201"/>
          <p:cNvPicPr/>
          <p:nvPr/>
        </p:nvPicPr>
        <p:blipFill>
          <a:blip r:embed="rId3"/>
          <a:stretch/>
        </p:blipFill>
        <p:spPr>
          <a:xfrm>
            <a:off x="6372360" y="2276640"/>
            <a:ext cx="2485800" cy="3313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289" name="Rectangle 14"/>
          <p:cNvSpPr/>
          <p:nvPr/>
        </p:nvSpPr>
        <p:spPr>
          <a:xfrm>
            <a:off x="1474920" y="5746680"/>
            <a:ext cx="7448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ртисты наряжаются в костюмы, волнуются…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Music"/>
          <p:cNvSpPr/>
          <p:nvPr/>
        </p:nvSpPr>
        <p:spPr>
          <a:xfrm>
            <a:off x="611280" y="260280"/>
            <a:ext cx="250560" cy="432000"/>
          </a:xfrm>
          <a:custGeom>
            <a:avLst/>
            <a:gdLst>
              <a:gd name="textAreaLeft" fmla="*/ 92520 w 250560"/>
              <a:gd name="textAreaRight" fmla="*/ 243000 w 250560"/>
              <a:gd name="textAreaTop" fmla="*/ 18360 h 432000"/>
              <a:gd name="textAreaBottom" fmla="*/ 106920 h 43200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4358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7" descr="DSCN0373"/>
          <p:cNvPicPr/>
          <p:nvPr/>
        </p:nvPicPr>
        <p:blipFill>
          <a:blip r:embed="rId1"/>
          <a:stretch/>
        </p:blipFill>
        <p:spPr>
          <a:xfrm>
            <a:off x="755640" y="2276640"/>
            <a:ext cx="2378160" cy="32461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93" name="Picture 9" descr="DSCN0374"/>
          <p:cNvPicPr/>
          <p:nvPr/>
        </p:nvPicPr>
        <p:blipFill>
          <a:blip r:embed="rId2"/>
          <a:stretch/>
        </p:blipFill>
        <p:spPr>
          <a:xfrm>
            <a:off x="6372360" y="2708280"/>
            <a:ext cx="2341440" cy="31212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294" name="Picture 11" descr="DSCN0376"/>
          <p:cNvPicPr/>
          <p:nvPr/>
        </p:nvPicPr>
        <p:blipFill>
          <a:blip r:embed="rId3"/>
          <a:stretch/>
        </p:blipFill>
        <p:spPr>
          <a:xfrm>
            <a:off x="3635280" y="2060640"/>
            <a:ext cx="2341800" cy="3120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95" name="Text Box 12"/>
          <p:cNvSpPr/>
          <p:nvPr/>
        </p:nvSpPr>
        <p:spPr>
          <a:xfrm>
            <a:off x="684360" y="1000080"/>
            <a:ext cx="799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остюм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могает ребенку углубить образ своего геро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делать его ярким, эмоциональ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826920" y="5877000"/>
            <a:ext cx="706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стюмов в детском саду собрана целая коллекция!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Music"/>
          <p:cNvSpPr/>
          <p:nvPr/>
        </p:nvSpPr>
        <p:spPr>
          <a:xfrm>
            <a:off x="684360" y="907920"/>
            <a:ext cx="250560" cy="432000"/>
          </a:xfrm>
          <a:custGeom>
            <a:avLst/>
            <a:gdLst>
              <a:gd name="textAreaLeft" fmla="*/ 92520 w 250560"/>
              <a:gd name="textAreaRight" fmla="*/ 243000 w 250560"/>
              <a:gd name="textAreaTop" fmla="*/ 18360 h 432000"/>
              <a:gd name="textAreaBottom" fmla="*/ 106920 h 43200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920" y="5445000"/>
            <a:ext cx="734544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которые костюмы изготовлены руками родителей   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спитанников детского сада.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9" name="Picture 11" descr="DSCN6205"/>
          <p:cNvPicPr/>
          <p:nvPr/>
        </p:nvPicPr>
        <p:blipFill>
          <a:blip r:embed="rId1"/>
          <a:stretch/>
        </p:blipFill>
        <p:spPr>
          <a:xfrm>
            <a:off x="324000" y="1989000"/>
            <a:ext cx="3133440" cy="23511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00" name="Picture 13" descr="DSCN6210"/>
          <p:cNvPicPr/>
          <p:nvPr/>
        </p:nvPicPr>
        <p:blipFill>
          <a:blip r:embed="rId2"/>
          <a:stretch/>
        </p:blipFill>
        <p:spPr>
          <a:xfrm>
            <a:off x="3635280" y="2349360"/>
            <a:ext cx="2097360" cy="2819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01" name="Picture 16" descr="DSCN6209"/>
          <p:cNvPicPr/>
          <p:nvPr/>
        </p:nvPicPr>
        <p:blipFill>
          <a:blip r:embed="rId3"/>
          <a:stretch/>
        </p:blipFill>
        <p:spPr>
          <a:xfrm>
            <a:off x="5940360" y="2781360"/>
            <a:ext cx="2943360" cy="22082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02" name="Rectangle 17"/>
          <p:cNvSpPr/>
          <p:nvPr/>
        </p:nvSpPr>
        <p:spPr>
          <a:xfrm>
            <a:off x="1619280" y="69228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 нас есть своя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остюмерная. 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стюмы шьет специалист детского сада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Music"/>
          <p:cNvSpPr/>
          <p:nvPr/>
        </p:nvSpPr>
        <p:spPr>
          <a:xfrm>
            <a:off x="2124000" y="549360"/>
            <a:ext cx="250920" cy="431640"/>
          </a:xfrm>
          <a:custGeom>
            <a:avLst/>
            <a:gdLst>
              <a:gd name="textAreaLeft" fmla="*/ 92520 w 250920"/>
              <a:gd name="textAreaRight" fmla="*/ 243360 w 250920"/>
              <a:gd name="textAreaTop" fmla="*/ 18360 h 431640"/>
              <a:gd name="textAreaBottom" fmla="*/ 106920 h 43164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6"/>
          <p:cNvSpPr/>
          <p:nvPr/>
        </p:nvSpPr>
        <p:spPr>
          <a:xfrm>
            <a:off x="324000" y="620640"/>
            <a:ext cx="83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тобы лицо артиста было ярче, выразительнее, гротескнее, нам на помощь приходит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театральный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грим.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7" descr="Copy of DSCN3041"/>
          <p:cNvPicPr/>
          <p:nvPr/>
        </p:nvPicPr>
        <p:blipFill>
          <a:blip r:embed="rId1"/>
          <a:stretch/>
        </p:blipFill>
        <p:spPr>
          <a:xfrm>
            <a:off x="539640" y="1844640"/>
            <a:ext cx="3095640" cy="30956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306" name="Text Box 10"/>
          <p:cNvSpPr/>
          <p:nvPr/>
        </p:nvSpPr>
        <p:spPr>
          <a:xfrm>
            <a:off x="324000" y="5229360"/>
            <a:ext cx="848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чень веселое занятие разрисовывать свое лицо: подрисовать усики, веснушки, подрумянить щечки и подкрасить губ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рим позволяет сказке стать реальностью на глазах и на лицах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11" descr="DSCN3092"/>
          <p:cNvPicPr/>
          <p:nvPr/>
        </p:nvPicPr>
        <p:blipFill>
          <a:blip r:embed="rId2"/>
          <a:stretch/>
        </p:blipFill>
        <p:spPr>
          <a:xfrm>
            <a:off x="4140360" y="2637000"/>
            <a:ext cx="4138560" cy="2232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08" name="Music"/>
          <p:cNvSpPr/>
          <p:nvPr/>
        </p:nvSpPr>
        <p:spPr>
          <a:xfrm>
            <a:off x="179280" y="549360"/>
            <a:ext cx="250920" cy="431640"/>
          </a:xfrm>
          <a:custGeom>
            <a:avLst/>
            <a:gdLst>
              <a:gd name="textAreaLeft" fmla="*/ 92520 w 250920"/>
              <a:gd name="textAreaRight" fmla="*/ 243360 w 250920"/>
              <a:gd name="textAreaTop" fmla="*/ 18360 h 431640"/>
              <a:gd name="textAreaBottom" fmla="*/ 106920 h 43164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280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вот последние секунды до начала мюзикл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2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ти младших групп занимают места в театре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2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узыкальном за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" descr="Изображение 034"/>
          <p:cNvPicPr/>
          <p:nvPr/>
        </p:nvPicPr>
        <p:blipFill>
          <a:blip r:embed="rId1"/>
          <a:srcRect l="0" t="21284" r="-3960" b="0"/>
          <a:stretch/>
        </p:blipFill>
        <p:spPr>
          <a:xfrm>
            <a:off x="1547640" y="1700280"/>
            <a:ext cx="5664240" cy="3217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11" name="Rectangle 6"/>
          <p:cNvSpPr/>
          <p:nvPr/>
        </p:nvSpPr>
        <p:spPr>
          <a:xfrm>
            <a:off x="287280" y="5300640"/>
            <a:ext cx="8856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ти берут в «кассе» билеты, контролеры указывают мес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сле третьего звонка начинается мюзикл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Music"/>
          <p:cNvSpPr/>
          <p:nvPr/>
        </p:nvSpPr>
        <p:spPr>
          <a:xfrm>
            <a:off x="539640" y="476280"/>
            <a:ext cx="250920" cy="431640"/>
          </a:xfrm>
          <a:custGeom>
            <a:avLst/>
            <a:gdLst>
              <a:gd name="textAreaLeft" fmla="*/ 92520 w 250920"/>
              <a:gd name="textAreaRight" fmla="*/ 243360 w 250920"/>
              <a:gd name="textAreaTop" fmla="*/ 18360 h 431640"/>
              <a:gd name="textAreaBottom" fmla="*/ 106920 h 43164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518472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Гастроли»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218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плодисменты не вскружили  головы маленьким артиста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переди  «гастроли», а это значит, что нужно продолжать трудиться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7" descr="Копия DSCN0379"/>
          <p:cNvPicPr/>
          <p:nvPr/>
        </p:nvPicPr>
        <p:blipFill>
          <a:blip r:embed="rId1"/>
          <a:stretch/>
        </p:blipFill>
        <p:spPr>
          <a:xfrm>
            <a:off x="1042920" y="2349360"/>
            <a:ext cx="6408720" cy="3932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16" name="Rectangle 8"/>
          <p:cNvSpPr/>
          <p:nvPr/>
        </p:nvSpPr>
        <p:spPr>
          <a:xfrm>
            <a:off x="179280" y="6308640"/>
            <a:ext cx="8642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стоящий успех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Music"/>
          <p:cNvSpPr/>
          <p:nvPr/>
        </p:nvSpPr>
        <p:spPr>
          <a:xfrm>
            <a:off x="2916360" y="333360"/>
            <a:ext cx="250560" cy="431640"/>
          </a:xfrm>
          <a:custGeom>
            <a:avLst/>
            <a:gdLst>
              <a:gd name="textAreaLeft" fmla="*/ 92520 w 250560"/>
              <a:gd name="textAreaRight" fmla="*/ 243000 w 250560"/>
              <a:gd name="textAreaTop" fmla="*/ 18360 h 431640"/>
              <a:gd name="textAreaBottom" fmla="*/ 106920 h 43164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08000" y="549360"/>
            <a:ext cx="9036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астроли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Повторный показ мюзикла проход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ля родителей наших артис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5" descr="Copy of DSCN3050"/>
          <p:cNvPicPr/>
          <p:nvPr/>
        </p:nvPicPr>
        <p:blipFill>
          <a:blip r:embed="rId1"/>
          <a:stretch/>
        </p:blipFill>
        <p:spPr>
          <a:xfrm>
            <a:off x="1042920" y="1916280"/>
            <a:ext cx="6553440" cy="3315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20" name="Rectangle 6"/>
          <p:cNvSpPr/>
          <p:nvPr/>
        </p:nvSpPr>
        <p:spPr>
          <a:xfrm>
            <a:off x="250920" y="5445000"/>
            <a:ext cx="87138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мы и папы с гордостью наблюдают работу сво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бимых детей, радуются за н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Music"/>
          <p:cNvSpPr/>
          <p:nvPr/>
        </p:nvSpPr>
        <p:spPr>
          <a:xfrm>
            <a:off x="900000" y="549360"/>
            <a:ext cx="250920" cy="431640"/>
          </a:xfrm>
          <a:custGeom>
            <a:avLst/>
            <a:gdLst>
              <a:gd name="textAreaLeft" fmla="*/ 92520 w 250920"/>
              <a:gd name="textAreaRight" fmla="*/ 243360 w 250920"/>
              <a:gd name="textAreaTop" fmla="*/ 18360 h 431640"/>
              <a:gd name="textAreaBottom" fmla="*/ 106920 h 43164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астрол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4572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 еще мы показываем свой мюзикл бабушкам и дедушкам из «Дома ветеранов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9" descr="День семьи 2008 037"/>
          <p:cNvPicPr/>
          <p:nvPr/>
        </p:nvPicPr>
        <p:blipFill>
          <a:blip r:embed="rId1"/>
          <a:stretch/>
        </p:blipFill>
        <p:spPr>
          <a:xfrm>
            <a:off x="5076720" y="1413000"/>
            <a:ext cx="3456000" cy="32274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25" name="Picture 12" descr="День семьи 2008 007"/>
          <p:cNvPicPr/>
          <p:nvPr/>
        </p:nvPicPr>
        <p:blipFill>
          <a:blip r:embed="rId2"/>
          <a:stretch/>
        </p:blipFill>
        <p:spPr>
          <a:xfrm>
            <a:off x="755640" y="3716280"/>
            <a:ext cx="3960720" cy="2816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26" name="Text Box 13"/>
          <p:cNvSpPr/>
          <p:nvPr/>
        </p:nvSpPr>
        <p:spPr>
          <a:xfrm>
            <a:off x="5292720" y="508464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воим выступлением согреваем сердца замечатель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Music"/>
          <p:cNvSpPr/>
          <p:nvPr/>
        </p:nvSpPr>
        <p:spPr>
          <a:xfrm>
            <a:off x="3203640" y="549360"/>
            <a:ext cx="250920" cy="431640"/>
          </a:xfrm>
          <a:custGeom>
            <a:avLst/>
            <a:gdLst>
              <a:gd name="textAreaLeft" fmla="*/ 92520 w 250920"/>
              <a:gd name="textAreaRight" fmla="*/ 243360 w 250920"/>
              <a:gd name="textAreaTop" fmla="*/ 18360 h 431640"/>
              <a:gd name="textAreaBottom" fmla="*/ 106920 h 43164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2" descr="DSCN0828"/>
          <p:cNvPicPr/>
          <p:nvPr/>
        </p:nvPicPr>
        <p:blipFill>
          <a:blip r:embed="rId1"/>
          <a:stretch/>
        </p:blipFill>
        <p:spPr>
          <a:xfrm>
            <a:off x="4859280" y="476280"/>
            <a:ext cx="3600360" cy="3600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4032360" cy="230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от так, ступенька за ступенькой рождается наш мюзикл!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55280" y="3860640"/>
            <a:ext cx="7201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33"/>
                </a:solidFill>
                <a:latin typeface="Arial"/>
              </a:rPr>
              <a:t>Работая над его создание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33"/>
                </a:solidFill>
                <a:latin typeface="Arial"/>
              </a:rPr>
              <a:t>можно с уверенностью   сказать, что мюзик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*   развивает у детей интерес к музыкаль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и театральн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*   воспитывает творческую лич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*   способствует общему развитию дет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*   повышает профессиональный уровень педаго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j021159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2" name="j0211595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33" name="Music"/>
          <p:cNvSpPr/>
          <p:nvPr/>
        </p:nvSpPr>
        <p:spPr>
          <a:xfrm>
            <a:off x="468360" y="1125360"/>
            <a:ext cx="250920" cy="432000"/>
          </a:xfrm>
          <a:custGeom>
            <a:avLst/>
            <a:gdLst>
              <a:gd name="textAreaLeft" fmla="*/ 92520 w 250920"/>
              <a:gd name="textAreaRight" fmla="*/ 243360 w 250920"/>
              <a:gd name="textAreaTop" fmla="*/ 18360 h 432000"/>
              <a:gd name="textAreaBottom" fmla="*/ 106920 h 43200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2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745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4745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img125"/>
          <p:cNvPicPr/>
          <p:nvPr/>
        </p:nvPicPr>
        <p:blipFill>
          <a:blip r:embed="rId1"/>
          <a:stretch/>
        </p:blipFill>
        <p:spPr>
          <a:xfrm>
            <a:off x="2195640" y="3213000"/>
            <a:ext cx="4103640" cy="24814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221" name="Text Box 6"/>
          <p:cNvSpPr/>
          <p:nvPr/>
        </p:nvSpPr>
        <p:spPr>
          <a:xfrm>
            <a:off x="826920" y="549360"/>
            <a:ext cx="73454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дошкольном музыкальном  воспитании музыкально-театрализованная деятельность, эффективность   которой очевидна,  наименее разработана. Этот факт обуславливает мой интерес к т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Что такое детский мюзикл? Ступени создания, методы и приемы разучивания в детском саду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971640" y="3860640"/>
            <a:ext cx="7704000" cy="165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35" name="WordArt 16"/>
          <p:cNvSpPr txBox="1"/>
          <p:nvPr/>
        </p:nvSpPr>
        <p:spPr>
          <a:xfrm>
            <a:off x="1908000" y="1916280"/>
            <a:ext cx="5257800" cy="23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36" name="14 Дорожка 1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7" name="MS901703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8" name="j0211703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9" name="j0211704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40" name="j0211705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41" name="j0211706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42" name="j0211707.wav" descr=""/>
          <p:cNvPicPr/>
          <p:nvPr/>
        </p:nvPicPr>
        <p:blipFill>
          <a:blip r:embed="rId8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745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4745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49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745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4235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745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76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4745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848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Детский мюзикл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то образовательный проект, с помощью которого дети могут развить свои таланты в искусстве танца,  вокала и  актерского мастер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юзиклы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казывают огромное воспитательное влияние на детей. Они способствуют развитию художественного вкуса, певческих навыков, речи, вызывают радостные эмо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юзикл</a:t>
            </a:r>
            <a:r>
              <a:rPr b="1" lang="ru-RU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ает ребенку возможность проявить себя в разных областях искусства, помогает внутренне раскрепоститься и попробовать свои силы в перевоплощении в своего геро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 самое главное, детский мюзикл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это мод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40000" y="6206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Что такое мюзик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0025addb1cfe17ede18f6e39a9b08bc2"/>
          <p:cNvPicPr/>
          <p:nvPr/>
        </p:nvPicPr>
        <p:blipFill>
          <a:blip r:embed="rId1"/>
          <a:stretch/>
        </p:blipFill>
        <p:spPr>
          <a:xfrm>
            <a:off x="7740720" y="5589720"/>
            <a:ext cx="1152360" cy="982440"/>
          </a:xfrm>
          <a:prstGeom prst="rect">
            <a:avLst/>
          </a:prstGeom>
          <a:ln w="0">
            <a:noFill/>
          </a:ln>
        </p:spPr>
      </p:pic>
      <p:sp>
        <p:nvSpPr>
          <p:cNvPr id="225" name="Music"/>
          <p:cNvSpPr/>
          <p:nvPr/>
        </p:nvSpPr>
        <p:spPr>
          <a:xfrm>
            <a:off x="7451640" y="5157720"/>
            <a:ext cx="179640" cy="287280"/>
          </a:xfrm>
          <a:custGeom>
            <a:avLst/>
            <a:gdLst>
              <a:gd name="textAreaLeft" fmla="*/ 66240 w 179640"/>
              <a:gd name="textAreaRight" fmla="*/ 174240 w 179640"/>
              <a:gd name="textAreaTop" fmla="*/ 12240 h 287280"/>
              <a:gd name="textAreaBottom" fmla="*/ 71280 h 28728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Music"/>
          <p:cNvSpPr/>
          <p:nvPr/>
        </p:nvSpPr>
        <p:spPr>
          <a:xfrm>
            <a:off x="7956720" y="5013360"/>
            <a:ext cx="179280" cy="216000"/>
          </a:xfrm>
          <a:custGeom>
            <a:avLst/>
            <a:gdLst>
              <a:gd name="textAreaLeft" fmla="*/ 66240 w 179280"/>
              <a:gd name="textAreaRight" fmla="*/ 173880 w 179280"/>
              <a:gd name="textAreaTop" fmla="*/ 9000 h 216000"/>
              <a:gd name="textAreaBottom" fmla="*/ 53280 h 21600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Music"/>
          <p:cNvSpPr/>
          <p:nvPr/>
        </p:nvSpPr>
        <p:spPr>
          <a:xfrm>
            <a:off x="7020000" y="5013360"/>
            <a:ext cx="179280" cy="287280"/>
          </a:xfrm>
          <a:custGeom>
            <a:avLst/>
            <a:gdLst>
              <a:gd name="textAreaLeft" fmla="*/ 66240 w 179280"/>
              <a:gd name="textAreaRight" fmla="*/ 173880 w 179280"/>
              <a:gd name="textAreaTop" fmla="*/ 12240 h 287280"/>
              <a:gd name="textAreaBottom" fmla="*/ 71280 h 28728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Изображение 060"/>
          <p:cNvPicPr/>
          <p:nvPr/>
        </p:nvPicPr>
        <p:blipFill>
          <a:blip r:embed="rId1"/>
          <a:stretch/>
        </p:blipFill>
        <p:spPr>
          <a:xfrm>
            <a:off x="1908000" y="1773360"/>
            <a:ext cx="4824720" cy="3609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 нашей «Звездочке» мюзикл – частый гост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8920" y="5805000"/>
            <a:ext cx="87138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течение многих лет с невероятным успехом в саду ставятся мюзиклы: «Стрекоза и Муравей», «Колобок», «Дюймовочка», «Репка», «Три поросенкаа», «Муха-Цокотуха», «Гуси-лебеди», «Царевна-лягушка», «Морозко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324000" y="90792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собенность детсадовских мюзиклов в том, что в постановке участвуют дети всей группы, ведь неталантливых детей не быва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5"/>
          <p:cNvGrpSpPr/>
          <p:nvPr/>
        </p:nvGrpSpPr>
        <p:grpSpPr>
          <a:xfrm>
            <a:off x="370440" y="620640"/>
            <a:ext cx="8305200" cy="5889600"/>
            <a:chOff x="370440" y="620640"/>
            <a:chExt cx="8305200" cy="5889600"/>
          </a:xfrm>
        </p:grpSpPr>
        <p:sp>
          <p:nvSpPr>
            <p:cNvPr id="233" name="AutoShape 6"/>
            <p:cNvSpPr/>
            <p:nvPr/>
          </p:nvSpPr>
          <p:spPr>
            <a:xfrm>
              <a:off x="684360" y="620640"/>
              <a:ext cx="7991280" cy="58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utoShape 7"/>
            <p:cNvSpPr/>
            <p:nvPr/>
          </p:nvSpPr>
          <p:spPr>
            <a:xfrm>
              <a:off x="4003560" y="1953360"/>
              <a:ext cx="245520" cy="666360"/>
            </a:xfrm>
            <a:prstGeom prst="upArrow">
              <a:avLst>
                <a:gd name="adj1" fmla="val 50000"/>
                <a:gd name="adj2" fmla="val 67852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8"/>
            <p:cNvSpPr/>
            <p:nvPr/>
          </p:nvSpPr>
          <p:spPr>
            <a:xfrm rot="19772400">
              <a:off x="2240640" y="3953160"/>
              <a:ext cx="582480" cy="229320"/>
            </a:xfrm>
            <a:prstGeom prst="leftArrow">
              <a:avLst>
                <a:gd name="adj1" fmla="val 50000"/>
                <a:gd name="adj2" fmla="val 63501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AutoShape 9"/>
            <p:cNvSpPr/>
            <p:nvPr/>
          </p:nvSpPr>
          <p:spPr>
            <a:xfrm rot="2578800">
              <a:off x="2526480" y="2715120"/>
              <a:ext cx="740880" cy="222120"/>
            </a:xfrm>
            <a:prstGeom prst="leftArrow">
              <a:avLst>
                <a:gd name="adj1" fmla="val 50000"/>
                <a:gd name="adj2" fmla="val 8338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AutoShape 10"/>
            <p:cNvSpPr/>
            <p:nvPr/>
          </p:nvSpPr>
          <p:spPr>
            <a:xfrm rot="13665600">
              <a:off x="4570920" y="4608360"/>
              <a:ext cx="665640" cy="243360"/>
            </a:xfrm>
            <a:prstGeom prst="leftArrow">
              <a:avLst>
                <a:gd name="adj1" fmla="val 50000"/>
                <a:gd name="adj2" fmla="val 6838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utoShape 11"/>
            <p:cNvSpPr/>
            <p:nvPr/>
          </p:nvSpPr>
          <p:spPr>
            <a:xfrm rot="9231000">
              <a:off x="4906800" y="2840400"/>
              <a:ext cx="801720" cy="219960"/>
            </a:xfrm>
            <a:prstGeom prst="leftArrow">
              <a:avLst>
                <a:gd name="adj1" fmla="val 50000"/>
                <a:gd name="adj2" fmla="val 91121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2"/>
            <p:cNvSpPr/>
            <p:nvPr/>
          </p:nvSpPr>
          <p:spPr>
            <a:xfrm rot="16200000">
              <a:off x="3477600" y="286560"/>
              <a:ext cx="1666080" cy="2334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13"/>
            <p:cNvSpPr/>
            <p:nvPr/>
          </p:nvSpPr>
          <p:spPr>
            <a:xfrm rot="16200000">
              <a:off x="4920480" y="3936240"/>
              <a:ext cx="1444320" cy="3033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4"/>
            <p:cNvSpPr/>
            <p:nvPr/>
          </p:nvSpPr>
          <p:spPr>
            <a:xfrm rot="19956600">
              <a:off x="5601600" y="1509480"/>
              <a:ext cx="2594880" cy="2221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5"/>
            <p:cNvSpPr/>
            <p:nvPr/>
          </p:nvSpPr>
          <p:spPr>
            <a:xfrm rot="1539600">
              <a:off x="812520" y="1321200"/>
              <a:ext cx="2130840" cy="18644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6"/>
            <p:cNvSpPr/>
            <p:nvPr/>
          </p:nvSpPr>
          <p:spPr>
            <a:xfrm rot="20043600">
              <a:off x="701280" y="3825000"/>
              <a:ext cx="2048760" cy="1985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7"/>
            <p:cNvSpPr/>
            <p:nvPr/>
          </p:nvSpPr>
          <p:spPr>
            <a:xfrm>
              <a:off x="2569320" y="2509200"/>
              <a:ext cx="3114720" cy="2221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Text Box 18"/>
          <p:cNvSpPr/>
          <p:nvPr/>
        </p:nvSpPr>
        <p:spPr>
          <a:xfrm>
            <a:off x="3059280" y="9810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 Слуша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аз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3203640" y="2852640"/>
            <a:ext cx="193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Пять ступен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создания мюзик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5942160" y="206064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Знаком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мюзикло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преде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1"/>
          <p:cNvSpPr/>
          <p:nvPr/>
        </p:nvSpPr>
        <p:spPr>
          <a:xfrm>
            <a:off x="4911840" y="503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2"/>
          <p:cNvSpPr/>
          <p:nvPr/>
        </p:nvSpPr>
        <p:spPr>
          <a:xfrm>
            <a:off x="426420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4427640" y="5084640"/>
            <a:ext cx="24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Создание обра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азочного геро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684360" y="4508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Сцен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стра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5"/>
          <p:cNvSpPr/>
          <p:nvPr/>
        </p:nvSpPr>
        <p:spPr>
          <a:xfrm>
            <a:off x="1118880" y="206064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Премьер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Music"/>
          <p:cNvSpPr/>
          <p:nvPr/>
        </p:nvSpPr>
        <p:spPr>
          <a:xfrm>
            <a:off x="4932360" y="3068640"/>
            <a:ext cx="287280" cy="474840"/>
          </a:xfrm>
          <a:custGeom>
            <a:avLst/>
            <a:gdLst>
              <a:gd name="textAreaLeft" fmla="*/ 106200 w 287280"/>
              <a:gd name="textAreaRight" fmla="*/ 278640 w 287280"/>
              <a:gd name="textAreaTop" fmla="*/ 20160 h 474840"/>
              <a:gd name="textAreaBottom" fmla="*/ 117720 h 47484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Music"/>
          <p:cNvSpPr/>
          <p:nvPr/>
        </p:nvSpPr>
        <p:spPr>
          <a:xfrm>
            <a:off x="3132000" y="4005360"/>
            <a:ext cx="289080" cy="473040"/>
          </a:xfrm>
          <a:custGeom>
            <a:avLst/>
            <a:gdLst>
              <a:gd name="textAreaLeft" fmla="*/ 106560 w 289080"/>
              <a:gd name="textAreaRight" fmla="*/ 280440 w 289080"/>
              <a:gd name="textAreaTop" fmla="*/ 20160 h 473040"/>
              <a:gd name="textAreaBottom" fmla="*/ 117000 h 47304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1"/>
          <p:cNvSpPr/>
          <p:nvPr/>
        </p:nvSpPr>
        <p:spPr>
          <a:xfrm>
            <a:off x="684360" y="76500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1 ступень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« Слушаем сказку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ем выразительнее будет прочитана сказка, тем ярче и глубже она будет воспринята и тем правдивее и выразительнее передадут дети ее образ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Music"/>
          <p:cNvSpPr/>
          <p:nvPr/>
        </p:nvSpPr>
        <p:spPr>
          <a:xfrm>
            <a:off x="1547640" y="765000"/>
            <a:ext cx="250920" cy="432000"/>
          </a:xfrm>
          <a:custGeom>
            <a:avLst/>
            <a:gdLst>
              <a:gd name="textAreaLeft" fmla="*/ 92520 w 250920"/>
              <a:gd name="textAreaRight" fmla="*/ 243360 w 250920"/>
              <a:gd name="textAreaTop" fmla="*/ 18360 h 432000"/>
              <a:gd name="textAreaBottom" fmla="*/ 106920 h 43200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19" descr="DSCN5817"/>
          <p:cNvPicPr/>
          <p:nvPr/>
        </p:nvPicPr>
        <p:blipFill>
          <a:blip r:embed="rId1"/>
          <a:stretch/>
        </p:blipFill>
        <p:spPr>
          <a:xfrm>
            <a:off x="1908000" y="2708280"/>
            <a:ext cx="5724720" cy="3489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13744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2 ступен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Знакомство с мюзиклом, распределение ролей»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39640" y="1341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накомство с мюзиклом происходит на музыкальном занят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ети погружаются в волшебный мир музыки и сказ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ируем группу солистов, актерскую и танцевальную групп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8" descr="Копия DSCN0389"/>
          <p:cNvPicPr/>
          <p:nvPr/>
        </p:nvPicPr>
        <p:blipFill>
          <a:blip r:embed="rId1"/>
          <a:stretch/>
        </p:blipFill>
        <p:spPr>
          <a:xfrm>
            <a:off x="4067280" y="2708280"/>
            <a:ext cx="4500360" cy="28684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261" name="Picture 9" descr="DSCN6198"/>
          <p:cNvPicPr/>
          <p:nvPr/>
        </p:nvPicPr>
        <p:blipFill>
          <a:blip r:embed="rId2"/>
          <a:srcRect l="6480" t="4943" r="10177" b="-1384"/>
          <a:stretch/>
        </p:blipFill>
        <p:spPr>
          <a:xfrm>
            <a:off x="468360" y="2637000"/>
            <a:ext cx="324000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62" name="Text Box 10"/>
          <p:cNvSpPr/>
          <p:nvPr/>
        </p:nvSpPr>
        <p:spPr>
          <a:xfrm>
            <a:off x="468360" y="566100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ети за время разучивания мюзикла знают все музыкальные номера и с легкостью могут заменить друг друг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Music"/>
          <p:cNvSpPr/>
          <p:nvPr/>
        </p:nvSpPr>
        <p:spPr>
          <a:xfrm>
            <a:off x="539640" y="260280"/>
            <a:ext cx="250920" cy="432000"/>
          </a:xfrm>
          <a:custGeom>
            <a:avLst/>
            <a:gdLst>
              <a:gd name="textAreaLeft" fmla="*/ 92520 w 250920"/>
              <a:gd name="textAreaRight" fmla="*/ 243360 w 250920"/>
              <a:gd name="textAreaTop" fmla="*/ 18360 h 432000"/>
              <a:gd name="textAreaBottom" fmla="*/ 106920 h 43200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Л22"/>
          <p:cNvPicPr/>
          <p:nvPr/>
        </p:nvPicPr>
        <p:blipFill>
          <a:blip r:embed="rId1"/>
          <a:stretch/>
        </p:blipFill>
        <p:spPr>
          <a:xfrm>
            <a:off x="684360" y="2112840"/>
            <a:ext cx="3600360" cy="2614680"/>
          </a:xfrm>
          <a:prstGeom prst="rect">
            <a:avLst/>
          </a:prstGeom>
          <a:ln w="76320">
            <a:solidFill>
              <a:srgbClr val="99ff99"/>
            </a:solidFill>
            <a:miter/>
          </a:ln>
        </p:spPr>
      </p:pic>
      <p:sp>
        <p:nvSpPr>
          <p:cNvPr id="265" name="Text Box 5"/>
          <p:cNvSpPr/>
          <p:nvPr/>
        </p:nvSpPr>
        <p:spPr>
          <a:xfrm>
            <a:off x="123984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539640" y="620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Художественное слово и музыка побуждают детей взять в руки карандаши или краски и выразить свои впечатления на бумаг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7" descr="Л13"/>
          <p:cNvPicPr/>
          <p:nvPr/>
        </p:nvPicPr>
        <p:blipFill>
          <a:blip r:embed="rId2"/>
          <a:stretch/>
        </p:blipFill>
        <p:spPr>
          <a:xfrm>
            <a:off x="4716360" y="2467080"/>
            <a:ext cx="3672000" cy="26701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68" name="Rectangle 8"/>
          <p:cNvSpPr/>
          <p:nvPr/>
        </p:nvSpPr>
        <p:spPr>
          <a:xfrm>
            <a:off x="468360" y="5516640"/>
            <a:ext cx="81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ак мы имеем  собственные иллюстрации, котор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последствии  служат эскизами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декора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Music"/>
          <p:cNvSpPr/>
          <p:nvPr/>
        </p:nvSpPr>
        <p:spPr>
          <a:xfrm>
            <a:off x="395280" y="549360"/>
            <a:ext cx="250920" cy="431640"/>
          </a:xfrm>
          <a:custGeom>
            <a:avLst/>
            <a:gdLst>
              <a:gd name="textAreaLeft" fmla="*/ 92520 w 250920"/>
              <a:gd name="textAreaRight" fmla="*/ 243360 w 250920"/>
              <a:gd name="textAreaTop" fmla="*/ 18360 h 431640"/>
              <a:gd name="textAreaBottom" fmla="*/ 106920 h 43164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3 ступень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Создание образа сказочного героя»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856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точняем с детьми отдельные характерные черты людей и животны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дь каждый персонаж обладает своей творческой характеристи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6" descr="Изображение 049"/>
          <p:cNvPicPr/>
          <p:nvPr/>
        </p:nvPicPr>
        <p:blipFill>
          <a:blip r:embed="rId1"/>
          <a:stretch/>
        </p:blipFill>
        <p:spPr>
          <a:xfrm>
            <a:off x="379440" y="2276640"/>
            <a:ext cx="2624040" cy="29527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273" name="Picture 8" descr="Изображение 055"/>
          <p:cNvPicPr/>
          <p:nvPr/>
        </p:nvPicPr>
        <p:blipFill>
          <a:blip r:embed="rId2"/>
          <a:srcRect l="45868" t="0" r="5249" b="-620"/>
          <a:stretch/>
        </p:blipFill>
        <p:spPr>
          <a:xfrm>
            <a:off x="6156360" y="2276640"/>
            <a:ext cx="2146320" cy="3313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74" name="Picture 9" descr="Изображение 056"/>
          <p:cNvPicPr/>
          <p:nvPr/>
        </p:nvPicPr>
        <p:blipFill>
          <a:blip r:embed="rId3"/>
          <a:stretch/>
        </p:blipFill>
        <p:spPr>
          <a:xfrm>
            <a:off x="3564000" y="2276640"/>
            <a:ext cx="210024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75" name="Text Box 10"/>
          <p:cNvSpPr/>
          <p:nvPr/>
        </p:nvSpPr>
        <p:spPr>
          <a:xfrm>
            <a:off x="37620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447840" y="5897520"/>
            <a:ext cx="376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611280" y="5661000"/>
            <a:ext cx="777708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Хорошо зная и представляя сказочного геро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ети с легкостью справляются со своей ро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Music"/>
          <p:cNvSpPr/>
          <p:nvPr/>
        </p:nvSpPr>
        <p:spPr>
          <a:xfrm>
            <a:off x="539640" y="404640"/>
            <a:ext cx="250920" cy="432000"/>
          </a:xfrm>
          <a:custGeom>
            <a:avLst/>
            <a:gdLst>
              <a:gd name="textAreaLeft" fmla="*/ 92520 w 250920"/>
              <a:gd name="textAreaRight" fmla="*/ 243360 w 250920"/>
              <a:gd name="textAreaTop" fmla="*/ 18360 h 432000"/>
              <a:gd name="textAreaBottom" fmla="*/ 106920 h 43200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1:10:44Z</dcterms:created>
  <dc:creator>Customer</dc:creator>
  <dc:description/>
  <dc:language>en-US</dc:language>
  <cp:lastModifiedBy>Лера</cp:lastModifiedBy>
  <dcterms:modified xsi:type="dcterms:W3CDTF">2020-07-15T04:46:59Z</dcterms:modified>
  <cp:revision>38</cp:revision>
  <dc:subject/>
  <dc:title>«5 ступенек создания мюзикла»</dc:title>
</cp:coreProperties>
</file>