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7125-95A5-4A4F-9498-CDA05BD4C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9653-08D9-41DE-AEF5-872FD1EB8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7B0A-ECEE-405E-A54A-2E2396375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B468-99D7-4FD2-90BB-B55F308CF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795B-D169-4AA7-8AD0-A43D39EDB2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3B71-217A-4438-BC6B-35310DF8C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D14B-1AB2-4A6B-A11C-5EE3D26B8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BBE5-3146-42F1-B40E-737D372B9F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EE91-84FE-4019-83B5-197EF33213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B4C0-1982-493F-9629-7B0976203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D47A-BAFB-4BDE-9E9F-DFE890D0B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1B35-7DC3-41C2-B7A6-4223BCD5F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CA2D-8CE1-4349-8A88-07B2619315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4EA1-F05C-46C5-88BF-9EBA07D5F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7B95-BEE4-4683-B72A-44FF5A89D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EDE3-8768-46A1-9AD4-A87C364DA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D4A3-76EF-4B46-9D40-0FDEE06D5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E90B-C6A1-4913-BCD7-B950D0575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0F50-81DE-4C5F-AD31-05E8D7702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D5D-7E58-471E-8DEB-81A144FB1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DC2-22E7-46FF-9833-E4453ADD6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3F32-8D1E-4335-B1CA-13EABC244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2D10-8F44-40FF-B855-AF8AC5ECA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F6A8-5956-4BA1-AE0E-3FE0FB99D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262B9B-97E8-4704-97B5-7B8EB4C4744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20CA7F-BE6D-4A30-8907-B22C3E6E135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55640" y="3524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Articles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with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187280" y="213372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geographical nam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49400"/>
            <a:ext cx="82281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Netherlands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Нидерланд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Ukra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Sud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Vatican 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ел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26920" y="620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Moscow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aint Petersbur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1857240" y="2171880"/>
            <a:ext cx="5427720" cy="3579480"/>
            <a:chOff x="1857240" y="2171880"/>
            <a:chExt cx="5427720" cy="357948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1857240" y="2171880"/>
              <a:ext cx="5427720" cy="35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>
              <a:off x="1857240" y="2171880"/>
              <a:ext cx="5427720" cy="35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Ro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830240" y="1905120"/>
            <a:ext cx="5481720" cy="4113000"/>
            <a:chOff x="1830240" y="1905120"/>
            <a:chExt cx="5481720" cy="41130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1830240" y="1905120"/>
              <a:ext cx="54817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1830240" y="1905120"/>
              <a:ext cx="54817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Hague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- Гааг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595440"/>
            <a:ext cx="82296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“</a:t>
            </a: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The”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 используется во фразах с предлогом </a:t>
            </a:r>
            <a:r>
              <a:rPr b="1" i="1" lang="en-US" sz="8000" spc="-1" strike="noStrike">
                <a:solidFill>
                  <a:srgbClr val="66ffff"/>
                </a:solidFill>
                <a:latin typeface="Arial"/>
              </a:rPr>
              <a:t>of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os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1587600" y="1905120"/>
            <a:ext cx="5965560" cy="4113000"/>
            <a:chOff x="1587600" y="1905120"/>
            <a:chExt cx="5965560" cy="4113000"/>
          </a:xfrm>
        </p:grpSpPr>
        <p:pic>
          <p:nvPicPr>
            <p:cNvPr id="133" name="Picture 3" descr=""/>
            <p:cNvPicPr/>
            <p:nvPr/>
          </p:nvPicPr>
          <p:blipFill>
            <a:blip r:embed="rId1"/>
            <a:stretch/>
          </p:blipFill>
          <p:spPr>
            <a:xfrm>
              <a:off x="1587600" y="1905120"/>
              <a:ext cx="59655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587600" y="1905120"/>
              <a:ext cx="59655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0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aint Petersbur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1539720" y="1905120"/>
            <a:ext cx="6061320" cy="4113000"/>
            <a:chOff x="1539720" y="1905120"/>
            <a:chExt cx="6061320" cy="4113000"/>
          </a:xfrm>
        </p:grpSpPr>
        <p:pic>
          <p:nvPicPr>
            <p:cNvPr id="137" name="Picture 3" descr=""/>
            <p:cNvPicPr/>
            <p:nvPr/>
          </p:nvPicPr>
          <p:blipFill>
            <a:blip r:embed="rId1"/>
            <a:stretch/>
          </p:blipFill>
          <p:spPr>
            <a:xfrm>
              <a:off x="1539720" y="1905120"/>
              <a:ext cx="60613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1539720" y="1905120"/>
              <a:ext cx="60613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Артикль </a:t>
            </a:r>
            <a:r>
              <a:rPr b="1" lang="en-US" sz="4000" spc="-1" strike="noStrike">
                <a:solidFill>
                  <a:srgbClr val="66ffff"/>
                </a:solidFill>
                <a:latin typeface="Cambria"/>
              </a:rPr>
              <a:t>THE</a:t>
            </a: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 не используется</a:t>
            </a:r>
            <a:br>
              <a:rPr sz="4000"/>
            </a:b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с названиями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tree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aven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highw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qu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68360" y="260280"/>
            <a:ext cx="8077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е используется с названиями континен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8360" y="191628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r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Sixth Aven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43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Red Squar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1403280" y="1916280"/>
            <a:ext cx="6313680" cy="4113000"/>
            <a:chOff x="1403280" y="1916280"/>
            <a:chExt cx="6313680" cy="4113000"/>
          </a:xfrm>
        </p:grpSpPr>
        <p:pic>
          <p:nvPicPr>
            <p:cNvPr id="147" name="Picture 3" descr=""/>
            <p:cNvPicPr/>
            <p:nvPr/>
          </p:nvPicPr>
          <p:blipFill>
            <a:blip r:embed="rId1"/>
            <a:stretch/>
          </p:blipFill>
          <p:spPr>
            <a:xfrm>
              <a:off x="1403280" y="1916280"/>
              <a:ext cx="631368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"/>
            <p:cNvSpPr/>
            <p:nvPr/>
          </p:nvSpPr>
          <p:spPr>
            <a:xfrm>
              <a:off x="1403280" y="1916280"/>
              <a:ext cx="631368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311040"/>
            <a:ext cx="821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“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he”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не употребляется с названиями языков, если после них нет слова  </a:t>
            </a:r>
            <a:r>
              <a:rPr b="1" i="1" lang="en-US" sz="4000" spc="-1" strike="noStrike" u="sng">
                <a:solidFill>
                  <a:srgbClr val="66ffff"/>
                </a:solidFill>
                <a:uFillTx/>
                <a:latin typeface="Tahoma"/>
              </a:rPr>
              <a:t>language</a:t>
            </a:r>
            <a:r>
              <a:rPr b="1" i="1" lang="ru-RU" sz="4000" spc="-1" strike="noStrike" u="sng">
                <a:solidFill>
                  <a:srgbClr val="66ffff"/>
                </a:solidFill>
                <a:uFillTx/>
                <a:latin typeface="Arial"/>
              </a:rPr>
              <a:t> (язык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68360" y="314172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 u="sng">
                <a:solidFill>
                  <a:srgbClr val="66ffff"/>
                </a:solidFill>
                <a:uFillTx/>
                <a:latin typeface="Tahoma"/>
              </a:rPr>
              <a:t>the</a:t>
            </a:r>
            <a:r>
              <a:rPr b="0" lang="en-US" sz="4800" spc="-1" strike="noStrike">
                <a:solidFill>
                  <a:srgbClr val="66ffff"/>
                </a:solidFill>
                <a:latin typeface="Tahoma"/>
              </a:rPr>
              <a:t> English langu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-74520" y="1087560"/>
            <a:ext cx="92948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Fill in the article where it's necessary. Вставьте артикль, где необходим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... Chicago is on … Lake Michi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… Russia is washed by … Arctic O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… Kiev is to the south of … Mosc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… Philippines are situated to the south-east of … A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… Neva flows into … Gulf of … Fin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…Kazbek is … highest peak of … Caucas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Do the te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Los Angeles is in …U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   C)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I often dream of fishing in the rivers of …..Russian 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  B) the     C)---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lways  be the best place in the wor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                              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C) 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90520" y="360360"/>
            <a:ext cx="92487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……Australia  is famous for kangaro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---- B) a     C) t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 Who had not heard of …..Mississipp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 a    B)  the       C)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  My friend comes from the UK or ….Great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) the     B)------ C)  a                                   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capital of ….Canada is ….Ottaw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        B) the        C)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480" y="720720"/>
            <a:ext cx="91738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)    ……Russia is the largest country in the worl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 the         B)a       C)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) Welcome to ….. Greece  for summ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      B)  the        C)-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)   …..UK  is smaller than … Fr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A) a     B) the         C)----- 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68360" y="262080"/>
            <a:ext cx="822960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гион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a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e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entral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b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сключения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Far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Middl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Nor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Sou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82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тикль </a:t>
            </a:r>
            <a:r>
              <a:rPr b="1" i="1" lang="en-US" sz="40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 стра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употребляется в названиях стран, в которых есть слова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68360" y="335772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st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06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Russia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763640" y="1916280"/>
            <a:ext cx="5484960" cy="4113000"/>
            <a:chOff x="1763640" y="1916280"/>
            <a:chExt cx="5484960" cy="411300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tretch/>
          </p:blipFill>
          <p:spPr>
            <a:xfrm>
              <a:off x="1763640" y="191628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1763640" y="191628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54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Russian Feder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Great Britai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1969920" y="2011320"/>
            <a:ext cx="5200920" cy="3900600"/>
            <a:chOff x="1969920" y="2011320"/>
            <a:chExt cx="5200920" cy="390060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>
              <a:off x="1969920" y="2011320"/>
              <a:ext cx="5200920" cy="39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1969920" y="2011320"/>
              <a:ext cx="5200920" cy="39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United Kingdo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987640" y="2133720"/>
            <a:ext cx="2705040" cy="4113000"/>
            <a:chOff x="2987640" y="2133720"/>
            <a:chExt cx="2705040" cy="411300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270504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987640" y="2133720"/>
              <a:ext cx="270504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25:43Z</dcterms:created>
  <dc:creator>user</dc:creator>
  <dc:description/>
  <dc:language>en-US</dc:language>
  <cp:lastModifiedBy>Администратор</cp:lastModifiedBy>
  <dcterms:modified xsi:type="dcterms:W3CDTF">2020-02-12T15:05:08Z</dcterms:modified>
  <cp:revision>12</cp:revision>
  <dc:subject/>
  <dc:title>Articles with</dc:title>
</cp:coreProperties>
</file>