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74B93-0B80-4C99-A4E9-55953846E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0B345-4A4F-46EB-94E6-E82FF6D411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55E06-A1AE-4865-B08A-10B639C8E6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8597F-E44D-490A-8E0D-ACE892687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5F392-D046-40D0-B3E6-118B9D4C8E1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F1352-5E9E-4E0E-9DE7-4720B035BF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C8AD8-0113-47DE-BF4F-25278112E5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47FDD-6FE2-4B64-AA83-45FB9051A74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04C47-379A-47BE-8918-F9FA84C1EEE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66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B799-0EBA-411A-8FD8-F2E516C7038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B44E-CF49-4105-99C0-DBAAAA78F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8E50F-8903-4869-B92E-2CB7B7895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FD56CD-325B-4EE7-8C28-2E74075346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D340-635C-427B-A1ED-89BBB73F6F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D70C8-51BB-42B5-8FA6-E6EF7D4D20E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5B56D-405A-46D4-970E-E7B39528A11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90476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4052520"/>
            <a:ext cx="264852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375BD-6965-463F-9175-2DA8585191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F11AD-0059-4273-A051-10BB7D7853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C6AE-2623-4AD1-B33E-B357981A1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FA895-295A-4E39-8FC2-148284A722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6676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BD78-A889-4AA8-A6EE-1CC8F8B7B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136F-2DC8-4DE6-BC62-89D9071CD6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05252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1B5E1-55B3-4492-8BDF-D334445832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04760"/>
            <a:ext cx="4014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52520"/>
            <a:ext cx="8226360" cy="196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803A-F342-40DC-85AC-3E8FE78B2E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8A7825-4A6B-41E7-AA7B-A00B49BAA576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6676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6840" y="1904760"/>
            <a:ext cx="82263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B94136-2A8D-4020-B207-77456C5EB9FD}" type="slidenum">
              <a:rPr b="0" lang="ru-RU" sz="1400" spc="-1" strike="noStrike">
                <a:solidFill>
                  <a:srgbClr val="ffffff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755640" y="35244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Tahoma"/>
              </a:rPr>
              <a:t>Articles</a:t>
            </a: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9600" spc="-1" strike="noStrike">
                <a:solidFill>
                  <a:srgbClr val="ff3300"/>
                </a:solidFill>
                <a:latin typeface="Tahoma"/>
              </a:rPr>
              <a:t>with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187280" y="2133720"/>
            <a:ext cx="6400800" cy="40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ahoma"/>
              </a:rPr>
              <a:t>geographical names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49400"/>
            <a:ext cx="82281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Arial"/>
              </a:rPr>
              <a:t>Исключения</a:t>
            </a: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Netherlands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(Нидерланды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Ukrai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Sud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Tahoma"/>
              </a:rPr>
              <a:t>The Vatican Cit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Город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Поселко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дерев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826920" y="62064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4000" spc="-1" strike="noStrike">
                <a:solidFill>
                  <a:srgbClr val="cc3300"/>
                </a:solidFill>
                <a:latin typeface="Arial"/>
              </a:rPr>
              <a:t>THE</a:t>
            </a:r>
            <a:r>
              <a:rPr b="1" i="1" lang="ru-RU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не используется с названиями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Moscow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7" name="Group 2"/>
          <p:cNvGrpSpPr/>
          <p:nvPr/>
        </p:nvGrpSpPr>
        <p:grpSpPr>
          <a:xfrm>
            <a:off x="1828800" y="1905120"/>
            <a:ext cx="5484960" cy="4113000"/>
            <a:chOff x="1828800" y="1905120"/>
            <a:chExt cx="5484960" cy="4113000"/>
          </a:xfrm>
        </p:grpSpPr>
        <p:pic>
          <p:nvPicPr>
            <p:cNvPr id="118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90512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4"/>
            <p:cNvSpPr/>
            <p:nvPr/>
          </p:nvSpPr>
          <p:spPr>
            <a:xfrm>
              <a:off x="1828800" y="190512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Saint Petersbur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" name="Group 2"/>
          <p:cNvGrpSpPr/>
          <p:nvPr/>
        </p:nvGrpSpPr>
        <p:grpSpPr>
          <a:xfrm>
            <a:off x="1857240" y="2171880"/>
            <a:ext cx="5427720" cy="3579480"/>
            <a:chOff x="1857240" y="2171880"/>
            <a:chExt cx="5427720" cy="3579480"/>
          </a:xfrm>
        </p:grpSpPr>
        <p:pic>
          <p:nvPicPr>
            <p:cNvPr id="122" name="Picture 3" descr=""/>
            <p:cNvPicPr/>
            <p:nvPr/>
          </p:nvPicPr>
          <p:blipFill>
            <a:blip r:embed="rId1"/>
            <a:stretch/>
          </p:blipFill>
          <p:spPr>
            <a:xfrm>
              <a:off x="1857240" y="2171880"/>
              <a:ext cx="5427720" cy="35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4"/>
            <p:cNvSpPr/>
            <p:nvPr/>
          </p:nvSpPr>
          <p:spPr>
            <a:xfrm>
              <a:off x="1857240" y="2171880"/>
              <a:ext cx="5427720" cy="357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Rome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5" name="Group 2"/>
          <p:cNvGrpSpPr/>
          <p:nvPr/>
        </p:nvGrpSpPr>
        <p:grpSpPr>
          <a:xfrm>
            <a:off x="1830240" y="1905120"/>
            <a:ext cx="5481720" cy="4113000"/>
            <a:chOff x="1830240" y="1905120"/>
            <a:chExt cx="5481720" cy="4113000"/>
          </a:xfrm>
        </p:grpSpPr>
        <p:pic>
          <p:nvPicPr>
            <p:cNvPr id="126" name="Picture 3" descr=""/>
            <p:cNvPicPr/>
            <p:nvPr/>
          </p:nvPicPr>
          <p:blipFill>
            <a:blip r:embed="rId1"/>
            <a:stretch/>
          </p:blipFill>
          <p:spPr>
            <a:xfrm>
              <a:off x="1830240" y="1905120"/>
              <a:ext cx="548172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 Box 4"/>
            <p:cNvSpPr/>
            <p:nvPr/>
          </p:nvSpPr>
          <p:spPr>
            <a:xfrm>
              <a:off x="1830240" y="1905120"/>
              <a:ext cx="54817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сключения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34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The Hague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  - Гааг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68360" y="595440"/>
            <a:ext cx="8229600" cy="46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 u="sng">
                <a:solidFill>
                  <a:srgbClr val="ff3300"/>
                </a:solidFill>
                <a:uFillTx/>
                <a:latin typeface="Tahoma"/>
              </a:rPr>
              <a:t>“</a:t>
            </a:r>
            <a:r>
              <a:rPr b="0" lang="en-US" sz="7200" spc="-1" strike="noStrike" u="sng">
                <a:solidFill>
                  <a:srgbClr val="ff3300"/>
                </a:solidFill>
                <a:uFillTx/>
                <a:latin typeface="Tahoma"/>
              </a:rPr>
              <a:t>The”</a:t>
            </a: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 </a:t>
            </a:r>
            <a:r>
              <a:rPr b="0" lang="ru-RU" sz="7200" spc="-1" strike="noStrike">
                <a:solidFill>
                  <a:srgbClr val="ff3300"/>
                </a:solidFill>
                <a:latin typeface="Arial"/>
              </a:rPr>
              <a:t> используется во фразах с предлогом </a:t>
            </a:r>
            <a:r>
              <a:rPr b="1" i="1" lang="en-US" sz="8000" spc="-1" strike="noStrike">
                <a:solidFill>
                  <a:srgbClr val="66ffff"/>
                </a:solidFill>
                <a:latin typeface="Arial"/>
              </a:rPr>
              <a:t>of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city </a:t>
            </a:r>
            <a:r>
              <a:rPr b="1" lang="en-US" sz="4400" spc="-1" strike="noStrike">
                <a:solidFill>
                  <a:srgbClr val="66ffff"/>
                </a:solidFill>
                <a:latin typeface="Tahoma"/>
              </a:rPr>
              <a:t>of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Mosco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" name="Group 2"/>
          <p:cNvGrpSpPr/>
          <p:nvPr/>
        </p:nvGrpSpPr>
        <p:grpSpPr>
          <a:xfrm>
            <a:off x="1587600" y="1905120"/>
            <a:ext cx="5965560" cy="4113000"/>
            <a:chOff x="1587600" y="1905120"/>
            <a:chExt cx="5965560" cy="4113000"/>
          </a:xfrm>
        </p:grpSpPr>
        <p:pic>
          <p:nvPicPr>
            <p:cNvPr id="133" name="Picture 3" descr=""/>
            <p:cNvPicPr/>
            <p:nvPr/>
          </p:nvPicPr>
          <p:blipFill>
            <a:blip r:embed="rId1"/>
            <a:stretch/>
          </p:blipFill>
          <p:spPr>
            <a:xfrm>
              <a:off x="1587600" y="1905120"/>
              <a:ext cx="59655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4"/>
            <p:cNvSpPr/>
            <p:nvPr/>
          </p:nvSpPr>
          <p:spPr>
            <a:xfrm>
              <a:off x="1587600" y="1905120"/>
              <a:ext cx="59655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The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city </a:t>
            </a:r>
            <a:r>
              <a:rPr b="1" lang="en-US" sz="4000" spc="-1" strike="noStrike">
                <a:solidFill>
                  <a:srgbClr val="66ffff"/>
                </a:solidFill>
                <a:latin typeface="Tahoma"/>
              </a:rPr>
              <a:t>of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Saint Petersbur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1539720" y="1905120"/>
            <a:ext cx="6061320" cy="4113000"/>
            <a:chOff x="1539720" y="1905120"/>
            <a:chExt cx="6061320" cy="4113000"/>
          </a:xfrm>
        </p:grpSpPr>
        <p:pic>
          <p:nvPicPr>
            <p:cNvPr id="137" name="Picture 3" descr=""/>
            <p:cNvPicPr/>
            <p:nvPr/>
          </p:nvPicPr>
          <p:blipFill>
            <a:blip r:embed="rId1"/>
            <a:stretch/>
          </p:blipFill>
          <p:spPr>
            <a:xfrm>
              <a:off x="1539720" y="1905120"/>
              <a:ext cx="606132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4"/>
            <p:cNvSpPr/>
            <p:nvPr/>
          </p:nvSpPr>
          <p:spPr>
            <a:xfrm>
              <a:off x="1539720" y="1905120"/>
              <a:ext cx="606132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Артикль </a:t>
            </a:r>
            <a:r>
              <a:rPr b="1" lang="en-US" sz="4000" spc="-1" strike="noStrike">
                <a:solidFill>
                  <a:srgbClr val="66ffff"/>
                </a:solidFill>
                <a:latin typeface="Cambria"/>
              </a:rPr>
              <a:t>THE</a:t>
            </a: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 не используется</a:t>
            </a:r>
            <a:br>
              <a:rPr sz="4000"/>
            </a:br>
            <a:r>
              <a:rPr b="1" lang="ru-RU" sz="4000" spc="-1" strike="noStrike">
                <a:solidFill>
                  <a:srgbClr val="66ffff"/>
                </a:solidFill>
                <a:latin typeface="Arial"/>
              </a:rPr>
              <a:t>с названиями 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tree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avenu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highw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Tahoma"/>
              </a:rPr>
              <a:t>squar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468360" y="260280"/>
            <a:ext cx="8077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не используется с названиями континент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468360" y="1916280"/>
            <a:ext cx="8229600" cy="43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s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North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outh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f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ustral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            </a:t>
            </a: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Sixth Avenu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2" name="Group 2"/>
          <p:cNvGrpSpPr/>
          <p:nvPr/>
        </p:nvGrpSpPr>
        <p:grpSpPr>
          <a:xfrm>
            <a:off x="1828800" y="1905120"/>
            <a:ext cx="5484960" cy="4113000"/>
            <a:chOff x="1828800" y="1905120"/>
            <a:chExt cx="5484960" cy="4113000"/>
          </a:xfrm>
        </p:grpSpPr>
        <p:pic>
          <p:nvPicPr>
            <p:cNvPr id="143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90512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 Box 4"/>
            <p:cNvSpPr/>
            <p:nvPr/>
          </p:nvSpPr>
          <p:spPr>
            <a:xfrm>
              <a:off x="1828800" y="190512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       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Red Squar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6" name="Group 2"/>
          <p:cNvGrpSpPr/>
          <p:nvPr/>
        </p:nvGrpSpPr>
        <p:grpSpPr>
          <a:xfrm>
            <a:off x="1403280" y="1916280"/>
            <a:ext cx="6313680" cy="4113000"/>
            <a:chOff x="1403280" y="1916280"/>
            <a:chExt cx="6313680" cy="4113000"/>
          </a:xfrm>
        </p:grpSpPr>
        <p:pic>
          <p:nvPicPr>
            <p:cNvPr id="147" name="Picture 3" descr=""/>
            <p:cNvPicPr/>
            <p:nvPr/>
          </p:nvPicPr>
          <p:blipFill>
            <a:blip r:embed="rId1"/>
            <a:stretch/>
          </p:blipFill>
          <p:spPr>
            <a:xfrm>
              <a:off x="1403280" y="1916280"/>
              <a:ext cx="631368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Text Box 4"/>
            <p:cNvSpPr/>
            <p:nvPr/>
          </p:nvSpPr>
          <p:spPr>
            <a:xfrm>
              <a:off x="1403280" y="1916280"/>
              <a:ext cx="631368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468360" y="311040"/>
            <a:ext cx="82184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“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</a:t>
            </a: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he”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не употребляется с названиями языков, если после них нет слова  </a:t>
            </a:r>
            <a:r>
              <a:rPr b="1" i="1" lang="en-US" sz="4000" spc="-1" strike="noStrike" u="sng">
                <a:solidFill>
                  <a:srgbClr val="66ffff"/>
                </a:solidFill>
                <a:uFillTx/>
                <a:latin typeface="Tahoma"/>
              </a:rPr>
              <a:t>language</a:t>
            </a:r>
            <a:r>
              <a:rPr b="1" i="1" lang="ru-RU" sz="4000" spc="-1" strike="noStrike" u="sng">
                <a:solidFill>
                  <a:srgbClr val="66ffff"/>
                </a:solidFill>
                <a:uFillTx/>
                <a:latin typeface="Arial"/>
              </a:rPr>
              <a:t> (язык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68360" y="314172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nglish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bu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4800" spc="-1" strike="noStrike" u="sng">
                <a:solidFill>
                  <a:srgbClr val="66ffff"/>
                </a:solidFill>
                <a:uFillTx/>
                <a:latin typeface="Tahoma"/>
              </a:rPr>
              <a:t>the</a:t>
            </a:r>
            <a:r>
              <a:rPr b="0" lang="en-US" sz="4800" spc="-1" strike="noStrike">
                <a:solidFill>
                  <a:srgbClr val="66ffff"/>
                </a:solidFill>
                <a:latin typeface="Tahoma"/>
              </a:rPr>
              <a:t> English languag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-74520" y="1087560"/>
            <a:ext cx="929484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0320"/>
            <a:ext cx="8229600" cy="15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Fill in the article where it's necessary. Вставьте артикль, где необходим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640" y="143964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. ... Chicago is on … Lake Michig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2. … Russia is washed by … Arctic Ocea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… Kiev is to the south of … Moscow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… Philippines are situated to the south-east of … Asi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5. … Neva flows into … Gulf of … Finla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6. …Kazbek is … highest peak of … Caucasu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9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Do the test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51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) Los Angeles is in …U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            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    B) the     C)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I often dream of fishing in the rivers of …..Russian Feder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            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      B) the     C)----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…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always  be the best place in the worl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                                 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) a    B) the  C) ----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290520" y="360360"/>
            <a:ext cx="924876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) ……Australia  is famous for kangaroo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---- B) a     C) t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)  Who had not heard of …..Mississippi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 a    B)  the       C)-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)   My friend comes from the UK or ….Great Bri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A) the     B)------ C)  a                                                     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) The capital of ….Canada is ….Ottaw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                 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 a         B) the        C)---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3520"/>
            <a:ext cx="8229600" cy="15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6480" y="720720"/>
            <a:ext cx="9173880" cy="61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)    ……Russia is the largest country in the worl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               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 the         B)a       C)-----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9) Welcome to ….. Greece  for summer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               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) a      B)  the        C)------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10)   …..UK  is smaller than … Fr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                   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A) a     B) the         C)-----  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468360" y="262080"/>
            <a:ext cx="8229600" cy="21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Артикль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е используется с названиями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егионов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46836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astern 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estern Europ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entral Americ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001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Siberia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Исключения</a:t>
            </a:r>
            <a:r>
              <a:rPr b="1" lang="en-US" sz="5400" spc="-1" strike="noStrike">
                <a:solidFill>
                  <a:srgbClr val="ff3300"/>
                </a:solidFill>
                <a:latin typeface="Tahoma"/>
              </a:rPr>
              <a:t>: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6836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Far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Middle 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North P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1100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Tahoma"/>
              </a:rPr>
              <a:t>the South Po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468360" y="7682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Артикль </a:t>
            </a:r>
            <a:r>
              <a:rPr b="1" i="1" lang="en-US" sz="4000" spc="-1" strike="noStrike">
                <a:solidFill>
                  <a:srgbClr val="cc3300"/>
                </a:solidFill>
                <a:latin typeface="Tahoma"/>
              </a:rPr>
              <a:t>the</a:t>
            </a: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используется с названиями стран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 употребляется в названиях стран, в которых есть слова</a:t>
            </a: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468360" y="3357720"/>
            <a:ext cx="822960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stat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republ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kingd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fede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457200" y="206280"/>
            <a:ext cx="822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9600" spc="-1" strike="noStrike">
                <a:solidFill>
                  <a:srgbClr val="ff3300"/>
                </a:solidFill>
                <a:latin typeface="Tahoma"/>
              </a:rPr>
              <a:t>Russia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Group 2"/>
          <p:cNvGrpSpPr/>
          <p:nvPr/>
        </p:nvGrpSpPr>
        <p:grpSpPr>
          <a:xfrm>
            <a:off x="1763640" y="1916280"/>
            <a:ext cx="5484960" cy="4113000"/>
            <a:chOff x="1763640" y="1916280"/>
            <a:chExt cx="5484960" cy="4113000"/>
          </a:xfrm>
        </p:grpSpPr>
        <p:pic>
          <p:nvPicPr>
            <p:cNvPr id="97" name="Picture 3" descr=""/>
            <p:cNvPicPr/>
            <p:nvPr/>
          </p:nvPicPr>
          <p:blipFill>
            <a:blip r:embed="rId1"/>
            <a:stretch/>
          </p:blipFill>
          <p:spPr>
            <a:xfrm>
              <a:off x="1763640" y="191628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4"/>
            <p:cNvSpPr/>
            <p:nvPr/>
          </p:nvSpPr>
          <p:spPr>
            <a:xfrm>
              <a:off x="1763640" y="191628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1"/>
          <p:cNvSpPr/>
          <p:nvPr/>
        </p:nvSpPr>
        <p:spPr>
          <a:xfrm>
            <a:off x="468360" y="26028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5400" spc="-1" strike="noStrike" u="sng">
                <a:solidFill>
                  <a:srgbClr val="ff3300"/>
                </a:solidFill>
                <a:uFillTx/>
                <a:latin typeface="Tahoma"/>
              </a:rPr>
              <a:t>The</a:t>
            </a:r>
            <a:r>
              <a:rPr b="0" lang="en-US" sz="5400" spc="-1" strike="noStrike">
                <a:solidFill>
                  <a:srgbClr val="ff3300"/>
                </a:solidFill>
                <a:latin typeface="Tahoma"/>
              </a:rPr>
              <a:t> Russian Federatio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Group 2"/>
          <p:cNvGrpSpPr/>
          <p:nvPr/>
        </p:nvGrpSpPr>
        <p:grpSpPr>
          <a:xfrm>
            <a:off x="1828800" y="1905120"/>
            <a:ext cx="5484960" cy="4113000"/>
            <a:chOff x="1828800" y="1905120"/>
            <a:chExt cx="5484960" cy="4113000"/>
          </a:xfrm>
        </p:grpSpPr>
        <p:pic>
          <p:nvPicPr>
            <p:cNvPr id="101" name="Picture 3" descr=""/>
            <p:cNvPicPr/>
            <p:nvPr/>
          </p:nvPicPr>
          <p:blipFill>
            <a:blip r:embed="rId1"/>
            <a:stretch/>
          </p:blipFill>
          <p:spPr>
            <a:xfrm>
              <a:off x="1828800" y="1905120"/>
              <a:ext cx="548496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4"/>
            <p:cNvSpPr/>
            <p:nvPr/>
          </p:nvSpPr>
          <p:spPr>
            <a:xfrm>
              <a:off x="1828800" y="1905120"/>
              <a:ext cx="548496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0" lang="en-US" sz="7200" spc="-1" strike="noStrike">
                <a:solidFill>
                  <a:srgbClr val="ff3300"/>
                </a:solidFill>
                <a:latin typeface="Tahoma"/>
              </a:rPr>
              <a:t>Great Britain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4" name="Group 2"/>
          <p:cNvGrpSpPr/>
          <p:nvPr/>
        </p:nvGrpSpPr>
        <p:grpSpPr>
          <a:xfrm>
            <a:off x="1969920" y="2011320"/>
            <a:ext cx="5200920" cy="3900600"/>
            <a:chOff x="1969920" y="2011320"/>
            <a:chExt cx="5200920" cy="3900600"/>
          </a:xfrm>
        </p:grpSpPr>
        <p:pic>
          <p:nvPicPr>
            <p:cNvPr id="105" name="Picture 3" descr=""/>
            <p:cNvPicPr/>
            <p:nvPr/>
          </p:nvPicPr>
          <p:blipFill>
            <a:blip r:embed="rId1"/>
            <a:stretch/>
          </p:blipFill>
          <p:spPr>
            <a:xfrm>
              <a:off x="1969920" y="2011320"/>
              <a:ext cx="5200920" cy="39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4"/>
            <p:cNvSpPr/>
            <p:nvPr/>
          </p:nvSpPr>
          <p:spPr>
            <a:xfrm>
              <a:off x="1969920" y="2011320"/>
              <a:ext cx="5200920" cy="39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0" lang="en-US" sz="6000" spc="-1" strike="noStrike" u="sng">
                <a:solidFill>
                  <a:srgbClr val="ff3300"/>
                </a:solidFill>
                <a:uFillTx/>
                <a:latin typeface="Tahoma"/>
              </a:rPr>
              <a:t>The</a:t>
            </a: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 United Kingdom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Group 2"/>
          <p:cNvGrpSpPr/>
          <p:nvPr/>
        </p:nvGrpSpPr>
        <p:grpSpPr>
          <a:xfrm>
            <a:off x="2987640" y="2133720"/>
            <a:ext cx="2705040" cy="4113000"/>
            <a:chOff x="2987640" y="2133720"/>
            <a:chExt cx="2705040" cy="4113000"/>
          </a:xfrm>
        </p:grpSpPr>
        <p:pic>
          <p:nvPicPr>
            <p:cNvPr id="109" name="Picture 3" descr=""/>
            <p:cNvPicPr/>
            <p:nvPr/>
          </p:nvPicPr>
          <p:blipFill>
            <a:blip r:embed="rId1"/>
            <a:stretch/>
          </p:blipFill>
          <p:spPr>
            <a:xfrm>
              <a:off x="2987640" y="2133720"/>
              <a:ext cx="2705040" cy="41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4"/>
            <p:cNvSpPr/>
            <p:nvPr/>
          </p:nvSpPr>
          <p:spPr>
            <a:xfrm>
              <a:off x="2987640" y="2133720"/>
              <a:ext cx="2705040" cy="411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3:25:43Z</dcterms:created>
  <dc:creator>user</dc:creator>
  <dc:description/>
  <dc:language>en-US</dc:language>
  <cp:lastModifiedBy>Администратор</cp:lastModifiedBy>
  <dcterms:modified xsi:type="dcterms:W3CDTF">2020-02-12T15:05:08Z</dcterms:modified>
  <cp:revision>12</cp:revision>
  <dc:subject/>
  <dc:title>Articles with</dc:title>
</cp:coreProperties>
</file>