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152B-1E18-4B06-ABEE-4D7CA88E2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DA05-370E-4A40-971C-4986B7F37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DE2C-43DE-4823-8E1C-4AA5B22CF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96AD-2FE6-489C-97CF-C25CEC001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60E2-A232-4E70-8F82-EE11454B6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D39A-A334-4AEA-AAA7-A7A807941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8C7A-B238-439E-A432-5F2578B9F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A104-226A-4F57-80EA-261B538753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AD2F-84A8-4E2D-9C49-EE4301244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66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583F-D839-483A-948A-AB3BCC20A6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2609-A4EA-44A2-86A4-6F01CD72CD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C36F-1F85-4ADA-9FDF-8E2A9FCB8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1149-72A2-4EE4-AB14-CE23358BBC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6E92-2DCB-4754-889B-B9F126948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7727-8376-4D39-B47D-E84D8AABE8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BA1C-A850-440C-8648-7268B9E9C2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DEB6-D2AB-4C06-BB72-D4A1423CF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04F4-5138-414A-8324-2A0F2DC16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E010-0183-4C47-A72B-2928C425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6577-1422-44CE-90D6-51E8D5174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66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E130-2929-4B1B-A279-685CC9C79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432F-A167-4B7C-9508-321F47F97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6924-A894-42BC-81F8-604353759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66F1-15B2-424A-B6C0-0C23E7083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7B82CD-CEB1-403B-9A28-FACBACB00CF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5060E9-29D9-4328-8E24-67740E2BBC3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55640" y="35244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Articles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with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187280" y="213372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geographical nam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49400"/>
            <a:ext cx="82281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Netherlands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Нидерланд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Ukra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Sud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Vatican 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ород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ел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рев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26920" y="620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используется с названиям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Moscow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18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aint Petersbur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1857240" y="2171880"/>
            <a:ext cx="5427720" cy="3579480"/>
            <a:chOff x="1857240" y="2171880"/>
            <a:chExt cx="5427720" cy="357948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tretch/>
          </p:blipFill>
          <p:spPr>
            <a:xfrm>
              <a:off x="1857240" y="2171880"/>
              <a:ext cx="5427720" cy="35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"/>
            <p:cNvSpPr/>
            <p:nvPr/>
          </p:nvSpPr>
          <p:spPr>
            <a:xfrm>
              <a:off x="1857240" y="2171880"/>
              <a:ext cx="5427720" cy="35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Rom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830240" y="1905120"/>
            <a:ext cx="5481720" cy="4113000"/>
            <a:chOff x="1830240" y="1905120"/>
            <a:chExt cx="5481720" cy="41130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1830240" y="1905120"/>
              <a:ext cx="548172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1830240" y="1905120"/>
              <a:ext cx="54817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Hague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- Гааг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595440"/>
            <a:ext cx="82296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Tahoma"/>
              </a:rPr>
              <a:t>“</a:t>
            </a:r>
            <a:r>
              <a:rPr b="0" lang="en-US" sz="7200" spc="-1" strike="noStrike" u="sng">
                <a:solidFill>
                  <a:srgbClr val="ff3300"/>
                </a:solidFill>
                <a:uFillTx/>
                <a:latin typeface="Tahoma"/>
              </a:rPr>
              <a:t>The”</a:t>
            </a: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 используется во фразах с предлогом </a:t>
            </a:r>
            <a:r>
              <a:rPr b="1" i="1" lang="en-US" sz="8000" spc="-1" strike="noStrike">
                <a:solidFill>
                  <a:srgbClr val="66ffff"/>
                </a:solidFill>
                <a:latin typeface="Arial"/>
              </a:rPr>
              <a:t>of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ity </a:t>
            </a: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osc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1587600" y="1905120"/>
            <a:ext cx="5965560" cy="4113000"/>
            <a:chOff x="1587600" y="1905120"/>
            <a:chExt cx="5965560" cy="4113000"/>
          </a:xfrm>
        </p:grpSpPr>
        <p:pic>
          <p:nvPicPr>
            <p:cNvPr id="133" name="Picture 3" descr=""/>
            <p:cNvPicPr/>
            <p:nvPr/>
          </p:nvPicPr>
          <p:blipFill>
            <a:blip r:embed="rId1"/>
            <a:stretch/>
          </p:blipFill>
          <p:spPr>
            <a:xfrm>
              <a:off x="1587600" y="1905120"/>
              <a:ext cx="59655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1587600" y="1905120"/>
              <a:ext cx="59655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city </a:t>
            </a:r>
            <a:r>
              <a:rPr b="1" lang="en-US" sz="4000" spc="-1" strike="noStrike">
                <a:solidFill>
                  <a:srgbClr val="66ffff"/>
                </a:solidFill>
                <a:latin typeface="Tahoma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Saint Petersbur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1539720" y="1905120"/>
            <a:ext cx="6061320" cy="4113000"/>
            <a:chOff x="1539720" y="1905120"/>
            <a:chExt cx="6061320" cy="4113000"/>
          </a:xfrm>
        </p:grpSpPr>
        <p:pic>
          <p:nvPicPr>
            <p:cNvPr id="137" name="Picture 3" descr=""/>
            <p:cNvPicPr/>
            <p:nvPr/>
          </p:nvPicPr>
          <p:blipFill>
            <a:blip r:embed="rId1"/>
            <a:stretch/>
          </p:blipFill>
          <p:spPr>
            <a:xfrm>
              <a:off x="1539720" y="1905120"/>
              <a:ext cx="606132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4"/>
            <p:cNvSpPr/>
            <p:nvPr/>
          </p:nvSpPr>
          <p:spPr>
            <a:xfrm>
              <a:off x="1539720" y="1905120"/>
              <a:ext cx="60613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Артикль </a:t>
            </a:r>
            <a:r>
              <a:rPr b="1" lang="en-US" sz="4000" spc="-1" strike="noStrike">
                <a:solidFill>
                  <a:srgbClr val="66ffff"/>
                </a:solidFill>
                <a:latin typeface="Cambria"/>
              </a:rPr>
              <a:t>THE</a:t>
            </a: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 не используется</a:t>
            </a:r>
            <a:br>
              <a:rPr sz="4000"/>
            </a:b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с названиями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tree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aven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highw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qu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68360" y="260280"/>
            <a:ext cx="8077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е используется с названиями континент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8360" y="191628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r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stra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Sixth Aven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43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Red Squar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1403280" y="1916280"/>
            <a:ext cx="6313680" cy="4113000"/>
            <a:chOff x="1403280" y="1916280"/>
            <a:chExt cx="6313680" cy="4113000"/>
          </a:xfrm>
        </p:grpSpPr>
        <p:pic>
          <p:nvPicPr>
            <p:cNvPr id="147" name="Picture 3" descr=""/>
            <p:cNvPicPr/>
            <p:nvPr/>
          </p:nvPicPr>
          <p:blipFill>
            <a:blip r:embed="rId1"/>
            <a:stretch/>
          </p:blipFill>
          <p:spPr>
            <a:xfrm>
              <a:off x="1403280" y="1916280"/>
              <a:ext cx="631368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"/>
            <p:cNvSpPr/>
            <p:nvPr/>
          </p:nvSpPr>
          <p:spPr>
            <a:xfrm>
              <a:off x="1403280" y="1916280"/>
              <a:ext cx="631368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311040"/>
            <a:ext cx="8218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“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he”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не употребляется с названиями языков, если после них нет слова  </a:t>
            </a:r>
            <a:r>
              <a:rPr b="1" i="1" lang="en-US" sz="4000" spc="-1" strike="noStrike" u="sng">
                <a:solidFill>
                  <a:srgbClr val="66ffff"/>
                </a:solidFill>
                <a:uFillTx/>
                <a:latin typeface="Tahoma"/>
              </a:rPr>
              <a:t>language</a:t>
            </a:r>
            <a:r>
              <a:rPr b="1" i="1" lang="ru-RU" sz="4000" spc="-1" strike="noStrike" u="sng">
                <a:solidFill>
                  <a:srgbClr val="66ffff"/>
                </a:solidFill>
                <a:uFillTx/>
                <a:latin typeface="Arial"/>
              </a:rPr>
              <a:t> (язык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68360" y="314172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u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 u="sng">
                <a:solidFill>
                  <a:srgbClr val="66ffff"/>
                </a:solidFill>
                <a:uFillTx/>
                <a:latin typeface="Tahoma"/>
              </a:rPr>
              <a:t>the</a:t>
            </a:r>
            <a:r>
              <a:rPr b="0" lang="en-US" sz="4800" spc="-1" strike="noStrike">
                <a:solidFill>
                  <a:srgbClr val="66ffff"/>
                </a:solidFill>
                <a:latin typeface="Tahoma"/>
              </a:rPr>
              <a:t> English langu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-74520" y="1087560"/>
            <a:ext cx="92948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Fill in the article where it's necessary. Вставьте артикль, где необходим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... Chicago is on … Lake Michig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… Russia is washed by … Arctic Oce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… Kiev is to the south of … Mosc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… Philippines are situated to the south-east of … A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… Neva flows into … Gulf of … Fin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…Kazbek is … highest peak of … Caucas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Do the tes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Los Angeles is in …U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B) the     C)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I often dream of fishing in the rivers of …..Russian 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  B) the     C)---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…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always  be the best place in the wor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                              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B) the  C) 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90520" y="360360"/>
            <a:ext cx="92487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……Australia  is famous for kangaro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---- B) a     C) t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 Who had not heard of …..Mississipp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 a    B)  the       C)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  My friend comes from the UK or ….Great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) the     B)------ C)  a                                   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capital of ….Canada is ….Ottaw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         B) the        C)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480" y="720720"/>
            <a:ext cx="91738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)    ……Russia is the largest country in the worl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 the         B)a       C)-----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) Welcome to ….. Greece  for summ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      B)  the        C)------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)   …..UK  is smaller than … Fr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A) a     B) the         C)----- 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68360" y="262080"/>
            <a:ext cx="822960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 используется с названиям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гион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a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e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entral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b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сключения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Far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Middle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Nor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Sou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82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тикль </a:t>
            </a:r>
            <a:r>
              <a:rPr b="1" i="1" lang="en-US" sz="4000" spc="-1" strike="noStrike">
                <a:solidFill>
                  <a:srgbClr val="cc3300"/>
                </a:solidFill>
                <a:latin typeface="Tahoma"/>
              </a:rPr>
              <a:t>th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используется с названиями стран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употребляется в названиях стран, в которых есть слова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68360" y="3357720"/>
            <a:ext cx="8229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st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06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Russia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763640" y="1916280"/>
            <a:ext cx="5484960" cy="4113000"/>
            <a:chOff x="1763640" y="1916280"/>
            <a:chExt cx="5484960" cy="411300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tretch/>
          </p:blipFill>
          <p:spPr>
            <a:xfrm>
              <a:off x="1763640" y="191628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4"/>
            <p:cNvSpPr/>
            <p:nvPr/>
          </p:nvSpPr>
          <p:spPr>
            <a:xfrm>
              <a:off x="1763640" y="191628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5400" spc="-1" strike="noStrike" u="sng">
                <a:solidFill>
                  <a:srgbClr val="ff3300"/>
                </a:solidFill>
                <a:uFillTx/>
                <a:latin typeface="Tahoma"/>
              </a:rPr>
              <a:t>The</a:t>
            </a: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Russian Federa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Great Britai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Group 2"/>
          <p:cNvGrpSpPr/>
          <p:nvPr/>
        </p:nvGrpSpPr>
        <p:grpSpPr>
          <a:xfrm>
            <a:off x="1969920" y="2011320"/>
            <a:ext cx="5200920" cy="3900600"/>
            <a:chOff x="1969920" y="2011320"/>
            <a:chExt cx="5200920" cy="3900600"/>
          </a:xfrm>
        </p:grpSpPr>
        <p:pic>
          <p:nvPicPr>
            <p:cNvPr id="105" name="Picture 3" descr=""/>
            <p:cNvPicPr/>
            <p:nvPr/>
          </p:nvPicPr>
          <p:blipFill>
            <a:blip r:embed="rId1"/>
            <a:stretch/>
          </p:blipFill>
          <p:spPr>
            <a:xfrm>
              <a:off x="1969920" y="2011320"/>
              <a:ext cx="5200920" cy="39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"/>
            <p:cNvSpPr/>
            <p:nvPr/>
          </p:nvSpPr>
          <p:spPr>
            <a:xfrm>
              <a:off x="1969920" y="2011320"/>
              <a:ext cx="5200920" cy="39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The</a:t>
            </a: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United Kingdo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987640" y="2133720"/>
            <a:ext cx="2705040" cy="4113000"/>
            <a:chOff x="2987640" y="2133720"/>
            <a:chExt cx="2705040" cy="411300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2987640" y="2133720"/>
              <a:ext cx="270504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987640" y="2133720"/>
              <a:ext cx="270504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3:25:43Z</dcterms:created>
  <dc:creator>user</dc:creator>
  <dc:description/>
  <dc:language>en-US</dc:language>
  <cp:lastModifiedBy>Администратор</cp:lastModifiedBy>
  <dcterms:modified xsi:type="dcterms:W3CDTF">2020-02-12T15:05:08Z</dcterms:modified>
  <cp:revision>12</cp:revision>
  <dc:subject/>
  <dc:title>Articles with</dc:title>
</cp:coreProperties>
</file>