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gif" ContentType="image/gif"/>
  <Override PartName="/ppt/media/image3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523-4035-48B6-96FC-144DC872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DFA-17C3-4D0E-98ED-A0129487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CEF94-AE96-4383-8ABE-985DF439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A7E9B-C9C8-4EEC-AF6B-5EA48D5A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F5A25-A381-406B-B892-603BD6C4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48CC9-BAC0-41C4-B1C5-C06FF54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20483-1253-4E0F-89F5-6B1927C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C42F7-0EA7-406A-B922-A59BB57D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04AED-7D0C-47DA-9671-F7EA2FD3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F6B3C-23B7-4549-BC94-245AB9C6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1556A-95E9-424C-AEFF-3237BC9D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03040-85DC-40D6-87D6-D460C573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FA1-2436-46F6-AE11-A6B9F3A8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60E3E-02B3-4A3C-BBC1-EAC122D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767E0-8D6B-4A0A-B376-24B20660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FE1E9-7855-4C62-8896-6894F4F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7B3D1-5F5A-4F0F-B1CE-746463F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0DDA2-DA51-4836-9187-62120278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3437A-A23A-46C2-852C-09BF688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B080E-074F-479B-8C6A-EE19246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14208-A33D-4A60-91AA-DFC4076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25A81-5B98-4836-8996-509631DF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6EE3F-AB8A-47E7-A811-E456B96F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9EA-7FDE-44F5-8815-A0B6C70D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17846-2D19-4B88-B3CC-97FBEF7C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882F5-700C-4482-9BA5-32A84EF5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6EFB8-12D8-4F6F-BEFA-E8E91A26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82501-B9D4-417C-A183-CE171148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1FB05-C8E5-4AE9-A791-84388583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0F507-2824-4AC1-885B-4915EF8B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0A013-AF34-4FBB-A2C5-3F726784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86742-35AB-4FFE-831A-DFD6A54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B2AEB-5604-4469-A9E6-F77AB181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AA94-9F51-49F4-8841-81706CE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EDE0-9FC1-4DF9-A3A8-F68918B9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FB678-F397-4127-84A1-1C00BB5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6B84B-3C26-4B5F-B16E-8E69BE02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89F7-5A71-46E9-9002-22436E9A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FA48C-4050-4535-87F3-26733BBC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C0E01-DA7B-466F-BADC-3B0B0E2F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FB7C2-1936-4E21-B523-455DA5C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7029D-381C-46C1-A261-FD693F5C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D12E1-7992-4533-A42D-CB0B6A09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0451E-0808-473D-BCF9-3463124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3A4A1-9FE0-4DA3-8C0E-220348E0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B153-4456-49C1-8C11-A60A4CFA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C9299-C19A-4DF8-A65E-854BA36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8BA34-5540-463F-8ADC-7D87A76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6AAD6-E5D3-4C4D-B0E9-EAE9D3C8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3541C-2D40-41CD-A7B2-20B3EC02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6FAA5-FE9E-4D1B-B6D5-42123F87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B2FF-9C7A-4B98-813D-3E325337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998B-6E39-4878-829F-4F682D0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F445-656A-471F-A6AF-6529038A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B003-AF99-4857-B923-0A05E7E3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B2AF-D3EF-4147-94B1-3734FC7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318-C89D-4F5E-9CB7-27582FAC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2F95-BA6B-4494-88AA-DAA95E7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6954-587D-49C1-85EC-C254EC8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16F-435B-4E06-9DBF-3CC77D1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A589-7743-4285-8CC6-E621B832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E1A6-0F9D-4C47-9E67-22E22B44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F90D-E0BA-4167-9C83-00354137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CA27-996C-4C4C-962E-59189CBC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34E6-E20C-4460-8326-9A665B9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BFB9-37F0-4796-9C77-7CAF71E9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52CB-6125-4D92-8D05-9BCCF79D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050-3671-4B83-BAB7-386272DC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FEF1-89E2-4BF4-9224-0ADE0C94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89B3-1E1F-4A99-9677-1661D15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25A0-5DDC-4E31-B653-5DEA075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2D3F-028B-479A-940E-D47E92F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D0FD-7159-4F08-AD5E-F06BBF5B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B079-2B1D-4329-A84B-1A24198C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857D-48C2-41F6-B9C6-A6471266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E2F8-B951-4C5E-9722-EFF052D8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C2F34-D338-49F5-AB32-86E560EE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7B94-3BD9-402F-A38E-D9172174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0EB-EDE3-4DAD-918D-C78B2AA8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5727-5686-4796-8D92-72014980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8FB3C-6A17-41A7-BCC3-4FB1B41A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D96C-7925-4657-8BBE-9180403B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F4B6-E4AF-486E-B9A1-63CC1B5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058B1-CE1C-4838-9521-1A39E828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5F2A-35D0-41F1-B1AF-FA410A5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D182-9FD7-4111-8ED2-F007A679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EFBB-1036-4511-B7A4-A9470555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1F1C-DC0F-4E85-AB72-FF174B01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46BCD-F7FC-431B-B26C-7AB40AD1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AAA-DDA6-4E85-AD24-74EA3447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02D3-EC07-4018-90EA-F26B246C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A2FF-87A5-4D81-847F-832F5E0D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C990E-993A-403B-917B-D4C2D77B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2AA2-AD28-430C-A255-6407CF8B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FD569-6222-44D9-A6C1-28EBD2C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34A5B-554C-4B23-940E-31751CE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AAF69-3DCF-4B1B-B36A-3255524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B9BF-CD6F-488D-B06B-8DACA4E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2677-1FEE-47E1-BE6B-D9DD185F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297F7-293D-4CE7-A47F-2D13D1F3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1F6-B0A0-4CF8-970C-8D0B0C37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CF4B9-26C0-41EE-A7E4-D5C58982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ECC55-B176-40B8-AAAA-1B35D273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6D3A8-FBE8-456D-B754-4A322384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DE24-0ECD-4D79-855A-AF39F553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BCDDC-AE4F-4195-827F-E8FAC5F9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D49C-4F52-4410-8CE9-E6E389C1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C5C2-3A68-47E6-AB22-C6695270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7835-4B46-42A9-A595-143460E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02DD-D323-4226-BF2A-B7AF185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523AD-F3D6-4BAC-A175-CDBA4D6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66F-CDBD-4232-B1C0-BE214DC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9613-B1D1-491A-8427-BA83D50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4D4C-4CE3-44EB-BF8B-5F29F3AC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F741-DF07-47ED-BCDA-27767CFA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1BE93-E1B8-4AC6-9DAA-E2B1C420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02B9-7FFA-40C2-8830-51C73D93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82DBB-D53E-4863-A10E-01BCD1B5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C1CE-0C51-46B5-9EC9-831E219F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A2A95-CF70-47D0-91EC-554B9324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36CE-8C18-4D3F-845B-3D890BC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BB7C1-23F9-4C1F-BF71-EA43D457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74C-27BF-4DB3-8A0C-5F892B1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7A9C3-F87B-42BA-9326-AC0C5AEC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F98E-1F3F-44D4-8910-CF463789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83C4D-FE12-4617-93E9-06CEBD66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73C95-2765-4063-8F1A-CC73D0E4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30CE-A65A-49D8-9CA6-81B8D537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E7723-4D77-4446-8645-9134DEB5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E966F-B284-4C6C-8B59-142BF209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B6350-32FD-47BB-B190-56DFA15C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1C1E-63AE-4AA5-95C1-F02653E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FCE1A-FFAF-459F-857E-3444DD3C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28B-8CED-434E-A06F-087D688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5BAF1-169B-4E8A-8588-FE264997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0C523-E819-4229-A8CB-FA7411F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7914C-B706-4392-9054-B3DBBA2E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72C7-9510-4A60-A2AD-8F6A56D3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25A27-AC05-41BB-8CB3-69D52861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B64C7-5446-4187-8A1B-CCF20376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F3762-1523-46CD-9698-3166C452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5A457-1225-43EB-8755-52A0F2B3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6B072-A9D6-46F6-BE4B-178D314E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D6A93-DB28-4638-A116-CD4F5860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CA21-DBD8-4CCA-8675-13083ABCF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99AE-10B3-4EB5-A06F-DAD8A2184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FE4-DA2B-4C8E-AD28-0787DF71A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8CA6-C14B-4921-82AE-105F7E867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CC4A-1D67-4827-9D5E-0546BA6DE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D29F-332C-4083-9AAF-54D9920A0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03B-A0BE-4EAE-86C8-980862F6F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A79E-E0DF-4D77-A93D-A59F41498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68F8-2564-4B3D-9E8F-4BCA9AC1E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BAC1-1998-416F-8A17-7E6C4E9D5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AE63-03B6-48C1-9519-693E62DD7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C0FD-F912-455B-AD63-51894B74E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" Target="slide2.xml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1619280" y="1125360"/>
            <a:ext cx="6481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Courier New"/>
              </a:rPr>
              <a:t>ИТОГОВЫЙ  ПРО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489840" y="5956920"/>
            <a:ext cx="173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анкт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Колп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018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WordArt 8"/>
          <p:cNvSpPr txBox="1"/>
          <p:nvPr/>
        </p:nvSpPr>
        <p:spPr>
          <a:xfrm>
            <a:off x="2819520" y="2057400"/>
            <a:ext cx="420048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ff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Courier New"/>
              </a:rPr>
              <a:t>по технологии</a:t>
            </a:r>
            <a:endParaRPr b="0" lang="en-US" sz="2000" spc="1" strike="noStrike">
              <a:ln w="9360">
                <a:solidFill>
                  <a:srgbClr val="9900ff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9999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5" name="WordArt 9"/>
          <p:cNvSpPr txBox="1"/>
          <p:nvPr/>
        </p:nvSpPr>
        <p:spPr>
          <a:xfrm>
            <a:off x="1619280" y="2852640"/>
            <a:ext cx="635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6666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Courier New"/>
              </a:rPr>
              <a:t>Классический костюм</a:t>
            </a:r>
            <a:endParaRPr b="0" lang="en-US" sz="2000" spc="1" strike="noStrike">
              <a:ln w="9360">
                <a:solidFill>
                  <a:srgbClr val="6666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cc3300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2843280" y="4221000"/>
            <a:ext cx="60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ученица 1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класса 432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Антонова Анн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Проверила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околова В.П.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           учитель техн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4">
            <a:hlinkClick r:id="" action="ppaction://hlinkshowjump?jump=endshow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WordArt 2"/>
          <p:cNvSpPr txBox="1"/>
          <p:nvPr/>
        </p:nvSpPr>
        <p:spPr>
          <a:xfrm>
            <a:off x="1828800" y="15228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ланирование работы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 изготовлению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1166760" y="1216080"/>
            <a:ext cx="70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900000" y="990720"/>
            <a:ext cx="7710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ять мерки (свои). Подобрать изделия в журнале м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снять выкройку из журнала. Вырезать детали выкрой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очнить выкройки по своим мер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ть выкройку к раскро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ть раскладку выкройки на тка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исовать контуры и припуски на ш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кроить изделие с учётом припуск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ть крой к рабо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ложить контурные линии, метки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ыполнить копировальные сте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тать издел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ть первую пример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равить недочё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ть вторую пример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готовить изделие по технологической кар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0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1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142920" y="1066680"/>
          <a:ext cx="8893080" cy="4054680"/>
        </p:xfrm>
        <a:graphic>
          <a:graphicData uri="http://schemas.openxmlformats.org/drawingml/2006/table">
            <a:tbl>
              <a:tblPr/>
              <a:tblGrid>
                <a:gridCol w="452520"/>
                <a:gridCol w="2363760"/>
                <a:gridCol w="2270160"/>
                <a:gridCol w="2300040"/>
                <a:gridCol w="150660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 оборудование,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вытачки на задней половинки брю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 шов, длина стежка 2,5-3 м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 булавки,ножниц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ная машина,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от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рючный к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тачной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тачной шов,  длина стежка 2,5-3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срез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ежка 2,5-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очная маш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боковые срезы, разутюж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ш\ш 1,5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булавки,ножницы,швейная маши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шаговые срезы, разутюж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ш\ш 1,5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застёжку мол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 длина стежка 2,5-3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WordArt 2"/>
          <p:cNvSpPr txBox="1"/>
          <p:nvPr/>
        </p:nvSpPr>
        <p:spPr>
          <a:xfrm>
            <a:off x="2286000" y="189000"/>
            <a:ext cx="536256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44" name="Rectangle 18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4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0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1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53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280" descr="рис1"/>
          <p:cNvPicPr/>
          <p:nvPr/>
        </p:nvPicPr>
        <p:blipFill>
          <a:blip r:embed="rId1"/>
          <a:stretch/>
        </p:blipFill>
        <p:spPr>
          <a:xfrm>
            <a:off x="7848720" y="1828800"/>
            <a:ext cx="952560" cy="38268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292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298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04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15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21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532" descr="рис1"/>
          <p:cNvPicPr/>
          <p:nvPr/>
        </p:nvPicPr>
        <p:blipFill>
          <a:blip r:embed="rId2"/>
          <a:stretch/>
        </p:blipFill>
        <p:spPr>
          <a:xfrm>
            <a:off x="7696080" y="3427560"/>
            <a:ext cx="952560" cy="3823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33" descr="рис1"/>
          <p:cNvPicPr/>
          <p:nvPr/>
        </p:nvPicPr>
        <p:blipFill>
          <a:blip r:embed="rId3"/>
          <a:stretch/>
        </p:blipFill>
        <p:spPr>
          <a:xfrm>
            <a:off x="7772400" y="4114800"/>
            <a:ext cx="9525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8" name="Object 540"/>
          <p:cNvGraphicFramePr/>
          <p:nvPr/>
        </p:nvGraphicFramePr>
        <p:xfrm>
          <a:off x="7848720" y="2362320"/>
          <a:ext cx="84132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9" name="Object 5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23623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AutoShape 544">
            <a:hlinkClick r:id="rId6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54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54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"/>
          <p:cNvGraphicFramePr/>
          <p:nvPr/>
        </p:nvGraphicFramePr>
        <p:xfrm>
          <a:off x="71280" y="914400"/>
          <a:ext cx="8964720" cy="3459240"/>
        </p:xfrm>
        <a:graphic>
          <a:graphicData uri="http://schemas.openxmlformats.org/drawingml/2006/table">
            <a:tbl>
              <a:tblPr/>
              <a:tblGrid>
                <a:gridCol w="457200"/>
                <a:gridCol w="2382840"/>
                <a:gridCol w="2287800"/>
                <a:gridCol w="2317680"/>
                <a:gridCol w="1519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средни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поя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ножницы,иглы,булавки,швейная маш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ка  низа бр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 потайной сте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ла,нитки.ножниц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 пет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змет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-приспосо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шить пугов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уколов в 1 отверст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ая игла,нитки,нож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утюжить брю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,от па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Rectangle 14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1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7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53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9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5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1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22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428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439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445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660" descr="рис1"/>
          <p:cNvPicPr/>
          <p:nvPr/>
        </p:nvPicPr>
        <p:blipFill>
          <a:blip r:embed="rId1"/>
          <a:stretch/>
        </p:blipFill>
        <p:spPr>
          <a:xfrm>
            <a:off x="7772400" y="1676520"/>
            <a:ext cx="952560" cy="3823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61" descr="рис1"/>
          <p:cNvPicPr/>
          <p:nvPr/>
        </p:nvPicPr>
        <p:blipFill>
          <a:blip r:embed="rId2"/>
          <a:stretch/>
        </p:blipFill>
        <p:spPr>
          <a:xfrm>
            <a:off x="7772400" y="990720"/>
            <a:ext cx="952560" cy="382320"/>
          </a:xfrm>
          <a:prstGeom prst="rect">
            <a:avLst/>
          </a:prstGeom>
          <a:ln w="0">
            <a:noFill/>
          </a:ln>
        </p:spPr>
      </p:pic>
      <p:sp>
        <p:nvSpPr>
          <p:cNvPr id="678" name="WordArt 662"/>
          <p:cNvSpPr txBox="1"/>
          <p:nvPr/>
        </p:nvSpPr>
        <p:spPr>
          <a:xfrm>
            <a:off x="250920" y="404640"/>
            <a:ext cx="1565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долж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79" name="AutoShape 666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67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668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0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6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2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8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42920" y="1066680"/>
          <a:ext cx="8893080" cy="4054680"/>
        </p:xfrm>
        <a:graphic>
          <a:graphicData uri="http://schemas.openxmlformats.org/drawingml/2006/table">
            <a:tbl>
              <a:tblPr/>
              <a:tblGrid>
                <a:gridCol w="452520"/>
                <a:gridCol w="2363760"/>
                <a:gridCol w="2270160"/>
                <a:gridCol w="2300040"/>
                <a:gridCol w="150660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 оборудование,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выта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 длина стежка 2,5-3 м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 булавки,ножниц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ная машина,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утюжить выта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 град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срез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ежка 2,5-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очная маш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боковые,плечевые  сре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\ш 1,5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булавки,ножницы,швейная маши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прой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ов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горлови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ов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7" name="Object 276"/>
          <p:cNvGraphicFramePr/>
          <p:nvPr/>
        </p:nvGraphicFramePr>
        <p:xfrm>
          <a:off x="7848720" y="4114800"/>
          <a:ext cx="8413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Object 2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11480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277"/>
          <p:cNvGraphicFramePr/>
          <p:nvPr/>
        </p:nvGraphicFramePr>
        <p:xfrm>
          <a:off x="7845480" y="4648320"/>
          <a:ext cx="8413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0" name="Object 2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5480" y="46483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1" name="Picture 278" descr="рис1"/>
          <p:cNvPicPr/>
          <p:nvPr/>
        </p:nvPicPr>
        <p:blipFill>
          <a:blip r:embed="rId5"/>
          <a:stretch/>
        </p:blipFill>
        <p:spPr>
          <a:xfrm>
            <a:off x="7848720" y="1752480"/>
            <a:ext cx="952560" cy="3826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79" descr="рис1"/>
          <p:cNvPicPr/>
          <p:nvPr/>
        </p:nvPicPr>
        <p:blipFill>
          <a:blip r:embed="rId6"/>
          <a:stretch/>
        </p:blipFill>
        <p:spPr>
          <a:xfrm>
            <a:off x="7772400" y="3505320"/>
            <a:ext cx="952560" cy="382320"/>
          </a:xfrm>
          <a:prstGeom prst="rect">
            <a:avLst/>
          </a:prstGeom>
          <a:ln w="0">
            <a:noFill/>
          </a:ln>
        </p:spPr>
      </p:pic>
      <p:sp>
        <p:nvSpPr>
          <p:cNvPr id="693" name="WordArt 280"/>
          <p:cNvSpPr txBox="1"/>
          <p:nvPr/>
        </p:nvSpPr>
        <p:spPr>
          <a:xfrm>
            <a:off x="1908000" y="333360"/>
            <a:ext cx="536292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жилета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94" name="AutoShape 284">
            <a:hlinkClick r:id="rId7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28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28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7" name=""/>
          <p:cNvGraphicFramePr/>
          <p:nvPr/>
        </p:nvGraphicFramePr>
        <p:xfrm>
          <a:off x="71280" y="914400"/>
          <a:ext cx="8964720" cy="2941560"/>
        </p:xfrm>
        <a:graphic>
          <a:graphicData uri="http://schemas.openxmlformats.org/drawingml/2006/table">
            <a:tbl>
              <a:tblPr/>
              <a:tblGrid>
                <a:gridCol w="457200"/>
                <a:gridCol w="2382840"/>
                <a:gridCol w="2287800"/>
                <a:gridCol w="2317680"/>
                <a:gridCol w="15192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б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низ изд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ножницы,иглы,булавки,швейная маш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пет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зме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-приспосо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шить пугов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уколов в1 отвер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ая игла,нитки,нож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утюжить издел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8" name="Object 54"/>
          <p:cNvGraphicFramePr/>
          <p:nvPr/>
        </p:nvGraphicFramePr>
        <p:xfrm>
          <a:off x="7848720" y="990720"/>
          <a:ext cx="8413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9907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WordArt 56"/>
          <p:cNvSpPr txBox="1"/>
          <p:nvPr/>
        </p:nvSpPr>
        <p:spPr>
          <a:xfrm>
            <a:off x="250920" y="404640"/>
            <a:ext cx="1565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долж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01" name="AutoShape 60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6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250920" y="1219320"/>
          <a:ext cx="8675640" cy="2471760"/>
        </p:xfrm>
        <a:graphic>
          <a:graphicData uri="http://schemas.openxmlformats.org/drawingml/2006/table">
            <a:tbl>
              <a:tblPr/>
              <a:tblGrid>
                <a:gridCol w="750960"/>
                <a:gridCol w="2936880"/>
                <a:gridCol w="1771560"/>
                <a:gridCol w="1165320"/>
                <a:gridCol w="20509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за 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 - 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кань брю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р. 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изил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р. 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. 1 к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го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р.1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Text Box 256"/>
          <p:cNvSpPr/>
          <p:nvPr/>
        </p:nvSpPr>
        <p:spPr>
          <a:xfrm>
            <a:off x="250920" y="4292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гото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ел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школьной мастерск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 учитывать стоимость электроэнергии, стоимость оборудования,  инструм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ругих приспособл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а - костюма в магазине – 1500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считаю, что сэкономила – 1000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82"/>
          <p:cNvSpPr/>
          <p:nvPr/>
        </p:nvSpPr>
        <p:spPr>
          <a:xfrm>
            <a:off x="2730240" y="52401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WordArt 285"/>
          <p:cNvSpPr txBox="1"/>
          <p:nvPr/>
        </p:nvSpPr>
        <p:spPr>
          <a:xfrm>
            <a:off x="2195640" y="404640"/>
            <a:ext cx="5030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Экономические расчёты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08" name="AutoShape 289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29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29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5"/>
          <p:cNvSpPr/>
          <p:nvPr/>
        </p:nvSpPr>
        <p:spPr>
          <a:xfrm>
            <a:off x="990720" y="11125080"/>
            <a:ext cx="6019560" cy="28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433548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9"/>
          <p:cNvSpPr/>
          <p:nvPr/>
        </p:nvSpPr>
        <p:spPr>
          <a:xfrm>
            <a:off x="685800" y="1066680"/>
            <a:ext cx="815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считаю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со своей задачей справилась, потому что изделие соответствует тем требованиям, которые   я  прорабатывала. Я ничего бы в нём не изменила. Я довольна своей работой. Мне кажется, что мой  костюм получился таким, как было задума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буду в нём выглядеть нарядной и привлекательн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11" descr="супер"/>
          <p:cNvPicPr/>
          <p:nvPr/>
        </p:nvPicPr>
        <p:blipFill>
          <a:blip r:embed="rId1"/>
          <a:stretch/>
        </p:blipFill>
        <p:spPr>
          <a:xfrm>
            <a:off x="3505320" y="41148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715" name="WordArt 13"/>
          <p:cNvSpPr txBox="1"/>
          <p:nvPr/>
        </p:nvSpPr>
        <p:spPr>
          <a:xfrm>
            <a:off x="3132000" y="549360"/>
            <a:ext cx="324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амооценк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16" name="AutoShape 17">
            <a:hlinkClick r:id="rId2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8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9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5"/>
          <p:cNvSpPr/>
          <p:nvPr/>
        </p:nvSpPr>
        <p:spPr>
          <a:xfrm>
            <a:off x="395280" y="126828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ев работу Ани, проект «Классический костюм», хочется отмети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для Ани – актуаль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а потребность, четко сформулирована задач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бования к изделию дают  полное представление об объекте проектир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ументация (дизайн - листы) отражают весь процесс проектирования и изготов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ческое  сопровождение выполнено в полном объеме (технологические карты, рисунки, упражнен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елия выполнены из ткани, работа с которой требует большого умения, старания, аккуратности и терп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номический расчет сопровождается вывод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радно отметить, что у Ани существует потребность в изготовлении нужных ей изделий при качественном исполнении. От ее работы веет добротой, теплом, любовью к своему делу. Хочется, чтобы Аня нашла свое призвание и в будущем стала швеей высокого разря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технологии Титова В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WordArt 10"/>
          <p:cNvSpPr txBox="1"/>
          <p:nvPr/>
        </p:nvSpPr>
        <p:spPr>
          <a:xfrm>
            <a:off x="2916360" y="549360"/>
            <a:ext cx="3095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Отзыв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21" name="AutoShape 14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3" descr="общая2"/>
          <p:cNvPicPr/>
          <p:nvPr/>
        </p:nvPicPr>
        <p:blipFill>
          <a:blip r:embed="rId1"/>
          <a:stretch/>
        </p:blipFill>
        <p:spPr>
          <a:xfrm>
            <a:off x="1628640" y="361800"/>
            <a:ext cx="5823000" cy="558504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25" name="Text Box 6"/>
          <p:cNvSpPr/>
          <p:nvPr/>
        </p:nvSpPr>
        <p:spPr>
          <a:xfrm>
            <a:off x="1332000" y="6093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">
            <a:hlinkClick r:id="rId2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9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10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9" descr="антонова1"/>
          <p:cNvPicPr/>
          <p:nvPr/>
        </p:nvPicPr>
        <p:blipFill>
          <a:blip r:embed="rId1"/>
          <a:stretch/>
        </p:blipFill>
        <p:spPr>
          <a:xfrm>
            <a:off x="0" y="0"/>
            <a:ext cx="4724280" cy="318276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730" name="Picture 10" descr="антонова2"/>
          <p:cNvPicPr/>
          <p:nvPr/>
        </p:nvPicPr>
        <p:blipFill>
          <a:blip r:embed="rId2"/>
          <a:stretch/>
        </p:blipFill>
        <p:spPr>
          <a:xfrm>
            <a:off x="4284720" y="3214800"/>
            <a:ext cx="4859280" cy="3643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31" name="Text Box 13"/>
          <p:cNvSpPr/>
          <p:nvPr/>
        </p:nvSpPr>
        <p:spPr>
          <a:xfrm>
            <a:off x="395280" y="3357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ботка поя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5580000" y="2781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лучшей иде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16"/>
          <p:cNvSpPr/>
          <p:nvPr/>
        </p:nvSpPr>
        <p:spPr>
          <a:xfrm>
            <a:off x="179280" y="638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17">
            <a:hlinkClick r:id="" action="ppaction://hlinkshowjump?jump=previousslide"/>
          </p:cNvPr>
          <p:cNvSpPr/>
          <p:nvPr/>
        </p:nvSpPr>
        <p:spPr>
          <a:xfrm flipH="1">
            <a:off x="650880" y="6362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18">
            <a:hlinkClick r:id="" action="ppaction://hlinkshowjump?jump=nextslide"/>
          </p:cNvPr>
          <p:cNvSpPr/>
          <p:nvPr/>
        </p:nvSpPr>
        <p:spPr>
          <a:xfrm>
            <a:off x="1108080" y="6362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3"/>
          <p:cNvSpPr txBox="1"/>
          <p:nvPr/>
        </p:nvSpPr>
        <p:spPr>
          <a:xfrm>
            <a:off x="533520" y="914400"/>
            <a:ext cx="4876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Monotype Corsiva"/>
              </a:rPr>
              <a:t>Проблема. Потребност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99" name="WordArt 4"/>
          <p:cNvSpPr txBox="1"/>
          <p:nvPr/>
        </p:nvSpPr>
        <p:spPr>
          <a:xfrm>
            <a:off x="533520" y="1219320"/>
            <a:ext cx="5181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Краткая формулировка задач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0" name="WordArt 5"/>
          <p:cNvSpPr txBox="1"/>
          <p:nvPr/>
        </p:nvSpPr>
        <p:spPr>
          <a:xfrm>
            <a:off x="609480" y="1523880"/>
            <a:ext cx="28195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Исследов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1" name="WordArt 6"/>
          <p:cNvSpPr txBox="1"/>
          <p:nvPr/>
        </p:nvSpPr>
        <p:spPr>
          <a:xfrm>
            <a:off x="533520" y="1828800"/>
            <a:ext cx="487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Дизайн - спецификаци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(требования к изделию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2" name="WordArt 7"/>
          <p:cNvSpPr txBox="1"/>
          <p:nvPr/>
        </p:nvSpPr>
        <p:spPr>
          <a:xfrm>
            <a:off x="609480" y="2438280"/>
            <a:ext cx="4114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ервоначальные идеи (брюки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3" name="WordArt 8"/>
          <p:cNvSpPr txBox="1"/>
          <p:nvPr/>
        </p:nvSpPr>
        <p:spPr>
          <a:xfrm>
            <a:off x="685800" y="2819520"/>
            <a:ext cx="3429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Выбор 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4" name="WordArt 9"/>
          <p:cNvSpPr txBox="1"/>
          <p:nvPr/>
        </p:nvSpPr>
        <p:spPr>
          <a:xfrm>
            <a:off x="685800" y="320040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Проработ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5" name="WordArt 10"/>
          <p:cNvSpPr txBox="1"/>
          <p:nvPr/>
        </p:nvSpPr>
        <p:spPr>
          <a:xfrm>
            <a:off x="457200" y="3733920"/>
            <a:ext cx="38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ланирование работы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 изготовлению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6" name="WordArt 11"/>
          <p:cNvSpPr txBox="1"/>
          <p:nvPr/>
        </p:nvSpPr>
        <p:spPr>
          <a:xfrm>
            <a:off x="457200" y="4343400"/>
            <a:ext cx="4419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7" name="WordArt 12"/>
          <p:cNvSpPr txBox="1"/>
          <p:nvPr/>
        </p:nvSpPr>
        <p:spPr>
          <a:xfrm>
            <a:off x="533520" y="4881600"/>
            <a:ext cx="3809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жилета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8" name="WordArt 13"/>
          <p:cNvSpPr txBox="1"/>
          <p:nvPr/>
        </p:nvSpPr>
        <p:spPr>
          <a:xfrm>
            <a:off x="533520" y="5410080"/>
            <a:ext cx="2895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Экономические расчёты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9" name="WordArt 14"/>
          <p:cNvSpPr txBox="1"/>
          <p:nvPr/>
        </p:nvSpPr>
        <p:spPr>
          <a:xfrm>
            <a:off x="533520" y="571500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амооценк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0" name="WordArt 15"/>
          <p:cNvSpPr txBox="1"/>
          <p:nvPr/>
        </p:nvSpPr>
        <p:spPr>
          <a:xfrm>
            <a:off x="533520" y="6019920"/>
            <a:ext cx="1371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Отзыв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1" name="WordArt 16"/>
          <p:cNvSpPr txBox="1"/>
          <p:nvPr/>
        </p:nvSpPr>
        <p:spPr>
          <a:xfrm>
            <a:off x="609480" y="62485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Фотогрофи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2" name="WordArt 17"/>
          <p:cNvSpPr txBox="1"/>
          <p:nvPr/>
        </p:nvSpPr>
        <p:spPr>
          <a:xfrm>
            <a:off x="3048120" y="5791320"/>
            <a:ext cx="2057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Упражнения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3" name="WordArt 18"/>
          <p:cNvSpPr txBox="1"/>
          <p:nvPr/>
        </p:nvSpPr>
        <p:spPr>
          <a:xfrm>
            <a:off x="3124080" y="617220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Реклам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4" name="WordArt 19"/>
          <p:cNvSpPr txBox="1"/>
          <p:nvPr/>
        </p:nvSpPr>
        <p:spPr>
          <a:xfrm>
            <a:off x="6095880" y="579132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Автор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5" name="WordArt 20"/>
          <p:cNvSpPr txBox="1"/>
          <p:nvPr/>
        </p:nvSpPr>
        <p:spPr>
          <a:xfrm>
            <a:off x="2743200" y="2286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одержание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6" name="AutoShape 2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9" descr="антонова"/>
          <p:cNvPicPr/>
          <p:nvPr/>
        </p:nvPicPr>
        <p:blipFill>
          <a:blip r:embed="rId1"/>
          <a:stretch/>
        </p:blipFill>
        <p:spPr>
          <a:xfrm>
            <a:off x="0" y="0"/>
            <a:ext cx="4896000" cy="3670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737" name="Picture 10" descr="антонова3"/>
          <p:cNvPicPr/>
          <p:nvPr/>
        </p:nvPicPr>
        <p:blipFill>
          <a:blip r:embed="rId2"/>
          <a:stretch/>
        </p:blipFill>
        <p:spPr>
          <a:xfrm>
            <a:off x="4572000" y="3432240"/>
            <a:ext cx="4572000" cy="342576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38" name="Text Box 13"/>
          <p:cNvSpPr/>
          <p:nvPr/>
        </p:nvSpPr>
        <p:spPr>
          <a:xfrm>
            <a:off x="395280" y="386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етывание низа издел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529272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презент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>
            <a:off x="1396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>
            <a:hlinkClick r:id="" action="ppaction://hlinkshowjump?jump=previousslide"/>
          </p:cNvPr>
          <p:cNvSpPr/>
          <p:nvPr/>
        </p:nvSpPr>
        <p:spPr>
          <a:xfrm flipH="1">
            <a:off x="61128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8">
            <a:hlinkClick r:id="" action="ppaction://hlinkshowjump?jump=nextslide"/>
          </p:cNvPr>
          <p:cNvSpPr/>
          <p:nvPr/>
        </p:nvSpPr>
        <p:spPr>
          <a:xfrm>
            <a:off x="106848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9"/>
          <p:cNvSpPr/>
          <p:nvPr/>
        </p:nvSpPr>
        <p:spPr>
          <a:xfrm>
            <a:off x="-853920" y="179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WordArt 10"/>
          <p:cNvSpPr txBox="1"/>
          <p:nvPr/>
        </p:nvSpPr>
        <p:spPr>
          <a:xfrm>
            <a:off x="2590920" y="380880"/>
            <a:ext cx="4647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Упражнения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745" name="Picture 13" descr="упраж1"/>
          <p:cNvPicPr/>
          <p:nvPr/>
        </p:nvPicPr>
        <p:blipFill>
          <a:blip r:embed="rId1"/>
          <a:srcRect l="2445" t="4314" r="6609" b="4358"/>
          <a:stretch/>
        </p:blipFill>
        <p:spPr>
          <a:xfrm>
            <a:off x="1403280" y="170028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15"/>
          <p:cNvSpPr/>
          <p:nvPr/>
        </p:nvSpPr>
        <p:spPr>
          <a:xfrm>
            <a:off x="1042920" y="501336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ботка брючного карм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14" descr="упраж2"/>
          <p:cNvPicPr/>
          <p:nvPr/>
        </p:nvPicPr>
        <p:blipFill>
          <a:blip r:embed="rId2"/>
          <a:srcRect l="4512" t="8090" r="4467" b="2344"/>
          <a:stretch/>
        </p:blipFill>
        <p:spPr>
          <a:xfrm>
            <a:off x="5219640" y="2276640"/>
            <a:ext cx="2881440" cy="158400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16"/>
          <p:cNvSpPr/>
          <p:nvPr/>
        </p:nvSpPr>
        <p:spPr>
          <a:xfrm>
            <a:off x="5219640" y="40766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етывание пете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0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2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WordArt 4"/>
          <p:cNvSpPr txBox="1"/>
          <p:nvPr/>
        </p:nvSpPr>
        <p:spPr>
          <a:xfrm>
            <a:off x="2590920" y="380880"/>
            <a:ext cx="3709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Реклам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2411280" y="1052640"/>
            <a:ext cx="45370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ир моды фантастически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тремится к новизн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о мудрый стиль классически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ка еще в це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нем строгость и изыскан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нем шик и прост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без подделки – искреннос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просто крас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1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3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916360" y="404640"/>
            <a:ext cx="2701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Автор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58" name="AutoShape 7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8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9">
            <a:hlinkClick r:id="" action="ppaction://hlinkshowjump?jump=endshow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12"/>
          <p:cNvGrpSpPr/>
          <p:nvPr/>
        </p:nvGrpSpPr>
        <p:grpSpPr>
          <a:xfrm>
            <a:off x="2411280" y="944640"/>
            <a:ext cx="4176720" cy="5680800"/>
            <a:chOff x="2411280" y="944640"/>
            <a:chExt cx="4176720" cy="5680800"/>
          </a:xfrm>
        </p:grpSpPr>
        <p:pic>
          <p:nvPicPr>
            <p:cNvPr id="762" name="Picture 10" descr="женщина 004"/>
            <p:cNvPicPr/>
            <p:nvPr/>
          </p:nvPicPr>
          <p:blipFill>
            <a:blip r:embed="rId1"/>
            <a:stretch/>
          </p:blipFill>
          <p:spPr>
            <a:xfrm>
              <a:off x="2548080" y="944640"/>
              <a:ext cx="3859200" cy="514836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763" name="Text Box 11"/>
            <p:cNvSpPr/>
            <p:nvPr/>
          </p:nvSpPr>
          <p:spPr>
            <a:xfrm>
              <a:off x="2411280" y="616572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Monotype Corsiva"/>
                </a:rPr>
                <a:t>Антонова Ан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WordArt 2"/>
          <p:cNvSpPr txBox="1"/>
          <p:nvPr/>
        </p:nvSpPr>
        <p:spPr>
          <a:xfrm>
            <a:off x="1828800" y="685800"/>
            <a:ext cx="5695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Monotype Corsiva"/>
              </a:rPr>
              <a:t>Проблема. Потребност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324000" y="1341360"/>
            <a:ext cx="860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окончания школы я решила поступить в  профессиональное училище. Для того, чтобы у меня был хороший вид в училище, я решила сшить себе костюм- брюки и жилетку, а блузку менять можно раз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1295280" y="373392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Краткая формулировка задач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838080" y="46483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ект и изготовить брючный классический костю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4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600200" y="609480"/>
            <a:ext cx="5030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Исследов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684360" y="155736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им из основных ассортиментов женской одежды и для молодёжи являются брючные костюмы. Форма и покрой брючных костюмов различные  широкое распространение получили брючные костюмы, ансамбли. Брюки изготавливают из той же ткани, что и жилет. Брюки, в зависимости от назначения, могут быть спортивными, для отдыха и туризма, а также являться составной частью рабочего костюм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шиве изделия из синтетической ткани - стрейч встречаются некоторые трудности. Эти ткани стягиваются по шв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уменьшения стягивания ткани в швах рекомендуется уменьшать при шитье скорость машины и слегка растягивать ткань вручную. Эти ткани жёсткие и плохо сутюживаются, поэтому форму придают с помощью вытачек и склад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бмеловки лучше применять хорошо высушенное мыло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9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1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1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1026"/>
          <p:cNvSpPr txBox="1"/>
          <p:nvPr/>
        </p:nvSpPr>
        <p:spPr>
          <a:xfrm>
            <a:off x="1752480" y="457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Дизайн - спецификаци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(требования к изделию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95280" y="1219320"/>
          <a:ext cx="8424720" cy="3990960"/>
        </p:xfrm>
        <a:graphic>
          <a:graphicData uri="http://schemas.openxmlformats.org/drawingml/2006/table">
            <a:tbl>
              <a:tblPr/>
              <a:tblGrid>
                <a:gridCol w="728640"/>
                <a:gridCol w="3009960"/>
                <a:gridCol w="4686120"/>
              </a:tblGrid>
              <a:tr h="39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зд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ческий костю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, Яцутко Валентина 12в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жно соответствовать моим меркам, хорошо сидеть  на фигур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ое на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остоянного 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ая 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гономические характеристики (удобство, комфор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бство, свобода, комфор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ие (внешний ви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й,  модный, нарядный,, индивидуальный, подходящий  мне  по стилю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, эластичные, подходящие мне по цве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изгото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школьной  мастерской на современных  швейных маши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Rectangle 1243"/>
          <p:cNvSpPr/>
          <p:nvPr/>
        </p:nvSpPr>
        <p:spPr>
          <a:xfrm>
            <a:off x="9651960" y="34401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251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25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253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2"/>
          <p:cNvSpPr txBox="1"/>
          <p:nvPr/>
        </p:nvSpPr>
        <p:spPr>
          <a:xfrm>
            <a:off x="2590920" y="38088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ервоначальные идеи (брюки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537" name="Group 146"/>
          <p:cNvGrpSpPr/>
          <p:nvPr/>
        </p:nvGrpSpPr>
        <p:grpSpPr>
          <a:xfrm>
            <a:off x="457200" y="1219320"/>
            <a:ext cx="2895480" cy="2425680"/>
            <a:chOff x="457200" y="1219320"/>
            <a:chExt cx="2895480" cy="2425680"/>
          </a:xfrm>
        </p:grpSpPr>
        <p:pic>
          <p:nvPicPr>
            <p:cNvPr id="538" name="Picture 99" descr="пиб1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1128600" cy="20574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39" name="Line 106"/>
            <p:cNvSpPr/>
            <p:nvPr/>
          </p:nvSpPr>
          <p:spPr>
            <a:xfrm flipH="1" flipV="1">
              <a:off x="1295280" y="160020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07"/>
            <p:cNvSpPr/>
            <p:nvPr/>
          </p:nvSpPr>
          <p:spPr>
            <a:xfrm flipH="1" flipV="1">
              <a:off x="1066320" y="152352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08"/>
            <p:cNvSpPr/>
            <p:nvPr/>
          </p:nvSpPr>
          <p:spPr>
            <a:xfrm flipH="1">
              <a:off x="1218960" y="1371600"/>
              <a:ext cx="990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09"/>
            <p:cNvSpPr/>
            <p:nvPr/>
          </p:nvSpPr>
          <p:spPr>
            <a:xfrm>
              <a:off x="2209680" y="12193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шлёв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10"/>
            <p:cNvSpPr/>
            <p:nvPr/>
          </p:nvSpPr>
          <p:spPr>
            <a:xfrm>
              <a:off x="22860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рм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11"/>
            <p:cNvSpPr/>
            <p:nvPr/>
          </p:nvSpPr>
          <p:spPr>
            <a:xfrm>
              <a:off x="2209680" y="25909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я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12"/>
            <p:cNvSpPr/>
            <p:nvPr/>
          </p:nvSpPr>
          <p:spPr>
            <a:xfrm flipH="1" flipV="1">
              <a:off x="990720" y="16765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13"/>
            <p:cNvSpPr/>
            <p:nvPr/>
          </p:nvSpPr>
          <p:spPr>
            <a:xfrm>
              <a:off x="2286000" y="3276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ульф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147"/>
          <p:cNvGrpSpPr/>
          <p:nvPr/>
        </p:nvGrpSpPr>
        <p:grpSpPr>
          <a:xfrm>
            <a:off x="3429000" y="3962520"/>
            <a:ext cx="2971800" cy="2313000"/>
            <a:chOff x="3429000" y="3962520"/>
            <a:chExt cx="2971800" cy="2313000"/>
          </a:xfrm>
        </p:grpSpPr>
        <p:pic>
          <p:nvPicPr>
            <p:cNvPr id="548" name="Picture 100" descr="пиб2"/>
            <p:cNvPicPr/>
            <p:nvPr/>
          </p:nvPicPr>
          <p:blipFill>
            <a:blip r:embed="rId2"/>
            <a:stretch/>
          </p:blipFill>
          <p:spPr>
            <a:xfrm>
              <a:off x="3429000" y="4114800"/>
              <a:ext cx="1046160" cy="216072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49" name="Line 114"/>
            <p:cNvSpPr/>
            <p:nvPr/>
          </p:nvSpPr>
          <p:spPr>
            <a:xfrm flipH="1">
              <a:off x="4266720" y="4191120"/>
              <a:ext cx="838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5"/>
            <p:cNvSpPr/>
            <p:nvPr/>
          </p:nvSpPr>
          <p:spPr>
            <a:xfrm flipH="1" flipV="1">
              <a:off x="4343400" y="44953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16"/>
            <p:cNvSpPr/>
            <p:nvPr/>
          </p:nvSpPr>
          <p:spPr>
            <a:xfrm flipH="1" flipV="1">
              <a:off x="3885840" y="4495320"/>
              <a:ext cx="106668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17"/>
            <p:cNvSpPr/>
            <p:nvPr/>
          </p:nvSpPr>
          <p:spPr>
            <a:xfrm flipH="1" flipV="1">
              <a:off x="3886200" y="426708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8"/>
            <p:cNvSpPr/>
            <p:nvPr/>
          </p:nvSpPr>
          <p:spPr>
            <a:xfrm>
              <a:off x="5105520" y="3962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шлёв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19"/>
            <p:cNvSpPr/>
            <p:nvPr/>
          </p:nvSpPr>
          <p:spPr>
            <a:xfrm>
              <a:off x="5181480" y="45720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рм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0"/>
            <p:cNvSpPr/>
            <p:nvPr/>
          </p:nvSpPr>
          <p:spPr>
            <a:xfrm>
              <a:off x="5334120" y="472428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21"/>
            <p:cNvSpPr/>
            <p:nvPr/>
          </p:nvSpPr>
          <p:spPr>
            <a:xfrm>
              <a:off x="4952880" y="5638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ульф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2"/>
            <p:cNvSpPr/>
            <p:nvPr/>
          </p:nvSpPr>
          <p:spPr>
            <a:xfrm>
              <a:off x="51055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148"/>
          <p:cNvGrpSpPr/>
          <p:nvPr/>
        </p:nvGrpSpPr>
        <p:grpSpPr>
          <a:xfrm>
            <a:off x="5715000" y="1386000"/>
            <a:ext cx="3048120" cy="2288520"/>
            <a:chOff x="5715000" y="1386000"/>
            <a:chExt cx="3048120" cy="2288520"/>
          </a:xfrm>
        </p:grpSpPr>
        <p:pic>
          <p:nvPicPr>
            <p:cNvPr id="559" name="Picture 101" descr="пиб3"/>
            <p:cNvPicPr/>
            <p:nvPr/>
          </p:nvPicPr>
          <p:blipFill>
            <a:blip r:embed="rId3"/>
            <a:stretch/>
          </p:blipFill>
          <p:spPr>
            <a:xfrm>
              <a:off x="5715000" y="1386000"/>
              <a:ext cx="1347840" cy="209376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60" name="Line 126"/>
            <p:cNvSpPr/>
            <p:nvPr/>
          </p:nvSpPr>
          <p:spPr>
            <a:xfrm flipH="1" flipV="1">
              <a:off x="6400800" y="15382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27"/>
            <p:cNvSpPr/>
            <p:nvPr/>
          </p:nvSpPr>
          <p:spPr>
            <a:xfrm flipH="1">
              <a:off x="5867280" y="2833560"/>
              <a:ext cx="1524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28"/>
            <p:cNvSpPr/>
            <p:nvPr/>
          </p:nvSpPr>
          <p:spPr>
            <a:xfrm flipH="1">
              <a:off x="6781680" y="2224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1"/>
            <p:cNvSpPr/>
            <p:nvPr/>
          </p:nvSpPr>
          <p:spPr>
            <a:xfrm>
              <a:off x="7391520" y="1461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я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2"/>
            <p:cNvSpPr/>
            <p:nvPr/>
          </p:nvSpPr>
          <p:spPr>
            <a:xfrm>
              <a:off x="7391520" y="19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3"/>
            <p:cNvSpPr/>
            <p:nvPr/>
          </p:nvSpPr>
          <p:spPr>
            <a:xfrm>
              <a:off x="7391520" y="2757600"/>
              <a:ext cx="99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дняя  деталь брю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AutoShape 152">
            <a:hlinkClick r:id="rId4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53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54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1027"/>
          <p:cNvSpPr txBox="1"/>
          <p:nvPr/>
        </p:nvSpPr>
        <p:spPr>
          <a:xfrm>
            <a:off x="2895480" y="380880"/>
            <a:ext cx="42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Первоначальные идеи (Жилет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570" name="Group 1059"/>
          <p:cNvGrpSpPr/>
          <p:nvPr/>
        </p:nvGrpSpPr>
        <p:grpSpPr>
          <a:xfrm>
            <a:off x="380880" y="1219320"/>
            <a:ext cx="3886200" cy="2286000"/>
            <a:chOff x="380880" y="1219320"/>
            <a:chExt cx="3886200" cy="2286000"/>
          </a:xfrm>
        </p:grpSpPr>
        <p:pic>
          <p:nvPicPr>
            <p:cNvPr id="571" name="Picture 1026" descr="пи-ж1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1955880" cy="22860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72" name="Line 1031"/>
            <p:cNvSpPr/>
            <p:nvPr/>
          </p:nvSpPr>
          <p:spPr>
            <a:xfrm flipH="1">
              <a:off x="1752120" y="1523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32"/>
            <p:cNvSpPr/>
            <p:nvPr/>
          </p:nvSpPr>
          <p:spPr>
            <a:xfrm flipH="1" flipV="1">
              <a:off x="1752480" y="2133360"/>
              <a:ext cx="10670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033"/>
            <p:cNvSpPr/>
            <p:nvPr/>
          </p:nvSpPr>
          <p:spPr>
            <a:xfrm flipH="1" flipV="1">
              <a:off x="1752480" y="3276360"/>
              <a:ext cx="9907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036"/>
            <p:cNvSpPr/>
            <p:nvPr/>
          </p:nvSpPr>
          <p:spPr>
            <a:xfrm>
              <a:off x="2819520" y="13716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оротн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037"/>
            <p:cNvSpPr/>
            <p:nvPr/>
          </p:nvSpPr>
          <p:spPr>
            <a:xfrm>
              <a:off x="2819520" y="2057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лацк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1038"/>
            <p:cNvSpPr/>
            <p:nvPr/>
          </p:nvSpPr>
          <p:spPr>
            <a:xfrm>
              <a:off x="2743200" y="31240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1064"/>
          <p:cNvGrpSpPr/>
          <p:nvPr/>
        </p:nvGrpSpPr>
        <p:grpSpPr>
          <a:xfrm>
            <a:off x="5486400" y="1295280"/>
            <a:ext cx="3657600" cy="2624040"/>
            <a:chOff x="5486400" y="1295280"/>
            <a:chExt cx="3657600" cy="2624040"/>
          </a:xfrm>
        </p:grpSpPr>
        <p:sp>
          <p:nvSpPr>
            <p:cNvPr id="579" name="Text Box 1046"/>
            <p:cNvSpPr/>
            <p:nvPr/>
          </p:nvSpPr>
          <p:spPr>
            <a:xfrm>
              <a:off x="7848720" y="14479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ойм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1061"/>
            <p:cNvGrpSpPr/>
            <p:nvPr/>
          </p:nvGrpSpPr>
          <p:grpSpPr>
            <a:xfrm>
              <a:off x="5486400" y="1295280"/>
              <a:ext cx="3505320" cy="2286000"/>
              <a:chOff x="5486400" y="1295280"/>
              <a:chExt cx="3505320" cy="2286000"/>
            </a:xfrm>
          </p:grpSpPr>
          <p:pic>
            <p:nvPicPr>
              <p:cNvPr id="581" name="Picture 1029" descr="пи-ж3"/>
              <p:cNvPicPr/>
              <p:nvPr/>
            </p:nvPicPr>
            <p:blipFill>
              <a:blip r:embed="rId2"/>
              <a:stretch/>
            </p:blipFill>
            <p:spPr>
              <a:xfrm>
                <a:off x="5486400" y="1295280"/>
                <a:ext cx="1655640" cy="2286000"/>
              </a:xfrm>
              <a:prstGeom prst="rect">
                <a:avLst/>
              </a:prstGeom>
              <a:ln w="9360">
                <a:solidFill>
                  <a:srgbClr val="9900ff"/>
                </a:solidFill>
                <a:miter/>
              </a:ln>
            </p:spPr>
          </p:pic>
          <p:sp>
            <p:nvSpPr>
              <p:cNvPr id="582" name="Line 1042"/>
              <p:cNvSpPr/>
              <p:nvPr/>
            </p:nvSpPr>
            <p:spPr>
              <a:xfrm flipH="1">
                <a:off x="6705360" y="2286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1043"/>
              <p:cNvSpPr/>
              <p:nvPr/>
            </p:nvSpPr>
            <p:spPr>
              <a:xfrm flipH="1">
                <a:off x="6858000" y="1676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1044"/>
              <p:cNvSpPr/>
              <p:nvPr/>
            </p:nvSpPr>
            <p:spPr>
              <a:xfrm flipH="1">
                <a:off x="6934320" y="34290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1045"/>
              <p:cNvSpPr/>
              <p:nvPr/>
            </p:nvSpPr>
            <p:spPr>
              <a:xfrm flipH="1">
                <a:off x="6552720" y="274320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Text Box 1047"/>
              <p:cNvSpPr/>
              <p:nvPr/>
            </p:nvSpPr>
            <p:spPr>
              <a:xfrm>
                <a:off x="7696080" y="1981080"/>
                <a:ext cx="12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рельеф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Text Box 1048"/>
            <p:cNvSpPr/>
            <p:nvPr/>
          </p:nvSpPr>
          <p:spPr>
            <a:xfrm>
              <a:off x="7848720" y="2514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049"/>
            <p:cNvSpPr/>
            <p:nvPr/>
          </p:nvSpPr>
          <p:spPr>
            <a:xfrm>
              <a:off x="7696080" y="32767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063"/>
          <p:cNvGrpSpPr/>
          <p:nvPr/>
        </p:nvGrpSpPr>
        <p:grpSpPr>
          <a:xfrm>
            <a:off x="3124080" y="3886200"/>
            <a:ext cx="4038840" cy="2286000"/>
            <a:chOff x="3124080" y="3886200"/>
            <a:chExt cx="4038840" cy="2286000"/>
          </a:xfrm>
        </p:grpSpPr>
        <p:pic>
          <p:nvPicPr>
            <p:cNvPr id="590" name="Picture 1028" descr="пи-ж2"/>
            <p:cNvPicPr/>
            <p:nvPr/>
          </p:nvPicPr>
          <p:blipFill>
            <a:blip r:embed="rId3"/>
            <a:stretch/>
          </p:blipFill>
          <p:spPr>
            <a:xfrm>
              <a:off x="3124080" y="3886200"/>
              <a:ext cx="1797120" cy="22860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91" name="Line 1050"/>
            <p:cNvSpPr/>
            <p:nvPr/>
          </p:nvSpPr>
          <p:spPr>
            <a:xfrm flipH="1">
              <a:off x="4343400" y="5410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51"/>
            <p:cNvSpPr/>
            <p:nvPr/>
          </p:nvSpPr>
          <p:spPr>
            <a:xfrm flipH="1">
              <a:off x="4114800" y="5867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52"/>
            <p:cNvSpPr/>
            <p:nvPr/>
          </p:nvSpPr>
          <p:spPr>
            <a:xfrm flipH="1">
              <a:off x="457164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53"/>
            <p:cNvSpPr/>
            <p:nvPr/>
          </p:nvSpPr>
          <p:spPr>
            <a:xfrm flipH="1">
              <a:off x="4038120" y="50292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1054"/>
            <p:cNvSpPr/>
            <p:nvPr/>
          </p:nvSpPr>
          <p:spPr>
            <a:xfrm>
              <a:off x="5715000" y="41148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055"/>
            <p:cNvSpPr/>
            <p:nvPr/>
          </p:nvSpPr>
          <p:spPr>
            <a:xfrm>
              <a:off x="5715000" y="4800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056"/>
            <p:cNvSpPr/>
            <p:nvPr/>
          </p:nvSpPr>
          <p:spPr>
            <a:xfrm>
              <a:off x="5562720" y="5257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ытач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057"/>
            <p:cNvSpPr/>
            <p:nvPr/>
          </p:nvSpPr>
          <p:spPr>
            <a:xfrm>
              <a:off x="5181480" y="57913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т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AutoShape 1068">
            <a:hlinkClick r:id="rId4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069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1070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2"/>
          <p:cNvSpPr txBox="1"/>
          <p:nvPr/>
        </p:nvSpPr>
        <p:spPr>
          <a:xfrm>
            <a:off x="1676520" y="685800"/>
            <a:ext cx="5638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Выбор 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3733920" y="160020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тюм классического стиля состоит из жилета и брюк. Изделия выполнены из  синтетической ткани. Жилет полуприталенный  с застёжкой на 5 пугови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делка : двойная строчка по борту, пройме и горлови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рюки  классические, карманы с отрезным бочком, на поясе шлёвки , застёжка спереди – молни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7" descr="1дети"/>
          <p:cNvPicPr/>
          <p:nvPr/>
        </p:nvPicPr>
        <p:blipFill>
          <a:blip r:embed="rId1"/>
          <a:stretch/>
        </p:blipFill>
        <p:spPr>
          <a:xfrm>
            <a:off x="4937040" y="4648320"/>
            <a:ext cx="1463760" cy="1828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ли"/>
          <p:cNvPicPr/>
          <p:nvPr/>
        </p:nvPicPr>
        <p:blipFill>
          <a:blip r:embed="rId2"/>
          <a:stretch/>
        </p:blipFill>
        <p:spPr>
          <a:xfrm>
            <a:off x="1143000" y="1219320"/>
            <a:ext cx="2225520" cy="5029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606" name="AutoShape 12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3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4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13"/>
          <p:cNvSpPr txBox="1"/>
          <p:nvPr/>
        </p:nvSpPr>
        <p:spPr>
          <a:xfrm>
            <a:off x="2411280" y="333360"/>
            <a:ext cx="464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Проработ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10" name="Picture 17" descr="проработка1"/>
          <p:cNvPicPr/>
          <p:nvPr/>
        </p:nvPicPr>
        <p:blipFill>
          <a:blip r:embed="rId1"/>
          <a:stretch/>
        </p:blipFill>
        <p:spPr>
          <a:xfrm>
            <a:off x="5715000" y="1371600"/>
            <a:ext cx="3124080" cy="168912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611" name="Picture 18" descr="проработка б2"/>
          <p:cNvPicPr/>
          <p:nvPr/>
        </p:nvPicPr>
        <p:blipFill>
          <a:blip r:embed="rId2"/>
          <a:stretch/>
        </p:blipFill>
        <p:spPr>
          <a:xfrm>
            <a:off x="5791320" y="3962520"/>
            <a:ext cx="3124080" cy="188892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grpSp>
        <p:nvGrpSpPr>
          <p:cNvPr id="612" name="Group 43"/>
          <p:cNvGrpSpPr/>
          <p:nvPr/>
        </p:nvGrpSpPr>
        <p:grpSpPr>
          <a:xfrm>
            <a:off x="457200" y="1447920"/>
            <a:ext cx="4114800" cy="1755000"/>
            <a:chOff x="457200" y="1447920"/>
            <a:chExt cx="4114800" cy="1755000"/>
          </a:xfrm>
        </p:grpSpPr>
        <p:pic>
          <p:nvPicPr>
            <p:cNvPr id="613" name="Picture 14" descr="проработка"/>
            <p:cNvPicPr/>
            <p:nvPr/>
          </p:nvPicPr>
          <p:blipFill>
            <a:blip r:embed="rId3"/>
            <a:stretch/>
          </p:blipFill>
          <p:spPr>
            <a:xfrm>
              <a:off x="457200" y="1447920"/>
              <a:ext cx="1908000" cy="175248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614" name="Line 19"/>
            <p:cNvSpPr/>
            <p:nvPr/>
          </p:nvSpPr>
          <p:spPr>
            <a:xfrm flipH="1">
              <a:off x="2057400" y="2438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0"/>
            <p:cNvSpPr/>
            <p:nvPr/>
          </p:nvSpPr>
          <p:spPr>
            <a:xfrm flipH="1">
              <a:off x="685800" y="20574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1"/>
            <p:cNvSpPr/>
            <p:nvPr/>
          </p:nvSpPr>
          <p:spPr>
            <a:xfrm>
              <a:off x="3048120" y="16002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пинка жилет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22"/>
            <p:cNvSpPr/>
            <p:nvPr/>
          </p:nvSpPr>
          <p:spPr>
            <a:xfrm>
              <a:off x="3124080" y="228600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редняя половинка жилет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45"/>
          <p:cNvGrpSpPr/>
          <p:nvPr/>
        </p:nvGrpSpPr>
        <p:grpSpPr>
          <a:xfrm>
            <a:off x="457200" y="4038480"/>
            <a:ext cx="5029200" cy="2121120"/>
            <a:chOff x="457200" y="4038480"/>
            <a:chExt cx="5029200" cy="2121120"/>
          </a:xfrm>
        </p:grpSpPr>
        <p:sp>
          <p:nvSpPr>
            <p:cNvPr id="619" name="Text Box 39"/>
            <p:cNvSpPr/>
            <p:nvPr/>
          </p:nvSpPr>
          <p:spPr>
            <a:xfrm>
              <a:off x="2362320" y="54100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редняя половинка брю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44"/>
            <p:cNvGrpSpPr/>
            <p:nvPr/>
          </p:nvGrpSpPr>
          <p:grpSpPr>
            <a:xfrm>
              <a:off x="457200" y="4038480"/>
              <a:ext cx="4724280" cy="2121120"/>
              <a:chOff x="457200" y="4038480"/>
              <a:chExt cx="4724280" cy="2121120"/>
            </a:xfrm>
          </p:grpSpPr>
          <p:pic>
            <p:nvPicPr>
              <p:cNvPr id="621" name="Picture 15" descr="проработка б1"/>
              <p:cNvPicPr/>
              <p:nvPr/>
            </p:nvPicPr>
            <p:blipFill>
              <a:blip r:embed="rId4"/>
              <a:stretch/>
            </p:blipFill>
            <p:spPr>
              <a:xfrm>
                <a:off x="457200" y="4038480"/>
                <a:ext cx="1914480" cy="1997280"/>
              </a:xfrm>
              <a:prstGeom prst="rect">
                <a:avLst/>
              </a:prstGeom>
              <a:ln w="9360">
                <a:solidFill>
                  <a:srgbClr val="9900ff"/>
                </a:solidFill>
                <a:miter/>
              </a:ln>
            </p:spPr>
          </p:pic>
          <p:sp>
            <p:nvSpPr>
              <p:cNvPr id="622" name="Line 23"/>
              <p:cNvSpPr/>
              <p:nvPr/>
            </p:nvSpPr>
            <p:spPr>
              <a:xfrm flipH="1">
                <a:off x="2057400" y="5486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 flipH="1">
                <a:off x="1447920" y="5105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26"/>
              <p:cNvSpPr/>
              <p:nvPr/>
            </p:nvSpPr>
            <p:spPr>
              <a:xfrm flipH="1">
                <a:off x="2133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27"/>
              <p:cNvSpPr/>
              <p:nvPr/>
            </p:nvSpPr>
            <p:spPr>
              <a:xfrm flipH="1">
                <a:off x="1447560" y="4648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28"/>
              <p:cNvSpPr/>
              <p:nvPr/>
            </p:nvSpPr>
            <p:spPr>
              <a:xfrm flipH="1">
                <a:off x="914040" y="58672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9"/>
              <p:cNvSpPr/>
              <p:nvPr/>
            </p:nvSpPr>
            <p:spPr>
              <a:xfrm>
                <a:off x="2666880" y="40384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оя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31"/>
              <p:cNvSpPr/>
              <p:nvPr/>
            </p:nvSpPr>
            <p:spPr>
              <a:xfrm>
                <a:off x="2514600" y="44197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отрезной  бочок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36"/>
              <p:cNvSpPr/>
              <p:nvPr/>
            </p:nvSpPr>
            <p:spPr>
              <a:xfrm>
                <a:off x="2666880" y="5029200"/>
                <a:ext cx="1067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37"/>
              <p:cNvSpPr/>
              <p:nvPr/>
            </p:nvSpPr>
            <p:spPr>
              <a:xfrm>
                <a:off x="2590920" y="5486400"/>
                <a:ext cx="1828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38"/>
              <p:cNvSpPr/>
              <p:nvPr/>
            </p:nvSpPr>
            <p:spPr>
              <a:xfrm>
                <a:off x="2590920" y="49528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мешкови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Text Box 40"/>
              <p:cNvSpPr/>
              <p:nvPr/>
            </p:nvSpPr>
            <p:spPr>
              <a:xfrm>
                <a:off x="2514600" y="579132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задняя половинка брю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3" name="AutoShape 49">
            <a:hlinkClick r:id="rId5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5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5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5:50:55Z</dcterms:created>
  <dc:creator>User</dc:creator>
  <dc:description/>
  <dc:language>en-US</dc:language>
  <cp:lastModifiedBy>User</cp:lastModifiedBy>
  <dcterms:modified xsi:type="dcterms:W3CDTF">2020-10-01T08:02:22Z</dcterms:modified>
  <cp:revision>46</cp:revision>
  <dc:subject/>
  <dc:title>Слайд 1</dc:title>
</cp:coreProperties>
</file>