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gif" ContentType="image/gif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0D5-FEC5-42D2-9094-F1627A29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23A-690B-4850-8A90-17F68421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6AE5A-BC09-4F52-B361-8D51E51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6B034-56CF-48B5-8B8B-69C6EB8B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C04CA-E50C-42E9-B9E0-38C7B82E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3DC69-359F-411A-BCA2-8A7768D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F2D3A-0805-4DE7-8B1D-3F3C623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48E05-10EB-4545-9128-BD9213E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C1F6-D962-442A-89B3-1B476C57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36CD9-6866-4E41-AE2F-CA009069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1B76-0252-40D1-A156-94CA7FF4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4D71A-08E7-4F58-999E-5F13AD8D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43F-ADEE-496A-9C5A-E011A0C6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B42BD-DF6A-4847-AFF0-C38734E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B3E99-9EF1-4D14-9DF3-B76011B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E14E1-E840-4F62-830A-70E41048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BC361-4F66-4C6F-8792-F966052A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BA533-39D0-42FD-A146-9E56CE20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F7C82-119E-4A7B-A0EF-C72CF00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E10DF-9B09-48FB-A420-30303567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30FFC-B1E8-456B-8AB9-62ED8DEA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6AE5C-243A-432A-B85C-C2D4E1C1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20E85-E8AD-4351-81B3-29DBD97D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B0A-AAF2-4BE1-BA16-91821D8F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D6666-2957-4D62-AB53-F2A7F08E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8C8BA-0D28-4DDF-BE5F-3B0A35EC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E40DC-FE02-4FE8-98E5-2CFFB78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E6DE2-25B6-4620-A736-61BE4DF3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5C9F-BD4B-421D-BFE1-10F820BF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F5BEB-985E-418F-9D3E-30B55BE0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7BD16-EE7F-4100-8C4C-CA52936E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46543-C368-4D6D-829C-4AE31EC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DCC53-60E0-4B88-B40B-055E886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5A9D3-3192-493F-9B90-ED3FF2B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00AE-0C1B-4BAC-807D-23452257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70A6D-2C6B-43BE-951F-BD445CBF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B4B1-3A13-4BDE-8BA7-82F82EB1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1BD99-1806-45D2-84F0-397B46AD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92CA5-A6D4-4A03-B9C0-09483C0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B7D8F-38F6-4DFC-9790-6DEDD53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C9BAA-BBFF-43B3-A6A0-C46CB719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C9AFB-FE3B-4E0E-A1FD-D501C518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0101-9DF8-4E4A-8875-338BD217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57185-B234-4A3E-BC85-EAFB1E2E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C0479-C2DF-4BDD-82D4-1E415A3B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90B4-E01E-43C5-BF15-0E2DD7C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1EFEB-CA84-4641-8DBF-51EC31A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6BD3F-D2CD-4A39-AEE7-C50FF69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4E59-7312-4926-A641-AC56902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D2B2D-D85E-4105-9353-94447442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39D75-4810-4856-BA12-EDC8BC11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37A8-F263-4159-A07A-8A64AC1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3A32-7263-4A56-9FB5-CD4B02B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2B30-7E39-4F55-852E-91CE8920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8E8B-9B54-42B0-B958-6D61894E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773-09C9-4173-8E85-1103387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342-FC82-4C66-AB91-3CB4882C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6EB-5D34-4AA1-AB46-751AAE5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7488-546C-4BF5-AD09-0C1EBC0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CA56-870E-4198-B905-9217E5ED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3369-C6B6-4F55-846A-337C1ACF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6874-BFC0-4C69-861B-46BAEA72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17E0-9510-4406-B538-63E5BA59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9B29-A8C2-477A-94D8-E41D65C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6263-1564-4EA1-9306-46CD5638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0633-FE85-4D72-BA9D-F05AFF1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BA74-A085-4C77-8028-F44E67C8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AD4-B876-4844-8750-E2B0ED02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FEA0-757F-44E5-918E-83EFE5C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506D-7E65-409F-AB9A-39DB892C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8EF6-11B9-4089-96FF-40354F9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F393-586D-4340-8976-0670EC2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93D6-0DF0-4791-9223-942AFC4F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3532-420A-4678-9414-9A01E8D8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B3D31-3F12-4F97-BA61-5FDE7470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9B4A-1794-43C1-B658-A1EC31F6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10C5-D6B3-4987-A874-60198796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8B12-47E4-41D0-AADB-E5A0842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1E6-D81A-46FD-8823-59C105D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39D5-5387-4532-AB9B-38FBCCFA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0D0B-B639-47BE-BACA-93AB6918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8A0F-0D22-4AF3-A2BF-4CEE9B4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C4A8-2CD9-4C4B-8FFD-9A5EC22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AC61-6828-4A87-A74A-096D548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0BCB-6D9C-4B1F-8295-6F8B323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7436-3605-4DDD-9D22-F7EBC88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A5A4-A9DA-485A-85F8-09B63171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5046-D695-40F0-8B3D-21A2EAAF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3F7F7-8376-460A-A8C0-E6C82AD1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4BF-242A-4C9D-B979-FC2BCBA3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64CB-EB89-4DD5-83F0-1D511E5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B9583-D8B4-4366-A8A1-9708A42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7350-9B42-45EE-AB1D-45DB79C8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04E87-F372-440C-8C25-34DDBC0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79863-0EA8-4851-B5E3-2D5C9BDD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9EA8-BD00-41B4-A2F0-02FCBF4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1090-0ACE-4FF1-A101-080F4E6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6D09-F990-4329-80CC-034EA8CA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C9FE-86EA-4873-AFA3-EB6A147D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A5BF-819B-4B21-A999-2DE01325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60E-A02D-4632-9E87-CB62D28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A18E-CB31-4926-A5D0-7728A65A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1BF6-FEC3-439A-B6F0-21A1C499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5807-D87A-41FC-A587-749677B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F97AE-4F83-45C8-BF77-4DB816FB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D834B-9476-4C5B-84EF-68E7B73E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4B20-CE58-41EC-8032-2C8271C0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C2F3-CB6F-4AA0-9642-EB5ABCE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1B4C7-662F-4EA4-A7D4-1DC425C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FE18-32D5-4E7C-BAC7-6A30964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B006F-5C32-4234-9EF8-74556564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EB2-1751-49AF-90D4-ED076A3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7FAF4-15A4-4D72-9C3B-545BB45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B0927-3E58-47BE-8B12-7A8625FD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C8C8E-D1CC-43B0-8E6D-694C7288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6201-E609-4E38-9C17-8956D8C4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97C85-1FF1-4495-A9D4-11F648D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F577-FDB2-4F58-A03F-E1235C7F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20ACB-0CC3-49DE-8BA6-FD1B684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13359-AE38-4957-9FB3-F853DB3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B857B-CFFD-4120-A77F-6D5E7163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83A2-00AF-44C0-AAAE-4989FFC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34A-D3F2-48E1-B60A-2D9CD27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2EEEC-B963-4AEF-8848-FC541BE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D042-1DB4-47FC-8E6F-AD379455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DFDC-406D-4299-8C56-5B363BF9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5C31-F7D0-4A95-AB9F-5EB616E1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F6CA-9815-43F4-9117-B9C02499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42F16-36FD-4847-BA88-03EBC436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0321-E28F-404C-A118-DDE3B4C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2F5C6-6D41-460D-9D63-3AF18FDF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F2B4-AB98-48A1-9E01-9F4638A4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0A33-3E2D-469F-BA0B-209D264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A08-E655-497F-8F65-61C84B6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A47F9-F2C5-43FD-828F-BD39610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18C4-B1CA-44D8-9002-AB37C0C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C2529-CC5C-4D2F-9AFB-6C49484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8E67-F5A3-4C28-B0A2-E3A09BB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2DA16-73AA-43ED-909F-2BF27668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283B-2C39-4A5C-81C5-6C7F63F5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37D48-781C-443B-94C1-F0889F0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A1071-002B-4467-A223-85DEDD7F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D50B3-6AE4-4CBA-B955-CF37F95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48B13-4C6B-4DB6-9C58-DB4A8E0A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857E-4796-40D0-BDF0-066CAAD77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F5B-F982-49C2-8EA6-3F5D34ED3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1C8C-FD3E-4470-8601-53F4E2C7F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62D5-5646-4B4D-9BFB-2FD553FFB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921-1FCB-469A-ACE6-5EE452EFC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BB6-DA58-4992-9CE8-849E241C6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31B8-6D0A-4F8F-987B-6E04AD163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9499-7D29-46B6-AE19-2A5893251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2D4-9482-4DE4-A6CC-07FE9DBB1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566-00E9-4AD3-BA04-371A5D6D9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8170-90B2-47F7-9291-4D701887D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157-6152-450F-8BA9-A60DD1F0E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619280" y="1125360"/>
            <a:ext cx="6481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Courier New"/>
              </a:rPr>
              <a:t>ИТОГОВЫЙ  ПРО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489840" y="5956920"/>
            <a:ext cx="173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анкт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Колп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018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WordArt 8"/>
          <p:cNvSpPr txBox="1"/>
          <p:nvPr/>
        </p:nvSpPr>
        <p:spPr>
          <a:xfrm>
            <a:off x="2819520" y="2057400"/>
            <a:ext cx="420048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ff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Courier New"/>
              </a:rPr>
              <a:t>по технологии</a:t>
            </a:r>
            <a:endParaRPr b="0" lang="en-US" sz="2000" spc="1" strike="noStrike">
              <a:ln w="9360">
                <a:solidFill>
                  <a:srgbClr val="9900ff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9999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5" name="WordArt 9"/>
          <p:cNvSpPr txBox="1"/>
          <p:nvPr/>
        </p:nvSpPr>
        <p:spPr>
          <a:xfrm>
            <a:off x="1619280" y="2852640"/>
            <a:ext cx="635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6666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Courier New"/>
              </a:rPr>
              <a:t>Классический костюм</a:t>
            </a:r>
            <a:endParaRPr b="0" lang="en-US" sz="2000" spc="1" strike="noStrike">
              <a:ln w="9360">
                <a:solidFill>
                  <a:srgbClr val="6666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cc33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2843280" y="4221000"/>
            <a:ext cx="60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ученица 1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класса 432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Антонова Анн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роверила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колова В.П.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          учитель техн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4">
            <a:hlinkClick r:id="" action="ppaction://hlinkshowjump?jump=endshow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2"/>
          <p:cNvSpPr txBox="1"/>
          <p:nvPr/>
        </p:nvSpPr>
        <p:spPr>
          <a:xfrm>
            <a:off x="1828800" y="152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ланирование работ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 изготовлению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1166760" y="1216080"/>
            <a:ext cx="70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900000" y="990720"/>
            <a:ext cx="7710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ять мерки (свои). Подобрать изделия в журнале м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снять выкройку из журнала. Вырезать детали выкрой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очнить выкройки по своим мер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ть выкройку к раскро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ть раскладку выкройки на тка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исовать контуры и припуски на ш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оить изделие с учётом припуск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ть крой к раб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ложить контурные линии, метки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полнить копировальные сте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тать издел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первую пример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равить недочё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вторую пример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готовить изделие по технологической кар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0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142920" y="1066680"/>
          <a:ext cx="8893080" cy="4054680"/>
        </p:xfrm>
        <a:graphic>
          <a:graphicData uri="http://schemas.openxmlformats.org/drawingml/2006/table">
            <a:tbl>
              <a:tblPr/>
              <a:tblGrid>
                <a:gridCol w="452520"/>
                <a:gridCol w="2363760"/>
                <a:gridCol w="2270160"/>
                <a:gridCol w="2300040"/>
                <a:gridCol w="15066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оборудование,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вытачки на задней половинки брю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 шов, длина стежка 2,5-3 м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 булавки,ножни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ная машина,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от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рючный к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тачной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тачной шов,  длина стежка 2,5-3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срез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ежка 2,5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очная ма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боковые срезы, разутю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ш\ш 1,5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булавки,ножницы,швейная маш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шаговые срезы, разутю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ш\ш 1,5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застёжку мол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 длина стежка 2,5-3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WordArt 2"/>
          <p:cNvSpPr txBox="1"/>
          <p:nvPr/>
        </p:nvSpPr>
        <p:spPr>
          <a:xfrm>
            <a:off x="2286000" y="189000"/>
            <a:ext cx="53625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4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0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1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53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280" descr="рис1"/>
          <p:cNvPicPr/>
          <p:nvPr/>
        </p:nvPicPr>
        <p:blipFill>
          <a:blip r:embed="rId1"/>
          <a:stretch/>
        </p:blipFill>
        <p:spPr>
          <a:xfrm>
            <a:off x="7848720" y="1828800"/>
            <a:ext cx="952560" cy="3826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92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98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04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15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21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532" descr="рис1"/>
          <p:cNvPicPr/>
          <p:nvPr/>
        </p:nvPicPr>
        <p:blipFill>
          <a:blip r:embed="rId2"/>
          <a:stretch/>
        </p:blipFill>
        <p:spPr>
          <a:xfrm>
            <a:off x="7696080" y="3427560"/>
            <a:ext cx="952560" cy="3823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33" descr="рис1"/>
          <p:cNvPicPr/>
          <p:nvPr/>
        </p:nvPicPr>
        <p:blipFill>
          <a:blip r:embed="rId3"/>
          <a:stretch/>
        </p:blipFill>
        <p:spPr>
          <a:xfrm>
            <a:off x="7772400" y="4114800"/>
            <a:ext cx="9525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8" name="Object 540"/>
          <p:cNvGraphicFramePr/>
          <p:nvPr/>
        </p:nvGraphicFramePr>
        <p:xfrm>
          <a:off x="7848720" y="2362320"/>
          <a:ext cx="84132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9" name="Object 5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23623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AutoShape 544">
            <a:hlinkClick r:id="rId6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54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54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"/>
          <p:cNvGraphicFramePr/>
          <p:nvPr/>
        </p:nvGraphicFramePr>
        <p:xfrm>
          <a:off x="71280" y="914400"/>
          <a:ext cx="8964720" cy="3459240"/>
        </p:xfrm>
        <a:graphic>
          <a:graphicData uri="http://schemas.openxmlformats.org/drawingml/2006/table">
            <a:tbl>
              <a:tblPr/>
              <a:tblGrid>
                <a:gridCol w="457200"/>
                <a:gridCol w="2382840"/>
                <a:gridCol w="2287800"/>
                <a:gridCol w="2317680"/>
                <a:gridCol w="1519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средни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поя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ножницы,иглы,булавки,швейная маш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ка  низа бр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потайной сте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ла,нитки.ножниц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 пет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змет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-приспос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ить пугов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уколов в 1 отверст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ая игла,нитки,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утюжить брю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,от п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14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1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53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9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5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1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22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28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39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45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660" descr="рис1"/>
          <p:cNvPicPr/>
          <p:nvPr/>
        </p:nvPicPr>
        <p:blipFill>
          <a:blip r:embed="rId1"/>
          <a:stretch/>
        </p:blipFill>
        <p:spPr>
          <a:xfrm>
            <a:off x="7772400" y="1676520"/>
            <a:ext cx="952560" cy="382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61" descr="рис1"/>
          <p:cNvPicPr/>
          <p:nvPr/>
        </p:nvPicPr>
        <p:blipFill>
          <a:blip r:embed="rId2"/>
          <a:stretch/>
        </p:blipFill>
        <p:spPr>
          <a:xfrm>
            <a:off x="7772400" y="990720"/>
            <a:ext cx="952560" cy="382320"/>
          </a:xfrm>
          <a:prstGeom prst="rect">
            <a:avLst/>
          </a:prstGeom>
          <a:ln w="0">
            <a:noFill/>
          </a:ln>
        </p:spPr>
      </p:pic>
      <p:sp>
        <p:nvSpPr>
          <p:cNvPr id="678" name="WordArt 662"/>
          <p:cNvSpPr txBox="1"/>
          <p:nvPr/>
        </p:nvSpPr>
        <p:spPr>
          <a:xfrm>
            <a:off x="250920" y="404640"/>
            <a:ext cx="1565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дол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79" name="AutoShape 666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67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668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6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2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8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42920" y="1066680"/>
          <a:ext cx="8893080" cy="4054680"/>
        </p:xfrm>
        <a:graphic>
          <a:graphicData uri="http://schemas.openxmlformats.org/drawingml/2006/table">
            <a:tbl>
              <a:tblPr/>
              <a:tblGrid>
                <a:gridCol w="452520"/>
                <a:gridCol w="2363760"/>
                <a:gridCol w="2270160"/>
                <a:gridCol w="2300040"/>
                <a:gridCol w="15066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оборудование,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выт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 длина стежка 2,5-3 м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 булавки,ножни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ная машина,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утюжить выт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 град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срез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ежка 2,5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очная ма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боковые,плечевые  сре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\ш 1,5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булавки,ножницы,швейная маш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прой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ов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горлови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ов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7" name="Object 276"/>
          <p:cNvGraphicFramePr/>
          <p:nvPr/>
        </p:nvGraphicFramePr>
        <p:xfrm>
          <a:off x="7848720" y="4114800"/>
          <a:ext cx="841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Object 2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11480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277"/>
          <p:cNvGraphicFramePr/>
          <p:nvPr/>
        </p:nvGraphicFramePr>
        <p:xfrm>
          <a:off x="7845480" y="4648320"/>
          <a:ext cx="841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0" name="Object 2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5480" y="46483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1" name="Picture 278" descr="рис1"/>
          <p:cNvPicPr/>
          <p:nvPr/>
        </p:nvPicPr>
        <p:blipFill>
          <a:blip r:embed="rId5"/>
          <a:stretch/>
        </p:blipFill>
        <p:spPr>
          <a:xfrm>
            <a:off x="7848720" y="1752480"/>
            <a:ext cx="952560" cy="382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79" descr="рис1"/>
          <p:cNvPicPr/>
          <p:nvPr/>
        </p:nvPicPr>
        <p:blipFill>
          <a:blip r:embed="rId6"/>
          <a:stretch/>
        </p:blipFill>
        <p:spPr>
          <a:xfrm>
            <a:off x="7772400" y="3505320"/>
            <a:ext cx="952560" cy="382320"/>
          </a:xfrm>
          <a:prstGeom prst="rect">
            <a:avLst/>
          </a:prstGeom>
          <a:ln w="0">
            <a:noFill/>
          </a:ln>
        </p:spPr>
      </p:pic>
      <p:sp>
        <p:nvSpPr>
          <p:cNvPr id="693" name="WordArt 280"/>
          <p:cNvSpPr txBox="1"/>
          <p:nvPr/>
        </p:nvSpPr>
        <p:spPr>
          <a:xfrm>
            <a:off x="1908000" y="333360"/>
            <a:ext cx="53629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жилет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94" name="AutoShape 284">
            <a:hlinkClick r:id="rId7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28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28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7" name=""/>
          <p:cNvGraphicFramePr/>
          <p:nvPr/>
        </p:nvGraphicFramePr>
        <p:xfrm>
          <a:off x="71280" y="914400"/>
          <a:ext cx="8964720" cy="2941560"/>
        </p:xfrm>
        <a:graphic>
          <a:graphicData uri="http://schemas.openxmlformats.org/drawingml/2006/table">
            <a:tbl>
              <a:tblPr/>
              <a:tblGrid>
                <a:gridCol w="457200"/>
                <a:gridCol w="2382840"/>
                <a:gridCol w="2287800"/>
                <a:gridCol w="2317680"/>
                <a:gridCol w="15192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б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низ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ножницы,иглы,булавки,швейная маш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пет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зме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-приспос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ить пугов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уколов в1 отвер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ая игла,нитки,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утюжить издел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Object 54"/>
          <p:cNvGraphicFramePr/>
          <p:nvPr/>
        </p:nvGraphicFramePr>
        <p:xfrm>
          <a:off x="7848720" y="990720"/>
          <a:ext cx="841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9907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WordArt 56"/>
          <p:cNvSpPr txBox="1"/>
          <p:nvPr/>
        </p:nvSpPr>
        <p:spPr>
          <a:xfrm>
            <a:off x="250920" y="404640"/>
            <a:ext cx="1565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дол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01" name="AutoShape 60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6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250920" y="1219320"/>
          <a:ext cx="8675640" cy="2471760"/>
        </p:xfrm>
        <a:graphic>
          <a:graphicData uri="http://schemas.openxmlformats.org/drawingml/2006/table">
            <a:tbl>
              <a:tblPr/>
              <a:tblGrid>
                <a:gridCol w="750960"/>
                <a:gridCol w="2936880"/>
                <a:gridCol w="1771560"/>
                <a:gridCol w="1165320"/>
                <a:gridCol w="20509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 - 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ань брю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р. 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изил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р. 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. 1 к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г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р.1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Text Box 256"/>
          <p:cNvSpPr/>
          <p:nvPr/>
        </p:nvSpPr>
        <p:spPr>
          <a:xfrm>
            <a:off x="250920" y="4292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гото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ел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школьной мастерск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 учитывать стоимость электроэнергии, стоимость оборудования,  инструм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ругих приспособ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а - костюма в магазине – 15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считаю, что сэкономила – 10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82"/>
          <p:cNvSpPr/>
          <p:nvPr/>
        </p:nvSpPr>
        <p:spPr>
          <a:xfrm>
            <a:off x="2730240" y="52401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WordArt 285"/>
          <p:cNvSpPr txBox="1"/>
          <p:nvPr/>
        </p:nvSpPr>
        <p:spPr>
          <a:xfrm>
            <a:off x="2195640" y="404640"/>
            <a:ext cx="5030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Экономические расчёт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08" name="AutoShape 289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29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29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5"/>
          <p:cNvSpPr/>
          <p:nvPr/>
        </p:nvSpPr>
        <p:spPr>
          <a:xfrm>
            <a:off x="990720" y="11125080"/>
            <a:ext cx="6019560" cy="28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433548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685800" y="1066680"/>
            <a:ext cx="815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считаю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со своей задачей справилась, потому что изделие соответствует тем требованиям, которые   я  прорабатывала. Я ничего бы в нём не изменила. Я довольна своей работой. Мне кажется, что мой  костюм получился таким, как было задума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буду в нём выглядеть нарядной и привлекательн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11" descr="супер"/>
          <p:cNvPicPr/>
          <p:nvPr/>
        </p:nvPicPr>
        <p:blipFill>
          <a:blip r:embed="rId1"/>
          <a:stretch/>
        </p:blipFill>
        <p:spPr>
          <a:xfrm>
            <a:off x="3505320" y="41148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715" name="WordArt 13"/>
          <p:cNvSpPr txBox="1"/>
          <p:nvPr/>
        </p:nvSpPr>
        <p:spPr>
          <a:xfrm>
            <a:off x="3132000" y="549360"/>
            <a:ext cx="324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амооценк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16" name="AutoShape 17">
            <a:hlinkClick r:id="rId2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8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9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5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в работу Ани, проект «Классический костюм», хочется отмети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для Ани – актуаль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а потребность, четко сформулирована задач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ования к изделию дают  полное представление об объекте проектир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ция (дизайн - листы) отражают весь процесс проектирования и изгото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ое  сопровождение выполнено в полном объеме (технологические карты, рисунки, упражне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елия выполнены из ткани, работа с которой требует большого умения, старания, аккуратности и терп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номический расчет сопровождается вывод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адно отметить, что у Ани существует потребность в изготовлении нужных ей изделий при качественном исполнении. От ее работы веет добротой, теплом, любовью к своему делу. Хочется, чтобы Аня нашла свое призвание и в будущем стала швеей высокого разря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технологии Титова В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WordArt 10"/>
          <p:cNvSpPr txBox="1"/>
          <p:nvPr/>
        </p:nvSpPr>
        <p:spPr>
          <a:xfrm>
            <a:off x="2916360" y="549360"/>
            <a:ext cx="3095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Отзы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21" name="AutoShape 14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3" descr="общая2"/>
          <p:cNvPicPr/>
          <p:nvPr/>
        </p:nvPicPr>
        <p:blipFill>
          <a:blip r:embed="rId1"/>
          <a:stretch/>
        </p:blipFill>
        <p:spPr>
          <a:xfrm>
            <a:off x="1628640" y="361800"/>
            <a:ext cx="5823000" cy="558504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25" name="Text Box 6"/>
          <p:cNvSpPr/>
          <p:nvPr/>
        </p:nvSpPr>
        <p:spPr>
          <a:xfrm>
            <a:off x="1332000" y="6093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">
            <a:hlinkClick r:id="rId2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9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0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9" descr="антонова1"/>
          <p:cNvPicPr/>
          <p:nvPr/>
        </p:nvPicPr>
        <p:blipFill>
          <a:blip r:embed="rId1"/>
          <a:stretch/>
        </p:blipFill>
        <p:spPr>
          <a:xfrm>
            <a:off x="0" y="0"/>
            <a:ext cx="4724280" cy="318276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730" name="Picture 10" descr="антонова2"/>
          <p:cNvPicPr/>
          <p:nvPr/>
        </p:nvPicPr>
        <p:blipFill>
          <a:blip r:embed="rId2"/>
          <a:stretch/>
        </p:blipFill>
        <p:spPr>
          <a:xfrm>
            <a:off x="4284720" y="3214800"/>
            <a:ext cx="4859280" cy="3643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31" name="Text Box 13"/>
          <p:cNvSpPr/>
          <p:nvPr/>
        </p:nvSpPr>
        <p:spPr>
          <a:xfrm>
            <a:off x="395280" y="33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а поя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5580000" y="27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лучшей иде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6"/>
          <p:cNvSpPr/>
          <p:nvPr/>
        </p:nvSpPr>
        <p:spPr>
          <a:xfrm>
            <a:off x="179280" y="638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17">
            <a:hlinkClick r:id="" action="ppaction://hlinkshowjump?jump=previousslide"/>
          </p:cNvPr>
          <p:cNvSpPr/>
          <p:nvPr/>
        </p:nvSpPr>
        <p:spPr>
          <a:xfrm flipH="1">
            <a:off x="650880" y="6362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18">
            <a:hlinkClick r:id="" action="ppaction://hlinkshowjump?jump=nextslide"/>
          </p:cNvPr>
          <p:cNvSpPr/>
          <p:nvPr/>
        </p:nvSpPr>
        <p:spPr>
          <a:xfrm>
            <a:off x="1108080" y="6362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3"/>
          <p:cNvSpPr txBox="1"/>
          <p:nvPr/>
        </p:nvSpPr>
        <p:spPr>
          <a:xfrm>
            <a:off x="533520" y="914400"/>
            <a:ext cx="4876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Monotype Corsiva"/>
              </a:rPr>
              <a:t>Проблема. Потребност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99" name="WordArt 4"/>
          <p:cNvSpPr txBox="1"/>
          <p:nvPr/>
        </p:nvSpPr>
        <p:spPr>
          <a:xfrm>
            <a:off x="533520" y="1219320"/>
            <a:ext cx="5181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Краткая формулировка задач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0" name="WordArt 5"/>
          <p:cNvSpPr txBox="1"/>
          <p:nvPr/>
        </p:nvSpPr>
        <p:spPr>
          <a:xfrm>
            <a:off x="609480" y="1523880"/>
            <a:ext cx="28195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Исследов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1" name="WordArt 6"/>
          <p:cNvSpPr txBox="1"/>
          <p:nvPr/>
        </p:nvSpPr>
        <p:spPr>
          <a:xfrm>
            <a:off x="533520" y="1828800"/>
            <a:ext cx="487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Дизайн - спецификац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(требования к изделию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2" name="WordArt 7"/>
          <p:cNvSpPr txBox="1"/>
          <p:nvPr/>
        </p:nvSpPr>
        <p:spPr>
          <a:xfrm>
            <a:off x="609480" y="2438280"/>
            <a:ext cx="4114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ервоначальные идеи (брю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3" name="WordArt 8"/>
          <p:cNvSpPr txBox="1"/>
          <p:nvPr/>
        </p:nvSpPr>
        <p:spPr>
          <a:xfrm>
            <a:off x="685800" y="2819520"/>
            <a:ext cx="3429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Выбор 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4" name="WordArt 9"/>
          <p:cNvSpPr txBox="1"/>
          <p:nvPr/>
        </p:nvSpPr>
        <p:spPr>
          <a:xfrm>
            <a:off x="685800" y="320040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Проработ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5" name="WordArt 10"/>
          <p:cNvSpPr txBox="1"/>
          <p:nvPr/>
        </p:nvSpPr>
        <p:spPr>
          <a:xfrm>
            <a:off x="457200" y="373392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ланирование работ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 изготовлению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6" name="WordArt 11"/>
          <p:cNvSpPr txBox="1"/>
          <p:nvPr/>
        </p:nvSpPr>
        <p:spPr>
          <a:xfrm>
            <a:off x="457200" y="4343400"/>
            <a:ext cx="4419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7" name="WordArt 12"/>
          <p:cNvSpPr txBox="1"/>
          <p:nvPr/>
        </p:nvSpPr>
        <p:spPr>
          <a:xfrm>
            <a:off x="533520" y="4881600"/>
            <a:ext cx="3809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жилет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8" name="WordArt 13"/>
          <p:cNvSpPr txBox="1"/>
          <p:nvPr/>
        </p:nvSpPr>
        <p:spPr>
          <a:xfrm>
            <a:off x="533520" y="5410080"/>
            <a:ext cx="2895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Экономические расчёт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9" name="WordArt 14"/>
          <p:cNvSpPr txBox="1"/>
          <p:nvPr/>
        </p:nvSpPr>
        <p:spPr>
          <a:xfrm>
            <a:off x="533520" y="571500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амооценк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0" name="WordArt 15"/>
          <p:cNvSpPr txBox="1"/>
          <p:nvPr/>
        </p:nvSpPr>
        <p:spPr>
          <a:xfrm>
            <a:off x="533520" y="6019920"/>
            <a:ext cx="1371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Отзы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1" name="WordArt 16"/>
          <p:cNvSpPr txBox="1"/>
          <p:nvPr/>
        </p:nvSpPr>
        <p:spPr>
          <a:xfrm>
            <a:off x="609480" y="62485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Фотогрофи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2" name="WordArt 17"/>
          <p:cNvSpPr txBox="1"/>
          <p:nvPr/>
        </p:nvSpPr>
        <p:spPr>
          <a:xfrm>
            <a:off x="3048120" y="5791320"/>
            <a:ext cx="2057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Упражнения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3" name="WordArt 18"/>
          <p:cNvSpPr txBox="1"/>
          <p:nvPr/>
        </p:nvSpPr>
        <p:spPr>
          <a:xfrm>
            <a:off x="3124080" y="617220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Реклам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4" name="WordArt 19"/>
          <p:cNvSpPr txBox="1"/>
          <p:nvPr/>
        </p:nvSpPr>
        <p:spPr>
          <a:xfrm>
            <a:off x="6095880" y="579132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Автор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5" name="WordArt 20"/>
          <p:cNvSpPr txBox="1"/>
          <p:nvPr/>
        </p:nvSpPr>
        <p:spPr>
          <a:xfrm>
            <a:off x="2743200" y="2286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одержание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6" name="AutoShape 2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9" descr="антонова"/>
          <p:cNvPicPr/>
          <p:nvPr/>
        </p:nvPicPr>
        <p:blipFill>
          <a:blip r:embed="rId1"/>
          <a:stretch/>
        </p:blipFill>
        <p:spPr>
          <a:xfrm>
            <a:off x="0" y="0"/>
            <a:ext cx="4896000" cy="3670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737" name="Picture 10" descr="антонова3"/>
          <p:cNvPicPr/>
          <p:nvPr/>
        </p:nvPicPr>
        <p:blipFill>
          <a:blip r:embed="rId2"/>
          <a:stretch/>
        </p:blipFill>
        <p:spPr>
          <a:xfrm>
            <a:off x="4572000" y="3432240"/>
            <a:ext cx="4572000" cy="342576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38" name="Text Box 13"/>
          <p:cNvSpPr/>
          <p:nvPr/>
        </p:nvSpPr>
        <p:spPr>
          <a:xfrm>
            <a:off x="395280" y="386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тывание низа издел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529272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презент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>
            <a:off x="139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>
            <a:hlinkClick r:id="" action="ppaction://hlinkshowjump?jump=previousslide"/>
          </p:cNvPr>
          <p:cNvSpPr/>
          <p:nvPr/>
        </p:nvSpPr>
        <p:spPr>
          <a:xfrm flipH="1">
            <a:off x="6112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8">
            <a:hlinkClick r:id="" action="ppaction://hlinkshowjump?jump=nextslide"/>
          </p:cNvPr>
          <p:cNvSpPr/>
          <p:nvPr/>
        </p:nvSpPr>
        <p:spPr>
          <a:xfrm>
            <a:off x="10684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9"/>
          <p:cNvSpPr/>
          <p:nvPr/>
        </p:nvSpPr>
        <p:spPr>
          <a:xfrm>
            <a:off x="-853920" y="179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WordArt 10"/>
          <p:cNvSpPr txBox="1"/>
          <p:nvPr/>
        </p:nvSpPr>
        <p:spPr>
          <a:xfrm>
            <a:off x="2590920" y="380880"/>
            <a:ext cx="4647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Упражнения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45" name="Picture 13" descr="упраж1"/>
          <p:cNvPicPr/>
          <p:nvPr/>
        </p:nvPicPr>
        <p:blipFill>
          <a:blip r:embed="rId1"/>
          <a:srcRect l="2445" t="4314" r="6609" b="4358"/>
          <a:stretch/>
        </p:blipFill>
        <p:spPr>
          <a:xfrm>
            <a:off x="1403280" y="170028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5"/>
          <p:cNvSpPr/>
          <p:nvPr/>
        </p:nvSpPr>
        <p:spPr>
          <a:xfrm>
            <a:off x="1042920" y="501336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а брючного кар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14" descr="упраж2"/>
          <p:cNvPicPr/>
          <p:nvPr/>
        </p:nvPicPr>
        <p:blipFill>
          <a:blip r:embed="rId2"/>
          <a:srcRect l="4512" t="8090" r="4467" b="2344"/>
          <a:stretch/>
        </p:blipFill>
        <p:spPr>
          <a:xfrm>
            <a:off x="5219640" y="2276640"/>
            <a:ext cx="2881440" cy="158400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6"/>
          <p:cNvSpPr/>
          <p:nvPr/>
        </p:nvSpPr>
        <p:spPr>
          <a:xfrm>
            <a:off x="5219640" y="4076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етывание пет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0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2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WordArt 4"/>
          <p:cNvSpPr txBox="1"/>
          <p:nvPr/>
        </p:nvSpPr>
        <p:spPr>
          <a:xfrm>
            <a:off x="2590920" y="380880"/>
            <a:ext cx="370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Реклам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2411280" y="1052640"/>
            <a:ext cx="45370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ир моды фантастическ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тремится к новиз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о мудрый стиль классическ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ка еще в ц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ем строгость и изыскан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ем шик и прост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без подделки – искреннос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просто крас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1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3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916360" y="404640"/>
            <a:ext cx="2701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Автор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8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9">
            <a:hlinkClick r:id="" action="ppaction://hlinkshowjump?jump=endshow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12"/>
          <p:cNvGrpSpPr/>
          <p:nvPr/>
        </p:nvGrpSpPr>
        <p:grpSpPr>
          <a:xfrm>
            <a:off x="2411280" y="944640"/>
            <a:ext cx="4176720" cy="5680800"/>
            <a:chOff x="2411280" y="944640"/>
            <a:chExt cx="4176720" cy="5680800"/>
          </a:xfrm>
        </p:grpSpPr>
        <p:pic>
          <p:nvPicPr>
            <p:cNvPr id="762" name="Picture 10" descr="женщина 004"/>
            <p:cNvPicPr/>
            <p:nvPr/>
          </p:nvPicPr>
          <p:blipFill>
            <a:blip r:embed="rId1"/>
            <a:stretch/>
          </p:blipFill>
          <p:spPr>
            <a:xfrm>
              <a:off x="2548080" y="944640"/>
              <a:ext cx="3859200" cy="514836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763" name="Text Box 11"/>
            <p:cNvSpPr/>
            <p:nvPr/>
          </p:nvSpPr>
          <p:spPr>
            <a:xfrm>
              <a:off x="2411280" y="616572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Monotype Corsiva"/>
                </a:rPr>
                <a:t>Антонова Ан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2"/>
          <p:cNvSpPr txBox="1"/>
          <p:nvPr/>
        </p:nvSpPr>
        <p:spPr>
          <a:xfrm>
            <a:off x="1828800" y="685800"/>
            <a:ext cx="5695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Monotype Corsiva"/>
              </a:rPr>
              <a:t>Проблема. Потребност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324000" y="1341360"/>
            <a:ext cx="860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школы я решила поступить в  профессиональное училище. Для того, чтобы у меня был хороший вид в училище, я решила сшить себе костюм- брюки и жилетку, а блузку менять можно раз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1295280" y="373392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Краткая формулировка задач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838080" y="46483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кт и изготовить брючный классический костю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4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600200" y="609480"/>
            <a:ext cx="5030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Исследов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684360" y="155736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из основных ассортиментов женской одежды и для молодёжи являются брючные костюмы. Форма и покрой брючных костюмов различные  широкое распространение получили брючные костюмы, ансамбли. Брюки изготавливают из той же ткани, что и жилет. Брюки, в зависимости от назначения, могут быть спортивными, для отдыха и туризма, а также являться составной частью рабочего костю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шиве изделия из синтетической ткани - стрейч встречаются некоторые трудности. Эти ткани стягиваются по шв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уменьшения стягивания ткани в швах рекомендуется уменьшать при шитье скорость машины и слегка растягивать ткань вручную. Эти ткани жёсткие и плохо сутюживаются, поэтому форму придают с помощью вытачек и склад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бмеловки лучше применять хорошо высушенное мыло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9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1026"/>
          <p:cNvSpPr txBox="1"/>
          <p:nvPr/>
        </p:nvSpPr>
        <p:spPr>
          <a:xfrm>
            <a:off x="1752480" y="457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Дизайн - спецификац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(требования к изделию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95280" y="1219320"/>
          <a:ext cx="8424720" cy="3990960"/>
        </p:xfrm>
        <a:graphic>
          <a:graphicData uri="http://schemas.openxmlformats.org/drawingml/2006/table">
            <a:tbl>
              <a:tblPr/>
              <a:tblGrid>
                <a:gridCol w="728640"/>
                <a:gridCol w="3009960"/>
                <a:gridCol w="4686120"/>
              </a:tblGrid>
              <a:tr h="39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ческий костю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, Яцутко Валентина 12в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жно соответствовать моим меркам, хорошо сидеть  на фигур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остоянного 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ая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гономические характеристики (удобство, комфор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бство, свобода, комфор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 (внешний ви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,  модный, нарядный,, индивидуальный, подходящий  мне  по стилю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, эластичные, подходящие мне по цв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изгот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школьной  мастерской на современных  швейных маши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Rectangle 1243"/>
          <p:cNvSpPr/>
          <p:nvPr/>
        </p:nvSpPr>
        <p:spPr>
          <a:xfrm>
            <a:off x="9651960" y="3440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251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25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253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2590920" y="38088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ервоначальные идеи (брю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537" name="Group 146"/>
          <p:cNvGrpSpPr/>
          <p:nvPr/>
        </p:nvGrpSpPr>
        <p:grpSpPr>
          <a:xfrm>
            <a:off x="457200" y="1219320"/>
            <a:ext cx="2895480" cy="2425680"/>
            <a:chOff x="457200" y="1219320"/>
            <a:chExt cx="2895480" cy="2425680"/>
          </a:xfrm>
        </p:grpSpPr>
        <p:pic>
          <p:nvPicPr>
            <p:cNvPr id="538" name="Picture 99" descr="пиб1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128600" cy="20574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39" name="Line 106"/>
            <p:cNvSpPr/>
            <p:nvPr/>
          </p:nvSpPr>
          <p:spPr>
            <a:xfrm flipH="1" flipV="1">
              <a:off x="1295280" y="16002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07"/>
            <p:cNvSpPr/>
            <p:nvPr/>
          </p:nvSpPr>
          <p:spPr>
            <a:xfrm flipH="1" flipV="1">
              <a:off x="1066320" y="15235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08"/>
            <p:cNvSpPr/>
            <p:nvPr/>
          </p:nvSpPr>
          <p:spPr>
            <a:xfrm flipH="1">
              <a:off x="1218960" y="137160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09"/>
            <p:cNvSpPr/>
            <p:nvPr/>
          </p:nvSpPr>
          <p:spPr>
            <a:xfrm>
              <a:off x="2209680" y="12193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шлё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10"/>
            <p:cNvSpPr/>
            <p:nvPr/>
          </p:nvSpPr>
          <p:spPr>
            <a:xfrm>
              <a:off x="2286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рм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11"/>
            <p:cNvSpPr/>
            <p:nvPr/>
          </p:nvSpPr>
          <p:spPr>
            <a:xfrm>
              <a:off x="2209680" y="2590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я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12"/>
            <p:cNvSpPr/>
            <p:nvPr/>
          </p:nvSpPr>
          <p:spPr>
            <a:xfrm flipH="1" flipV="1">
              <a:off x="990720" y="16765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13"/>
            <p:cNvSpPr/>
            <p:nvPr/>
          </p:nvSpPr>
          <p:spPr>
            <a:xfrm>
              <a:off x="2286000" y="3276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ульф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147"/>
          <p:cNvGrpSpPr/>
          <p:nvPr/>
        </p:nvGrpSpPr>
        <p:grpSpPr>
          <a:xfrm>
            <a:off x="3429000" y="3962520"/>
            <a:ext cx="2971800" cy="2313000"/>
            <a:chOff x="3429000" y="3962520"/>
            <a:chExt cx="2971800" cy="2313000"/>
          </a:xfrm>
        </p:grpSpPr>
        <p:pic>
          <p:nvPicPr>
            <p:cNvPr id="548" name="Picture 100" descr="пиб2"/>
            <p:cNvPicPr/>
            <p:nvPr/>
          </p:nvPicPr>
          <p:blipFill>
            <a:blip r:embed="rId2"/>
            <a:stretch/>
          </p:blipFill>
          <p:spPr>
            <a:xfrm>
              <a:off x="3429000" y="4114800"/>
              <a:ext cx="1046160" cy="216072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49" name="Line 114"/>
            <p:cNvSpPr/>
            <p:nvPr/>
          </p:nvSpPr>
          <p:spPr>
            <a:xfrm flipH="1">
              <a:off x="4266720" y="4191120"/>
              <a:ext cx="838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5"/>
            <p:cNvSpPr/>
            <p:nvPr/>
          </p:nvSpPr>
          <p:spPr>
            <a:xfrm flipH="1" flipV="1">
              <a:off x="4343400" y="44953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6"/>
            <p:cNvSpPr/>
            <p:nvPr/>
          </p:nvSpPr>
          <p:spPr>
            <a:xfrm flipH="1" flipV="1">
              <a:off x="3885840" y="4495320"/>
              <a:ext cx="106668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17"/>
            <p:cNvSpPr/>
            <p:nvPr/>
          </p:nvSpPr>
          <p:spPr>
            <a:xfrm flipH="1" flipV="1">
              <a:off x="3886200" y="426708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8"/>
            <p:cNvSpPr/>
            <p:nvPr/>
          </p:nvSpPr>
          <p:spPr>
            <a:xfrm>
              <a:off x="5105520" y="3962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шлё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19"/>
            <p:cNvSpPr/>
            <p:nvPr/>
          </p:nvSpPr>
          <p:spPr>
            <a:xfrm>
              <a:off x="5181480" y="45720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рм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0"/>
            <p:cNvSpPr/>
            <p:nvPr/>
          </p:nvSpPr>
          <p:spPr>
            <a:xfrm>
              <a:off x="5334120" y="47242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1"/>
            <p:cNvSpPr/>
            <p:nvPr/>
          </p:nvSpPr>
          <p:spPr>
            <a:xfrm>
              <a:off x="4952880" y="5638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ульф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2"/>
            <p:cNvSpPr/>
            <p:nvPr/>
          </p:nvSpPr>
          <p:spPr>
            <a:xfrm>
              <a:off x="51055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148"/>
          <p:cNvGrpSpPr/>
          <p:nvPr/>
        </p:nvGrpSpPr>
        <p:grpSpPr>
          <a:xfrm>
            <a:off x="5715000" y="1386000"/>
            <a:ext cx="3048120" cy="2288520"/>
            <a:chOff x="5715000" y="1386000"/>
            <a:chExt cx="3048120" cy="2288520"/>
          </a:xfrm>
        </p:grpSpPr>
        <p:pic>
          <p:nvPicPr>
            <p:cNvPr id="559" name="Picture 101" descr="пиб3"/>
            <p:cNvPicPr/>
            <p:nvPr/>
          </p:nvPicPr>
          <p:blipFill>
            <a:blip r:embed="rId3"/>
            <a:stretch/>
          </p:blipFill>
          <p:spPr>
            <a:xfrm>
              <a:off x="5715000" y="1386000"/>
              <a:ext cx="1347840" cy="209376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60" name="Line 126"/>
            <p:cNvSpPr/>
            <p:nvPr/>
          </p:nvSpPr>
          <p:spPr>
            <a:xfrm flipH="1" flipV="1">
              <a:off x="6400800" y="15382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7"/>
            <p:cNvSpPr/>
            <p:nvPr/>
          </p:nvSpPr>
          <p:spPr>
            <a:xfrm flipH="1">
              <a:off x="5867280" y="2833560"/>
              <a:ext cx="1524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28"/>
            <p:cNvSpPr/>
            <p:nvPr/>
          </p:nvSpPr>
          <p:spPr>
            <a:xfrm flipH="1">
              <a:off x="6781680" y="2224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1"/>
            <p:cNvSpPr/>
            <p:nvPr/>
          </p:nvSpPr>
          <p:spPr>
            <a:xfrm>
              <a:off x="7391520" y="1461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я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2"/>
            <p:cNvSpPr/>
            <p:nvPr/>
          </p:nvSpPr>
          <p:spPr>
            <a:xfrm>
              <a:off x="7391520" y="19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3"/>
            <p:cNvSpPr/>
            <p:nvPr/>
          </p:nvSpPr>
          <p:spPr>
            <a:xfrm>
              <a:off x="7391520" y="2757600"/>
              <a:ext cx="99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дняя  деталь брю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AutoShape 152">
            <a:hlinkClick r:id="rId4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53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54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1027"/>
          <p:cNvSpPr txBox="1"/>
          <p:nvPr/>
        </p:nvSpPr>
        <p:spPr>
          <a:xfrm>
            <a:off x="2895480" y="380880"/>
            <a:ext cx="42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Первоначальные идеи (Жилет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570" name="Group 1059"/>
          <p:cNvGrpSpPr/>
          <p:nvPr/>
        </p:nvGrpSpPr>
        <p:grpSpPr>
          <a:xfrm>
            <a:off x="380880" y="1219320"/>
            <a:ext cx="3886200" cy="2286000"/>
            <a:chOff x="380880" y="1219320"/>
            <a:chExt cx="3886200" cy="2286000"/>
          </a:xfrm>
        </p:grpSpPr>
        <p:pic>
          <p:nvPicPr>
            <p:cNvPr id="571" name="Picture 1026" descr="пи-ж1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1955880" cy="22860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72" name="Line 1031"/>
            <p:cNvSpPr/>
            <p:nvPr/>
          </p:nvSpPr>
          <p:spPr>
            <a:xfrm flipH="1">
              <a:off x="1752120" y="1523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32"/>
            <p:cNvSpPr/>
            <p:nvPr/>
          </p:nvSpPr>
          <p:spPr>
            <a:xfrm flipH="1" flipV="1">
              <a:off x="1752480" y="2133360"/>
              <a:ext cx="10670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033"/>
            <p:cNvSpPr/>
            <p:nvPr/>
          </p:nvSpPr>
          <p:spPr>
            <a:xfrm flipH="1" flipV="1">
              <a:off x="1752480" y="3276360"/>
              <a:ext cx="9907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036"/>
            <p:cNvSpPr/>
            <p:nvPr/>
          </p:nvSpPr>
          <p:spPr>
            <a:xfrm>
              <a:off x="2819520" y="13716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оротн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037"/>
            <p:cNvSpPr/>
            <p:nvPr/>
          </p:nvSpPr>
          <p:spPr>
            <a:xfrm>
              <a:off x="2819520" y="2057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лацк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038"/>
            <p:cNvSpPr/>
            <p:nvPr/>
          </p:nvSpPr>
          <p:spPr>
            <a:xfrm>
              <a:off x="2743200" y="31240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1064"/>
          <p:cNvGrpSpPr/>
          <p:nvPr/>
        </p:nvGrpSpPr>
        <p:grpSpPr>
          <a:xfrm>
            <a:off x="5486400" y="1295280"/>
            <a:ext cx="3657600" cy="2624040"/>
            <a:chOff x="5486400" y="1295280"/>
            <a:chExt cx="3657600" cy="2624040"/>
          </a:xfrm>
        </p:grpSpPr>
        <p:sp>
          <p:nvSpPr>
            <p:cNvPr id="579" name="Text Box 1046"/>
            <p:cNvSpPr/>
            <p:nvPr/>
          </p:nvSpPr>
          <p:spPr>
            <a:xfrm>
              <a:off x="7848720" y="14479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йм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1061"/>
            <p:cNvGrpSpPr/>
            <p:nvPr/>
          </p:nvGrpSpPr>
          <p:grpSpPr>
            <a:xfrm>
              <a:off x="5486400" y="1295280"/>
              <a:ext cx="3505320" cy="2286000"/>
              <a:chOff x="5486400" y="1295280"/>
              <a:chExt cx="3505320" cy="2286000"/>
            </a:xfrm>
          </p:grpSpPr>
          <p:pic>
            <p:nvPicPr>
              <p:cNvPr id="581" name="Picture 1029" descr="пи-ж3"/>
              <p:cNvPicPr/>
              <p:nvPr/>
            </p:nvPicPr>
            <p:blipFill>
              <a:blip r:embed="rId2"/>
              <a:stretch/>
            </p:blipFill>
            <p:spPr>
              <a:xfrm>
                <a:off x="5486400" y="1295280"/>
                <a:ext cx="1655640" cy="2286000"/>
              </a:xfrm>
              <a:prstGeom prst="rect">
                <a:avLst/>
              </a:prstGeom>
              <a:ln w="9360">
                <a:solidFill>
                  <a:srgbClr val="9900ff"/>
                </a:solidFill>
                <a:miter/>
              </a:ln>
            </p:spPr>
          </p:pic>
          <p:sp>
            <p:nvSpPr>
              <p:cNvPr id="582" name="Line 1042"/>
              <p:cNvSpPr/>
              <p:nvPr/>
            </p:nvSpPr>
            <p:spPr>
              <a:xfrm flipH="1">
                <a:off x="6705360" y="2286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1043"/>
              <p:cNvSpPr/>
              <p:nvPr/>
            </p:nvSpPr>
            <p:spPr>
              <a:xfrm flipH="1">
                <a:off x="6858000" y="1676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1044"/>
              <p:cNvSpPr/>
              <p:nvPr/>
            </p:nvSpPr>
            <p:spPr>
              <a:xfrm flipH="1">
                <a:off x="6934320" y="34290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1045"/>
              <p:cNvSpPr/>
              <p:nvPr/>
            </p:nvSpPr>
            <p:spPr>
              <a:xfrm flipH="1">
                <a:off x="6552720" y="27432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Text Box 1047"/>
              <p:cNvSpPr/>
              <p:nvPr/>
            </p:nvSpPr>
            <p:spPr>
              <a:xfrm>
                <a:off x="7696080" y="1981080"/>
                <a:ext cx="12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ельеф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Text Box 1048"/>
            <p:cNvSpPr/>
            <p:nvPr/>
          </p:nvSpPr>
          <p:spPr>
            <a:xfrm>
              <a:off x="7848720" y="2514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049"/>
            <p:cNvSpPr/>
            <p:nvPr/>
          </p:nvSpPr>
          <p:spPr>
            <a:xfrm>
              <a:off x="7696080" y="32767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063"/>
          <p:cNvGrpSpPr/>
          <p:nvPr/>
        </p:nvGrpSpPr>
        <p:grpSpPr>
          <a:xfrm>
            <a:off x="3124080" y="3886200"/>
            <a:ext cx="4038840" cy="2286000"/>
            <a:chOff x="3124080" y="3886200"/>
            <a:chExt cx="4038840" cy="2286000"/>
          </a:xfrm>
        </p:grpSpPr>
        <p:pic>
          <p:nvPicPr>
            <p:cNvPr id="590" name="Picture 1028" descr="пи-ж2"/>
            <p:cNvPicPr/>
            <p:nvPr/>
          </p:nvPicPr>
          <p:blipFill>
            <a:blip r:embed="rId3"/>
            <a:stretch/>
          </p:blipFill>
          <p:spPr>
            <a:xfrm>
              <a:off x="3124080" y="3886200"/>
              <a:ext cx="1797120" cy="22860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91" name="Line 1050"/>
            <p:cNvSpPr/>
            <p:nvPr/>
          </p:nvSpPr>
          <p:spPr>
            <a:xfrm flipH="1">
              <a:off x="4343400" y="5410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51"/>
            <p:cNvSpPr/>
            <p:nvPr/>
          </p:nvSpPr>
          <p:spPr>
            <a:xfrm flipH="1">
              <a:off x="4114800" y="5867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52"/>
            <p:cNvSpPr/>
            <p:nvPr/>
          </p:nvSpPr>
          <p:spPr>
            <a:xfrm flipH="1">
              <a:off x="457164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53"/>
            <p:cNvSpPr/>
            <p:nvPr/>
          </p:nvSpPr>
          <p:spPr>
            <a:xfrm flipH="1">
              <a:off x="4038120" y="50292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054"/>
            <p:cNvSpPr/>
            <p:nvPr/>
          </p:nvSpPr>
          <p:spPr>
            <a:xfrm>
              <a:off x="5715000" y="41148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055"/>
            <p:cNvSpPr/>
            <p:nvPr/>
          </p:nvSpPr>
          <p:spPr>
            <a:xfrm>
              <a:off x="5715000" y="4800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056"/>
            <p:cNvSpPr/>
            <p:nvPr/>
          </p:nvSpPr>
          <p:spPr>
            <a:xfrm>
              <a:off x="5562720" y="5257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ытач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057"/>
            <p:cNvSpPr/>
            <p:nvPr/>
          </p:nvSpPr>
          <p:spPr>
            <a:xfrm>
              <a:off x="5181480" y="57913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т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AutoShape 1068">
            <a:hlinkClick r:id="rId4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069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1070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2"/>
          <p:cNvSpPr txBox="1"/>
          <p:nvPr/>
        </p:nvSpPr>
        <p:spPr>
          <a:xfrm>
            <a:off x="1676520" y="685800"/>
            <a:ext cx="5638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Выбор 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3733920" y="160020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тюм классического стиля состоит из жилета и брюк. Изделия выполнены из  синтетической ткани. Жилет полуприталенный  с застёжкой на 5 пугови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ка : двойная строчка по борту, пройме и горлови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рюки  классические, карманы с отрезным бочком, на поясе шлёвки , застёжка спереди – молни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7" descr="1дети"/>
          <p:cNvPicPr/>
          <p:nvPr/>
        </p:nvPicPr>
        <p:blipFill>
          <a:blip r:embed="rId1"/>
          <a:stretch/>
        </p:blipFill>
        <p:spPr>
          <a:xfrm>
            <a:off x="4937040" y="4648320"/>
            <a:ext cx="1463760" cy="1828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ли"/>
          <p:cNvPicPr/>
          <p:nvPr/>
        </p:nvPicPr>
        <p:blipFill>
          <a:blip r:embed="rId2"/>
          <a:stretch/>
        </p:blipFill>
        <p:spPr>
          <a:xfrm>
            <a:off x="1143000" y="1219320"/>
            <a:ext cx="2225520" cy="5029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606" name="AutoShape 12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3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4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13"/>
          <p:cNvSpPr txBox="1"/>
          <p:nvPr/>
        </p:nvSpPr>
        <p:spPr>
          <a:xfrm>
            <a:off x="2411280" y="333360"/>
            <a:ext cx="464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Проработ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10" name="Picture 17" descr="проработка1"/>
          <p:cNvPicPr/>
          <p:nvPr/>
        </p:nvPicPr>
        <p:blipFill>
          <a:blip r:embed="rId1"/>
          <a:stretch/>
        </p:blipFill>
        <p:spPr>
          <a:xfrm>
            <a:off x="5715000" y="1371600"/>
            <a:ext cx="3124080" cy="168912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611" name="Picture 18" descr="проработка б2"/>
          <p:cNvPicPr/>
          <p:nvPr/>
        </p:nvPicPr>
        <p:blipFill>
          <a:blip r:embed="rId2"/>
          <a:stretch/>
        </p:blipFill>
        <p:spPr>
          <a:xfrm>
            <a:off x="5791320" y="3962520"/>
            <a:ext cx="3124080" cy="188892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grpSp>
        <p:nvGrpSpPr>
          <p:cNvPr id="612" name="Group 43"/>
          <p:cNvGrpSpPr/>
          <p:nvPr/>
        </p:nvGrpSpPr>
        <p:grpSpPr>
          <a:xfrm>
            <a:off x="457200" y="1447920"/>
            <a:ext cx="4114800" cy="1755000"/>
            <a:chOff x="457200" y="1447920"/>
            <a:chExt cx="4114800" cy="1755000"/>
          </a:xfrm>
        </p:grpSpPr>
        <p:pic>
          <p:nvPicPr>
            <p:cNvPr id="613" name="Picture 14" descr="проработка"/>
            <p:cNvPicPr/>
            <p:nvPr/>
          </p:nvPicPr>
          <p:blipFill>
            <a:blip r:embed="rId3"/>
            <a:stretch/>
          </p:blipFill>
          <p:spPr>
            <a:xfrm>
              <a:off x="457200" y="1447920"/>
              <a:ext cx="1908000" cy="175248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614" name="Line 19"/>
            <p:cNvSpPr/>
            <p:nvPr/>
          </p:nvSpPr>
          <p:spPr>
            <a:xfrm flipH="1">
              <a:off x="2057400" y="2438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0"/>
            <p:cNvSpPr/>
            <p:nvPr/>
          </p:nvSpPr>
          <p:spPr>
            <a:xfrm flipH="1">
              <a:off x="685800" y="20574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3048120" y="1600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пинка жилет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2"/>
            <p:cNvSpPr/>
            <p:nvPr/>
          </p:nvSpPr>
          <p:spPr>
            <a:xfrm>
              <a:off x="3124080" y="22860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редняя половинка жилет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45"/>
          <p:cNvGrpSpPr/>
          <p:nvPr/>
        </p:nvGrpSpPr>
        <p:grpSpPr>
          <a:xfrm>
            <a:off x="457200" y="4038480"/>
            <a:ext cx="5029200" cy="2121120"/>
            <a:chOff x="457200" y="4038480"/>
            <a:chExt cx="5029200" cy="2121120"/>
          </a:xfrm>
        </p:grpSpPr>
        <p:sp>
          <p:nvSpPr>
            <p:cNvPr id="619" name="Text Box 39"/>
            <p:cNvSpPr/>
            <p:nvPr/>
          </p:nvSpPr>
          <p:spPr>
            <a:xfrm>
              <a:off x="2362320" y="54100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редняя половинка брю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44"/>
            <p:cNvGrpSpPr/>
            <p:nvPr/>
          </p:nvGrpSpPr>
          <p:grpSpPr>
            <a:xfrm>
              <a:off x="457200" y="4038480"/>
              <a:ext cx="4724280" cy="2121120"/>
              <a:chOff x="457200" y="4038480"/>
              <a:chExt cx="4724280" cy="2121120"/>
            </a:xfrm>
          </p:grpSpPr>
          <p:pic>
            <p:nvPicPr>
              <p:cNvPr id="621" name="Picture 15" descr="проработка б1"/>
              <p:cNvPicPr/>
              <p:nvPr/>
            </p:nvPicPr>
            <p:blipFill>
              <a:blip r:embed="rId4"/>
              <a:stretch/>
            </p:blipFill>
            <p:spPr>
              <a:xfrm>
                <a:off x="457200" y="4038480"/>
                <a:ext cx="1914480" cy="1997280"/>
              </a:xfrm>
              <a:prstGeom prst="rect">
                <a:avLst/>
              </a:prstGeom>
              <a:ln w="9360">
                <a:solidFill>
                  <a:srgbClr val="9900ff"/>
                </a:solidFill>
                <a:miter/>
              </a:ln>
            </p:spPr>
          </p:pic>
          <p:sp>
            <p:nvSpPr>
              <p:cNvPr id="622" name="Line 23"/>
              <p:cNvSpPr/>
              <p:nvPr/>
            </p:nvSpPr>
            <p:spPr>
              <a:xfrm flipH="1">
                <a:off x="2057400" y="5486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 flipH="1">
                <a:off x="1447920" y="5105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26"/>
              <p:cNvSpPr/>
              <p:nvPr/>
            </p:nvSpPr>
            <p:spPr>
              <a:xfrm flipH="1"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7"/>
              <p:cNvSpPr/>
              <p:nvPr/>
            </p:nvSpPr>
            <p:spPr>
              <a:xfrm flipH="1">
                <a:off x="1447560" y="4648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28"/>
              <p:cNvSpPr/>
              <p:nvPr/>
            </p:nvSpPr>
            <p:spPr>
              <a:xfrm flipH="1">
                <a:off x="914040" y="58672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9"/>
              <p:cNvSpPr/>
              <p:nvPr/>
            </p:nvSpPr>
            <p:spPr>
              <a:xfrm>
                <a:off x="2666880" y="40384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оя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31"/>
              <p:cNvSpPr/>
              <p:nvPr/>
            </p:nvSpPr>
            <p:spPr>
              <a:xfrm>
                <a:off x="2514600" y="44197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трезной  бочок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36"/>
              <p:cNvSpPr/>
              <p:nvPr/>
            </p:nvSpPr>
            <p:spPr>
              <a:xfrm>
                <a:off x="2666880" y="5029200"/>
                <a:ext cx="1067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37"/>
              <p:cNvSpPr/>
              <p:nvPr/>
            </p:nvSpPr>
            <p:spPr>
              <a:xfrm>
                <a:off x="2590920" y="5486400"/>
                <a:ext cx="18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38"/>
              <p:cNvSpPr/>
              <p:nvPr/>
            </p:nvSpPr>
            <p:spPr>
              <a:xfrm>
                <a:off x="2590920" y="49528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мешкови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Text Box 40"/>
              <p:cNvSpPr/>
              <p:nvPr/>
            </p:nvSpPr>
            <p:spPr>
              <a:xfrm>
                <a:off x="2514600" y="579132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задняя половинка брю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3" name="AutoShape 49">
            <a:hlinkClick r:id="rId5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5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5:50:55Z</dcterms:created>
  <dc:creator>User</dc:creator>
  <dc:description/>
  <dc:language>en-US</dc:language>
  <cp:lastModifiedBy>User</cp:lastModifiedBy>
  <dcterms:modified xsi:type="dcterms:W3CDTF">2020-10-01T08:02:22Z</dcterms:modified>
  <cp:revision>46</cp:revision>
  <dc:subject/>
  <dc:title>Слайд 1</dc:title>
</cp:coreProperties>
</file>