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062-DA2E-4C3F-AB1A-5703C68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911-E85D-4C32-8B3C-6D37B5E0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BEF-57BA-42EA-9611-D889938B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628-30AB-47FD-BED4-17071A3B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F8B1-1558-4E1A-B570-C38E7DD5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44A-CF4F-41B7-8776-8ACAD4A8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5E8C-FA11-4897-BA5B-AE8A83A4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D75-B682-4811-A1F4-709C944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94C-5E7D-4EF6-A109-91371D63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8791-8E4E-42F9-B2E5-AEFB4B3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EED0-61D0-42E5-8F71-9C3FA6F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932-EE6A-4F35-91A8-DB881559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DA66-A757-480C-A7FA-86C860D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6C1B-0122-4BF7-A06E-A5F6A772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CD7-B475-4972-A198-551DA09D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CDC4-206E-45A1-A919-F2DED377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EBB5-E190-4DC3-88DD-23A4E715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2C9F-71D3-4252-8EEF-6C7DC00B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2BE4-F1ED-4243-914F-480C9939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85CD-6F67-4BE4-AACB-2E0D2B4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0562-8BB9-4A87-B853-63C37CDE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48C5-5A18-4EA3-8831-659552E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B20-48B5-4BB9-A900-4071FFF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AB56-24EA-493D-8532-9CD470BB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EF5E-EB6C-4E0E-B61B-590DE4E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F001-6BA0-4669-9AAA-176D1011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2A14-821E-4E0C-8409-0E62258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A24B-60C4-4A5F-BBB7-72660F05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63DE-CD9F-4095-82E0-946680D2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4722-3D32-437F-BD18-82E1F642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364A-89B4-411A-80AD-9178B254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405E-A99A-49B7-B049-B13A9964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B7DA-33AA-4C20-BC4A-80950C5E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319-13CB-4676-B49F-4B7FF230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C267-354B-4D5F-A5B0-F8AC7AEC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13FC-3217-4B83-93C8-8F542976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05E8-703A-4FB0-841E-43B52EB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5FC9-B6F6-43E9-B828-BCA9195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3C87-9365-43BC-968F-0641754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F359-751E-4DB2-AC41-DB699E3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0B4F-3097-4B01-8474-53D0AF1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83F4-74B3-4E9E-B5F8-22F378EC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4839-EABE-4F54-A02D-A2B7866B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1BFD3-8297-49BC-A702-957207C4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0DA-CD3C-479A-8F4F-C11293A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C0DCC-410F-4EB5-9160-44431D0C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B50D-2178-42CF-BCB6-017F8885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DE23-23AF-4B52-A906-E0235225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60B2-366E-4F48-9353-B0C8CA9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FF39-7A85-4A6B-A828-4CDDBBAB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F448-081B-4D16-96C0-5355256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66B1E-95D6-4F64-B1EC-DAD2A06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9D0B-CA3C-4AA8-B149-6A1636E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70FB-00EA-4A0B-9A5E-BDC437CB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C2C67-D023-4799-8B82-C8AEFD54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2BF-F70D-4738-B60D-79E96BD6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D1E7-442F-4D89-8DB4-B2F29829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9132-F783-4856-96E0-E04C85ED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09423-DB25-4D59-9E17-0D16553A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FC0C-F8DC-4493-83B8-2DEE87AC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A583C-3F87-4ABB-BB42-CFE99B72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21A6-77E6-42A5-A72E-4D132F03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2031-557C-4263-888D-6582069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62A6-8AE4-4767-A3E7-AC587CE0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32E1-4F95-48EB-BD5D-422FF425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6E94-F035-47D9-B993-CC4158DC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921-60B2-495D-BFEC-C27CAA69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C5A7E-1C05-4166-927D-0E071B4D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0CBD-92D9-4080-8868-B3E1F9D8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974C-F63D-4F4C-ADD7-3E137FC9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0DBB4-5B27-4AA7-BF64-EE563858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33329-0850-413F-9219-50CE604F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4EDA-A38F-42D7-BF79-224CD642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19F5-3C48-4DA3-AF94-0639060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E675-162F-4AC3-8DBE-DDD1C51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9826-5319-4983-9B05-17AEB51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98A83-4BEA-4EE0-BB79-7483E60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4BF-D7DA-44B8-93F2-9F5E399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D69E-DE92-4C57-A758-2330C4D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9535-30C3-4F77-8388-2FBD42A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A8F8D-EDEC-40A1-9A8B-6E39854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C4A3F-7911-4412-A6E9-D00298BD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98CBC-0B91-400C-B3F2-FFB4FE23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C73-D7F8-4F04-A8FA-AAF08EB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A63D-39E0-4F11-9E2C-7DD38FACD6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127-87BF-47A5-88B3-BBAB398BBA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A0D8-210B-4F0E-83B9-6BCB633B40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88C0-DA87-4F99-91CA-F1C28E7C187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B9CC-B101-4785-B112-A1DFD885E6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77FB-86DA-496B-953D-2814644DBC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26B2-71ED-4C8A-A425-D2829F617B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вод информации в память компьютера с помощью клавиатуры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2" descr="074"/>
          <p:cNvPicPr/>
          <p:nvPr/>
        </p:nvPicPr>
        <p:blipFill>
          <a:blip r:embed="rId1"/>
          <a:stretch/>
        </p:blipFill>
        <p:spPr>
          <a:xfrm>
            <a:off x="3143160" y="2928960"/>
            <a:ext cx="3738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1285920" y="121428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2357280" y="121428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лавиши TAB осуществляется перемещение по всем командам в группе на вкладке перед переходом к следующе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1285920" y="500076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2286000" y="450072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строчных и заглав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ps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орит, значит включен режим заглавных бук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не горит, значит включен режим строчных букв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C:\Documents and Settings\Andrey\Мои документы\Мои рисунки\ZA101678281049.gif"/>
          <p:cNvPicPr/>
          <p:nvPr/>
        </p:nvPicPr>
        <p:blipFill>
          <a:blip r:embed="rId1"/>
          <a:srcRect l="0" t="0" r="0" b="29867"/>
          <a:stretch/>
        </p:blipFill>
        <p:spPr>
          <a:xfrm>
            <a:off x="2500200" y="2286000"/>
            <a:ext cx="5667480" cy="199080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571760" y="150012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571760" y="364320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643120" y="3714840"/>
            <a:ext cx="628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даляет символ справа от курсора или над курсором.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остается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6"/>
          <p:cNvGrpSpPr/>
          <p:nvPr/>
        </p:nvGrpSpPr>
        <p:grpSpPr>
          <a:xfrm>
            <a:off x="1143000" y="5286240"/>
            <a:ext cx="2743200" cy="368280"/>
            <a:chOff x="1143000" y="5286240"/>
            <a:chExt cx="2743200" cy="368280"/>
          </a:xfrm>
        </p:grpSpPr>
        <p:sp>
          <p:nvSpPr>
            <p:cNvPr id="409" name="Text Box 3"/>
            <p:cNvSpPr/>
            <p:nvPr/>
          </p:nvSpPr>
          <p:spPr>
            <a:xfrm>
              <a:off x="1143000" y="5286240"/>
              <a:ext cx="2743200" cy="368280"/>
            </a:xfrm>
            <a:prstGeom prst="rect">
              <a:avLst/>
            </a:prstGeom>
            <a:solidFill>
              <a:srgbClr val="ff99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space (B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 flipH="1">
              <a:off x="1219320" y="5514840"/>
              <a:ext cx="5335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7"/>
          <p:cNvSpPr/>
          <p:nvPr/>
        </p:nvSpPr>
        <p:spPr>
          <a:xfrm>
            <a:off x="4071960" y="5214960"/>
            <a:ext cx="4714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яет символ, стоящий перед курсором (слева от курсора)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смещается в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786040" y="1214280"/>
            <a:ext cx="60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вставки/за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вставки новые символы вставляются между написа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замены новые символы печатаются поверх напис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35728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643200" y="1000080"/>
            <a:ext cx="5500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ша в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 для ввода коман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бора пунктов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ражения согласия на выполнение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 нажатии на клавиш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урсор перемещается на строчку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85920" y="1071720"/>
          <a:ext cx="2171520" cy="1931760"/>
        </p:xfrm>
        <a:graphic>
          <a:graphicData uri="http://schemas.openxmlformats.org/drawingml/2006/table">
            <a:tbl>
              <a:tblPr/>
              <a:tblGrid>
                <a:gridCol w="685800"/>
                <a:gridCol w="14857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9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17" name="Group 78"/>
          <p:cNvGrpSpPr/>
          <p:nvPr/>
        </p:nvGrpSpPr>
        <p:grpSpPr>
          <a:xfrm>
            <a:off x="1438200" y="2290680"/>
            <a:ext cx="1752480" cy="380880"/>
            <a:chOff x="1438200" y="2290680"/>
            <a:chExt cx="1752480" cy="380880"/>
          </a:xfrm>
        </p:grpSpPr>
        <p:sp>
          <p:nvSpPr>
            <p:cNvPr id="418" name="Text Box 74"/>
            <p:cNvSpPr/>
            <p:nvPr/>
          </p:nvSpPr>
          <p:spPr>
            <a:xfrm>
              <a:off x="2124000" y="2290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77"/>
            <p:cNvGrpSpPr/>
            <p:nvPr/>
          </p:nvGrpSpPr>
          <p:grpSpPr>
            <a:xfrm>
              <a:off x="1438200" y="2366640"/>
              <a:ext cx="533520" cy="304920"/>
              <a:chOff x="1438200" y="2366640"/>
              <a:chExt cx="533520" cy="304920"/>
            </a:xfrm>
          </p:grpSpPr>
          <p:sp>
            <p:nvSpPr>
              <p:cNvPr id="420" name="Line 75"/>
              <p:cNvSpPr/>
              <p:nvPr/>
            </p:nvSpPr>
            <p:spPr>
              <a:xfrm>
                <a:off x="1971720" y="236664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6"/>
              <p:cNvSpPr/>
              <p:nvPr/>
            </p:nvSpPr>
            <p:spPr>
              <a:xfrm flipH="1">
                <a:off x="1438200" y="267156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Rectangle 3"/>
          <p:cNvSpPr/>
          <p:nvPr/>
        </p:nvSpPr>
        <p:spPr>
          <a:xfrm>
            <a:off x="4786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7072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1285920" y="5500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клавиши работают всегда в прижатом состоянии, в комбинации с другими клавиш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имер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71360" y="1447920"/>
            <a:ext cx="78627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ша с букв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печатается буква, противоположная установленному режи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Sh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t+Shi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ереключение я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Pa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рывание выполняемого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иф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 русском режиме печатает верхний правый симв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№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английском – верхний лев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50"/>
                </a:solidFill>
                <a:latin typeface="Corbel"/>
              </a:rPr>
              <a:t>Клавиши управления курсоро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28" name="Group 12"/>
          <p:cNvGrpSpPr/>
          <p:nvPr/>
        </p:nvGrpSpPr>
        <p:grpSpPr>
          <a:xfrm>
            <a:off x="3214800" y="4786200"/>
            <a:ext cx="2779200" cy="1604880"/>
            <a:chOff x="3214800" y="4786200"/>
            <a:chExt cx="2779200" cy="1604880"/>
          </a:xfrm>
        </p:grpSpPr>
        <p:sp>
          <p:nvSpPr>
            <p:cNvPr id="429" name="Rectangle 3"/>
            <p:cNvSpPr/>
            <p:nvPr/>
          </p:nvSpPr>
          <p:spPr>
            <a:xfrm>
              <a:off x="4290480" y="47862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4"/>
            <p:cNvSpPr/>
            <p:nvPr/>
          </p:nvSpPr>
          <p:spPr>
            <a:xfrm>
              <a:off x="321480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>
              <a:off x="518724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290480" y="56358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7"/>
            <p:cNvSpPr/>
            <p:nvPr/>
          </p:nvSpPr>
          <p:spPr>
            <a:xfrm>
              <a:off x="4649400" y="573012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4649400" y="487980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5366520" y="6013440"/>
              <a:ext cx="4485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>
              <a:off x="3394080" y="6013440"/>
              <a:ext cx="4478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6"/>
          <p:cNvSpPr/>
          <p:nvPr/>
        </p:nvSpPr>
        <p:spPr>
          <a:xfrm>
            <a:off x="2286000" y="107172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2286000" y="278604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1285920" y="19288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в начало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1214280" y="37148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ремещает курсор в конец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6429240" y="1000080"/>
            <a:ext cx="83844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6500880" y="271476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4572000" y="1857240"/>
            <a:ext cx="45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предыду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4714920" y="3714840"/>
            <a:ext cx="442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следую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4218120" y="435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4218480" y="6488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6149160" y="5786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4"/>
          <p:cNvSpPr/>
          <p:nvPr/>
        </p:nvSpPr>
        <p:spPr>
          <a:xfrm>
            <a:off x="2215800" y="5857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f7f7f"/>
                </a:solidFill>
                <a:latin typeface="Corbel"/>
              </a:rPr>
              <a:t>Симво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0" name="Picture 4" descr="D:\БИНОМ\Урок информатики в 5-7 классах\5 класс\1 раздел Компьютер для начинающих\3 урок\Безымянный.png"/>
          <p:cNvPicPr/>
          <p:nvPr/>
        </p:nvPicPr>
        <p:blipFill>
          <a:blip r:embed="rId1"/>
          <a:stretch/>
        </p:blipFill>
        <p:spPr>
          <a:xfrm>
            <a:off x="1214280" y="1214280"/>
            <a:ext cx="7737480" cy="30006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4"/>
          <p:cNvSpPr/>
          <p:nvPr/>
        </p:nvSpPr>
        <p:spPr>
          <a:xfrm>
            <a:off x="2201760" y="5143680"/>
            <a:ext cx="63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л служит для разделения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5"/>
          <p:cNvSpPr/>
          <p:nvPr/>
        </p:nvSpPr>
        <p:spPr>
          <a:xfrm>
            <a:off x="4071960" y="3786120"/>
            <a:ext cx="250020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c8300"/>
                </a:solidFill>
                <a:latin typeface="Corbel"/>
              </a:rPr>
              <a:t>Дополнительная клави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000080" y="5357880"/>
            <a:ext cx="814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Num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включен цифровой режим малой клави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не 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цифровой режим малой клавиатуры выключен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321480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07196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492912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578628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321480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7196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321480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407196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929120" y="271476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5786280" y="185724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4929120" y="185724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321480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07196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4929120" y="357192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D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5786280" y="357192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214800" y="4429080"/>
            <a:ext cx="15714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4929120" y="4429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4"/>
          <p:cNvSpPr/>
          <p:nvPr/>
        </p:nvSpPr>
        <p:spPr>
          <a:xfrm>
            <a:off x="142920" y="192888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цифровой режим малой клави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Прямая со стрелкой 26"/>
          <p:cNvCxnSpPr/>
          <p:nvPr/>
        </p:nvCxnSpPr>
        <p:spPr>
          <a:xfrm flipV="1">
            <a:off x="2571480" y="1499400"/>
            <a:ext cx="572040" cy="4294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4" name="Прямая со стрелкой 28"/>
          <p:cNvCxnSpPr/>
          <p:nvPr/>
        </p:nvCxnSpPr>
        <p:spPr>
          <a:xfrm flipH="1" flipV="1">
            <a:off x="3285360" y="3285360"/>
            <a:ext cx="2149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Прямая со стрелкой 29"/>
          <p:cNvCxnSpPr/>
          <p:nvPr/>
        </p:nvCxnSpPr>
        <p:spPr>
          <a:xfrm flipV="1">
            <a:off x="5000400" y="3285360"/>
            <a:ext cx="214920" cy="11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Прямая со стрелкой 32"/>
          <p:cNvCxnSpPr/>
          <p:nvPr/>
        </p:nvCxnSpPr>
        <p:spPr>
          <a:xfrm flipV="1">
            <a:off x="4285800" y="228528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Прямая со стрелкой 33"/>
          <p:cNvCxnSpPr/>
          <p:nvPr/>
        </p:nvCxnSpPr>
        <p:spPr>
          <a:xfrm>
            <a:off x="4285800" y="399960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3e21"/>
                </a:solidFill>
                <a:latin typeface="Corbel"/>
              </a:rPr>
              <a:t>Аппаратное обеспечение компьютер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85560" y="1071360"/>
            <a:ext cx="34290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Содержимое 2"/>
          <p:cNvSpPr/>
          <p:nvPr/>
        </p:nvSpPr>
        <p:spPr>
          <a:xfrm>
            <a:off x="5214960" y="1143000"/>
            <a:ext cx="3779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ы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107172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обработк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521496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хран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7" descr="3D_26"/>
          <p:cNvPicPr/>
          <p:nvPr/>
        </p:nvPicPr>
        <p:blipFill>
          <a:blip r:embed="rId1"/>
          <a:stretch/>
        </p:blipFill>
        <p:spPr>
          <a:xfrm>
            <a:off x="5572080" y="2071800"/>
            <a:ext cx="1071720" cy="79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Documents and Settings\Andrey\Мои документы\Мои рисунки\iCAMTOHLW.jpg"/>
          <p:cNvPicPr/>
          <p:nvPr/>
        </p:nvPicPr>
        <p:blipFill>
          <a:blip r:embed="rId2"/>
          <a:stretch/>
        </p:blipFill>
        <p:spPr>
          <a:xfrm>
            <a:off x="1285920" y="2071800"/>
            <a:ext cx="1371600" cy="71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097"/>
          <p:cNvPicPr/>
          <p:nvPr/>
        </p:nvPicPr>
        <p:blipFill>
          <a:blip r:embed="rId3"/>
          <a:stretch/>
        </p:blipFill>
        <p:spPr>
          <a:xfrm>
            <a:off x="3000240" y="2000160"/>
            <a:ext cx="811440" cy="723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3D_28"/>
          <p:cNvPicPr/>
          <p:nvPr/>
        </p:nvPicPr>
        <p:blipFill>
          <a:blip r:embed="rId4"/>
          <a:stretch/>
        </p:blipFill>
        <p:spPr>
          <a:xfrm>
            <a:off x="2071800" y="2857680"/>
            <a:ext cx="1060200" cy="785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C:\Documents and Settings\Andrey\Мои документы\Мои рисунки\iCABUK8AT.jpg"/>
          <p:cNvPicPr/>
          <p:nvPr/>
        </p:nvPicPr>
        <p:blipFill>
          <a:blip r:embed="rId5"/>
          <a:stretch/>
        </p:blipFill>
        <p:spPr>
          <a:xfrm>
            <a:off x="3429000" y="285768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3" descr="3D_03"/>
          <p:cNvPicPr/>
          <p:nvPr/>
        </p:nvPicPr>
        <p:blipFill>
          <a:blip r:embed="rId6"/>
          <a:stretch/>
        </p:blipFill>
        <p:spPr>
          <a:xfrm>
            <a:off x="5643720" y="5072040"/>
            <a:ext cx="1490400" cy="928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8" descr="3D_25"/>
          <p:cNvPicPr/>
          <p:nvPr/>
        </p:nvPicPr>
        <p:blipFill>
          <a:blip r:embed="rId7"/>
          <a:stretch/>
        </p:blipFill>
        <p:spPr>
          <a:xfrm>
            <a:off x="7143840" y="4929120"/>
            <a:ext cx="1727280" cy="94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3D_32"/>
          <p:cNvPicPr/>
          <p:nvPr/>
        </p:nvPicPr>
        <p:blipFill>
          <a:blip r:embed="rId8"/>
          <a:stretch/>
        </p:blipFill>
        <p:spPr>
          <a:xfrm>
            <a:off x="6429240" y="278604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3D_27"/>
          <p:cNvPicPr/>
          <p:nvPr/>
        </p:nvPicPr>
        <p:blipFill>
          <a:blip r:embed="rId9"/>
          <a:stretch/>
        </p:blipFill>
        <p:spPr>
          <a:xfrm>
            <a:off x="7929720" y="1928880"/>
            <a:ext cx="931680" cy="1295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C:\Documents and Settings\Andrey\Мои документы\Мои рисунки\iCA3RAFES.jpg"/>
          <p:cNvPicPr/>
          <p:nvPr/>
        </p:nvPicPr>
        <p:blipFill>
          <a:blip r:embed="rId10"/>
          <a:stretch/>
        </p:blipFill>
        <p:spPr>
          <a:xfrm>
            <a:off x="3000240" y="4857840"/>
            <a:ext cx="1071720" cy="158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Documents and Settings\Andrey\Мои документы\Мои рисунки\22.jpg"/>
          <p:cNvPicPr/>
          <p:nvPr/>
        </p:nvPicPr>
        <p:blipFill>
          <a:blip r:embed="rId11"/>
          <a:stretch/>
        </p:blipFill>
        <p:spPr>
          <a:xfrm>
            <a:off x="1500120" y="4786200"/>
            <a:ext cx="1143000" cy="1509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Andrey\Мои документы\Мои рисунки\iCAZYFKB1.jpg"/>
          <p:cNvPicPr/>
          <p:nvPr/>
        </p:nvPicPr>
        <p:blipFill>
          <a:blip r:embed="rId12"/>
          <a:stretch/>
        </p:blipFill>
        <p:spPr>
          <a:xfrm>
            <a:off x="6643800" y="5715000"/>
            <a:ext cx="1288800" cy="987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9"/>
          <p:cNvSpPr/>
          <p:nvPr/>
        </p:nvSpPr>
        <p:spPr>
          <a:xfrm>
            <a:off x="4080960" y="1857240"/>
            <a:ext cx="15645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D:\ИНФО\Рисуем на ПК в начальной школе\Безымянный1.png"/>
          <p:cNvPicPr/>
          <p:nvPr/>
        </p:nvPicPr>
        <p:blipFill>
          <a:blip r:embed="rId1"/>
          <a:stretch/>
        </p:blipFill>
        <p:spPr>
          <a:xfrm>
            <a:off x="2428920" y="357120"/>
            <a:ext cx="221436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9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40" name="Picture 2" descr="D:\Мои рисунки\Картинки для Office\COMPUT~1\G0303519.WMF"/>
            <p:cNvPicPr/>
            <p:nvPr/>
          </p:nvPicPr>
          <p:blipFill>
            <a:blip r:embed="rId2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4" descr="D:\ИНФО\Рисуем на ПК в начальной школе\Безымянный3.png"/>
            <p:cNvPicPr/>
            <p:nvPr/>
          </p:nvPicPr>
          <p:blipFill>
            <a:blip r:embed="rId3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Picture 3" descr="D:\ИНФО\Рисуем на ПК в начальной школе\Безымянный1.png"/>
          <p:cNvPicPr/>
          <p:nvPr/>
        </p:nvPicPr>
        <p:blipFill>
          <a:blip r:embed="rId4"/>
          <a:stretch/>
        </p:blipFill>
        <p:spPr>
          <a:xfrm>
            <a:off x="2428920" y="3071880"/>
            <a:ext cx="221436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3" name="Прямоугольник 9" descr=""/>
          <p:cNvPicPr/>
          <p:nvPr/>
        </p:nvPicPr>
        <p:blipFill>
          <a:blip r:embed="rId5"/>
          <a:stretch/>
        </p:blipFill>
        <p:spPr>
          <a:xfrm>
            <a:off x="1925640" y="2146320"/>
            <a:ext cx="2987640" cy="5778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11" descr=""/>
          <p:cNvPicPr/>
          <p:nvPr/>
        </p:nvPicPr>
        <p:blipFill>
          <a:blip r:embed="rId6"/>
          <a:stretch/>
        </p:blipFill>
        <p:spPr>
          <a:xfrm>
            <a:off x="5645160" y="2146320"/>
            <a:ext cx="2981160" cy="577800"/>
          </a:xfrm>
          <a:prstGeom prst="rect">
            <a:avLst/>
          </a:prstGeom>
          <a:ln w="0">
            <a:noFill/>
          </a:ln>
        </p:spPr>
      </p:pic>
      <p:grpSp>
        <p:nvGrpSpPr>
          <p:cNvPr id="345" name="Группа 14"/>
          <p:cNvGrpSpPr/>
          <p:nvPr/>
        </p:nvGrpSpPr>
        <p:grpSpPr>
          <a:xfrm>
            <a:off x="4890960" y="214200"/>
            <a:ext cx="3652920" cy="4748400"/>
            <a:chOff x="4890960" y="214200"/>
            <a:chExt cx="3652920" cy="4748400"/>
          </a:xfrm>
        </p:grpSpPr>
        <p:pic>
          <p:nvPicPr>
            <p:cNvPr id="346" name="Picture 5" descr="D:\ИНФО\Рисуем на ПК в начальной школе\Безымянный4.png"/>
            <p:cNvPicPr/>
            <p:nvPr/>
          </p:nvPicPr>
          <p:blipFill>
            <a:blip r:embed="rId7"/>
            <a:stretch/>
          </p:blipFill>
          <p:spPr>
            <a:xfrm>
              <a:off x="5714280" y="214200"/>
              <a:ext cx="28296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Полилиния 13"/>
            <p:cNvSpPr/>
            <p:nvPr/>
          </p:nvSpPr>
          <p:spPr>
            <a:xfrm>
              <a:off x="4890960" y="1704960"/>
              <a:ext cx="1420920" cy="3257640"/>
            </a:xfrm>
            <a:custGeom>
              <a:avLst/>
              <a:gdLst/>
              <a:ahLst/>
              <a:rect l="l" t="t" r="r" b="b"/>
              <a:pathLst>
                <a:path w="1420427" h="3258104">
                  <a:moveTo>
                    <a:pt x="1420427" y="0"/>
                  </a:moveTo>
                  <a:cubicBezTo>
                    <a:pt x="1296879" y="17755"/>
                    <a:pt x="1173332" y="35510"/>
                    <a:pt x="1047565" y="230819"/>
                  </a:cubicBezTo>
                  <a:cubicBezTo>
                    <a:pt x="921798" y="426128"/>
                    <a:pt x="760520" y="757561"/>
                    <a:pt x="665825" y="1171852"/>
                  </a:cubicBezTo>
                  <a:cubicBezTo>
                    <a:pt x="571130" y="1586143"/>
                    <a:pt x="590365" y="2368858"/>
                    <a:pt x="479394" y="2716567"/>
                  </a:cubicBezTo>
                  <a:cubicBezTo>
                    <a:pt x="368423" y="3064276"/>
                    <a:pt x="184211" y="3161190"/>
                    <a:pt x="0" y="3258104"/>
                  </a:cubicBezTo>
                </a:path>
              </a:pathLst>
            </a:custGeom>
            <a:noFill/>
            <a:ln w="2232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49" name="Picture 2" descr="D:\Мои рисунки\Картинки для Office\COMPUT~1\G0303519.WMF"/>
            <p:cNvPicPr/>
            <p:nvPr/>
          </p:nvPicPr>
          <p:blipFill>
            <a:blip r:embed="rId1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" descr="D:\ИНФО\Рисуем на ПК в начальной школе\Безымянный3.png"/>
            <p:cNvPicPr/>
            <p:nvPr/>
          </p:nvPicPr>
          <p:blipFill>
            <a:blip r:embed="rId2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Прямоугольник 9" descr=""/>
          <p:cNvPicPr/>
          <p:nvPr/>
        </p:nvPicPr>
        <p:blipFill>
          <a:blip r:embed="rId3"/>
          <a:stretch/>
        </p:blipFill>
        <p:spPr>
          <a:xfrm>
            <a:off x="1925640" y="2146320"/>
            <a:ext cx="2987640" cy="57780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11" descr=""/>
          <p:cNvPicPr/>
          <p:nvPr/>
        </p:nvPicPr>
        <p:blipFill>
          <a:blip r:embed="rId4"/>
          <a:stretch/>
        </p:blipFill>
        <p:spPr>
          <a:xfrm>
            <a:off x="5857920" y="4784760"/>
            <a:ext cx="2981160" cy="585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2" descr="206"/>
          <p:cNvPicPr/>
          <p:nvPr/>
        </p:nvPicPr>
        <p:blipFill>
          <a:blip r:embed="rId5"/>
          <a:stretch/>
        </p:blipFill>
        <p:spPr>
          <a:xfrm>
            <a:off x="2500200" y="142920"/>
            <a:ext cx="1928880" cy="2071800"/>
          </a:xfrm>
          <a:prstGeom prst="rect">
            <a:avLst/>
          </a:prstGeom>
          <a:ln w="9360">
            <a:solidFill>
              <a:srgbClr val="26697a"/>
            </a:solidFill>
            <a:miter/>
          </a:ln>
        </p:spPr>
      </p:pic>
      <p:pic>
        <p:nvPicPr>
          <p:cNvPr id="354" name="Picture 32" descr="206"/>
          <p:cNvPicPr/>
          <p:nvPr/>
        </p:nvPicPr>
        <p:blipFill>
          <a:blip r:embed="rId6"/>
          <a:stretch/>
        </p:blipFill>
        <p:spPr>
          <a:xfrm>
            <a:off x="2714760" y="3143160"/>
            <a:ext cx="15001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355" name="Группа 19"/>
          <p:cNvGrpSpPr/>
          <p:nvPr/>
        </p:nvGrpSpPr>
        <p:grpSpPr>
          <a:xfrm>
            <a:off x="5000760" y="1785960"/>
            <a:ext cx="3422520" cy="3214800"/>
            <a:chOff x="5000760" y="1785960"/>
            <a:chExt cx="3422520" cy="3214800"/>
          </a:xfrm>
        </p:grpSpPr>
        <p:pic>
          <p:nvPicPr>
            <p:cNvPr id="356" name="Рисунок 17" descr="iCABUK8AT.jpg"/>
            <p:cNvPicPr/>
            <p:nvPr/>
          </p:nvPicPr>
          <p:blipFill>
            <a:blip r:embed="rId7"/>
            <a:stretch/>
          </p:blipFill>
          <p:spPr>
            <a:xfrm>
              <a:off x="6572520" y="1785960"/>
              <a:ext cx="1357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Полилиния 18"/>
            <p:cNvSpPr/>
            <p:nvPr/>
          </p:nvSpPr>
          <p:spPr>
            <a:xfrm>
              <a:off x="5000760" y="2987640"/>
              <a:ext cx="342252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4" descr="237"/>
          <p:cNvPicPr/>
          <p:nvPr/>
        </p:nvPicPr>
        <p:blipFill>
          <a:blip r:embed="rId1"/>
          <a:stretch/>
        </p:blipFill>
        <p:spPr>
          <a:xfrm>
            <a:off x="1500120" y="22860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9" descr=""/>
          <p:cNvPicPr/>
          <p:nvPr/>
        </p:nvPicPr>
        <p:blipFill>
          <a:blip r:embed="rId2"/>
          <a:stretch/>
        </p:blipFill>
        <p:spPr>
          <a:xfrm>
            <a:off x="2073240" y="1573200"/>
            <a:ext cx="2979720" cy="5842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1" descr=""/>
          <p:cNvPicPr/>
          <p:nvPr/>
        </p:nvPicPr>
        <p:blipFill>
          <a:blip r:embed="rId3"/>
          <a:stretch/>
        </p:blipFill>
        <p:spPr>
          <a:xfrm>
            <a:off x="5857920" y="4071960"/>
            <a:ext cx="2981160" cy="585720"/>
          </a:xfrm>
          <a:prstGeom prst="rect">
            <a:avLst/>
          </a:prstGeom>
          <a:ln w="0">
            <a:noFill/>
          </a:ln>
        </p:spPr>
      </p:pic>
      <p:grpSp>
        <p:nvGrpSpPr>
          <p:cNvPr id="361" name="Группа 15"/>
          <p:cNvGrpSpPr/>
          <p:nvPr/>
        </p:nvGrpSpPr>
        <p:grpSpPr>
          <a:xfrm>
            <a:off x="4857840" y="1857240"/>
            <a:ext cx="3857400" cy="2643480"/>
            <a:chOff x="4857840" y="1857240"/>
            <a:chExt cx="3857400" cy="2643480"/>
          </a:xfrm>
        </p:grpSpPr>
        <p:pic>
          <p:nvPicPr>
            <p:cNvPr id="362" name="Рисунок 13" descr="iCAMTOHLW.jpg"/>
            <p:cNvPicPr/>
            <p:nvPr/>
          </p:nvPicPr>
          <p:blipFill>
            <a:blip r:embed="rId4"/>
            <a:stretch/>
          </p:blipFill>
          <p:spPr>
            <a:xfrm>
              <a:off x="5286240" y="1857240"/>
              <a:ext cx="2882520" cy="14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Полилиния 18"/>
            <p:cNvSpPr/>
            <p:nvPr/>
          </p:nvSpPr>
          <p:spPr>
            <a:xfrm>
              <a:off x="4857840" y="2487600"/>
              <a:ext cx="385740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оугольник 22"/>
          <p:cNvSpPr/>
          <p:nvPr/>
        </p:nvSpPr>
        <p:spPr>
          <a:xfrm>
            <a:off x="1857240" y="357120"/>
            <a:ext cx="3500640" cy="106740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3"/>
          <p:cNvSpPr/>
          <p:nvPr/>
        </p:nvSpPr>
        <p:spPr>
          <a:xfrm>
            <a:off x="1928880" y="28576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4643280" y="46299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пьютерное устройство, которое располагается перед экраном дисплея и служит для набора текстов и управления компьютером с помощью клавиш, находящихся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руппы клавиш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E:\Плакаты\Знакомство с клавиатурой.jpg"/>
          <p:cNvPicPr/>
          <p:nvPr/>
        </p:nvPicPr>
        <p:blipFill>
          <a:blip r:embed="rId1"/>
          <a:stretch/>
        </p:blipFill>
        <p:spPr>
          <a:xfrm>
            <a:off x="1928880" y="2500200"/>
            <a:ext cx="5929200" cy="2206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732960" y="1285920"/>
            <a:ext cx="30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унк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3224160" y="5286240"/>
            <a:ext cx="23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Симво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5857920" y="500076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урс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5724000" y="1214280"/>
            <a:ext cx="30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Дополн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301680" y="528624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1"/>
          <p:cNvCxnSpPr/>
          <p:nvPr/>
        </p:nvCxnSpPr>
        <p:spPr>
          <a:xfrm flipH="1">
            <a:off x="3142440" y="1785960"/>
            <a:ext cx="72360" cy="10008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3214800" y="1785600"/>
            <a:ext cx="100080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6" name="Прямая со стрелкой 18"/>
          <p:cNvCxnSpPr/>
          <p:nvPr/>
        </p:nvCxnSpPr>
        <p:spPr>
          <a:xfrm>
            <a:off x="3214800" y="1785600"/>
            <a:ext cx="200088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7" name="Прямая со стрелкой 20"/>
          <p:cNvCxnSpPr/>
          <p:nvPr/>
        </p:nvCxnSpPr>
        <p:spPr>
          <a:xfrm flipH="1">
            <a:off x="7214760" y="2071440"/>
            <a:ext cx="215280" cy="11437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78" name="Прямая со стрелкой 22"/>
          <p:cNvCxnSpPr/>
          <p:nvPr/>
        </p:nvCxnSpPr>
        <p:spPr>
          <a:xfrm flipV="1">
            <a:off x="1856160" y="4428720"/>
            <a:ext cx="35820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9" name="Прямая со стрелкой 25"/>
          <p:cNvCxnSpPr/>
          <p:nvPr/>
        </p:nvCxnSpPr>
        <p:spPr>
          <a:xfrm flipV="1">
            <a:off x="1857240" y="4357440"/>
            <a:ext cx="3501360" cy="1072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28"/>
          <p:cNvCxnSpPr/>
          <p:nvPr/>
        </p:nvCxnSpPr>
        <p:spPr>
          <a:xfrm flipH="1" flipV="1">
            <a:off x="3928320" y="4285440"/>
            <a:ext cx="143640" cy="11437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81" name="Прямая со стрелкой 30"/>
          <p:cNvCxnSpPr/>
          <p:nvPr/>
        </p:nvCxnSpPr>
        <p:spPr>
          <a:xfrm flipH="1" flipV="1">
            <a:off x="6357240" y="4571640"/>
            <a:ext cx="214920" cy="929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82" name="Прямая со стрелкой 34"/>
          <p:cNvCxnSpPr/>
          <p:nvPr/>
        </p:nvCxnSpPr>
        <p:spPr>
          <a:xfrm flipH="1" flipV="1">
            <a:off x="6500520" y="3785400"/>
            <a:ext cx="72000" cy="17154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357200" y="121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в различных программах могут выполнять разные функ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6" descr="C:\Documents and Settings\Andrey\Мои документы\Мои рисунки\fkeyoverview.gif"/>
          <p:cNvPicPr/>
          <p:nvPr/>
        </p:nvPicPr>
        <p:blipFill>
          <a:blip r:embed="rId1"/>
          <a:srcRect l="4308" t="17856" r="5170" b="15812"/>
          <a:stretch/>
        </p:blipFill>
        <p:spPr>
          <a:xfrm>
            <a:off x="2714760" y="2428920"/>
            <a:ext cx="4673520" cy="192888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pic>
        <p:nvPicPr>
          <p:cNvPr id="386" name="Picture 7" descr="C:\Documents and Settings\Andrey\Мои документы\Мои рисунки\fkeyoverview_ctrl2.gif"/>
          <p:cNvPicPr/>
          <p:nvPr/>
        </p:nvPicPr>
        <p:blipFill>
          <a:blip r:embed="rId2"/>
          <a:srcRect l="6633" t="45073" r="11737" b="10526"/>
          <a:stretch/>
        </p:blipFill>
        <p:spPr>
          <a:xfrm>
            <a:off x="2714760" y="4684680"/>
            <a:ext cx="4643280" cy="19591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1428840" y="1214280"/>
            <a:ext cx="7215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on Comm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помощ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зывает меню пользов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просмотр содержим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редактирование текстов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копирование файла, директории или группы файлов и (или) дирек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- переименование или (и) пересылка файлов, директорий или групп файлов и ( 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создание под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удаление фалов, директорий или групп файлов и (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в верхней части экрана управляющее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on Comma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358040" y="3143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1714680" y="300024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071720" y="41432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ние скриншот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ображения экр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00720" y="107172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214280" y="2071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исполнения команды, выход из программы, из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4500720" y="4286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07188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ит для переключения режима работы в некоторых 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6081840" y="414324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ка выполняем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ka</dc:creator>
  <dc:description/>
  <dc:language>en-US</dc:language>
  <cp:lastModifiedBy>Ирина</cp:lastModifiedBy>
  <dcterms:modified xsi:type="dcterms:W3CDTF">2020-04-18T16:26:33Z</dcterms:modified>
  <cp:revision>144</cp:revision>
  <dc:subject/>
  <dc:title>Слайд 1</dc:title>
</cp:coreProperties>
</file>