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8.jpeg" ContentType="image/jpeg"/>
  <Override PartName="/ppt/media/image20.png" ContentType="image/png"/>
  <Override PartName="/ppt/media/image18.png" ContentType="image/png"/>
  <Override PartName="/ppt/media/image9.png" ContentType="image/png"/>
  <Override PartName="/ppt/media/image29.png" ContentType="image/png"/>
  <Override PartName="/ppt/media/image31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1B4-F979-4273-8CA7-D00C8D2D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2292-AAC5-4A11-914F-3FD27174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F8F-9838-4D4A-BF03-AAD08E436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4B9C-8D3A-4E22-92F4-70AD8F0AF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CEB2-B8ED-4C95-B1E5-837205C2A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74100-6BEE-475E-A10D-7EF25FD2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64B4-166F-4220-ADA5-969A3416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9FA6F-2F68-4A22-BBBF-6C17B12A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FCE7-3CC3-424C-B2CF-280638A1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00549-DCFB-4FC5-82DD-4DAFC13D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DD9F-0880-4F51-A348-3C6CC56E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85B-631D-4D13-BE72-7EC357D0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7B9E5-BE1E-4C0F-A7E1-4E33B37A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4D7E-4ADF-47C1-B091-D79EB4F6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E7635-A4DF-464D-8E55-1193D3C3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EBC2-3166-4272-8C26-120221EE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A4FE-D6D1-4E09-A217-3A02148B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A77C5-56D5-49E8-BD5A-0DBCA6F53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8D3B0-6967-4B29-B074-D5832101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08ED4-E01F-46E8-AFAB-8DC4520F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45B82-E9B1-425C-8B17-EF0D7428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B9E0-F7E7-49B5-BA68-C1A8AC92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6B7A-EDAD-485B-9261-4B1C38AC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9DC1A-6D26-4F28-B3CD-967958CD4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2D4AA-3F71-4164-84EE-0EC044E1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F8E20-F9E7-4484-8BCF-E171B2CE5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DAE5E-F0D7-4D0A-A7A9-90FFD765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FCFF7-177E-400B-8323-4B597387D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B6C86-BC58-483A-87E7-C2916240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F1A7B-F121-40AF-A284-5B589B06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CE7D7-4805-48BA-A4AA-8BBC64A2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C97EA-5231-4338-B439-7B1C81B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FA184-54DB-40FE-A242-744DD799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90A6-4CE8-40F2-9F43-13EE06F9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6C7CB-A109-4E8A-8E47-52C0EA22A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7009F-CEFE-428A-B392-96B17DD1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53AA-1A66-4BD6-B8C5-863B3967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3207B-7D84-4699-BA43-B069A99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F86FA-EDEC-4496-8EDD-FC11322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FF2F4-8CDF-4332-8097-58932A890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1E0E9-9E30-41D8-9133-758993BB4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DD6D4-D594-4D22-8E36-54349336C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07A64-1BF2-46BE-87CF-C123E383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73B8F-CA74-46D5-953F-ACC55485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661B-A8DB-428E-AD3E-42B4EB55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C44F8-A71B-459B-AADC-74BB26FB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36EFB-77BF-4818-BEC3-711B7A10D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F2CA2-85F3-41D0-B9EA-F21D7298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AA0CC-486E-4356-85E2-375D7D38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05F91-4345-4F31-A695-D950B85F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9FA8-A0FA-4C8B-A684-CDB45FC7E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CC27C-9482-4B86-86C4-551D319C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E3D363-F530-4DC2-8637-4F4E1B41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69AE2-36E3-4759-A830-D07FEB68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F84CC-AAA2-40B5-A4BB-27B173DC7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D1F-C825-404B-9193-D40269CD5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8394E-895C-4286-81F6-CE91514F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81106-3190-43AF-ACC4-A6FB27CD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1728A-EA1C-4817-AFC1-B03B9AE4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3E3B5-9A76-4F92-9E77-80C12E4D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0ED13-D932-4FEC-9CDC-D46304C9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32A5F0-D041-43DD-9954-4A0B448F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4917B-AFF1-4C32-B323-B18A734B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96A73A-8112-443C-8D4F-39705D52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B295E-12CE-48A2-B4CE-FE9414AD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58B12-19A0-4809-A284-14418DF2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E0F0-5B7C-4FC9-9F2F-0E74BF1C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A90574-1058-4305-9460-546386613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20B0-D236-4113-A0EC-695ACB239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D471E-EF8D-40BA-B869-49785857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EFCCF-0DE3-4769-AAB8-EB688BE65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C9491-75AF-4CA5-A7F0-4F297D0C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5D340-8A77-40A9-A752-90734F87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1A6E09-AFB6-4886-AAF6-4CB4FB05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49D48-50FA-42E8-BEE4-570C590C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D93E08-7CB5-4CB9-8127-6D5F272D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D921-431D-485F-9EA3-8029B00E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0D1-18C6-40A2-ACCA-C7F9330C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2BB95-7409-4C24-A2C8-3C0C47717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A5A29-176C-4F7C-9D38-E785CEA7A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A2A42-14DD-4265-B470-C5CD2626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F8860-2656-453D-8523-65FF21221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D72849-E96E-4A05-A66C-E632C39B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3043-8E8B-4E3C-A9D0-9394F929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323E-18C1-45F7-B41A-9BA59C46B3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C27A3-5BFB-458D-A823-C148F22B02B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32BE2-0D24-41F7-8DBC-2B12D38D677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648E-B96B-4C00-A8E3-4FFCE10A6B5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BE18-CF8D-439C-834B-AB797831FD6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8509-53BB-4463-AF95-A940AFA42C2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5E352-C307-4168-A52E-1F875CC69C09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1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21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Corbel"/>
              </a:rPr>
              <a:t>Ввод информации в память компьютера с помощью клавиатуры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2" descr="074"/>
          <p:cNvPicPr/>
          <p:nvPr/>
        </p:nvPicPr>
        <p:blipFill>
          <a:blip r:embed="rId1"/>
          <a:stretch/>
        </p:blipFill>
        <p:spPr>
          <a:xfrm>
            <a:off x="3143160" y="2928960"/>
            <a:ext cx="37386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1285920" y="121428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2357280" y="1214280"/>
            <a:ext cx="64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клавиши TAB осуществляется перемещение по всем командам в группе на вкладке перед переходом к следующей групп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5"/>
          <p:cNvSpPr/>
          <p:nvPr/>
        </p:nvSpPr>
        <p:spPr>
          <a:xfrm>
            <a:off x="1285920" y="500076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7"/>
          <p:cNvSpPr/>
          <p:nvPr/>
        </p:nvSpPr>
        <p:spPr>
          <a:xfrm>
            <a:off x="2286000" y="4500720"/>
            <a:ext cx="635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строчных и заглавных бук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Caps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горит, значит включен режим заглавных бук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не горит, значит включен режим строчных букв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7" descr="C:\Documents and Settings\Andrey\Мои документы\Мои рисунки\ZA101678281049.gif"/>
          <p:cNvPicPr/>
          <p:nvPr/>
        </p:nvPicPr>
        <p:blipFill>
          <a:blip r:embed="rId1"/>
          <a:srcRect l="0" t="0" r="0" b="29867"/>
          <a:stretch/>
        </p:blipFill>
        <p:spPr>
          <a:xfrm>
            <a:off x="2500200" y="2286000"/>
            <a:ext cx="5667480" cy="199080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1571760" y="150012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"/>
          <p:cNvSpPr/>
          <p:nvPr/>
        </p:nvSpPr>
        <p:spPr>
          <a:xfrm>
            <a:off x="1571760" y="364320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9"/>
          <p:cNvSpPr/>
          <p:nvPr/>
        </p:nvSpPr>
        <p:spPr>
          <a:xfrm>
            <a:off x="2643120" y="3714840"/>
            <a:ext cx="6286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даляет символ справа от курсора или над курсором.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остается на мес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6"/>
          <p:cNvGrpSpPr/>
          <p:nvPr/>
        </p:nvGrpSpPr>
        <p:grpSpPr>
          <a:xfrm>
            <a:off x="1143000" y="5286240"/>
            <a:ext cx="2743200" cy="368280"/>
            <a:chOff x="1143000" y="5286240"/>
            <a:chExt cx="2743200" cy="368280"/>
          </a:xfrm>
        </p:grpSpPr>
        <p:sp>
          <p:nvSpPr>
            <p:cNvPr id="409" name="Text Box 3"/>
            <p:cNvSpPr/>
            <p:nvPr/>
          </p:nvSpPr>
          <p:spPr>
            <a:xfrm>
              <a:off x="1143000" y="5286240"/>
              <a:ext cx="2743200" cy="368280"/>
            </a:xfrm>
            <a:prstGeom prst="rect">
              <a:avLst/>
            </a:prstGeom>
            <a:solidFill>
              <a:srgbClr val="ff99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space (B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4"/>
            <p:cNvSpPr/>
            <p:nvPr/>
          </p:nvSpPr>
          <p:spPr>
            <a:xfrm flipH="1">
              <a:off x="1219320" y="5514840"/>
              <a:ext cx="533520" cy="7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Text Box 7"/>
          <p:cNvSpPr/>
          <p:nvPr/>
        </p:nvSpPr>
        <p:spPr>
          <a:xfrm>
            <a:off x="4071960" y="5214960"/>
            <a:ext cx="47149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даляет символ, стоящий перед курсором (слева от курсора).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Курсор при этом смещается вле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786040" y="1214280"/>
            <a:ext cx="6072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режим вставки/заме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вставки новые символы вставляются между написанны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в режиме замены новые символы печатаются поверх написанны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35728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3643200" y="1000080"/>
            <a:ext cx="55008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ша в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уют для ввода коман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бора пунктов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ыражения согласия на выполнение дей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ршение абз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ри нажатии на клавишу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nter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урсор перемещается на строчку вни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1285920" y="1071720"/>
          <a:ext cx="2171520" cy="1931760"/>
        </p:xfrm>
        <a:graphic>
          <a:graphicData uri="http://schemas.openxmlformats.org/drawingml/2006/table">
            <a:tbl>
              <a:tblPr/>
              <a:tblGrid>
                <a:gridCol w="685800"/>
                <a:gridCol w="1485720"/>
              </a:tblGrid>
              <a:tr h="103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</a:tr>
              <a:tr h="897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417" name="Group 78"/>
          <p:cNvGrpSpPr/>
          <p:nvPr/>
        </p:nvGrpSpPr>
        <p:grpSpPr>
          <a:xfrm>
            <a:off x="1438200" y="2290680"/>
            <a:ext cx="1752480" cy="380880"/>
            <a:chOff x="1438200" y="2290680"/>
            <a:chExt cx="1752480" cy="380880"/>
          </a:xfrm>
        </p:grpSpPr>
        <p:sp>
          <p:nvSpPr>
            <p:cNvPr id="418" name="Text Box 74"/>
            <p:cNvSpPr/>
            <p:nvPr/>
          </p:nvSpPr>
          <p:spPr>
            <a:xfrm>
              <a:off x="2124000" y="229068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77"/>
            <p:cNvGrpSpPr/>
            <p:nvPr/>
          </p:nvGrpSpPr>
          <p:grpSpPr>
            <a:xfrm>
              <a:off x="1438200" y="2366640"/>
              <a:ext cx="533520" cy="304920"/>
              <a:chOff x="1438200" y="2366640"/>
              <a:chExt cx="533520" cy="304920"/>
            </a:xfrm>
          </p:grpSpPr>
          <p:sp>
            <p:nvSpPr>
              <p:cNvPr id="420" name="Line 75"/>
              <p:cNvSpPr/>
              <p:nvPr/>
            </p:nvSpPr>
            <p:spPr>
              <a:xfrm>
                <a:off x="1971720" y="2366640"/>
                <a:ext cx="0" cy="30492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Line 76"/>
              <p:cNvSpPr/>
              <p:nvPr/>
            </p:nvSpPr>
            <p:spPr>
              <a:xfrm flipH="1">
                <a:off x="1438200" y="2671560"/>
                <a:ext cx="533520" cy="0"/>
              </a:xfrm>
              <a:prstGeom prst="line">
                <a:avLst/>
              </a:prstGeom>
              <a:ln w="316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Rectangle 3"/>
          <p:cNvSpPr/>
          <p:nvPr/>
        </p:nvSpPr>
        <p:spPr>
          <a:xfrm>
            <a:off x="4786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r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"/>
          <p:cNvSpPr/>
          <p:nvPr/>
        </p:nvSpPr>
        <p:spPr>
          <a:xfrm>
            <a:off x="7072200" y="4091040"/>
            <a:ext cx="83844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Прямоугольник 21"/>
          <p:cNvSpPr/>
          <p:nvPr/>
        </p:nvSpPr>
        <p:spPr>
          <a:xfrm>
            <a:off x="1285920" y="5500800"/>
            <a:ext cx="757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и клавиши работают всегда в прижатом состоянии, в комбинации с другими клавиш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Например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071360" y="1447920"/>
            <a:ext cx="78627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лавиша с буквой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печатается буква, противоположная установленному режим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Shif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t+Shif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ереключение язык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trl+Pau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рывание выполняемого действ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hift+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цифр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– в русском режиме печатает верхний правый символ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№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в английском – верхний левы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#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8480" y="-14328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b050"/>
                </a:solidFill>
                <a:latin typeface="Corbel"/>
              </a:rPr>
              <a:t>Клавиши управления курсором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428" name="Group 12"/>
          <p:cNvGrpSpPr/>
          <p:nvPr/>
        </p:nvGrpSpPr>
        <p:grpSpPr>
          <a:xfrm>
            <a:off x="3214800" y="4786200"/>
            <a:ext cx="2779200" cy="1604880"/>
            <a:chOff x="3214800" y="4786200"/>
            <a:chExt cx="2779200" cy="1604880"/>
          </a:xfrm>
        </p:grpSpPr>
        <p:sp>
          <p:nvSpPr>
            <p:cNvPr id="429" name="Rectangle 3"/>
            <p:cNvSpPr/>
            <p:nvPr/>
          </p:nvSpPr>
          <p:spPr>
            <a:xfrm>
              <a:off x="4290480" y="47862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4"/>
            <p:cNvSpPr/>
            <p:nvPr/>
          </p:nvSpPr>
          <p:spPr>
            <a:xfrm>
              <a:off x="321480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5"/>
            <p:cNvSpPr/>
            <p:nvPr/>
          </p:nvSpPr>
          <p:spPr>
            <a:xfrm>
              <a:off x="5187240" y="5635800"/>
              <a:ext cx="80676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6"/>
            <p:cNvSpPr/>
            <p:nvPr/>
          </p:nvSpPr>
          <p:spPr>
            <a:xfrm>
              <a:off x="4290480" y="5635800"/>
              <a:ext cx="717480" cy="75528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7"/>
            <p:cNvSpPr/>
            <p:nvPr/>
          </p:nvSpPr>
          <p:spPr>
            <a:xfrm>
              <a:off x="4649400" y="573012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9"/>
            <p:cNvSpPr/>
            <p:nvPr/>
          </p:nvSpPr>
          <p:spPr>
            <a:xfrm flipV="1">
              <a:off x="4649400" y="4879800"/>
              <a:ext cx="0" cy="56628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10"/>
            <p:cNvSpPr/>
            <p:nvPr/>
          </p:nvSpPr>
          <p:spPr>
            <a:xfrm>
              <a:off x="5366520" y="6013440"/>
              <a:ext cx="44856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11"/>
            <p:cNvSpPr/>
            <p:nvPr/>
          </p:nvSpPr>
          <p:spPr>
            <a:xfrm flipH="1">
              <a:off x="3394080" y="6013440"/>
              <a:ext cx="447840" cy="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Rectangle 16"/>
          <p:cNvSpPr/>
          <p:nvPr/>
        </p:nvSpPr>
        <p:spPr>
          <a:xfrm>
            <a:off x="2286000" y="107172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7"/>
          <p:cNvSpPr/>
          <p:nvPr/>
        </p:nvSpPr>
        <p:spPr>
          <a:xfrm>
            <a:off x="2286000" y="278604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8"/>
          <p:cNvSpPr/>
          <p:nvPr/>
        </p:nvSpPr>
        <p:spPr>
          <a:xfrm>
            <a:off x="1285920" y="192888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в начало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9"/>
          <p:cNvSpPr/>
          <p:nvPr/>
        </p:nvSpPr>
        <p:spPr>
          <a:xfrm>
            <a:off x="1214280" y="3714840"/>
            <a:ext cx="328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перемещает курсор в конец стро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20"/>
          <p:cNvSpPr/>
          <p:nvPr/>
        </p:nvSpPr>
        <p:spPr>
          <a:xfrm>
            <a:off x="6429240" y="1000080"/>
            <a:ext cx="83844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6500880" y="2714760"/>
            <a:ext cx="838080" cy="8380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2"/>
          <p:cNvSpPr/>
          <p:nvPr/>
        </p:nvSpPr>
        <p:spPr>
          <a:xfrm>
            <a:off x="4572000" y="1857240"/>
            <a:ext cx="4572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предыду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4714920" y="3714840"/>
            <a:ext cx="4429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мещает курсор на страницу 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на следующую страни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21"/>
          <p:cNvSpPr/>
          <p:nvPr/>
        </p:nvSpPr>
        <p:spPr>
          <a:xfrm>
            <a:off x="4218120" y="43578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вер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22"/>
          <p:cNvSpPr/>
          <p:nvPr/>
        </p:nvSpPr>
        <p:spPr>
          <a:xfrm>
            <a:off x="4218480" y="6488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23"/>
          <p:cNvSpPr/>
          <p:nvPr/>
        </p:nvSpPr>
        <p:spPr>
          <a:xfrm>
            <a:off x="6149160" y="5786280"/>
            <a:ext cx="92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24"/>
          <p:cNvSpPr/>
          <p:nvPr/>
        </p:nvSpPr>
        <p:spPr>
          <a:xfrm>
            <a:off x="2215800" y="585792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4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40"/>
                            </p:stCondLst>
                            <p:childTnLst>
                              <p:par>
                                <p:cTn id="4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4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8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4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8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4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9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0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501" nodeType="clickEffect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4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515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522" nodeType="clickEffect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7f7f7f"/>
                </a:solidFill>
                <a:latin typeface="Corbel"/>
              </a:rPr>
              <a:t>Симво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450" name="Picture 4" descr="D:\БИНОМ\Урок информатики в 5-7 классах\5 класс\1 раздел Компьютер для начинающих\3 урок\Безымянный.png"/>
          <p:cNvPicPr/>
          <p:nvPr/>
        </p:nvPicPr>
        <p:blipFill>
          <a:blip r:embed="rId1"/>
          <a:stretch/>
        </p:blipFill>
        <p:spPr>
          <a:xfrm>
            <a:off x="1214280" y="1214280"/>
            <a:ext cx="7737480" cy="30006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4"/>
          <p:cNvSpPr/>
          <p:nvPr/>
        </p:nvSpPr>
        <p:spPr>
          <a:xfrm>
            <a:off x="2201760" y="5143680"/>
            <a:ext cx="63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бел служит для разделения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Скругленный прямоугольник 5"/>
          <p:cNvSpPr/>
          <p:nvPr/>
        </p:nvSpPr>
        <p:spPr>
          <a:xfrm>
            <a:off x="4071960" y="3786120"/>
            <a:ext cx="2500200" cy="21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ac8300"/>
                </a:solidFill>
                <a:latin typeface="Corbel"/>
              </a:rPr>
              <a:t>Дополнительная клавиатур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4" name="Text Box 10"/>
          <p:cNvSpPr/>
          <p:nvPr/>
        </p:nvSpPr>
        <p:spPr>
          <a:xfrm>
            <a:off x="1000080" y="5357880"/>
            <a:ext cx="81439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индикатор </a:t>
            </a:r>
            <a:r>
              <a:rPr b="1" i="1" lang="en-US" sz="1800" spc="-1" strike="noStrike">
                <a:solidFill>
                  <a:srgbClr val="7030a0"/>
                </a:solidFill>
                <a:latin typeface="Arial"/>
              </a:rPr>
              <a:t>NumLock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в верхнем правом углу клавиатуры)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включен цифровой режим малой клавиату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Если этот индикатор </a:t>
            </a:r>
            <a:r>
              <a:rPr b="1" i="1" lang="ru-RU" sz="1800" spc="-1" strike="noStrike">
                <a:solidFill>
                  <a:srgbClr val="7030a0"/>
                </a:solidFill>
                <a:latin typeface="Arial"/>
              </a:rPr>
              <a:t>не горит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, значит цифровой режим малой клавиатуры выключен.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"/>
          <p:cNvSpPr/>
          <p:nvPr/>
        </p:nvSpPr>
        <p:spPr>
          <a:xfrm>
            <a:off x="321480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9"/>
          <p:cNvSpPr/>
          <p:nvPr/>
        </p:nvSpPr>
        <p:spPr>
          <a:xfrm>
            <a:off x="4071960" y="100008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9"/>
          <p:cNvSpPr/>
          <p:nvPr/>
        </p:nvSpPr>
        <p:spPr>
          <a:xfrm>
            <a:off x="492912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9"/>
          <p:cNvSpPr/>
          <p:nvPr/>
        </p:nvSpPr>
        <p:spPr>
          <a:xfrm>
            <a:off x="5786280" y="1000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9"/>
          <p:cNvSpPr/>
          <p:nvPr/>
        </p:nvSpPr>
        <p:spPr>
          <a:xfrm>
            <a:off x="321480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71960" y="1857240"/>
            <a:ext cx="71424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9"/>
          <p:cNvSpPr/>
          <p:nvPr/>
        </p:nvSpPr>
        <p:spPr>
          <a:xfrm>
            <a:off x="321480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9"/>
          <p:cNvSpPr/>
          <p:nvPr/>
        </p:nvSpPr>
        <p:spPr>
          <a:xfrm>
            <a:off x="4071960" y="271476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9"/>
          <p:cNvSpPr/>
          <p:nvPr/>
        </p:nvSpPr>
        <p:spPr>
          <a:xfrm>
            <a:off x="4929120" y="271476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9"/>
          <p:cNvSpPr/>
          <p:nvPr/>
        </p:nvSpPr>
        <p:spPr>
          <a:xfrm>
            <a:off x="5786280" y="185724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4929120" y="185724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9"/>
          <p:cNvSpPr/>
          <p:nvPr/>
        </p:nvSpPr>
        <p:spPr>
          <a:xfrm>
            <a:off x="321480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9"/>
          <p:cNvSpPr/>
          <p:nvPr/>
        </p:nvSpPr>
        <p:spPr>
          <a:xfrm>
            <a:off x="4071960" y="3571920"/>
            <a:ext cx="71424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9"/>
          <p:cNvSpPr/>
          <p:nvPr/>
        </p:nvSpPr>
        <p:spPr>
          <a:xfrm>
            <a:off x="4929120" y="3571920"/>
            <a:ext cx="714600" cy="71424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gD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9"/>
          <p:cNvSpPr/>
          <p:nvPr/>
        </p:nvSpPr>
        <p:spPr>
          <a:xfrm>
            <a:off x="5786280" y="3571920"/>
            <a:ext cx="714600" cy="157176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3214800" y="4429080"/>
            <a:ext cx="15714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9"/>
          <p:cNvSpPr/>
          <p:nvPr/>
        </p:nvSpPr>
        <p:spPr>
          <a:xfrm>
            <a:off x="4929120" y="4429080"/>
            <a:ext cx="714600" cy="714600"/>
          </a:xfrm>
          <a:prstGeom prst="rect">
            <a:avLst/>
          </a:prstGeom>
          <a:solidFill>
            <a:srgbClr val="fed46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24"/>
          <p:cNvSpPr/>
          <p:nvPr/>
        </p:nvSpPr>
        <p:spPr>
          <a:xfrm>
            <a:off x="142920" y="1928880"/>
            <a:ext cx="27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и выключает цифровой режим малой клавиа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3" name="Прямая со стрелкой 26"/>
          <p:cNvCxnSpPr/>
          <p:nvPr/>
        </p:nvCxnSpPr>
        <p:spPr>
          <a:xfrm flipV="1">
            <a:off x="2571480" y="1499400"/>
            <a:ext cx="572040" cy="429480"/>
          </a:xfrm>
          <a:prstGeom prst="straightConnector1">
            <a:avLst/>
          </a:prstGeom>
          <a:ln w="25560">
            <a:solidFill>
              <a:srgbClr val="3891a7"/>
            </a:solidFill>
            <a:miter/>
            <a:tailEnd len="med" type="arrow" w="med"/>
          </a:ln>
        </p:spPr>
      </p:cxnSp>
      <p:cxnSp>
        <p:nvCxnSpPr>
          <p:cNvPr id="474" name="Прямая со стрелкой 28"/>
          <p:cNvCxnSpPr/>
          <p:nvPr/>
        </p:nvCxnSpPr>
        <p:spPr>
          <a:xfrm flipH="1" flipV="1">
            <a:off x="3285360" y="3285360"/>
            <a:ext cx="214920" cy="2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5" name="Прямая со стрелкой 29"/>
          <p:cNvCxnSpPr/>
          <p:nvPr/>
        </p:nvCxnSpPr>
        <p:spPr>
          <a:xfrm flipV="1">
            <a:off x="5000400" y="3285360"/>
            <a:ext cx="214920" cy="1188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6" name="Прямая со стрелкой 32"/>
          <p:cNvCxnSpPr/>
          <p:nvPr/>
        </p:nvCxnSpPr>
        <p:spPr>
          <a:xfrm flipV="1">
            <a:off x="4285800" y="228528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7" name="Прямая со стрелкой 33"/>
          <p:cNvCxnSpPr/>
          <p:nvPr/>
        </p:nvCxnSpPr>
        <p:spPr>
          <a:xfrm>
            <a:off x="4285800" y="3999600"/>
            <a:ext cx="2520" cy="214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530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7136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3e21"/>
                </a:solidFill>
                <a:latin typeface="Corbel"/>
              </a:rPr>
              <a:t>Аппаратное обеспечение компьютер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285560" y="1071360"/>
            <a:ext cx="342900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99160" indent="-231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Содержимое 2"/>
          <p:cNvSpPr/>
          <p:nvPr/>
        </p:nvSpPr>
        <p:spPr>
          <a:xfrm>
            <a:off x="5214960" y="1143000"/>
            <a:ext cx="377964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выв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Содержимое 2"/>
          <p:cNvSpPr/>
          <p:nvPr/>
        </p:nvSpPr>
        <p:spPr>
          <a:xfrm>
            <a:off x="107172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обработк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Содержимое 2"/>
          <p:cNvSpPr/>
          <p:nvPr/>
        </p:nvSpPr>
        <p:spPr>
          <a:xfrm>
            <a:off x="5214960" y="3929040"/>
            <a:ext cx="377964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Устройства </a:t>
            </a:r>
            <a:r>
              <a:rPr b="0" lang="ru-RU" sz="2400" spc="-1" strike="noStrike">
                <a:solidFill>
                  <a:srgbClr val="ff0000"/>
                </a:solidFill>
                <a:latin typeface="Corbel"/>
              </a:rPr>
              <a:t>хранения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17" descr="3D_26"/>
          <p:cNvPicPr/>
          <p:nvPr/>
        </p:nvPicPr>
        <p:blipFill>
          <a:blip r:embed="rId1"/>
          <a:stretch/>
        </p:blipFill>
        <p:spPr>
          <a:xfrm>
            <a:off x="5572080" y="2071800"/>
            <a:ext cx="1071720" cy="7920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Documents and Settings\Andrey\Мои документы\Мои рисунки\iCAMTOHLW.jpg"/>
          <p:cNvPicPr/>
          <p:nvPr/>
        </p:nvPicPr>
        <p:blipFill>
          <a:blip r:embed="rId2"/>
          <a:stretch/>
        </p:blipFill>
        <p:spPr>
          <a:xfrm>
            <a:off x="1285920" y="2071800"/>
            <a:ext cx="1371600" cy="71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097"/>
          <p:cNvPicPr/>
          <p:nvPr/>
        </p:nvPicPr>
        <p:blipFill>
          <a:blip r:embed="rId3"/>
          <a:stretch/>
        </p:blipFill>
        <p:spPr>
          <a:xfrm>
            <a:off x="3000240" y="2000160"/>
            <a:ext cx="811440" cy="7239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5" descr="3D_28"/>
          <p:cNvPicPr/>
          <p:nvPr/>
        </p:nvPicPr>
        <p:blipFill>
          <a:blip r:embed="rId4"/>
          <a:stretch/>
        </p:blipFill>
        <p:spPr>
          <a:xfrm>
            <a:off x="2071800" y="2857680"/>
            <a:ext cx="1060200" cy="785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C:\Documents and Settings\Andrey\Мои документы\Мои рисунки\iCABUK8AT.jpg"/>
          <p:cNvPicPr/>
          <p:nvPr/>
        </p:nvPicPr>
        <p:blipFill>
          <a:blip r:embed="rId5"/>
          <a:stretch/>
        </p:blipFill>
        <p:spPr>
          <a:xfrm>
            <a:off x="3429000" y="2857680"/>
            <a:ext cx="880920" cy="88092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23" descr="3D_03"/>
          <p:cNvPicPr/>
          <p:nvPr/>
        </p:nvPicPr>
        <p:blipFill>
          <a:blip r:embed="rId6"/>
          <a:stretch/>
        </p:blipFill>
        <p:spPr>
          <a:xfrm>
            <a:off x="5643720" y="5072040"/>
            <a:ext cx="1490400" cy="92880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8" descr="3D_25"/>
          <p:cNvPicPr/>
          <p:nvPr/>
        </p:nvPicPr>
        <p:blipFill>
          <a:blip r:embed="rId7"/>
          <a:stretch/>
        </p:blipFill>
        <p:spPr>
          <a:xfrm>
            <a:off x="7143840" y="4929120"/>
            <a:ext cx="1727280" cy="94140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6" descr="3D_32"/>
          <p:cNvPicPr/>
          <p:nvPr/>
        </p:nvPicPr>
        <p:blipFill>
          <a:blip r:embed="rId8"/>
          <a:stretch/>
        </p:blipFill>
        <p:spPr>
          <a:xfrm>
            <a:off x="6429240" y="278604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6" descr="3D_27"/>
          <p:cNvPicPr/>
          <p:nvPr/>
        </p:nvPicPr>
        <p:blipFill>
          <a:blip r:embed="rId9"/>
          <a:stretch/>
        </p:blipFill>
        <p:spPr>
          <a:xfrm>
            <a:off x="7929720" y="1928880"/>
            <a:ext cx="931680" cy="1295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C:\Documents and Settings\Andrey\Мои документы\Мои рисунки\iCA3RAFES.jpg"/>
          <p:cNvPicPr/>
          <p:nvPr/>
        </p:nvPicPr>
        <p:blipFill>
          <a:blip r:embed="rId10"/>
          <a:stretch/>
        </p:blipFill>
        <p:spPr>
          <a:xfrm>
            <a:off x="3000240" y="4857840"/>
            <a:ext cx="1071720" cy="158436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Documents and Settings\Andrey\Мои документы\Мои рисунки\22.jpg"/>
          <p:cNvPicPr/>
          <p:nvPr/>
        </p:nvPicPr>
        <p:blipFill>
          <a:blip r:embed="rId11"/>
          <a:stretch/>
        </p:blipFill>
        <p:spPr>
          <a:xfrm>
            <a:off x="1500120" y="4786200"/>
            <a:ext cx="1143000" cy="1509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C:\Documents and Settings\Andrey\Мои документы\Мои рисунки\iCAZYFKB1.jpg"/>
          <p:cNvPicPr/>
          <p:nvPr/>
        </p:nvPicPr>
        <p:blipFill>
          <a:blip r:embed="rId12"/>
          <a:stretch/>
        </p:blipFill>
        <p:spPr>
          <a:xfrm>
            <a:off x="6643800" y="5715000"/>
            <a:ext cx="1288800" cy="98748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9"/>
          <p:cNvSpPr/>
          <p:nvPr/>
        </p:nvSpPr>
        <p:spPr>
          <a:xfrm>
            <a:off x="4080960" y="1857240"/>
            <a:ext cx="156456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1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73" nodeType="clickEffect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3" descr="D:\ИНФО\Рисуем на ПК в начальной школе\Безымянный1.png"/>
          <p:cNvPicPr/>
          <p:nvPr/>
        </p:nvPicPr>
        <p:blipFill>
          <a:blip r:embed="rId1"/>
          <a:stretch/>
        </p:blipFill>
        <p:spPr>
          <a:xfrm>
            <a:off x="2428920" y="357120"/>
            <a:ext cx="2214360" cy="1714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339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340" name="Picture 2" descr="D:\Мои рисунки\Картинки для Office\COMPUT~1\G0303519.WMF"/>
            <p:cNvPicPr/>
            <p:nvPr/>
          </p:nvPicPr>
          <p:blipFill>
            <a:blip r:embed="rId2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4" descr="D:\ИНФО\Рисуем на ПК в начальной школе\Безымянный3.png"/>
            <p:cNvPicPr/>
            <p:nvPr/>
          </p:nvPicPr>
          <p:blipFill>
            <a:blip r:embed="rId3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2" name="Picture 3" descr="D:\ИНФО\Рисуем на ПК в начальной школе\Безымянный1.png"/>
          <p:cNvPicPr/>
          <p:nvPr/>
        </p:nvPicPr>
        <p:blipFill>
          <a:blip r:embed="rId4"/>
          <a:stretch/>
        </p:blipFill>
        <p:spPr>
          <a:xfrm>
            <a:off x="2428920" y="3071880"/>
            <a:ext cx="2214360" cy="171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43" name="Прямоугольник 9" descr=""/>
          <p:cNvPicPr/>
          <p:nvPr/>
        </p:nvPicPr>
        <p:blipFill>
          <a:blip r:embed="rId5"/>
          <a:stretch/>
        </p:blipFill>
        <p:spPr>
          <a:xfrm>
            <a:off x="1925640" y="2146320"/>
            <a:ext cx="2987640" cy="577800"/>
          </a:xfrm>
          <a:prstGeom prst="rect">
            <a:avLst/>
          </a:prstGeom>
          <a:ln w="0">
            <a:noFill/>
          </a:ln>
        </p:spPr>
      </p:pic>
      <p:pic>
        <p:nvPicPr>
          <p:cNvPr id="344" name="Прямоугольник 11" descr=""/>
          <p:cNvPicPr/>
          <p:nvPr/>
        </p:nvPicPr>
        <p:blipFill>
          <a:blip r:embed="rId6"/>
          <a:stretch/>
        </p:blipFill>
        <p:spPr>
          <a:xfrm>
            <a:off x="5645160" y="2146320"/>
            <a:ext cx="2981160" cy="577800"/>
          </a:xfrm>
          <a:prstGeom prst="rect">
            <a:avLst/>
          </a:prstGeom>
          <a:ln w="0">
            <a:noFill/>
          </a:ln>
        </p:spPr>
      </p:pic>
      <p:grpSp>
        <p:nvGrpSpPr>
          <p:cNvPr id="345" name="Группа 14"/>
          <p:cNvGrpSpPr/>
          <p:nvPr/>
        </p:nvGrpSpPr>
        <p:grpSpPr>
          <a:xfrm>
            <a:off x="4890960" y="214200"/>
            <a:ext cx="3652920" cy="4748400"/>
            <a:chOff x="4890960" y="214200"/>
            <a:chExt cx="3652920" cy="4748400"/>
          </a:xfrm>
        </p:grpSpPr>
        <p:pic>
          <p:nvPicPr>
            <p:cNvPr id="346" name="Picture 5" descr="D:\ИНФО\Рисуем на ПК в начальной школе\Безымянный4.png"/>
            <p:cNvPicPr/>
            <p:nvPr/>
          </p:nvPicPr>
          <p:blipFill>
            <a:blip r:embed="rId7"/>
            <a:stretch/>
          </p:blipFill>
          <p:spPr>
            <a:xfrm>
              <a:off x="5714280" y="214200"/>
              <a:ext cx="2829600" cy="192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Полилиния 13"/>
            <p:cNvSpPr/>
            <p:nvPr/>
          </p:nvSpPr>
          <p:spPr>
            <a:xfrm>
              <a:off x="4890960" y="1704960"/>
              <a:ext cx="1420920" cy="3257640"/>
            </a:xfrm>
            <a:custGeom>
              <a:avLst/>
              <a:gdLst/>
              <a:ahLst/>
              <a:rect l="l" t="t" r="r" b="b"/>
              <a:pathLst>
                <a:path w="1420427" h="3258104">
                  <a:moveTo>
                    <a:pt x="1420427" y="0"/>
                  </a:moveTo>
                  <a:cubicBezTo>
                    <a:pt x="1296879" y="17755"/>
                    <a:pt x="1173332" y="35510"/>
                    <a:pt x="1047565" y="230819"/>
                  </a:cubicBezTo>
                  <a:cubicBezTo>
                    <a:pt x="921798" y="426128"/>
                    <a:pt x="760520" y="757561"/>
                    <a:pt x="665825" y="1171852"/>
                  </a:cubicBezTo>
                  <a:cubicBezTo>
                    <a:pt x="571130" y="1586143"/>
                    <a:pt x="590365" y="2368858"/>
                    <a:pt x="479394" y="2716567"/>
                  </a:cubicBezTo>
                  <a:cubicBezTo>
                    <a:pt x="368423" y="3064276"/>
                    <a:pt x="184211" y="3161190"/>
                    <a:pt x="0" y="3258104"/>
                  </a:cubicBezTo>
                </a:path>
              </a:pathLst>
            </a:custGeom>
            <a:noFill/>
            <a:ln w="22320">
              <a:solidFill>
                <a:srgbClr val="0d0d0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Группа 8"/>
          <p:cNvGrpSpPr/>
          <p:nvPr/>
        </p:nvGrpSpPr>
        <p:grpSpPr>
          <a:xfrm>
            <a:off x="1357200" y="2714760"/>
            <a:ext cx="4672080" cy="3527280"/>
            <a:chOff x="1357200" y="2714760"/>
            <a:chExt cx="4672080" cy="3527280"/>
          </a:xfrm>
        </p:grpSpPr>
        <p:pic>
          <p:nvPicPr>
            <p:cNvPr id="349" name="Picture 2" descr="D:\Мои рисунки\Картинки для Office\COMPUT~1\G0303519.WMF"/>
            <p:cNvPicPr/>
            <p:nvPr/>
          </p:nvPicPr>
          <p:blipFill>
            <a:blip r:embed="rId1"/>
            <a:stretch/>
          </p:blipFill>
          <p:spPr>
            <a:xfrm>
              <a:off x="1357200" y="2714760"/>
              <a:ext cx="467208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4" descr="D:\ИНФО\Рисуем на ПК в начальной школе\Безымянный3.png"/>
            <p:cNvPicPr/>
            <p:nvPr/>
          </p:nvPicPr>
          <p:blipFill>
            <a:blip r:embed="rId2"/>
            <a:stretch/>
          </p:blipFill>
          <p:spPr>
            <a:xfrm>
              <a:off x="2428560" y="3071880"/>
              <a:ext cx="2196360" cy="1714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1" name="Прямоугольник 9" descr=""/>
          <p:cNvPicPr/>
          <p:nvPr/>
        </p:nvPicPr>
        <p:blipFill>
          <a:blip r:embed="rId3"/>
          <a:stretch/>
        </p:blipFill>
        <p:spPr>
          <a:xfrm>
            <a:off x="1925640" y="2146320"/>
            <a:ext cx="2987640" cy="577800"/>
          </a:xfrm>
          <a:prstGeom prst="rect">
            <a:avLst/>
          </a:prstGeom>
          <a:ln w="0">
            <a:noFill/>
          </a:ln>
        </p:spPr>
      </p:pic>
      <p:pic>
        <p:nvPicPr>
          <p:cNvPr id="352" name="Прямоугольник 11" descr=""/>
          <p:cNvPicPr/>
          <p:nvPr/>
        </p:nvPicPr>
        <p:blipFill>
          <a:blip r:embed="rId4"/>
          <a:stretch/>
        </p:blipFill>
        <p:spPr>
          <a:xfrm>
            <a:off x="5857920" y="4784760"/>
            <a:ext cx="2981160" cy="585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2" descr="206"/>
          <p:cNvPicPr/>
          <p:nvPr/>
        </p:nvPicPr>
        <p:blipFill>
          <a:blip r:embed="rId5"/>
          <a:stretch/>
        </p:blipFill>
        <p:spPr>
          <a:xfrm>
            <a:off x="2500200" y="142920"/>
            <a:ext cx="1928880" cy="2071800"/>
          </a:xfrm>
          <a:prstGeom prst="rect">
            <a:avLst/>
          </a:prstGeom>
          <a:ln w="9360">
            <a:solidFill>
              <a:srgbClr val="26697a"/>
            </a:solidFill>
            <a:miter/>
          </a:ln>
        </p:spPr>
      </p:pic>
      <p:pic>
        <p:nvPicPr>
          <p:cNvPr id="354" name="Picture 32" descr="206"/>
          <p:cNvPicPr/>
          <p:nvPr/>
        </p:nvPicPr>
        <p:blipFill>
          <a:blip r:embed="rId6"/>
          <a:stretch/>
        </p:blipFill>
        <p:spPr>
          <a:xfrm>
            <a:off x="2714760" y="3143160"/>
            <a:ext cx="1500120" cy="1611360"/>
          </a:xfrm>
          <a:prstGeom prst="rect">
            <a:avLst/>
          </a:prstGeom>
          <a:ln w="0">
            <a:noFill/>
          </a:ln>
        </p:spPr>
      </p:pic>
      <p:grpSp>
        <p:nvGrpSpPr>
          <p:cNvPr id="355" name="Группа 19"/>
          <p:cNvGrpSpPr/>
          <p:nvPr/>
        </p:nvGrpSpPr>
        <p:grpSpPr>
          <a:xfrm>
            <a:off x="5000760" y="1785960"/>
            <a:ext cx="3422520" cy="3214800"/>
            <a:chOff x="5000760" y="1785960"/>
            <a:chExt cx="3422520" cy="3214800"/>
          </a:xfrm>
        </p:grpSpPr>
        <p:pic>
          <p:nvPicPr>
            <p:cNvPr id="356" name="Рисунок 17" descr="iCABUK8AT.jpg"/>
            <p:cNvPicPr/>
            <p:nvPr/>
          </p:nvPicPr>
          <p:blipFill>
            <a:blip r:embed="rId7"/>
            <a:stretch/>
          </p:blipFill>
          <p:spPr>
            <a:xfrm>
              <a:off x="6572520" y="1785960"/>
              <a:ext cx="135720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Полилиния 18"/>
            <p:cNvSpPr/>
            <p:nvPr/>
          </p:nvSpPr>
          <p:spPr>
            <a:xfrm>
              <a:off x="5000760" y="2987640"/>
              <a:ext cx="342252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44" descr="237"/>
          <p:cNvPicPr/>
          <p:nvPr/>
        </p:nvPicPr>
        <p:blipFill>
          <a:blip r:embed="rId1"/>
          <a:stretch/>
        </p:blipFill>
        <p:spPr>
          <a:xfrm>
            <a:off x="1500120" y="2286000"/>
            <a:ext cx="3429000" cy="3886200"/>
          </a:xfrm>
          <a:prstGeom prst="rect">
            <a:avLst/>
          </a:prstGeom>
          <a:ln w="0">
            <a:noFill/>
          </a:ln>
        </p:spPr>
      </p:pic>
      <p:pic>
        <p:nvPicPr>
          <p:cNvPr id="359" name="Прямоугольник 9" descr=""/>
          <p:cNvPicPr/>
          <p:nvPr/>
        </p:nvPicPr>
        <p:blipFill>
          <a:blip r:embed="rId2"/>
          <a:stretch/>
        </p:blipFill>
        <p:spPr>
          <a:xfrm>
            <a:off x="2073240" y="1573200"/>
            <a:ext cx="2979720" cy="58428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оугольник 11" descr=""/>
          <p:cNvPicPr/>
          <p:nvPr/>
        </p:nvPicPr>
        <p:blipFill>
          <a:blip r:embed="rId3"/>
          <a:stretch/>
        </p:blipFill>
        <p:spPr>
          <a:xfrm>
            <a:off x="5857920" y="4071960"/>
            <a:ext cx="2981160" cy="585720"/>
          </a:xfrm>
          <a:prstGeom prst="rect">
            <a:avLst/>
          </a:prstGeom>
          <a:ln w="0">
            <a:noFill/>
          </a:ln>
        </p:spPr>
      </p:pic>
      <p:grpSp>
        <p:nvGrpSpPr>
          <p:cNvPr id="361" name="Группа 15"/>
          <p:cNvGrpSpPr/>
          <p:nvPr/>
        </p:nvGrpSpPr>
        <p:grpSpPr>
          <a:xfrm>
            <a:off x="4857840" y="1857240"/>
            <a:ext cx="3857400" cy="2643480"/>
            <a:chOff x="4857840" y="1857240"/>
            <a:chExt cx="3857400" cy="2643480"/>
          </a:xfrm>
        </p:grpSpPr>
        <p:pic>
          <p:nvPicPr>
            <p:cNvPr id="362" name="Рисунок 13" descr="iCAMTOHLW.jpg"/>
            <p:cNvPicPr/>
            <p:nvPr/>
          </p:nvPicPr>
          <p:blipFill>
            <a:blip r:embed="rId4"/>
            <a:stretch/>
          </p:blipFill>
          <p:spPr>
            <a:xfrm>
              <a:off x="5286240" y="1857240"/>
              <a:ext cx="2882520" cy="149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Полилиния 18"/>
            <p:cNvSpPr/>
            <p:nvPr/>
          </p:nvSpPr>
          <p:spPr>
            <a:xfrm>
              <a:off x="4857840" y="2487600"/>
              <a:ext cx="3857400" cy="2013120"/>
            </a:xfrm>
            <a:custGeom>
              <a:avLst/>
              <a:gdLst/>
              <a:ahLst/>
              <a:rect l="l" t="t" r="r" b="b"/>
              <a:pathLst>
                <a:path w="3422342" h="2012272">
                  <a:moveTo>
                    <a:pt x="2902998" y="14796"/>
                  </a:moveTo>
                  <a:cubicBezTo>
                    <a:pt x="2994734" y="7398"/>
                    <a:pt x="3086470" y="0"/>
                    <a:pt x="3142695" y="76940"/>
                  </a:cubicBezTo>
                  <a:cubicBezTo>
                    <a:pt x="3198920" y="153880"/>
                    <a:pt x="3422342" y="290004"/>
                    <a:pt x="3240350" y="476435"/>
                  </a:cubicBezTo>
                  <a:cubicBezTo>
                    <a:pt x="3058358" y="662866"/>
                    <a:pt x="2519779" y="979504"/>
                    <a:pt x="2050742" y="1195527"/>
                  </a:cubicBezTo>
                  <a:cubicBezTo>
                    <a:pt x="1581705" y="1411550"/>
                    <a:pt x="767918" y="1636451"/>
                    <a:pt x="426128" y="1772575"/>
                  </a:cubicBezTo>
                  <a:cubicBezTo>
                    <a:pt x="84338" y="1908699"/>
                    <a:pt x="42169" y="1960485"/>
                    <a:pt x="0" y="2012272"/>
                  </a:cubicBezTo>
                </a:path>
              </a:pathLst>
            </a:custGeom>
            <a:noFill/>
            <a:ln w="2232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Прямоугольник 22"/>
          <p:cNvSpPr/>
          <p:nvPr/>
        </p:nvSpPr>
        <p:spPr>
          <a:xfrm>
            <a:off x="1857240" y="357120"/>
            <a:ext cx="3500640" cy="1067400"/>
          </a:xfrm>
          <a:prstGeom prst="rect">
            <a:avLst/>
          </a:prstGeom>
          <a:noFill/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оугольник 23"/>
          <p:cNvSpPr/>
          <p:nvPr/>
        </p:nvSpPr>
        <p:spPr>
          <a:xfrm>
            <a:off x="1928880" y="2857680"/>
            <a:ext cx="264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тихи. Ночной тиши отрад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стыла за окошком темь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увств разноцветие награда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не за в тисках зажатый ден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"/>
          <p:cNvSpPr/>
          <p:nvPr/>
        </p:nvSpPr>
        <p:spPr>
          <a:xfrm>
            <a:off x="4643280" y="4629960"/>
            <a:ext cx="45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—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компьютерное устройство, которое располагается перед экраном дисплея и служит для набора текстов и управления компьютером с помощью клавиш, находящихся на клавиату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22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,-72,-2)"/>
                                          </p:val>
                                        </p:tav>
                                        <p:tav tm="50000">
                                          <p:val>
                                            <p:strVal val="rgb(101,-57,-11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Группы клавиш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8" name="Picture 2" descr="E:\Плакаты\Знакомство с клавиатурой.jpg"/>
          <p:cNvPicPr/>
          <p:nvPr/>
        </p:nvPicPr>
        <p:blipFill>
          <a:blip r:embed="rId1"/>
          <a:stretch/>
        </p:blipFill>
        <p:spPr>
          <a:xfrm>
            <a:off x="1928880" y="2500200"/>
            <a:ext cx="5929200" cy="22068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5"/>
          <p:cNvSpPr/>
          <p:nvPr/>
        </p:nvSpPr>
        <p:spPr>
          <a:xfrm>
            <a:off x="732960" y="1285920"/>
            <a:ext cx="301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Функцион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6"/>
          <p:cNvSpPr/>
          <p:nvPr/>
        </p:nvSpPr>
        <p:spPr>
          <a:xfrm>
            <a:off x="3224160" y="5286240"/>
            <a:ext cx="230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Симво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95959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7"/>
          <p:cNvSpPr/>
          <p:nvPr/>
        </p:nvSpPr>
        <p:spPr>
          <a:xfrm>
            <a:off x="5857920" y="5000760"/>
            <a:ext cx="3071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упра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b050"/>
                </a:solidFill>
                <a:latin typeface="Arial"/>
              </a:rPr>
              <a:t>курсор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8"/>
          <p:cNvSpPr/>
          <p:nvPr/>
        </p:nvSpPr>
        <p:spPr>
          <a:xfrm>
            <a:off x="5724000" y="1214280"/>
            <a:ext cx="305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Дополнитель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c8300"/>
                </a:solidFill>
                <a:latin typeface="Arial"/>
              </a:rPr>
              <a:t>клавиат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9"/>
          <p:cNvSpPr/>
          <p:nvPr/>
        </p:nvSpPr>
        <p:spPr>
          <a:xfrm>
            <a:off x="301680" y="5286240"/>
            <a:ext cx="246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Специаль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ави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4" name="Прямая со стрелкой 11"/>
          <p:cNvCxnSpPr/>
          <p:nvPr/>
        </p:nvCxnSpPr>
        <p:spPr>
          <a:xfrm flipH="1">
            <a:off x="3142440" y="1785960"/>
            <a:ext cx="72360" cy="100080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3214800" y="1785600"/>
            <a:ext cx="100080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6" name="Прямая со стрелкой 18"/>
          <p:cNvCxnSpPr/>
          <p:nvPr/>
        </p:nvCxnSpPr>
        <p:spPr>
          <a:xfrm>
            <a:off x="3214800" y="1785600"/>
            <a:ext cx="2000880" cy="1072440"/>
          </a:xfrm>
          <a:prstGeom prst="straightConnector1">
            <a:avLst/>
          </a:prstGeom>
          <a:ln w="255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77" name="Прямая со стрелкой 20"/>
          <p:cNvCxnSpPr/>
          <p:nvPr/>
        </p:nvCxnSpPr>
        <p:spPr>
          <a:xfrm flipH="1">
            <a:off x="7214760" y="2071440"/>
            <a:ext cx="215280" cy="1143720"/>
          </a:xfrm>
          <a:prstGeom prst="straightConnector1">
            <a:avLst/>
          </a:prstGeom>
          <a:ln w="25560">
            <a:solidFill>
              <a:srgbClr val="ffc000"/>
            </a:solidFill>
            <a:miter/>
            <a:tailEnd len="med" type="arrow" w="med"/>
          </a:ln>
        </p:spPr>
      </p:cxnSp>
      <p:cxnSp>
        <p:nvCxnSpPr>
          <p:cNvPr id="378" name="Прямая со стрелкой 22"/>
          <p:cNvCxnSpPr/>
          <p:nvPr/>
        </p:nvCxnSpPr>
        <p:spPr>
          <a:xfrm flipV="1">
            <a:off x="1856160" y="4428720"/>
            <a:ext cx="358200" cy="1000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79" name="Прямая со стрелкой 25"/>
          <p:cNvCxnSpPr/>
          <p:nvPr/>
        </p:nvCxnSpPr>
        <p:spPr>
          <a:xfrm flipV="1">
            <a:off x="1857240" y="4357440"/>
            <a:ext cx="3501360" cy="1072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80" name="Прямая со стрелкой 28"/>
          <p:cNvCxnSpPr/>
          <p:nvPr/>
        </p:nvCxnSpPr>
        <p:spPr>
          <a:xfrm flipH="1" flipV="1">
            <a:off x="3928320" y="4285440"/>
            <a:ext cx="143640" cy="1143720"/>
          </a:xfrm>
          <a:prstGeom prst="straightConnector1">
            <a:avLst/>
          </a:prstGeom>
          <a:ln w="25560">
            <a:solidFill>
              <a:srgbClr val="7f7f7f"/>
            </a:solidFill>
            <a:miter/>
            <a:tailEnd len="med" type="arrow" w="med"/>
          </a:ln>
        </p:spPr>
      </p:cxnSp>
      <p:cxnSp>
        <p:nvCxnSpPr>
          <p:cNvPr id="381" name="Прямая со стрелкой 30"/>
          <p:cNvCxnSpPr/>
          <p:nvPr/>
        </p:nvCxnSpPr>
        <p:spPr>
          <a:xfrm flipH="1" flipV="1">
            <a:off x="6357240" y="4571640"/>
            <a:ext cx="214920" cy="92952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382" name="Прямая со стрелкой 34"/>
          <p:cNvCxnSpPr/>
          <p:nvPr/>
        </p:nvCxnSpPr>
        <p:spPr>
          <a:xfrm flipH="1" flipV="1">
            <a:off x="6500520" y="3785400"/>
            <a:ext cx="72000" cy="1715400"/>
          </a:xfrm>
          <a:prstGeom prst="straightConnector1">
            <a:avLst/>
          </a:prstGeom>
          <a:ln w="25560">
            <a:solidFill>
              <a:srgbClr val="00b05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357200" y="12139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- в различных программах могут выполнять разные функци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85" name="Picture 6" descr="C:\Documents and Settings\Andrey\Мои документы\Мои рисунки\fkeyoverview.gif"/>
          <p:cNvPicPr/>
          <p:nvPr/>
        </p:nvPicPr>
        <p:blipFill>
          <a:blip r:embed="rId1"/>
          <a:srcRect l="4308" t="17856" r="5170" b="15812"/>
          <a:stretch/>
        </p:blipFill>
        <p:spPr>
          <a:xfrm>
            <a:off x="2714760" y="2428920"/>
            <a:ext cx="4673520" cy="192888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  <p:pic>
        <p:nvPicPr>
          <p:cNvPr id="386" name="Picture 7" descr="C:\Documents and Settings\Andrey\Мои документы\Мои рисунки\fkeyoverview_ctrl2.gif"/>
          <p:cNvPicPr/>
          <p:nvPr/>
        </p:nvPicPr>
        <p:blipFill>
          <a:blip r:embed="rId2"/>
          <a:srcRect l="6633" t="45073" r="11737" b="10526"/>
          <a:stretch/>
        </p:blipFill>
        <p:spPr>
          <a:xfrm>
            <a:off x="2714760" y="4684680"/>
            <a:ext cx="4643280" cy="1959120"/>
          </a:xfrm>
          <a:prstGeom prst="rect">
            <a:avLst/>
          </a:prstGeom>
          <a:ln w="9360">
            <a:solidFill>
              <a:srgbClr val="3891a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70c0"/>
                </a:solidFill>
                <a:latin typeface="Corbel"/>
              </a:rPr>
              <a:t>Функцион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8" name="Прямоугольник 5"/>
          <p:cNvSpPr/>
          <p:nvPr/>
        </p:nvSpPr>
        <p:spPr>
          <a:xfrm>
            <a:off x="1428840" y="1214280"/>
            <a:ext cx="7215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rton Comma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помощ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зывает меню пользовател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просмотр содержим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редактирование текстового файла (на нем должен стоять указател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копирование файла, директории или группы файлов и (или) дирек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 - переименование или (и) пересылка файлов, директорий или групп файлов и ( 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создание под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удаление фалов, директорий или групп файлов и (или) директор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 - выводит в верхней части экрана управляющее мен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 и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on Comman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28480" y="-3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5050"/>
                </a:solidFill>
                <a:latin typeface="Corbel"/>
              </a:rPr>
              <a:t>Специальные клавиш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358040" y="3143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9"/>
          <p:cNvSpPr/>
          <p:nvPr/>
        </p:nvSpPr>
        <p:spPr>
          <a:xfrm>
            <a:off x="1714680" y="300024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071720" y="41432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здание скриншота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зображения экра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1"/>
          <p:cNvSpPr/>
          <p:nvPr/>
        </p:nvSpPr>
        <p:spPr>
          <a:xfrm>
            <a:off x="4500720" y="1071720"/>
            <a:ext cx="83808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214280" y="2071800"/>
            <a:ext cx="771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аз от исполнения команды, выход из программы, из мен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13"/>
          <p:cNvSpPr/>
          <p:nvPr/>
        </p:nvSpPr>
        <p:spPr>
          <a:xfrm>
            <a:off x="4500720" y="4286160"/>
            <a:ext cx="83808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4"/>
          <p:cNvSpPr/>
          <p:nvPr/>
        </p:nvSpPr>
        <p:spPr>
          <a:xfrm>
            <a:off x="3071880" y="52862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жит для переключения режима работы в некоторых программ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6081840" y="4143240"/>
            <a:ext cx="30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остановка выполняемого действ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298" nodeType="clickEffect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305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312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319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formatika</dc:creator>
  <dc:description/>
  <dc:language>en-US</dc:language>
  <cp:lastModifiedBy>Ирина</cp:lastModifiedBy>
  <dcterms:modified xsi:type="dcterms:W3CDTF">2020-04-18T16:26:33Z</dcterms:modified>
  <cp:revision>144</cp:revision>
  <dc:subject/>
  <dc:title>Слайд 1</dc:title>
</cp:coreProperties>
</file>