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8729-A7CC-47F7-B040-96CC71B32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77C6-AB24-42C5-B0D1-C519AEEF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A284-5365-4A83-B432-8D6719D3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F02-2000-44DA-BB7A-48EC0CE5C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9D43A-8628-440A-8399-09E775A33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87BF8-5C00-44EC-8AFC-04140FD6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DC66-0B10-4A25-861C-FE0593B1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4971C-BE24-4E1B-92F8-EE990544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A279-F508-4F0A-B874-950A0D34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4BF1-BF21-4450-A9AE-614FCFC8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5C8C-6589-4D18-B168-314B575A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88D-5834-4E56-A923-BB8E0FFC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67E0-D95D-4747-9D84-4A436264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14E35-202A-4762-A846-4AD1FB4E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1A555-6057-4608-BEE0-A6AC5351A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D323-7E19-4495-BCDD-46D003818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2D20-A641-4A6C-B512-F36A5329D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87AE9-86A6-4BF5-838E-C45ABE7E5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4249-98FE-4AAF-AD20-34B7DFBF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79AA4-44EE-416D-AF02-53059918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C3E82-0D21-4ABC-841C-E3B0D933F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1E599-5626-4837-B750-03937715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CBA2-221B-4EC8-B67A-297D9363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37BEB-D120-4853-921E-3FBD48FC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D7E87-4139-4E45-BA71-275972A5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CCB25-7A84-4F6A-AF78-B83572B7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C7333-E266-4951-972B-7F015BD7B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78805E-9871-4950-BCE3-A977019C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D6016-7E44-4400-A2A7-D0445D900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38CC9-A19C-4D46-96B9-3A3D1A711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9B5AE-0CA1-4A06-A830-181C62AE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2B34F-C15B-4F86-B0C4-6FA9062A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D9AB97-E96C-44DE-A40A-7D92A78E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D7E2-255A-4F2F-9500-9646055E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22F23-4346-4CF7-82DC-DA0A173D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EA226-0383-45BF-A51E-69400CFF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78450-C227-4FF2-9AE6-31520A54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D419A-2578-46DC-BB73-EF9DD624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9F958-0DCF-443E-A939-D1547DB7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E9C7-D42C-47C4-AFE0-8598BEA3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5B2B2-BAA6-4CA5-B747-B8809774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E2A0C-076C-4CE8-AEE9-CAE7438A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EEC4F-6B57-4E26-A2FA-B07BBD8DF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CA44-A4DE-4722-85AC-0B5EF834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B9C-3372-48D8-86CA-99EE1E5D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540E-F8C1-4CBF-8349-FA8963EDF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A30-CE80-44C3-8FA7-3F48CEA4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311B-31C3-4780-BAA3-47BA2667A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47AB-FA4F-494E-BDE9-3B32364C656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7F086-5DE9-4FFB-95DB-35107A7BF5AD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F3408-98A5-45F4-A54A-ED06354E1F8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01C9E-AB92-4866-85C5-456FFFF7D857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79600" y="2097000"/>
            <a:ext cx="810720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9" descr="Клавиатура1"/>
          <p:cNvPicPr/>
          <p:nvPr/>
        </p:nvPicPr>
        <p:blipFill>
          <a:blip r:embed="rId1"/>
          <a:srcRect l="873" t="4364" r="820" b="4463"/>
          <a:stretch/>
        </p:blipFill>
        <p:spPr>
          <a:xfrm>
            <a:off x="9360" y="1857240"/>
            <a:ext cx="912528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Домашнее задание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8" name="TextBox 3" descr=""/>
          <p:cNvPicPr/>
          <p:nvPr/>
        </p:nvPicPr>
        <p:blipFill>
          <a:blip r:embed="rId1"/>
          <a:stretch/>
        </p:blipFill>
        <p:spPr>
          <a:xfrm>
            <a:off x="781200" y="2389320"/>
            <a:ext cx="749772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4T10:30:51Z</dcterms:created>
  <dc:creator>Nataly</dc:creator>
  <dc:description/>
  <dc:language>en-US</dc:language>
  <cp:lastModifiedBy>JohnnyB</cp:lastModifiedBy>
  <dcterms:modified xsi:type="dcterms:W3CDTF">2013-09-24T04:16:07Z</dcterms:modified>
  <cp:revision>3</cp:revision>
  <dc:subject/>
  <dc:title>Слайд 1</dc:title>
</cp:coreProperties>
</file>