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CA6-6F5A-4AE8-9CD5-22DC617E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706-28CA-4250-9B68-7EE67F44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1C0-0E0F-4766-9D3A-FD0FC6E4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8D7-70FC-45F5-8424-AC3389E0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6092-AA15-47B8-B570-DA1F7295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6FB6-3E31-4BD7-85A5-5F883F76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F641-9994-493D-8459-E666E97F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C1B3-A05B-468D-92F4-3D5171C3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6766-FAF4-4CAC-BBAC-1B4C127E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CDCB-AC9F-45C0-B651-ADFCEA2D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8BC5-915A-4755-8D7F-CD89C40A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D24-37B4-47D1-800A-F80FD354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C84D-427E-4E9F-A5D1-79CADA3E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D50A-3342-4F74-A0A3-670A0271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7787-B04D-4413-A997-37B6C7AC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B011-3FA7-40B7-9771-FA7DFF81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DA6F-3A54-4938-9C08-A2F61DA9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43241-8CB8-4ADA-BD2D-87C99CB2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67F5-3A70-4285-B837-22C6A58E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7A67E-81B4-4F99-B2A8-C9A0D5F1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6C23-354D-44EC-A5E4-D6B9E07A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2AB3E-C29C-47B8-80F8-78AD5EBC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405-2112-4BF1-9A18-6CBEAABC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E0AD6-6A9B-487C-9B73-80B27A9A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9E137-021D-4432-9501-7AC057D3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AF6FA-2B18-4FFA-B60E-5D903CFE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F7A75-1FAD-4110-B677-E23FFD73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C78FA-8579-42C6-8C2E-A2223BA9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06874-4569-426E-8E16-E8CB0788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80537-0D10-425D-9632-D498BB28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A0599-33F1-4097-818A-5C83B2A6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0C27C-57F3-4AF8-A42D-8EB04DB8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184FE-0A73-45C6-912F-1EF417E5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53B-90C5-4B5C-953C-330822ED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3EFEB-6C7D-46A1-9B66-44EBBAAD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4C180-4207-4CD4-839A-D5A55001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B18E5-3810-4E0C-BF4B-F55A0F8A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B586B-289C-4F29-BED4-E3227F65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9DB45-91F0-4D70-94E2-52934637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747E3-1E62-460A-B940-1EAB34D8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D5B43-D4A0-4EFE-B8D1-AC7F0CD1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33ACB-A7AD-4C93-A789-69189156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4D55E-F3B0-40C4-B74B-4403CE24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6B7-7E4F-4EF8-A8BE-607DAAA0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ACA-CA83-40ED-B8C8-2188BE2F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86A-0EA5-400F-97E8-38F507BB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C5D-DB5E-4883-BD9A-AABE5ACD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784-AFBB-45BB-91AC-E13F0109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415E-3045-4CB6-BC40-22F6277D042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8CA9-65EF-4A5B-B23C-2719690916B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03ED-AE38-4454-A7B7-E7D8E32EAC9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2F5C-C4E7-4D4A-AF30-73071F63DE7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79600" y="2097000"/>
            <a:ext cx="81072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9" descr="Клавиатура1"/>
          <p:cNvPicPr/>
          <p:nvPr/>
        </p:nvPicPr>
        <p:blipFill>
          <a:blip r:embed="rId1"/>
          <a:srcRect l="873" t="4364" r="820" b="4463"/>
          <a:stretch/>
        </p:blipFill>
        <p:spPr>
          <a:xfrm>
            <a:off x="9360" y="1857240"/>
            <a:ext cx="91252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TextBox 3" descr=""/>
          <p:cNvPicPr/>
          <p:nvPr/>
        </p:nvPicPr>
        <p:blipFill>
          <a:blip r:embed="rId1"/>
          <a:stretch/>
        </p:blipFill>
        <p:spPr>
          <a:xfrm>
            <a:off x="781200" y="2389320"/>
            <a:ext cx="7497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0:30:51Z</dcterms:created>
  <dc:creator>Nataly</dc:creator>
  <dc:description/>
  <dc:language>en-US</dc:language>
  <cp:lastModifiedBy>JohnnyB</cp:lastModifiedBy>
  <dcterms:modified xsi:type="dcterms:W3CDTF">2013-09-24T04:16:07Z</dcterms:modified>
  <cp:revision>3</cp:revision>
  <dc:subject/>
  <dc:title>Слайд 1</dc:title>
</cp:coreProperties>
</file>