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33B-4310-485D-9C41-1A80C3F1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E86-37DF-4952-953B-37E49F0B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950-390D-4F70-A5D8-E8E7CADE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70D-C981-4930-A3A8-EFEE55BC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D528-FA74-4116-AE92-45AFD906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E3D9-4E1E-4698-B26A-5541A946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0631-A355-49DE-97FF-4217DE4D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8110-10FE-4CC9-89A5-BDA29919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CE61-4982-49BD-A629-2255EE9B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7CF8-4114-4488-B9A1-9EF088E7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6AE6-656B-4B61-81F9-C58124AE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F9F-DCD5-473C-AA30-0D329E86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29FC-712B-4369-8484-F14FAAAA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3F6A-201F-4C1F-AA97-62EB3552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C7C2-EF32-46EB-B7C6-AC6FFE98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A5A1-F4DD-454A-B934-E303F4F9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16C3-7A2F-4228-B422-65547F15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F7C1B-571B-47DF-BC74-87753496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1275B-2406-42CC-91C6-D4CF56B1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33BC-1020-45F1-86C7-1527A474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279D-CA9A-4AD7-BE9E-68296095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38345-E608-4A12-B6D5-2B665C0F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FD3-16C7-4A48-BA15-0FD066AE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AAD91-60B5-4880-9BAB-680B0428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9AC6F-E9F6-4ECD-A4DC-0F60F56B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E03E-B6A1-4C7E-9EBE-746EC951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6E50-7ED5-452D-902A-315B5781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BE59F-3C4A-4658-AFF7-8BC8DF9F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6B91-2910-4C95-8B8D-7ED35692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C2601-E852-4585-96F7-8A5417FD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5394D-51F4-4217-B57D-38C9E2E7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DA116-733F-48EE-95DB-C14B4A82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34B15-1B75-4CE6-94AC-8FF55C27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497-50EA-4FE1-920A-D19227A3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4C549-3A0B-48F4-9514-17798F87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691F1-6382-4B1A-945E-7CD7A3C9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53304-EDED-4433-92AC-081A2552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DAE5C-8E2A-48B7-8036-645A78E9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B84E1-A912-4B7A-8C80-14D9BE40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06DB5-181D-47ED-873D-C1EEE959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F32F-A99B-47F2-8A2A-03019709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42350-8922-4064-B895-F8FFF0F2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719E7-D3DC-48D3-91C8-6094DE57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E83-2685-4FA2-8983-C13D7664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818-B022-4706-8E61-49F18B92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C0A-ABCA-4891-A956-24F80513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DF6-6D43-4715-AE79-68DFD660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E91-B5EB-416D-94B2-07D14136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C720-6941-4D66-8028-2396A884F35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42E6-1EE3-4DB4-AECC-E6FCD0C42F7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94B2-6AA7-47D9-A5FF-64B8AEAEC9C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9355-103C-45FD-9E21-3F305F0ED2B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79600" y="2097000"/>
            <a:ext cx="81072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9" descr="Клавиатура1"/>
          <p:cNvPicPr/>
          <p:nvPr/>
        </p:nvPicPr>
        <p:blipFill>
          <a:blip r:embed="rId1"/>
          <a:srcRect l="873" t="4364" r="820" b="4463"/>
          <a:stretch/>
        </p:blipFill>
        <p:spPr>
          <a:xfrm>
            <a:off x="9360" y="1857240"/>
            <a:ext cx="91252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TextBox 3" descr=""/>
          <p:cNvPicPr/>
          <p:nvPr/>
        </p:nvPicPr>
        <p:blipFill>
          <a:blip r:embed="rId1"/>
          <a:stretch/>
        </p:blipFill>
        <p:spPr>
          <a:xfrm>
            <a:off x="781200" y="2389320"/>
            <a:ext cx="7497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0:30:51Z</dcterms:created>
  <dc:creator>Nataly</dc:creator>
  <dc:description/>
  <dc:language>en-US</dc:language>
  <cp:lastModifiedBy>JohnnyB</cp:lastModifiedBy>
  <dcterms:modified xsi:type="dcterms:W3CDTF">2013-09-24T04:16:07Z</dcterms:modified>
  <cp:revision>3</cp:revision>
  <dc:subject/>
  <dc:title>Слайд 1</dc:title>
</cp:coreProperties>
</file>