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55C1-38E5-4CD0-81F2-38FC87884D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386A7-E07F-4CE3-8191-7011ABBB5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7F0C-58AD-4387-9B65-E5F88F0D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955-2FC9-4DFE-A083-50A43411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D4F6-2884-47C8-A773-0610D0251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1A08-75BF-478B-BA1E-B7B550A5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7B80-96E0-425B-94C1-7F99925A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E67D-036D-4280-9477-276EC1A9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884C-C06F-403D-BCF7-A3F289A6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73D4-31E7-45E9-B64D-832966260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F5DEB-1B2D-45F8-A276-DD406AA18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50E2E-C885-4B5E-80A5-4D57812BA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D097-8E92-42B0-B2E6-C0C07315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8A48-9723-484F-8E45-83D75DE5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0D1D7-2B8A-4FAD-85FC-EFF29C9D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F63B-3894-4A32-9E37-8D54003E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CD7EE-1CD9-460E-82CC-FE1C1FFB6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78009-A0D1-4F6D-BF9F-4B892B574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DC57-A011-48FF-A304-B040525F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316E-F6CD-4B0C-85DE-973452E1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385B-1AA5-48A1-B2F8-D5C6029E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BC0B-F32F-42B2-80F3-DB20A52E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442F-61A1-46DA-A432-F570779A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2EE0-CA9A-4FD0-B0A9-ED565F2F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C9CB-DE9C-4862-A958-1E146559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2234-045C-44CE-AC11-4603D995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123F-9ED7-4299-A53C-C008A6FD123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66A1C-85E2-47BB-A8D0-C7E4763DF26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51240"/>
            <a:ext cx="8229600" cy="179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ru-RU" sz="8000" spc="-1" strike="noStrike">
                <a:solidFill>
                  <a:srgbClr val="00b0f0"/>
                </a:solidFill>
                <a:latin typeface="Impact"/>
              </a:rPr>
              <a:t>Текст как форма  представления информации</a:t>
            </a:r>
            <a:br>
              <a:rPr sz="8000"/>
            </a:br>
            <a:endParaRPr b="0" lang="en-US" sz="8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059280" y="1413000"/>
            <a:ext cx="2842920" cy="37447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2"/>
          <a:stretch/>
        </p:blipFill>
        <p:spPr>
          <a:xfrm>
            <a:off x="6084720" y="2924280"/>
            <a:ext cx="2880000" cy="3679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3"/>
          <a:stretch/>
        </p:blipFill>
        <p:spPr>
          <a:xfrm>
            <a:off x="324000" y="3041640"/>
            <a:ext cx="2619360" cy="381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7" name="Object 7"/>
          <p:cNvGraphicFramePr/>
          <p:nvPr/>
        </p:nvGraphicFramePr>
        <p:xfrm>
          <a:off x="324000" y="260280"/>
          <a:ext cx="2555640" cy="2648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4000" y="260280"/>
                    <a:ext cx="2555640" cy="26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9" descr="иван фёдоров"/>
          <p:cNvPicPr/>
          <p:nvPr/>
        </p:nvPicPr>
        <p:blipFill>
          <a:blip r:embed="rId6"/>
          <a:stretch/>
        </p:blipFill>
        <p:spPr>
          <a:xfrm>
            <a:off x="5940360" y="549360"/>
            <a:ext cx="274320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Иван Фёдоров -первый русский книгопечатни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4929120" y="928800"/>
            <a:ext cx="3571920" cy="50403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1289520" y="5286240"/>
            <a:ext cx="332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мятник Ивану Федоров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Текст – одна из наиболее распространенных форм представления информации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Arial"/>
              </a:rPr>
              <a:t>Текст – это словесное высказывание (написанное, напечатанное, в устной форме)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7040" y="34560"/>
            <a:ext cx="8533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Garamond"/>
              </a:rPr>
              <a:t>Компьютер-  универсальное средство для работы с текстовой информацией.</a:t>
            </a:r>
            <a:br>
              <a:rPr sz="4400"/>
            </a:b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8920" y="2327400"/>
            <a:ext cx="8697960" cy="38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ьютер «научился» работать с текст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70-е годы прошлого века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ьзователь получил возможность редактировать и форматировать текстовые доку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стоящее время большая часть компьютеров и большая часть времени используется для работы именно с текстовыми да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0343361"/>
          <p:cNvPicPr/>
          <p:nvPr/>
        </p:nvPicPr>
        <p:blipFill>
          <a:blip r:embed="rId1"/>
          <a:stretch/>
        </p:blipFill>
        <p:spPr>
          <a:xfrm>
            <a:off x="7524720" y="5527800"/>
            <a:ext cx="1352520" cy="13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Garamond"/>
              </a:rPr>
              <a:t>Преимущества компьютерного текста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В чем заключается преимущества создания текстового документа с помощью компьютера?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Рис_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857680" y="3857760"/>
            <a:ext cx="27255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0000"/>
                </a:solidFill>
                <a:latin typeface="Garamond"/>
              </a:rPr>
              <a:t>Текст – эт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71636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оследовательность символов, которые хранит, обрабатывает и передает по информационным канала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052640"/>
            <a:ext cx="403848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способ  хранения и передачи информации другим людя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6"/>
          <p:cNvSpPr/>
          <p:nvPr/>
        </p:nvSpPr>
        <p:spPr>
          <a:xfrm>
            <a:off x="4716360" y="1268280"/>
            <a:ext cx="0" cy="4969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9" descr="j0233018"/>
          <p:cNvPicPr/>
          <p:nvPr/>
        </p:nvPicPr>
        <p:blipFill>
          <a:blip r:embed="rId1"/>
          <a:stretch/>
        </p:blipFill>
        <p:spPr>
          <a:xfrm>
            <a:off x="5364000" y="3429000"/>
            <a:ext cx="2575080" cy="2614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j0285750"/>
          <p:cNvPicPr/>
          <p:nvPr/>
        </p:nvPicPr>
        <p:blipFill>
          <a:blip r:embed="rId2"/>
          <a:stretch/>
        </p:blipFill>
        <p:spPr>
          <a:xfrm>
            <a:off x="539640" y="4365720"/>
            <a:ext cx="381636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932720" y="-171360"/>
            <a:ext cx="4210920" cy="4463280"/>
            <a:chOff x="4932720" y="-171360"/>
            <a:chExt cx="4210920" cy="4463280"/>
          </a:xfrm>
        </p:grpSpPr>
        <p:grpSp>
          <p:nvGrpSpPr>
            <p:cNvPr id="118" name="Group 3"/>
            <p:cNvGrpSpPr/>
            <p:nvPr/>
          </p:nvGrpSpPr>
          <p:grpSpPr>
            <a:xfrm>
              <a:off x="4932720" y="-171360"/>
              <a:ext cx="4210920" cy="4463280"/>
              <a:chOff x="4932720" y="-171360"/>
              <a:chExt cx="4210920" cy="4463280"/>
            </a:xfrm>
          </p:grpSpPr>
          <p:sp>
            <p:nvSpPr>
              <p:cNvPr id="119" name="Freeform 4"/>
              <p:cNvSpPr/>
              <p:nvPr/>
            </p:nvSpPr>
            <p:spPr>
              <a:xfrm flipH="1">
                <a:off x="4932360" y="-171360"/>
                <a:ext cx="4210920" cy="4463280"/>
              </a:xfrm>
              <a:custGeom>
                <a:avLst/>
                <a:gdLst/>
                <a:ahLst/>
                <a:rect l="l" t="t" r="r" b="b"/>
                <a:pathLst>
                  <a:path w="3800" h="3840">
                    <a:moveTo>
                      <a:pt x="3760" y="3060"/>
                    </a:moveTo>
                    <a:lnTo>
                      <a:pt x="1155" y="3840"/>
                    </a:lnTo>
                    <a:lnTo>
                      <a:pt x="970" y="3782"/>
                    </a:lnTo>
                    <a:lnTo>
                      <a:pt x="753" y="2970"/>
                    </a:lnTo>
                    <a:lnTo>
                      <a:pt x="279" y="3158"/>
                    </a:lnTo>
                    <a:lnTo>
                      <a:pt x="169" y="3037"/>
                    </a:lnTo>
                    <a:lnTo>
                      <a:pt x="518" y="2257"/>
                    </a:lnTo>
                    <a:lnTo>
                      <a:pt x="0" y="641"/>
                    </a:lnTo>
                    <a:lnTo>
                      <a:pt x="162" y="543"/>
                    </a:lnTo>
                    <a:lnTo>
                      <a:pt x="3267" y="0"/>
                    </a:lnTo>
                    <a:lnTo>
                      <a:pt x="3715" y="2733"/>
                    </a:lnTo>
                    <a:lnTo>
                      <a:pt x="3800" y="2708"/>
                    </a:lnTo>
                    <a:lnTo>
                      <a:pt x="3800" y="2711"/>
                    </a:lnTo>
                    <a:lnTo>
                      <a:pt x="3800" y="2725"/>
                    </a:lnTo>
                    <a:lnTo>
                      <a:pt x="3798" y="2742"/>
                    </a:lnTo>
                    <a:lnTo>
                      <a:pt x="3794" y="2767"/>
                    </a:lnTo>
                    <a:lnTo>
                      <a:pt x="3787" y="2796"/>
                    </a:lnTo>
                    <a:lnTo>
                      <a:pt x="3777" y="2827"/>
                    </a:lnTo>
                    <a:lnTo>
                      <a:pt x="3762" y="2858"/>
                    </a:lnTo>
                    <a:lnTo>
                      <a:pt x="3740" y="2891"/>
                    </a:lnTo>
                    <a:lnTo>
                      <a:pt x="3760" y="306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"/>
              <p:cNvSpPr/>
              <p:nvPr/>
            </p:nvSpPr>
            <p:spPr>
              <a:xfrm flipH="1">
                <a:off x="7986960" y="586080"/>
                <a:ext cx="1019520" cy="3410280"/>
              </a:xfrm>
              <a:custGeom>
                <a:avLst/>
                <a:gdLst/>
                <a:ahLst/>
                <a:rect l="l" t="t" r="r" b="b"/>
                <a:pathLst>
                  <a:path w="922" h="2931">
                    <a:moveTo>
                      <a:pt x="108" y="0"/>
                    </a:moveTo>
                    <a:lnTo>
                      <a:pt x="0" y="61"/>
                    </a:lnTo>
                    <a:lnTo>
                      <a:pt x="884" y="2910"/>
                    </a:lnTo>
                    <a:lnTo>
                      <a:pt x="922" y="293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2663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6"/>
              <p:cNvSpPr/>
              <p:nvPr/>
            </p:nvSpPr>
            <p:spPr>
              <a:xfrm flipH="1">
                <a:off x="8589960" y="2690280"/>
                <a:ext cx="259200" cy="687960"/>
              </a:xfrm>
              <a:custGeom>
                <a:avLst/>
                <a:gdLst/>
                <a:ahLst/>
                <a:rect l="l" t="t" r="r" b="b"/>
                <a:pathLst>
                  <a:path w="235" h="593">
                    <a:moveTo>
                      <a:pt x="235" y="0"/>
                    </a:moveTo>
                    <a:lnTo>
                      <a:pt x="0" y="551"/>
                    </a:lnTo>
                    <a:lnTo>
                      <a:pt x="17" y="593"/>
                    </a:lnTo>
                    <a:lnTo>
                      <a:pt x="235" y="0"/>
                    </a:lnTo>
                    <a:close/>
                  </a:path>
                </a:pathLst>
              </a:custGeom>
              <a:solidFill>
                <a:srgbClr val="1951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7"/>
              <p:cNvSpPr/>
              <p:nvPr/>
            </p:nvSpPr>
            <p:spPr>
              <a:xfrm flipH="1">
                <a:off x="5182920" y="97920"/>
                <a:ext cx="3331440" cy="3606120"/>
              </a:xfrm>
              <a:custGeom>
                <a:avLst/>
                <a:gdLst/>
                <a:ahLst/>
                <a:rect l="l" t="t" r="r" b="b"/>
                <a:pathLst>
                  <a:path w="3007" h="3103">
                    <a:moveTo>
                      <a:pt x="0" y="480"/>
                    </a:moveTo>
                    <a:lnTo>
                      <a:pt x="2566" y="0"/>
                    </a:lnTo>
                    <a:lnTo>
                      <a:pt x="3007" y="2457"/>
                    </a:lnTo>
                    <a:lnTo>
                      <a:pt x="753" y="3103"/>
                    </a:lnTo>
                    <a:lnTo>
                      <a:pt x="0" y="480"/>
                    </a:lnTo>
                    <a:close/>
                  </a:path>
                </a:pathLst>
              </a:custGeom>
              <a:solidFill>
                <a:srgbClr val="eaedb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 flipH="1">
                <a:off x="7785360" y="669960"/>
                <a:ext cx="853200" cy="3022560"/>
              </a:xfrm>
              <a:custGeom>
                <a:avLst/>
                <a:gdLst/>
                <a:ahLst/>
                <a:rect l="l" t="t" r="r" b="b"/>
                <a:pathLst>
                  <a:path w="768" h="2600">
                    <a:moveTo>
                      <a:pt x="54" y="0"/>
                    </a:moveTo>
                    <a:lnTo>
                      <a:pt x="768" y="2600"/>
                    </a:lnTo>
                    <a:lnTo>
                      <a:pt x="0" y="56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9"/>
              <p:cNvSpPr/>
              <p:nvPr/>
            </p:nvSpPr>
            <p:spPr>
              <a:xfrm flipH="1">
                <a:off x="5861880" y="188640"/>
                <a:ext cx="2586240" cy="2266920"/>
              </a:xfrm>
              <a:custGeom>
                <a:avLst/>
                <a:gdLst/>
                <a:ahLst/>
                <a:rect l="l" t="t" r="r" b="b"/>
                <a:pathLst>
                  <a:path w="2335" h="1951">
                    <a:moveTo>
                      <a:pt x="446" y="1951"/>
                    </a:moveTo>
                    <a:lnTo>
                      <a:pt x="0" y="435"/>
                    </a:lnTo>
                    <a:lnTo>
                      <a:pt x="2335" y="0"/>
                    </a:lnTo>
                    <a:lnTo>
                      <a:pt x="2329" y="2"/>
                    </a:lnTo>
                    <a:lnTo>
                      <a:pt x="2312" y="6"/>
                    </a:lnTo>
                    <a:lnTo>
                      <a:pt x="2285" y="12"/>
                    </a:lnTo>
                    <a:lnTo>
                      <a:pt x="2246" y="21"/>
                    </a:lnTo>
                    <a:lnTo>
                      <a:pt x="2200" y="33"/>
                    </a:lnTo>
                    <a:lnTo>
                      <a:pt x="2146" y="48"/>
                    </a:lnTo>
                    <a:lnTo>
                      <a:pt x="2083" y="67"/>
                    </a:lnTo>
                    <a:lnTo>
                      <a:pt x="2015" y="89"/>
                    </a:lnTo>
                    <a:lnTo>
                      <a:pt x="1940" y="114"/>
                    </a:lnTo>
                    <a:lnTo>
                      <a:pt x="1861" y="143"/>
                    </a:lnTo>
                    <a:lnTo>
                      <a:pt x="1778" y="175"/>
                    </a:lnTo>
                    <a:lnTo>
                      <a:pt x="1690" y="212"/>
                    </a:lnTo>
                    <a:lnTo>
                      <a:pt x="1601" y="252"/>
                    </a:lnTo>
                    <a:lnTo>
                      <a:pt x="1509" y="297"/>
                    </a:lnTo>
                    <a:lnTo>
                      <a:pt x="1416" y="345"/>
                    </a:lnTo>
                    <a:lnTo>
                      <a:pt x="1324" y="399"/>
                    </a:lnTo>
                    <a:lnTo>
                      <a:pt x="1232" y="456"/>
                    </a:lnTo>
                    <a:lnTo>
                      <a:pt x="1141" y="518"/>
                    </a:lnTo>
                    <a:lnTo>
                      <a:pt x="1053" y="585"/>
                    </a:lnTo>
                    <a:lnTo>
                      <a:pt x="966" y="657"/>
                    </a:lnTo>
                    <a:lnTo>
                      <a:pt x="883" y="734"/>
                    </a:lnTo>
                    <a:lnTo>
                      <a:pt x="806" y="817"/>
                    </a:lnTo>
                    <a:lnTo>
                      <a:pt x="733" y="903"/>
                    </a:lnTo>
                    <a:lnTo>
                      <a:pt x="666" y="998"/>
                    </a:lnTo>
                    <a:lnTo>
                      <a:pt x="606" y="1096"/>
                    </a:lnTo>
                    <a:lnTo>
                      <a:pt x="554" y="1200"/>
                    </a:lnTo>
                    <a:lnTo>
                      <a:pt x="512" y="1310"/>
                    </a:lnTo>
                    <a:lnTo>
                      <a:pt x="477" y="1425"/>
                    </a:lnTo>
                    <a:lnTo>
                      <a:pt x="452" y="1546"/>
                    </a:lnTo>
                    <a:lnTo>
                      <a:pt x="439" y="1675"/>
                    </a:lnTo>
                    <a:lnTo>
                      <a:pt x="437" y="1810"/>
                    </a:lnTo>
                    <a:lnTo>
                      <a:pt x="446" y="1951"/>
                    </a:lnTo>
                    <a:close/>
                  </a:path>
                </a:pathLst>
              </a:custGeom>
              <a:solidFill>
                <a:srgbClr val="c6c687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10"/>
              <p:cNvSpPr/>
              <p:nvPr/>
            </p:nvSpPr>
            <p:spPr>
              <a:xfrm flipH="1">
                <a:off x="7000560" y="3684960"/>
                <a:ext cx="768960" cy="239760"/>
              </a:xfrm>
              <a:custGeom>
                <a:avLst/>
                <a:gdLst/>
                <a:ahLst/>
                <a:rect l="l" t="t" r="r" b="b"/>
                <a:pathLst>
                  <a:path w="695" h="206">
                    <a:moveTo>
                      <a:pt x="0" y="206"/>
                    </a:moveTo>
                    <a:lnTo>
                      <a:pt x="693" y="0"/>
                    </a:lnTo>
                    <a:lnTo>
                      <a:pt x="693" y="2"/>
                    </a:lnTo>
                    <a:lnTo>
                      <a:pt x="695" y="6"/>
                    </a:lnTo>
                    <a:lnTo>
                      <a:pt x="695" y="14"/>
                    </a:lnTo>
                    <a:lnTo>
                      <a:pt x="693" y="25"/>
                    </a:lnTo>
                    <a:lnTo>
                      <a:pt x="689" y="37"/>
                    </a:lnTo>
                    <a:lnTo>
                      <a:pt x="683" y="50"/>
                    </a:lnTo>
                    <a:lnTo>
                      <a:pt x="674" y="66"/>
                    </a:lnTo>
                    <a:lnTo>
                      <a:pt x="660" y="81"/>
                    </a:lnTo>
                    <a:lnTo>
                      <a:pt x="641" y="98"/>
                    </a:lnTo>
                    <a:lnTo>
                      <a:pt x="616" y="116"/>
                    </a:lnTo>
                    <a:lnTo>
                      <a:pt x="583" y="131"/>
                    </a:lnTo>
                    <a:lnTo>
                      <a:pt x="543" y="148"/>
                    </a:lnTo>
                    <a:lnTo>
                      <a:pt x="495" y="164"/>
                    </a:lnTo>
                    <a:lnTo>
                      <a:pt x="437" y="177"/>
                    </a:lnTo>
                    <a:lnTo>
                      <a:pt x="369" y="191"/>
                    </a:lnTo>
                    <a:lnTo>
                      <a:pt x="290" y="200"/>
                    </a:lnTo>
                    <a:lnTo>
                      <a:pt x="0" y="206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11"/>
              <p:cNvSpPr/>
              <p:nvPr/>
            </p:nvSpPr>
            <p:spPr>
              <a:xfrm flipH="1">
                <a:off x="5036760" y="3078360"/>
                <a:ext cx="749160" cy="241920"/>
              </a:xfrm>
              <a:custGeom>
                <a:avLst/>
                <a:gdLst/>
                <a:ahLst/>
                <a:rect l="l" t="t" r="r" b="b"/>
                <a:pathLst>
                  <a:path w="676" h="208">
                    <a:moveTo>
                      <a:pt x="0" y="199"/>
                    </a:moveTo>
                    <a:lnTo>
                      <a:pt x="676" y="0"/>
                    </a:lnTo>
                    <a:lnTo>
                      <a:pt x="676" y="2"/>
                    </a:lnTo>
                    <a:lnTo>
                      <a:pt x="674" y="6"/>
                    </a:lnTo>
                    <a:lnTo>
                      <a:pt x="670" y="14"/>
                    </a:lnTo>
                    <a:lnTo>
                      <a:pt x="664" y="25"/>
                    </a:lnTo>
                    <a:lnTo>
                      <a:pt x="657" y="37"/>
                    </a:lnTo>
                    <a:lnTo>
                      <a:pt x="645" y="52"/>
                    </a:lnTo>
                    <a:lnTo>
                      <a:pt x="630" y="68"/>
                    </a:lnTo>
                    <a:lnTo>
                      <a:pt x="612" y="83"/>
                    </a:lnTo>
                    <a:lnTo>
                      <a:pt x="587" y="100"/>
                    </a:lnTo>
                    <a:lnTo>
                      <a:pt x="558" y="118"/>
                    </a:lnTo>
                    <a:lnTo>
                      <a:pt x="524" y="135"/>
                    </a:lnTo>
                    <a:lnTo>
                      <a:pt x="483" y="152"/>
                    </a:lnTo>
                    <a:lnTo>
                      <a:pt x="435" y="168"/>
                    </a:lnTo>
                    <a:lnTo>
                      <a:pt x="379" y="183"/>
                    </a:lnTo>
                    <a:lnTo>
                      <a:pt x="318" y="197"/>
                    </a:lnTo>
                    <a:lnTo>
                      <a:pt x="247" y="208"/>
                    </a:lnTo>
                    <a:lnTo>
                      <a:pt x="0" y="199"/>
                    </a:lnTo>
                    <a:close/>
                  </a:path>
                </a:pathLst>
              </a:custGeom>
              <a:solidFill>
                <a:srgbClr val="6d6d6d"/>
              </a:solidFill>
              <a:ln w="0">
                <a:noFill/>
              </a:ln>
              <a:effectLst>
                <a:outerShdw dist="107932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" name="Text Box 12"/>
            <p:cNvSpPr/>
            <p:nvPr/>
          </p:nvSpPr>
          <p:spPr>
            <a:xfrm rot="940200">
              <a:off x="5219640" y="1072080"/>
              <a:ext cx="311472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0" spc="-1" strike="noStrike">
                  <a:solidFill>
                    <a:srgbClr val="ff0000"/>
                  </a:solidFill>
                  <a:latin typeface="Arial Narrow"/>
                </a:rPr>
                <a:t>Текст 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AutoShape 13"/>
          <p:cNvSpPr/>
          <p:nvPr/>
        </p:nvSpPr>
        <p:spPr>
          <a:xfrm>
            <a:off x="324000" y="2133720"/>
            <a:ext cx="3619440" cy="2288520"/>
          </a:xfrm>
          <a:prstGeom prst="wedgeRectCallout">
            <a:avLst>
              <a:gd name="adj1" fmla="val 114643"/>
              <a:gd name="adj2" fmla="val -59842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любое словесное высказывание, напечатанное, написанное или существующее в устной фор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4"/>
          <p:cNvSpPr/>
          <p:nvPr/>
        </p:nvSpPr>
        <p:spPr>
          <a:xfrm>
            <a:off x="826920" y="260280"/>
            <a:ext cx="3673800" cy="1252080"/>
          </a:xfrm>
          <a:prstGeom prst="wedgeRectCallout">
            <a:avLst>
              <a:gd name="adj1" fmla="val 84606"/>
              <a:gd name="adj2" fmla="val 24560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эт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форма представления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5"/>
          <p:cNvSpPr/>
          <p:nvPr/>
        </p:nvSpPr>
        <p:spPr>
          <a:xfrm>
            <a:off x="179280" y="4797360"/>
            <a:ext cx="4824360" cy="1922760"/>
          </a:xfrm>
          <a:prstGeom prst="wedgeRectCallout">
            <a:avLst>
              <a:gd name="adj1" fmla="val 90662"/>
              <a:gd name="adj2" fmla="val -183824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определенная последовательность символов. Пропуск, замена или перестановка символов в тексте изменяет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6"/>
          <p:cNvSpPr/>
          <p:nvPr/>
        </p:nvSpPr>
        <p:spPr>
          <a:xfrm flipH="1">
            <a:off x="5363280" y="4508640"/>
            <a:ext cx="3457800" cy="1800360"/>
          </a:xfrm>
          <a:prstGeom prst="wedgeRectCallout">
            <a:avLst>
              <a:gd name="adj1" fmla="val -10060"/>
              <a:gd name="adj2" fmla="val -172087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Narrow"/>
              </a:rPr>
              <a:t>удобно создавать, обрабатывать и хранить с помощью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30T05:44:31Z</dcterms:created>
  <dc:creator>Администрация</dc:creator>
  <dc:description/>
  <dc:language>en-US</dc:language>
  <cp:lastModifiedBy>Ирина</cp:lastModifiedBy>
  <dcterms:modified xsi:type="dcterms:W3CDTF">2020-04-28T11:47:16Z</dcterms:modified>
  <cp:revision>38</cp:revision>
  <dc:subject/>
  <dc:title>Слайд 1</dc:title>
</cp:coreProperties>
</file>