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5DF-1302-46CD-9454-383E9BF8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833-94E1-4813-8014-F592E03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A49-5ACA-4EE8-94C8-43CE910D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B84-72B5-4608-956A-72F7041F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9A4-E598-465B-A426-4E136368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FD9F-1F30-4235-8B4B-08C2B01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239-B678-404F-B2E4-11281235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7B25-8221-4BA6-B483-6F38783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419-0E65-48DD-BE65-38505551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441-2736-473A-B031-8A6B625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A7ED-C015-44A4-90C9-942DCC3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DFE-76E2-4696-9720-2051891F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F54B-DB94-4E80-B3B4-27B8F404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C37A-6F2F-4840-BA7B-E677925A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5F2F-7E83-4560-81DB-691A1789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FF2-2CF8-43BB-AA32-89FFE21B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FC40-78AA-4B22-9C3D-1B595F7F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A519-87AE-410C-9176-23D55B59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9F12-FA90-4FCB-92E8-CD6E11D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CFE5-A873-48D1-9D6F-7C411AF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19DF-98CC-483B-8EF3-D2478ED0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DBC4-89CF-4201-AD1C-C34A86B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583-C684-4F8E-946D-F3351D44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AEE9-94F1-4F76-9A63-9953BCAA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5165-8D23-4779-BF7F-E0A1616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5388-BC33-464B-B28F-B4577CD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7CAF-CD13-4330-A26B-05B9CEB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60ED-A841-4F1F-A434-22CA53B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00CF-A6DA-4772-A75A-BD65EF51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8997-7B71-40CA-97B6-490DC77F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98DA-BBC6-4DB6-984C-A8658756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DECB-5307-4A08-B849-7D4742B5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A093-13E3-41FC-AA4C-31DA957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5CF-D60C-41CE-950E-CBE4C9F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DC4E-E822-404E-903C-36B2F83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DB71-FFAA-48EE-A462-B478600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18C1-704D-4B13-8EF6-E8077B8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42A7-D3B4-46BE-9B44-F9F8032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CAB6-59FC-4E5A-B5E5-E5E5B89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C37B-BE57-4854-95C3-3DEFD03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9D15-B534-4A8B-BF08-043AF00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FA83-8F8A-4513-8DDA-49D5232B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62C3-88BD-46A7-81AC-8FB500EC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C95-1B1F-4E69-A780-78F302B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509-C233-4480-93F3-49C8AF75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25B-640F-4407-B40F-DAFFB58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AA5-34EA-43D2-BCAE-0E6D13F6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B60-F408-48C4-AD26-48E5544D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A081-ED7F-4967-9260-87C6C1D1D4A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243A-230C-43E2-A371-A9D829FB419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B54-631C-46A1-8FB2-514C5F9D4B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B34-D1EA-4EA7-B8A9-F038C828F28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77600" y="136152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ок социально-бытовой ориентировк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9 класс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651640" y="3573360"/>
            <a:ext cx="30556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гданова Ирина Юрьев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итель С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71800" y="58579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917-1918 учебный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бытовой                                               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хни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новка, подключение и гарантийный ремонт бытовой техн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бытов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3770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квартир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вка стройматериал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ектирование и дизайн интерьер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зов мастера и оценка работ бесплат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528920" y="2535120"/>
            <a:ext cx="23889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ча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 по гарант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на батарее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илактический осмот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855720" y="2847960"/>
            <a:ext cx="3730680" cy="275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187280" y="277236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ОЧЕН ли хо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ВАШИХ ЧАС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тоателье. Фотосалон.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ментальное фо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диционная фотосъем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чатание фотограф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то на докуме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пии и увеличение фо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7" descr="сканирование002"/>
          <p:cNvPicPr/>
          <p:nvPr/>
        </p:nvPicPr>
        <p:blipFill>
          <a:blip r:embed="rId1"/>
          <a:stretch/>
        </p:blipFill>
        <p:spPr>
          <a:xfrm>
            <a:off x="1192320" y="2978280"/>
            <a:ext cx="3527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гресс сервиз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истота – это правильн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лексная уборка поме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енеральная уборка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лкие ремонтные работы в кварти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йка око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борка сне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луги ня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74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гов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624120" y="2673360"/>
            <a:ext cx="47736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бровольное соглашение двух или нескольких лиц, заключаемое  на предмет выполнения каждым из них, принимаемых на себя обязательств по отношению к другим участник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говор подписывается представителем предприятия и клиен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779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требитель, пользующийся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угами службы быта - эт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ЛИЕН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лицо, пользующееся услугами учреждения, тот кого обслуживают, посетитель, покупатель, заказчи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1260360" y="2565360"/>
            <a:ext cx="2881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09080" y="865800"/>
            <a:ext cx="7040160" cy="17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верочный тест по тем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Предприятия службы быта»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ля учащихся 9 класс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53200" y="996480"/>
            <a:ext cx="777348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оговор подписывается представителем предприятия и клиентом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64000" y="3284640"/>
            <a:ext cx="468792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одном экземпля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вух экземпляр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 заключает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key011"/>
          <p:cNvPicPr/>
          <p:nvPr/>
        </p:nvPicPr>
        <p:blipFill>
          <a:blip r:embed="rId1"/>
          <a:stretch/>
        </p:blipFill>
        <p:spPr>
          <a:xfrm>
            <a:off x="4788000" y="3141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59280" y="414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key031"/>
          <p:cNvPicPr/>
          <p:nvPr/>
        </p:nvPicPr>
        <p:blipFill>
          <a:blip r:embed="rId3"/>
          <a:stretch/>
        </p:blipFill>
        <p:spPr>
          <a:xfrm>
            <a:off x="4859280" y="51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1332000" y="3068640"/>
            <a:ext cx="25495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78600" y="256680"/>
            <a:ext cx="787356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получении вещи из химчистки вы заметили, что пятна не были выведен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076720" y="2354400"/>
            <a:ext cx="3456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учите эту вещь без замеч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требуете выплатить стоимость этой вещ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правите вещь обратно на чист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key011"/>
          <p:cNvPicPr/>
          <p:nvPr/>
        </p:nvPicPr>
        <p:blipFill>
          <a:blip r:embed="rId1"/>
          <a:stretch/>
        </p:blipFill>
        <p:spPr>
          <a:xfrm>
            <a:off x="4643280" y="2997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key021"/>
          <p:cNvPicPr/>
          <p:nvPr/>
        </p:nvPicPr>
        <p:blipFill>
          <a:blip r:embed="rId2"/>
          <a:stretch/>
        </p:blipFill>
        <p:spPr>
          <a:xfrm>
            <a:off x="4643280" y="393372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key031"/>
          <p:cNvPicPr/>
          <p:nvPr/>
        </p:nvPicPr>
        <p:blipFill>
          <a:blip r:embed="rId3"/>
          <a:stretch/>
        </p:blipFill>
        <p:spPr>
          <a:xfrm>
            <a:off x="4716360" y="5300640"/>
            <a:ext cx="400320" cy="399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1054080" y="1060560"/>
            <a:ext cx="49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0360" y="2565360"/>
          <a:ext cx="3529080" cy="46800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14" descr=""/>
          <p:cNvPicPr/>
          <p:nvPr/>
        </p:nvPicPr>
        <p:blipFill>
          <a:blip r:embed="rId4"/>
          <a:stretch/>
        </p:blipFill>
        <p:spPr>
          <a:xfrm>
            <a:off x="971640" y="249228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едприятия бытового обслуживания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key01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2852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key021"/>
          <p:cNvPicPr/>
          <p:nvPr/>
        </p:nvPicPr>
        <p:blipFill>
          <a:blip r:embed="rId2"/>
          <a:stretch/>
        </p:blipFill>
        <p:spPr>
          <a:xfrm>
            <a:off x="4572000" y="3789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key031"/>
          <p:cNvPicPr/>
          <p:nvPr/>
        </p:nvPicPr>
        <p:blipFill>
          <a:blip r:embed="rId3"/>
          <a:stretch/>
        </p:blipFill>
        <p:spPr>
          <a:xfrm>
            <a:off x="4572000" y="479736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000760" y="2643120"/>
            <a:ext cx="392112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латить двукратную стоимость сапо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ак как сапоги были старые предложил выбрать друг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казал, что это не его вина так как сапоги были старые они порвались при ремон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76120" y="365040"/>
            <a:ext cx="746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ражданка сдала в мастерскую сапоги, для замены молнии, но сапоги потеряли.              Мастер предложил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971640" y="234936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154160" y="838800"/>
            <a:ext cx="7419240" cy="94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Широкая информация о каких либо услугах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Picture 3" descr="key011"/>
          <p:cNvPicPr/>
          <p:nvPr/>
        </p:nvPicPr>
        <p:blipFill>
          <a:blip r:embed="rId1"/>
          <a:stretch/>
        </p:blipFill>
        <p:spPr>
          <a:xfrm>
            <a:off x="4067280" y="2565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67280" y="3860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7280" y="5157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200240" y="3780000"/>
            <a:ext cx="1828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00720" y="2060640"/>
            <a:ext cx="59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ви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3167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1440" y="811800"/>
            <a:ext cx="7825320" cy="6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больнице - пациент, в транспорте – пассажир, в парикмахерской -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8" name="Picture 3" descr="key011"/>
          <p:cNvPicPr/>
          <p:nvPr/>
        </p:nvPicPr>
        <p:blipFill>
          <a:blip r:embed="rId1"/>
          <a:stretch/>
        </p:blipFill>
        <p:spPr>
          <a:xfrm>
            <a:off x="4572000" y="2997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ey021"/>
          <p:cNvPicPr/>
          <p:nvPr/>
        </p:nvPicPr>
        <p:blipFill>
          <a:blip r:embed="rId2"/>
          <a:stretch/>
        </p:blipFill>
        <p:spPr>
          <a:xfrm>
            <a:off x="4572000" y="422100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572000" y="5589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038560" y="2420640"/>
            <a:ext cx="410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рител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сетит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иен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20440" y="82044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Picture 3" descr="key011"/>
          <p:cNvPicPr/>
          <p:nvPr/>
        </p:nvPicPr>
        <p:blipFill>
          <a:blip r:embed="rId1"/>
          <a:stretch/>
        </p:blipFill>
        <p:spPr>
          <a:xfrm>
            <a:off x="4427640" y="33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427640" y="45086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key031"/>
          <p:cNvPicPr/>
          <p:nvPr/>
        </p:nvPicPr>
        <p:blipFill>
          <a:blip r:embed="rId3"/>
          <a:stretch/>
        </p:blipFill>
        <p:spPr>
          <a:xfrm>
            <a:off x="4427640" y="573408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38560" y="2781000"/>
            <a:ext cx="410544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ламац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каз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яв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403280" y="404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Предложение потребителя изготовить, ему продукцию, оказать услуг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7367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ы просто молодчи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Picture 3" descr="AG00373_"/>
          <p:cNvPicPr/>
          <p:nvPr/>
        </p:nvPicPr>
        <p:blipFill>
          <a:blip r:embed="rId1"/>
          <a:stretch/>
        </p:blipFill>
        <p:spPr>
          <a:xfrm>
            <a:off x="2195640" y="1700280"/>
            <a:ext cx="48416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28320" y="842040"/>
            <a:ext cx="624600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дприятия бытового обслужи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06000" y="2361960"/>
            <a:ext cx="7301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редприятия, которые помогают обустроить наш быт- это прачечные, химчистки, ателье по пошиву одежды и ремонту обуви, часов и бытовой техники и так далее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служи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едоставление услуг, создание условий, облегчающих людям трудовую деятельность, передвижение, отдых, приготовление и принятие пищи, выполнение домашних работ и другие жизненные функции, процед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елье по пошиву и ремонту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одежд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одеться со вкусом по моде, а так же отремонтировать одежду, сделать это вам помогут в ател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пошиву и ремонту одеж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184400" y="3035160"/>
            <a:ext cx="3522600" cy="30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ужба прока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428720" y="2361960"/>
            <a:ext cx="4102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оставление чего-нибудь во временное пользование за плату, а также само польз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 выдачей инвентаря, бытовых приборов и так далее работники проверяют их исправность и демонстрируют их в действ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рокат выдаются самые разнообразные вещ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обув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192560" y="2673360"/>
            <a:ext cx="427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шив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рас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тка и космети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время произведенный   ремонт сделает обувь более долговечной и носк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928800" y="2928960"/>
            <a:ext cx="2289240" cy="2190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785880" y="535752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ЗАБОТЬТЕ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 ВАШЕЙ ОБУВ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рикмахерские. Салоны красот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виды парикмахерских услу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ращивание волос, ресниц,ног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ссаж, соля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никюр, педикю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сметические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241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ческая чис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одежды, меха, кожи, текстиля, ковров, ковровых дорож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шение одеж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подушек, одея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923760" y="2362320"/>
            <a:ext cx="35989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5:34Z</dcterms:created>
  <dc:creator>KOMPUTER</dc:creator>
  <dc:description/>
  <dc:language>en-US</dc:language>
  <cp:lastModifiedBy>user</cp:lastModifiedBy>
  <dcterms:modified xsi:type="dcterms:W3CDTF">2018-04-10T14:52:51Z</dcterms:modified>
  <cp:revision>20</cp:revision>
  <dc:subject/>
  <dc:title>Предприятия бытового обслуживания.</dc:title>
</cp:coreProperties>
</file>