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691-38A8-432F-BFA9-0A393EC5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A3E-D1B1-44FA-94E0-DF85B1C8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AF7-3C24-4799-8176-D54C0FA4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45B-EACC-4A68-B0FA-897CDBE2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479E-2C65-40F4-97F8-A55A660C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A7F0-13B3-427E-9529-74CF78EF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9C08-9BDF-4873-A276-23CEF140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C5F-141E-4460-B6B4-0DA969CC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3C64-145D-4E8F-AB38-B7781B88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5A5A-FC67-40A6-81CB-751AF735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4A82-A5D4-4CD7-A06B-939F8289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05E-EB84-4774-A76F-87830267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B1AD-EC6F-41FE-AFEF-4AA68BB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35A8-2655-4F8F-A0AC-28F92FE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A4CD-0F40-4CCA-A3DD-A3F326A3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CB05-FD15-49D8-BB10-80AF50A3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1670-EBB0-4280-8CC8-05F6591F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55D8-ACA9-4B70-8AE1-FB6A7C83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FE44-072E-4CD5-825B-9675EB10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A4B1-A79B-4D46-BAA2-E9BEC162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4897-2E07-4369-9760-B902CA58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B1D0-81D7-4422-BEE3-91C8971D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472-E520-4462-AADB-4E2B882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AD17-34F3-4EF0-AC45-2C22FCF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DAF7-E64F-4BE0-98F6-BBB3FB0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9670-6207-46BE-AB48-E1CDA2A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666D-DD94-4E4A-BF11-FCFCDAF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6BC6-5A22-4A5E-9C97-E700D2CA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1216-9FBF-48B7-9259-0883DACC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753E-1789-4B47-BD7E-161B59F6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58F1-E68F-4707-A049-1648AC84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A379-AEAE-48B8-A513-A13B6381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19C6-088C-43DD-9E1A-69A12BBE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622-BF2B-45CD-A7D7-5252650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CB6E-E33F-451D-A948-1D95316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5D27-F235-4BDC-BDA7-F059C45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E3C3-2E2B-45B8-96D6-3F86AECD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0D35-5187-497A-9B5A-7C95E73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FBEC-9EC9-4B16-8F46-85F43037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3C90-DA1B-4781-AA82-B896FF69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1244-E258-42CE-81FB-5B758E90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AEAC-F555-436B-B5CF-57FCC023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4BEB-4AB1-4FA0-8B08-3987CB3C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D90-192C-4588-BA7E-031D88C7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FA5-1025-4866-B899-A9C5FBF3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AE1-4B80-4BF6-9338-B413061B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A6E-8BBE-4426-8536-6D092E84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E2E-8BD0-48E1-B54D-1FD7D79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CFF-82CD-4CF7-AD27-44470D673F0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4E78-A4E2-4FDF-8A9F-25C3F61E939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6682-F8B9-4DD0-ABBA-175A5BA0C4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78D9-6949-4E2D-9C31-1438F4511F2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77600" y="1361520"/>
            <a:ext cx="7585920" cy="128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рок социально-бытовой ориентировк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(9 класс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651640" y="3573360"/>
            <a:ext cx="30556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огданова Ирина Юрьевн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итель СБ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71800" y="585792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917-1918 учебный 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астерские по ремонту бытовой                                               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хни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тановка, подключение и гарантийный ремонт бытовой техни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бытовой тех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3770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монт квартир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кварт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вка стройматериал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ектирование и дизайн интерьер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зов мастера и оценка работ бесплат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1528920" y="2535120"/>
            <a:ext cx="238896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монт час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монт часов по гарант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монт час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ена батарее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филактический осмот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855720" y="2847960"/>
            <a:ext cx="3730680" cy="275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1187280" y="2772360"/>
            <a:ext cx="19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ОЧЕН ли ход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ВАШИХ ЧАС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тоателье. Фотосалон.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ментальное фо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адиционная фотосъем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чатание фотограф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то на докуме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пии и увеличение фо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7" descr="сканирование002"/>
          <p:cNvPicPr/>
          <p:nvPr/>
        </p:nvPicPr>
        <p:blipFill>
          <a:blip r:embed="rId1"/>
          <a:stretch/>
        </p:blipFill>
        <p:spPr>
          <a:xfrm>
            <a:off x="1192320" y="2978280"/>
            <a:ext cx="35272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гресс сервиз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истота – это правильн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плексная уборка поме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енеральная уборка кварт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лкие ремонтные работы в кварти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йка око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борка сне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луги ня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746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гов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624120" y="2673360"/>
            <a:ext cx="47736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бровольное соглашение двух или нескольких лиц, заключаемое  на предмет выполнения каждым из них, принимаемых на себя обязательств по отношению к другим участник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говор подписывается представителем предприятия и клиен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2779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требитель, пользующийся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угами службы быта - эт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ЛИЕНТ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лицо, пользующееся услугами учреждения, тот кого обслуживают, посетитель, покупатель, заказчи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1260360" y="2565360"/>
            <a:ext cx="2881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009080" y="865800"/>
            <a:ext cx="7040160" cy="17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верочный тест по теме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Предприятия службы быта»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ля учащихся 9 класса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53200" y="996480"/>
            <a:ext cx="7773480" cy="93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оговор подписывается представителем предприятия и клиентом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64000" y="3284640"/>
            <a:ext cx="468792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одном экземпля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двух экземпляр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 заключает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4" descr="key011"/>
          <p:cNvPicPr/>
          <p:nvPr/>
        </p:nvPicPr>
        <p:blipFill>
          <a:blip r:embed="rId1"/>
          <a:stretch/>
        </p:blipFill>
        <p:spPr>
          <a:xfrm>
            <a:off x="4788000" y="3141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859280" y="4149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key031"/>
          <p:cNvPicPr/>
          <p:nvPr/>
        </p:nvPicPr>
        <p:blipFill>
          <a:blip r:embed="rId3"/>
          <a:stretch/>
        </p:blipFill>
        <p:spPr>
          <a:xfrm>
            <a:off x="4859280" y="5157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1332000" y="3068640"/>
            <a:ext cx="25495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78600" y="256680"/>
            <a:ext cx="7873560" cy="93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 получении вещи из химчистки вы заметили, что пятна не были выведен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076720" y="2354400"/>
            <a:ext cx="345600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учите эту вещь без замеч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требуете выплатить стоимость этой вещ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правите вещь обратно на чистк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4" descr="key011"/>
          <p:cNvPicPr/>
          <p:nvPr/>
        </p:nvPicPr>
        <p:blipFill>
          <a:blip r:embed="rId1"/>
          <a:stretch/>
        </p:blipFill>
        <p:spPr>
          <a:xfrm>
            <a:off x="4643280" y="299736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key021"/>
          <p:cNvPicPr/>
          <p:nvPr/>
        </p:nvPicPr>
        <p:blipFill>
          <a:blip r:embed="rId2"/>
          <a:stretch/>
        </p:blipFill>
        <p:spPr>
          <a:xfrm>
            <a:off x="4643280" y="393372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key031"/>
          <p:cNvPicPr/>
          <p:nvPr/>
        </p:nvPicPr>
        <p:blipFill>
          <a:blip r:embed="rId3"/>
          <a:stretch/>
        </p:blipFill>
        <p:spPr>
          <a:xfrm>
            <a:off x="4716360" y="5300640"/>
            <a:ext cx="400320" cy="399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1054080" y="1060560"/>
            <a:ext cx="492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940360" y="2565360"/>
          <a:ext cx="3529080" cy="46800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6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14" descr=""/>
          <p:cNvPicPr/>
          <p:nvPr/>
        </p:nvPicPr>
        <p:blipFill>
          <a:blip r:embed="rId4"/>
          <a:stretch/>
        </p:blipFill>
        <p:spPr>
          <a:xfrm>
            <a:off x="971640" y="249228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редприятия бытового обслуживания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key01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285264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key021"/>
          <p:cNvPicPr/>
          <p:nvPr/>
        </p:nvPicPr>
        <p:blipFill>
          <a:blip r:embed="rId2"/>
          <a:stretch/>
        </p:blipFill>
        <p:spPr>
          <a:xfrm>
            <a:off x="4572000" y="3789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key031"/>
          <p:cNvPicPr/>
          <p:nvPr/>
        </p:nvPicPr>
        <p:blipFill>
          <a:blip r:embed="rId3"/>
          <a:stretch/>
        </p:blipFill>
        <p:spPr>
          <a:xfrm>
            <a:off x="4572000" y="479736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000760" y="2643120"/>
            <a:ext cx="392112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латить двукратную стоимость сапо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ак как сапоги были старые предложил выбрать друг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казал, что это не его вина так как сапоги были старые они порвались при ремон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76120" y="365040"/>
            <a:ext cx="746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ражданка сдала в мастерскую сапоги, для замены молнии, но сапоги потеряли.              Мастер предложил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971640" y="234936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154160" y="838800"/>
            <a:ext cx="7419240" cy="94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Широкая информация о каких либо услугах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Picture 3" descr="key011"/>
          <p:cNvPicPr/>
          <p:nvPr/>
        </p:nvPicPr>
        <p:blipFill>
          <a:blip r:embed="rId1"/>
          <a:stretch/>
        </p:blipFill>
        <p:spPr>
          <a:xfrm>
            <a:off x="4067280" y="2565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67280" y="386064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key03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7280" y="515772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1200240" y="3780000"/>
            <a:ext cx="1828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00720" y="2060640"/>
            <a:ext cx="59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лам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ла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ви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31672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1440" y="811800"/>
            <a:ext cx="7825320" cy="6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 больнице - пациент, в транспорте – пассажир, в парикмахерской -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8" name="Picture 3" descr="key011"/>
          <p:cNvPicPr/>
          <p:nvPr/>
        </p:nvPicPr>
        <p:blipFill>
          <a:blip r:embed="rId1"/>
          <a:stretch/>
        </p:blipFill>
        <p:spPr>
          <a:xfrm>
            <a:off x="4572000" y="2997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key021"/>
          <p:cNvPicPr/>
          <p:nvPr/>
        </p:nvPicPr>
        <p:blipFill>
          <a:blip r:embed="rId2"/>
          <a:stretch/>
        </p:blipFill>
        <p:spPr>
          <a:xfrm>
            <a:off x="4572000" y="422100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key03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572000" y="558972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038560" y="2420640"/>
            <a:ext cx="410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Зрител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сетите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лиен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4"/>
          <a:stretch/>
        </p:blipFill>
        <p:spPr>
          <a:xfrm>
            <a:off x="971640" y="256536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20440" y="82044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Picture 3" descr="key011"/>
          <p:cNvPicPr/>
          <p:nvPr/>
        </p:nvPicPr>
        <p:blipFill>
          <a:blip r:embed="rId1"/>
          <a:stretch/>
        </p:blipFill>
        <p:spPr>
          <a:xfrm>
            <a:off x="4427640" y="3357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427640" y="450864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key031"/>
          <p:cNvPicPr/>
          <p:nvPr/>
        </p:nvPicPr>
        <p:blipFill>
          <a:blip r:embed="rId3"/>
          <a:stretch/>
        </p:blipFill>
        <p:spPr>
          <a:xfrm>
            <a:off x="4427640" y="573408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038560" y="2781000"/>
            <a:ext cx="410544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кламац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каз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явк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403280" y="404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Предложение потребителя изготовить, ему продукцию, оказать услуг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971640" y="2781360"/>
            <a:ext cx="273672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ы просто молодчин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Picture 3" descr="AG00373_"/>
          <p:cNvPicPr/>
          <p:nvPr/>
        </p:nvPicPr>
        <p:blipFill>
          <a:blip r:embed="rId1"/>
          <a:stretch/>
        </p:blipFill>
        <p:spPr>
          <a:xfrm>
            <a:off x="2195640" y="1700280"/>
            <a:ext cx="484164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28320" y="842040"/>
            <a:ext cx="624600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дприятия бытового обслужи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06000" y="2361960"/>
            <a:ext cx="7301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редприятия, которые помогают обустроить наш быт- это прачечные, химчистки, ателье по пошиву одежды и ремонту обуви, часов и бытовой техники и так далее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служи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едоставление услуг, создание условий, облегчающих людям трудовую деятельность, передвижение, отдых, приготовление и принятие пищи, выполнение домашних работ и другие жизненные функции, процед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елье по пошиву и ремонту 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одежд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вы хотите одеться со вкусом по моде, а так же отремонтировать одежду, сделать это вам помогут в атель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 пошиву и ремонту одеж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1184400" y="3035160"/>
            <a:ext cx="3522600" cy="30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лужба прока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428720" y="2361960"/>
            <a:ext cx="4102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оставление чего-нибудь во временное пользование за плату, а также само пользов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 выдачей инвентаря, бытовых приборов и так далее работники проверяют их исправность и демонстрируют их в действ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рокат выдаются самые разнообразные вещ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3241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астерские по ремонту обув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192560" y="2673360"/>
            <a:ext cx="42768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шив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раска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истка и косметика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время произведенный   ремонт сделает обувь более долговечной и носк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928800" y="2928960"/>
            <a:ext cx="2289240" cy="21906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785880" y="535752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ЗАБОТЬТЕС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 ВАШЕЙ ОБУВ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рикмахерские. Салоны красот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 виды парикмахерских услу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ращивание волос, ресниц,ног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ссаж, соля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никюр, педикю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сметические процед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241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имическая чис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тка одежды, меха, кожи, текстиля, ковров, ковровых дорож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шение одеж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тка подушек, одея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923760" y="2362320"/>
            <a:ext cx="35989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6:05:34Z</dcterms:created>
  <dc:creator>KOMPUTER</dc:creator>
  <dc:description/>
  <dc:language>en-US</dc:language>
  <cp:lastModifiedBy>user</cp:lastModifiedBy>
  <dcterms:modified xsi:type="dcterms:W3CDTF">2018-04-10T14:52:51Z</dcterms:modified>
  <cp:revision>20</cp:revision>
  <dc:subject/>
  <dc:title>Предприятия бытового обслуживания.</dc:title>
</cp:coreProperties>
</file>