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3B37-BA06-4F27-8A3A-A06849658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EC02-F46C-4F05-B00F-8BB622F6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A1EE-2FEC-4DCD-B365-D73D36D6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AA92-6BDD-4A39-9F3F-2435B8AEF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FFC8-76A5-4F69-BCA8-1F69DB8EC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4663-6858-4994-AD12-35528B27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695B9-947B-480E-870B-461875FF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6081-3348-4B5D-9E0F-D62EAAD5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BBCAD-DAE3-41E9-B877-88DF2DF3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2BE5-203F-458E-ACFF-B25454EC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08A51-4DCC-4A3B-BE66-E16C293D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6D22-A512-49B4-94FA-73EFE902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69BAB-2F94-47D5-8A71-764240BD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8432-8E90-431A-AC89-AED79A3F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F74BF-81E6-49A6-A669-E2B266E84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C63E7-73AD-42CE-A52D-47490203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E8EF-89F1-42B4-B53A-254A0AC6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2F53C-43CC-452A-9A73-9BED2B395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3B1C4-6161-4A41-BFF9-315DAC8F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6ACE9-63A4-45B4-93FC-F20890EDD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3D52C-E281-43D0-B72E-76F70D2D9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B566D-2F28-4104-8095-11ABC39AC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9756-379E-4576-9A09-AC58552FA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63563-F342-4599-8046-CD5D240C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6127E-5591-4B8D-88B0-2AD0F22D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4A91B-0E92-473D-90BA-F7FD1196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8DDBD-56BB-4F2F-B41A-00576E1F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89D77-E8B3-4867-ADFD-B42B5F77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864C5-16EA-4ADB-87A2-94742B4A2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2B06B-AEB8-4639-848C-3D2C7B6C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D0624-F1D1-48F7-83F5-F4268195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9F601-3606-4557-9631-2DB1B4C9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0EEF4-CE06-44AB-8444-D7FEC9C13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1DCC-CD83-44B4-9CD1-2B0D68A5A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60762-BAF0-4FF2-87DE-1269235A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F9CF8-CEB4-4384-9D2D-32E999F6E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0B6F1-32CC-4C05-A9C8-0DB5A4E9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61C16-630C-4C7B-A12F-80042E3C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0B049-7EC6-4352-BC8E-B61552EF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477B9-9BA4-42C5-8B86-BC38245A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21B73-F879-427C-93AD-00C1B541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48E89-A4DA-4EBD-9E7E-5F59AC04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19A4C-21F5-4B2C-8F13-36DE30987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8F87-1AC9-4108-A954-2CF34773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E814-3BB4-4E57-BDF2-EE6BE583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C444-C3B6-4A0A-9CF2-9F872F913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616D-8D01-4980-85B4-654B74B56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E023-D250-4127-A457-B0797B8F9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C04B-6C2C-4F41-9BB7-8728C7BB99A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4251-145E-4A12-865F-1109D63C5DE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0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1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2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3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D4DB-7B86-43CC-BEF5-7080C9139BC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3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39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40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0B3C-36F7-4503-B230-EF8AD03DB25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777600" y="1361520"/>
            <a:ext cx="7585920" cy="1283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Урок социально-бытовой ориентировки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(9 класс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5651640" y="3573360"/>
            <a:ext cx="305568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дготовила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Богданова Ирина Юрьевна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учитель СБО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71800" y="5857920"/>
            <a:ext cx="557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1917-1918 учебный год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астерские по ремонту бытовой                                                                          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техник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становка, подключение и гарантийный ремонт бытовой техник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монт бытовой техник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tretch/>
        </p:blipFill>
        <p:spPr>
          <a:xfrm>
            <a:off x="838080" y="2421000"/>
            <a:ext cx="37702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монт квартир.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монт кварти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ставка стройматериал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оектирование и дизайн интерьер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зов мастера и оценка работ бесплатн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2" name="Picture 7" descr=""/>
          <p:cNvPicPr/>
          <p:nvPr/>
        </p:nvPicPr>
        <p:blipFill>
          <a:blip r:embed="rId1"/>
          <a:stretch/>
        </p:blipFill>
        <p:spPr>
          <a:xfrm>
            <a:off x="1528920" y="2535120"/>
            <a:ext cx="238896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монт часо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монт часов по гаранти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емонт часов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Замена батареек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офилактический осмотр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1"/>
          <a:stretch/>
        </p:blipFill>
        <p:spPr>
          <a:xfrm>
            <a:off x="855720" y="2847960"/>
            <a:ext cx="3730680" cy="275436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8"/>
          <p:cNvSpPr/>
          <p:nvPr/>
        </p:nvSpPr>
        <p:spPr>
          <a:xfrm>
            <a:off x="1187280" y="2772360"/>
            <a:ext cx="194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ТОЧЕН ли ход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ВАШИХ ЧАСОВ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Фотоателье. Фотосалон. 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оментальное фото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радиционная фотосъем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чатание фотограф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Фото на докумен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пии и увеличение фо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9" name="Picture 7" descr="сканирование002"/>
          <p:cNvPicPr/>
          <p:nvPr/>
        </p:nvPicPr>
        <p:blipFill>
          <a:blip r:embed="rId1"/>
          <a:stretch/>
        </p:blipFill>
        <p:spPr>
          <a:xfrm>
            <a:off x="1192320" y="2978280"/>
            <a:ext cx="3527280" cy="30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огресс сервиз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«Чистота – это правильно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мплексная уборка помеще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енеральная уборка кварти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елкие ремонтные работы в квартир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ойка око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борка снег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Услуги нян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2" name="Picture 10" descr=""/>
          <p:cNvPicPr/>
          <p:nvPr/>
        </p:nvPicPr>
        <p:blipFill>
          <a:blip r:embed="rId1"/>
          <a:stretch/>
        </p:blipFill>
        <p:spPr>
          <a:xfrm>
            <a:off x="971640" y="2565360"/>
            <a:ext cx="37465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Договор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624120" y="2673360"/>
            <a:ext cx="4773600" cy="33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обровольное соглашение двух или нескольких лиц, заключаемое  на предмет выполнения каждым из них, принимаемых на себя обязательств по отношению к другим участникам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оговор подписывается представителем предприятия и клиентом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5" name="Picture 7" descr=""/>
          <p:cNvPicPr/>
          <p:nvPr/>
        </p:nvPicPr>
        <p:blipFill>
          <a:blip r:embed="rId1"/>
          <a:stretch/>
        </p:blipFill>
        <p:spPr>
          <a:xfrm>
            <a:off x="1258920" y="2492280"/>
            <a:ext cx="27795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отребитель, пользующийся                     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услугами службы быта - это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КЛИЕНТ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– лицо, пользующееся услугами учреждения, тот кого обслуживают, посетитель, покупатель, заказчик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8" name="Picture 7" descr=""/>
          <p:cNvPicPr/>
          <p:nvPr/>
        </p:nvPicPr>
        <p:blipFill>
          <a:blip r:embed="rId1"/>
          <a:stretch/>
        </p:blipFill>
        <p:spPr>
          <a:xfrm>
            <a:off x="1260360" y="2565360"/>
            <a:ext cx="288144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1009080" y="865800"/>
            <a:ext cx="7040160" cy="176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роверочный тест по теме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«Предприятия службы быта»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для учащихся 9 класса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53200" y="996480"/>
            <a:ext cx="7773480" cy="93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Договор подписывается представителем предприятия и клиентом 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364000" y="3284640"/>
            <a:ext cx="4687920" cy="43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 одном экземпляр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 двух экземплярах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Не заключаетс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2" name="Picture 4" descr="key011"/>
          <p:cNvPicPr/>
          <p:nvPr/>
        </p:nvPicPr>
        <p:blipFill>
          <a:blip r:embed="rId1"/>
          <a:stretch/>
        </p:blipFill>
        <p:spPr>
          <a:xfrm>
            <a:off x="4788000" y="31417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key021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859280" y="41497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key031"/>
          <p:cNvPicPr/>
          <p:nvPr/>
        </p:nvPicPr>
        <p:blipFill>
          <a:blip r:embed="rId3"/>
          <a:stretch/>
        </p:blipFill>
        <p:spPr>
          <a:xfrm>
            <a:off x="4859280" y="51577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"/>
          <p:cNvPicPr/>
          <p:nvPr/>
        </p:nvPicPr>
        <p:blipFill>
          <a:blip r:embed="rId4"/>
          <a:stretch/>
        </p:blipFill>
        <p:spPr>
          <a:xfrm>
            <a:off x="1332000" y="3068640"/>
            <a:ext cx="2549520" cy="33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678600" y="256680"/>
            <a:ext cx="7873560" cy="93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ри получении вещи из химчистки вы заметили, что пятна не были выведены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5076720" y="2354400"/>
            <a:ext cx="3456000" cy="45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лучите эту вещь без замечан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требуете выплатить стоимость этой вещ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Отправите вещь обратно на чистк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8" name="Picture 4" descr="key011"/>
          <p:cNvPicPr/>
          <p:nvPr/>
        </p:nvPicPr>
        <p:blipFill>
          <a:blip r:embed="rId1"/>
          <a:stretch/>
        </p:blipFill>
        <p:spPr>
          <a:xfrm>
            <a:off x="4643280" y="299736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key021"/>
          <p:cNvPicPr/>
          <p:nvPr/>
        </p:nvPicPr>
        <p:blipFill>
          <a:blip r:embed="rId2"/>
          <a:stretch/>
        </p:blipFill>
        <p:spPr>
          <a:xfrm>
            <a:off x="4643280" y="3933720"/>
            <a:ext cx="400320" cy="4003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key031"/>
          <p:cNvPicPr/>
          <p:nvPr/>
        </p:nvPicPr>
        <p:blipFill>
          <a:blip r:embed="rId3"/>
          <a:stretch/>
        </p:blipFill>
        <p:spPr>
          <a:xfrm>
            <a:off x="4716360" y="5300640"/>
            <a:ext cx="400320" cy="39996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7"/>
          <p:cNvSpPr/>
          <p:nvPr/>
        </p:nvSpPr>
        <p:spPr>
          <a:xfrm>
            <a:off x="1054080" y="1060560"/>
            <a:ext cx="4929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940360" y="2565360"/>
          <a:ext cx="3529080" cy="4680000"/>
        </p:xfrm>
        <a:graphic>
          <a:graphicData uri="http://schemas.openxmlformats.org/drawingml/2006/table">
            <a:tbl>
              <a:tblPr/>
              <a:tblGrid>
                <a:gridCol w="3529080"/>
              </a:tblGrid>
              <a:tr h="468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  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3" name="Picture 14" descr=""/>
          <p:cNvPicPr/>
          <p:nvPr/>
        </p:nvPicPr>
        <p:blipFill>
          <a:blip r:embed="rId4"/>
          <a:stretch/>
        </p:blipFill>
        <p:spPr>
          <a:xfrm>
            <a:off x="971640" y="2492280"/>
            <a:ext cx="34560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Предприятия бытового обслуживания.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key011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4572000" y="285264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key021"/>
          <p:cNvPicPr/>
          <p:nvPr/>
        </p:nvPicPr>
        <p:blipFill>
          <a:blip r:embed="rId2"/>
          <a:stretch/>
        </p:blipFill>
        <p:spPr>
          <a:xfrm>
            <a:off x="4572000" y="378936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key031"/>
          <p:cNvPicPr/>
          <p:nvPr/>
        </p:nvPicPr>
        <p:blipFill>
          <a:blip r:embed="rId3"/>
          <a:stretch/>
        </p:blipFill>
        <p:spPr>
          <a:xfrm>
            <a:off x="4572000" y="479736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5000760" y="2643120"/>
            <a:ext cx="3921120" cy="345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Выплатить двукратную стоимость сапог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Так как сапоги были старые предложил выбрать друг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Сказал, что это не его вина так как сапоги были старые они порвались при ремонт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1176120" y="365040"/>
            <a:ext cx="746748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Гражданка сдала в мастерскую сапоги, для замены молнии, но сапоги потеряли.              Мастер предложил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                                                     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49" name="Picture 7" descr=""/>
          <p:cNvPicPr/>
          <p:nvPr/>
        </p:nvPicPr>
        <p:blipFill>
          <a:blip r:embed="rId4"/>
          <a:stretch/>
        </p:blipFill>
        <p:spPr>
          <a:xfrm>
            <a:off x="971640" y="2349360"/>
            <a:ext cx="34560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154160" y="838800"/>
            <a:ext cx="7419240" cy="94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Широкая информация о каких либо услугах.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1" name="Picture 3" descr="key011"/>
          <p:cNvPicPr/>
          <p:nvPr/>
        </p:nvPicPr>
        <p:blipFill>
          <a:blip r:embed="rId1"/>
          <a:stretch/>
        </p:blipFill>
        <p:spPr>
          <a:xfrm>
            <a:off x="4067280" y="256536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key021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067280" y="386064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key031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067280" y="515772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6"/>
          <p:cNvSpPr/>
          <p:nvPr/>
        </p:nvSpPr>
        <p:spPr>
          <a:xfrm>
            <a:off x="1200240" y="3780000"/>
            <a:ext cx="18288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4500720" y="2060640"/>
            <a:ext cx="59403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Рекламац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Рекла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ahoma"/>
              </a:rPr>
              <a:t>Реквиация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6" name="Picture 8" descr=""/>
          <p:cNvPicPr/>
          <p:nvPr/>
        </p:nvPicPr>
        <p:blipFill>
          <a:blip r:embed="rId4"/>
          <a:stretch/>
        </p:blipFill>
        <p:spPr>
          <a:xfrm>
            <a:off x="826920" y="2421000"/>
            <a:ext cx="316728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811440" y="811800"/>
            <a:ext cx="7825320" cy="6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В больнице - пациент, в транспорте – пассажир, в парикмахерской - 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58" name="Picture 3" descr="key011"/>
          <p:cNvPicPr/>
          <p:nvPr/>
        </p:nvPicPr>
        <p:blipFill>
          <a:blip r:embed="rId1"/>
          <a:stretch/>
        </p:blipFill>
        <p:spPr>
          <a:xfrm>
            <a:off x="4572000" y="299736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key021"/>
          <p:cNvPicPr/>
          <p:nvPr/>
        </p:nvPicPr>
        <p:blipFill>
          <a:blip r:embed="rId2"/>
          <a:stretch/>
        </p:blipFill>
        <p:spPr>
          <a:xfrm>
            <a:off x="4572000" y="4221000"/>
            <a:ext cx="399960" cy="400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key031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4572000" y="558972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5038560" y="2420640"/>
            <a:ext cx="4105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                 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Зритель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осетител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Клиен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2" name="Picture 7" descr=""/>
          <p:cNvPicPr/>
          <p:nvPr/>
        </p:nvPicPr>
        <p:blipFill>
          <a:blip r:embed="rId4"/>
          <a:stretch/>
        </p:blipFill>
        <p:spPr>
          <a:xfrm>
            <a:off x="971640" y="2565360"/>
            <a:ext cx="3456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20440" y="820440"/>
            <a:ext cx="780732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64" name="Picture 3" descr="key011"/>
          <p:cNvPicPr/>
          <p:nvPr/>
        </p:nvPicPr>
        <p:blipFill>
          <a:blip r:embed="rId1"/>
          <a:stretch/>
        </p:blipFill>
        <p:spPr>
          <a:xfrm>
            <a:off x="4427640" y="335772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key021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427640" y="4508640"/>
            <a:ext cx="399960" cy="3999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key031"/>
          <p:cNvPicPr/>
          <p:nvPr/>
        </p:nvPicPr>
        <p:blipFill>
          <a:blip r:embed="rId3"/>
          <a:stretch/>
        </p:blipFill>
        <p:spPr>
          <a:xfrm>
            <a:off x="4427640" y="5734080"/>
            <a:ext cx="399960" cy="399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5038560" y="2781000"/>
            <a:ext cx="4105440" cy="31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Рекламация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аказ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Заявка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Text Box 7"/>
          <p:cNvSpPr/>
          <p:nvPr/>
        </p:nvSpPr>
        <p:spPr>
          <a:xfrm>
            <a:off x="1403280" y="404640"/>
            <a:ext cx="6697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Tahoma"/>
              </a:rPr>
              <a:t>Предложение потребителя изготовить, ему продукцию, оказать услугу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9" name="Picture 8" descr=""/>
          <p:cNvPicPr/>
          <p:nvPr/>
        </p:nvPicPr>
        <p:blipFill>
          <a:blip r:embed="rId4"/>
          <a:stretch/>
        </p:blipFill>
        <p:spPr>
          <a:xfrm>
            <a:off x="971640" y="2781360"/>
            <a:ext cx="2736720" cy="34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ы просто молодчина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71" name="Picture 3" descr="AG00373_"/>
          <p:cNvPicPr/>
          <p:nvPr/>
        </p:nvPicPr>
        <p:blipFill>
          <a:blip r:embed="rId1"/>
          <a:stretch/>
        </p:blipFill>
        <p:spPr>
          <a:xfrm>
            <a:off x="2195640" y="1700280"/>
            <a:ext cx="4841640" cy="467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2128320" y="842040"/>
            <a:ext cx="6246000" cy="106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едприятия бытового обслужива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206000" y="2361960"/>
            <a:ext cx="73011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66"/>
                </a:solidFill>
                <a:latin typeface="Arial"/>
              </a:rPr>
              <a:t>Предприятия, которые помогают обустроить наш быт- это прачечные, химчистки, ателье по пошиву одежды и ремонту обуви, часов и бытовой техники и так далее…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бслужи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– </a:t>
            </a:r>
            <a:r>
              <a:rPr b="0" lang="ru-RU" sz="3200" spc="-1" strike="noStrike">
                <a:solidFill>
                  <a:srgbClr val="003366"/>
                </a:solidFill>
                <a:latin typeface="Arial"/>
              </a:rPr>
              <a:t>предоставление услуг, создание условий, облегчающих людям трудовую деятельность, передвижение, отдых, приготовление и принятие пищи, выполнение домашних работ и другие жизненные функции, процедур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Ателье по пошиву и ремонту  </a:t>
            </a:r>
            <a:br>
              <a:rPr sz="3200"/>
            </a:b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                       одежды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сли вы хотите одеться со вкусом по моде, а так же отремонтировать одежду, сделать это вам помогут в атель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 пошиву и ремонту одеж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3" name="Picture 6" descr=""/>
          <p:cNvPicPr/>
          <p:nvPr/>
        </p:nvPicPr>
        <p:blipFill>
          <a:blip r:embed="rId1"/>
          <a:stretch/>
        </p:blipFill>
        <p:spPr>
          <a:xfrm>
            <a:off x="1184400" y="3035160"/>
            <a:ext cx="3522600" cy="302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лужба прокат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428720" y="2361960"/>
            <a:ext cx="4102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редоставление чего-нибудь во временное пользование за плату, а также само пользован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еред выдачей инвентаря, бытовых приборов и так далее работники проверяют их исправность и демонстрируют их в действ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 прокат выдаются самые разнообразные вещ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6" name="Picture 7" descr=""/>
          <p:cNvPicPr/>
          <p:nvPr/>
        </p:nvPicPr>
        <p:blipFill>
          <a:blip r:embed="rId1"/>
          <a:stretch/>
        </p:blipFill>
        <p:spPr>
          <a:xfrm>
            <a:off x="1042920" y="2362320"/>
            <a:ext cx="32418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астерские по ремонту обуви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4192560" y="2673360"/>
            <a:ext cx="4276800" cy="33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емонт обув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шив обув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краска обув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истка и косметика обув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время произведенный   ремонт сделает обувь более долговечной и носко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9" name="Picture 8" descr=""/>
          <p:cNvPicPr/>
          <p:nvPr/>
        </p:nvPicPr>
        <p:blipFill>
          <a:blip r:embed="rId1"/>
          <a:stretch/>
        </p:blipFill>
        <p:spPr>
          <a:xfrm>
            <a:off x="928800" y="2928960"/>
            <a:ext cx="2289240" cy="219060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9"/>
          <p:cNvSpPr/>
          <p:nvPr/>
        </p:nvSpPr>
        <p:spPr>
          <a:xfrm>
            <a:off x="785880" y="535752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ПОЗАБОТЬТЕСЬ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О ВАШЕЙ ОБУВИ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арикмахерские. Салоны красоты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се виды парикмахерских услуг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ращивание волос, ресниц,ногте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ассаж, соляр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аникюр, педикюр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сметические процедур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3" name="Picture 7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32418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Химическая чист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истка одежды, меха, кожи, текстиля, ковров, ковровых дорожек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рашение одежд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истка подушек, одея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6" name="Picture 7" descr=""/>
          <p:cNvPicPr/>
          <p:nvPr/>
        </p:nvPicPr>
        <p:blipFill>
          <a:blip r:embed="rId1"/>
          <a:stretch/>
        </p:blipFill>
        <p:spPr>
          <a:xfrm>
            <a:off x="923760" y="2362320"/>
            <a:ext cx="359892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16:05:34Z</dcterms:created>
  <dc:creator>KOMPUTER</dc:creator>
  <dc:description/>
  <dc:language>en-US</dc:language>
  <cp:lastModifiedBy>user</cp:lastModifiedBy>
  <dcterms:modified xsi:type="dcterms:W3CDTF">2018-04-10T14:52:51Z</dcterms:modified>
  <cp:revision>20</cp:revision>
  <dc:subject/>
  <dc:title>Предприятия бытового обслуживания.</dc:title>
</cp:coreProperties>
</file>