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B49-0E13-47D1-A143-10B532D9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97C-78B0-4D88-9A38-6BAB4C96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119-32AE-4A01-A0D5-0BA7AD18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EFC8-38A4-4BF6-9200-97F24A1C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DFD-473D-4FCB-B628-F023ECF5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581-D70F-42BF-A947-085C2AEE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1CA-53D5-4E3B-993F-02410C80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BEE-B1D4-45CF-B4D9-4CE3EE7F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2B6-F3F7-4F6B-825D-6177FD61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683-0098-476B-9F08-1C5BE360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54B-3CC7-4CEB-9147-DB03A6C1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A1D-4663-41EC-A986-A973EB4E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6FDB-755C-4A4D-97B0-A2C2F68E0D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2560" y="920880"/>
            <a:ext cx="7785000" cy="308448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1639800" y="4170240"/>
            <a:ext cx="6413760" cy="2175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00040" y="35712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лед выдержал, перекатываясь, медленно ползите к бере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ите в ту сторону – откуда пришли, ведь лед здесь уже проверен на проч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571680" y="3029040"/>
            <a:ext cx="8072280" cy="268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8760" y="28584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MCHS-3"/>
          <p:cNvPicPr/>
          <p:nvPr/>
        </p:nvPicPr>
        <p:blipFill>
          <a:blip r:embed="rId1"/>
          <a:stretch/>
        </p:blipFill>
        <p:spPr>
          <a:xfrm>
            <a:off x="214200" y="142920"/>
            <a:ext cx="418176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MCHS-3"/>
          <p:cNvPicPr/>
          <p:nvPr/>
        </p:nvPicPr>
        <p:blipFill>
          <a:blip r:embed="rId2"/>
          <a:stretch/>
        </p:blipFill>
        <p:spPr>
          <a:xfrm>
            <a:off x="4429080" y="2428920"/>
            <a:ext cx="4508640" cy="394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rcRect l="0" t="0" r="-4735" b="0"/>
          <a:stretch/>
        </p:blipFill>
        <p:spPr>
          <a:xfrm>
            <a:off x="1071720" y="4286160"/>
            <a:ext cx="26002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0040" y="4996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щиеся и взрослые, соблюдайте правила поведения на водных объектах, выполнение элементарных мер осторожности - залог вашей безопасност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00040" y="3571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0" y="55332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резвычайных ситуациях звонить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01;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т. тел.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–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11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ец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00040" y="35676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Человек на то имеет разум и науку, чтобы обезопасить себя от всякого бедствия». К.Э.Циолк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060405_e2"/>
          <p:cNvPicPr/>
          <p:nvPr/>
        </p:nvPicPr>
        <p:blipFill>
          <a:blip r:embed="rId1"/>
          <a:stretch/>
        </p:blipFill>
        <p:spPr>
          <a:xfrm>
            <a:off x="1500120" y="2924280"/>
            <a:ext cx="5834160" cy="3290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00040" y="42876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есенними лучами солнца лед на водоемах становится рыхлым и непрочным. В это время выходить на его поверхность крайне опасно. Однако каждый год многие люди пренебрегают мерами предосторожности и выходят на тонкий весенний лед, тем самым, подвергая свою жизнь смертельной опас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in\Рабочий стол\для презент. тонкий лед\i_032.png"/>
          <p:cNvPicPr/>
          <p:nvPr/>
        </p:nvPicPr>
        <p:blipFill>
          <a:blip r:embed="rId1"/>
          <a:stretch/>
        </p:blipFill>
        <p:spPr>
          <a:xfrm>
            <a:off x="714240" y="4429080"/>
            <a:ext cx="295452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Admin\Рабочий стол\для презент. тонкий лед\ice.jpg"/>
          <p:cNvPicPr/>
          <p:nvPr/>
        </p:nvPicPr>
        <p:blipFill>
          <a:blip r:embed="rId2"/>
          <a:stretch/>
        </p:blipFill>
        <p:spPr>
          <a:xfrm>
            <a:off x="4929120" y="4286160"/>
            <a:ext cx="324792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5840" y="285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нужно зн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м для человека считается лед толщиною не менее 10 сантиметров в пресной воде и 15 сантиметров в солен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Admin\Рабочий стол\i_033.png"/>
          <p:cNvPicPr/>
          <p:nvPr/>
        </p:nvPicPr>
        <p:blipFill>
          <a:blip r:embed="rId1"/>
          <a:stretch/>
        </p:blipFill>
        <p:spPr>
          <a:xfrm>
            <a:off x="1357200" y="3714840"/>
            <a:ext cx="3000600" cy="2589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презент. тонкий лед\416815_DETAIL.jpg"/>
          <p:cNvPicPr/>
          <p:nvPr/>
        </p:nvPicPr>
        <p:blipFill>
          <a:blip r:embed="rId2"/>
          <a:stretch/>
        </p:blipFill>
        <p:spPr>
          <a:xfrm>
            <a:off x="4572000" y="4000680"/>
            <a:ext cx="323856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тьях рек и притоках прочность льда ослаблена. Лед непрочен в местах быстрого течения, бьющих ключей и стоковых вод, а также в районах произрастания водной растительности, вблизи деревьев, кустов и камыш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http://whiteschool.narod.ru/zdorov_bez/led_1.jpg"/>
          <p:cNvPicPr/>
          <p:nvPr/>
        </p:nvPicPr>
        <p:blipFill>
          <a:blip r:embed="rId1"/>
          <a:stretch/>
        </p:blipFill>
        <p:spPr>
          <a:xfrm>
            <a:off x="2214720" y="3357720"/>
            <a:ext cx="6072120" cy="3214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сть льда можно определить визуально: лед голубого цвета – прочный, белого – прочность его в 2 раза меньше, серый, матово-белый или с желтоватым оттенком лед ненадежен. Если температура воздуха выше 0 градусов держится более трех дней, то прочность льда снижается на 25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Администратор\Рабочий стол\DSC_1403.jpg"/>
          <p:cNvPicPr/>
          <p:nvPr/>
        </p:nvPicPr>
        <p:blipFill>
          <a:blip r:embed="rId1"/>
          <a:stretch/>
        </p:blipFill>
        <p:spPr>
          <a:xfrm>
            <a:off x="5357880" y="3357720"/>
            <a:ext cx="2500200" cy="292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Администратор\Рабочий стол\Копия 800xp1090843-1.jpg"/>
          <p:cNvPicPr/>
          <p:nvPr/>
        </p:nvPicPr>
        <p:blipFill>
          <a:blip r:embed="rId2"/>
          <a:stretch/>
        </p:blipFill>
        <p:spPr>
          <a:xfrm>
            <a:off x="857160" y="3429000"/>
            <a:ext cx="4106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Admin\Рабочий стол\для презент. тонкий лед\Копия (2) pravilaperexodapol-duvodoemov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74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615960" y="-85680"/>
            <a:ext cx="7997760" cy="3163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MCHS-3"/>
          <p:cNvPicPr/>
          <p:nvPr/>
        </p:nvPicPr>
        <p:blipFill>
          <a:blip r:embed="rId2"/>
          <a:stretch/>
        </p:blipFill>
        <p:spPr>
          <a:xfrm>
            <a:off x="2000160" y="1857240"/>
            <a:ext cx="5643720" cy="4429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28760" y="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аникуйте, не делайте резких движений, стабилизируйте дых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ьте руки в стороны и постарайтесь зацепиться за кромку льда, придав телу горизонтальное положение по направлению те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айтесь осторожно налечь грудью на край льда и забросить одну, а потом и другую ноги на л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\Рабочий стол\для презент. тонкий лед\1111111111111111.jpg"/>
          <p:cNvPicPr/>
          <p:nvPr/>
        </p:nvPicPr>
        <p:blipFill>
          <a:blip r:embed="rId1"/>
          <a:stretch/>
        </p:blipFill>
        <p:spPr>
          <a:xfrm>
            <a:off x="2357280" y="3571920"/>
            <a:ext cx="428652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54:10Z</dcterms:created>
  <dc:creator>Вурдалак</dc:creator>
  <dc:description/>
  <dc:language>en-US</dc:language>
  <cp:lastModifiedBy>user</cp:lastModifiedBy>
  <dcterms:modified xsi:type="dcterms:W3CDTF">2016-01-18T07:44:21Z</dcterms:modified>
  <cp:revision>36</cp:revision>
  <dc:subject/>
  <dc:title>ГИДРОДИНАМИЧЕСКИЕ АВАРИИ</dc:title>
</cp:coreProperties>
</file>