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5BC-8EE6-4DB1-815F-05FB6142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47E-A524-4127-9010-8422B83F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2FA-471E-4B81-B93C-C2E49A2D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8F3-CA76-47AA-92D4-B9F72E75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19B-5E3B-421B-9DC7-36C2E56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305-33AC-47B8-9875-84855D8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E8E-A2ED-4E3F-AE23-FEFAF11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534-005E-49BD-BA6F-3B342C0F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1C2-80B9-477A-82FB-128713B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4AD-5AAE-4A2A-88EC-FD2071B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0CD-AFB3-4DA6-B48C-9ABB8919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430-1864-42EE-B919-6510301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B584-1027-4F34-8E50-C14FBAF32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778500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639800" y="4170240"/>
            <a:ext cx="6413760" cy="217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MCHS-3"/>
          <p:cNvPicPr/>
          <p:nvPr/>
        </p:nvPicPr>
        <p:blipFill>
          <a:blip r:embed="rId1"/>
          <a:stretch/>
        </p:blipFill>
        <p:spPr>
          <a:xfrm>
            <a:off x="214200" y="142920"/>
            <a:ext cx="418176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CHS-3"/>
          <p:cNvPicPr/>
          <p:nvPr/>
        </p:nvPicPr>
        <p:blipFill>
          <a:blip r:embed="rId2"/>
          <a:stretch/>
        </p:blipFill>
        <p:spPr>
          <a:xfrm>
            <a:off x="4429080" y="2428920"/>
            <a:ext cx="4508640" cy="394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rcRect l="0" t="0" r="-4735" b="0"/>
          <a:stretch/>
        </p:blipFill>
        <p:spPr>
          <a:xfrm>
            <a:off x="1071720" y="42861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0040" y="357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0" y="5533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резвычайных ситуациях звони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01;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т. тел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1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ц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Человек на то имеет разум и науку, чтобы обезопасить себя от всякого бедствия». К.Э.Циол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060405_e2"/>
          <p:cNvPicPr/>
          <p:nvPr/>
        </p:nvPicPr>
        <p:blipFill>
          <a:blip r:embed="rId1"/>
          <a:stretch/>
        </p:blipFill>
        <p:spPr>
          <a:xfrm>
            <a:off x="1500120" y="2924280"/>
            <a:ext cx="583416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00040" y="4287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енними лучами солнца лед на водоемах становится рыхлым и непрочным. В это время выходить на его поверхность крайне опасно. Однако каждый год многие люди пренебрегают мерами предосторожности и выходят на тонкий весенний лед, тем самым, подвергая свою жизнь смертельной 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929120" y="428616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ах произрастания водной растительности, вблизи деревьев, кустов и камы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2214720" y="3357720"/>
            <a:ext cx="607212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голубого цвета – прочный, белого – прочность его в 2 раза меньше, серый, матово-белый или с желтоватым оттенком лед ненадежен. Если температура воздуха выше 0 градусов держится более трех дней, то прочность льда снижается на 25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Администратор\Рабочий стол\DSC_1403.jpg"/>
          <p:cNvPicPr/>
          <p:nvPr/>
        </p:nvPicPr>
        <p:blipFill>
          <a:blip r:embed="rId1"/>
          <a:stretch/>
        </p:blipFill>
        <p:spPr>
          <a:xfrm>
            <a:off x="5357880" y="3357720"/>
            <a:ext cx="250020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2"/>
          <a:stretch/>
        </p:blipFill>
        <p:spPr>
          <a:xfrm>
            <a:off x="857160" y="3429000"/>
            <a:ext cx="4106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615960" y="-85680"/>
            <a:ext cx="7997760" cy="3163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MCHS-3"/>
          <p:cNvPicPr/>
          <p:nvPr/>
        </p:nvPicPr>
        <p:blipFill>
          <a:blip r:embed="rId2"/>
          <a:stretch/>
        </p:blipFill>
        <p:spPr>
          <a:xfrm>
            <a:off x="2000160" y="1857240"/>
            <a:ext cx="5643720" cy="442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никуйте, не делайте резких движений, стабилизируйте дых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user</cp:lastModifiedBy>
  <dcterms:modified xsi:type="dcterms:W3CDTF">2016-01-18T07:44:21Z</dcterms:modified>
  <cp:revision>36</cp:revision>
  <dc:subject/>
  <dc:title>ГИДРОДИНАМИЧЕСКИЕ АВАРИИ</dc:title>
</cp:coreProperties>
</file>