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D59A-7235-41E4-A6EA-3163C9714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9B67-4AC9-4B35-82F7-31E0DF64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902C-355B-4E7F-B481-200434C96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B0A1-AA9B-48C1-AA82-B38EBF23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0FF-62F5-47FC-8A00-2156AB5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BFED-AB5B-47D8-8BB5-0F643961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BCC4-10C9-474F-9EF4-C1277EED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8AB8-9BA0-4896-B0D7-7BFE0381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A88-6878-4DEA-85C0-C51BB3EB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0D53-AAB0-4B47-9518-2CD09FA4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C75-0481-47D8-A17C-C79EBFBB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ECC-722A-4C4A-B16F-36887B7D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E8D1E-0015-4BD7-A392-3B19AF31DD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2560" y="920880"/>
            <a:ext cx="7785000" cy="3084480"/>
          </a:xfrm>
          <a:prstGeom prst="rect">
            <a:avLst/>
          </a:prstGeom>
          <a:ln w="0">
            <a:noFill/>
          </a:ln>
        </p:spPr>
      </p:pic>
      <p:pic>
        <p:nvPicPr>
          <p:cNvPr id="42" name="Подзаголовок 2" descr=""/>
          <p:cNvPicPr/>
          <p:nvPr/>
        </p:nvPicPr>
        <p:blipFill>
          <a:blip r:embed="rId2"/>
          <a:stretch/>
        </p:blipFill>
        <p:spPr>
          <a:xfrm>
            <a:off x="1639800" y="4170240"/>
            <a:ext cx="6413760" cy="2175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500040" y="357120"/>
            <a:ext cx="82296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лед выдержал, перекатываясь, медленно ползите к берег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зите в ту сторону – откуда пришли, ведь лед здесь уже проверен на проч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1"/>
          <a:stretch/>
        </p:blipFill>
        <p:spPr>
          <a:xfrm>
            <a:off x="571680" y="3029040"/>
            <a:ext cx="807228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285840"/>
            <a:ext cx="82152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MCHS-3"/>
          <p:cNvPicPr/>
          <p:nvPr/>
        </p:nvPicPr>
        <p:blipFill>
          <a:blip r:embed="rId1"/>
          <a:stretch/>
        </p:blipFill>
        <p:spPr>
          <a:xfrm>
            <a:off x="214200" y="142920"/>
            <a:ext cx="418176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MCHS-3"/>
          <p:cNvPicPr/>
          <p:nvPr/>
        </p:nvPicPr>
        <p:blipFill>
          <a:blip r:embed="rId2"/>
          <a:stretch/>
        </p:blipFill>
        <p:spPr>
          <a:xfrm>
            <a:off x="4429080" y="2428920"/>
            <a:ext cx="4508640" cy="3944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3"/>
          <a:srcRect l="0" t="0" r="-4735" b="0"/>
          <a:stretch/>
        </p:blipFill>
        <p:spPr>
          <a:xfrm>
            <a:off x="1071720" y="4286160"/>
            <a:ext cx="2600280" cy="1700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0040" y="49968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чащиеся и взрослые, соблюдайте правила поведения на водных объектах, выполнение элементарных мер осторожности - залог вашей безопасност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500040" y="3571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0" y="553320"/>
            <a:ext cx="91440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чрезвычайных ситуациях звонить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- 01;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сот. тел.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11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ец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00040" y="356760"/>
            <a:ext cx="822960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Человек на то имеет разум и науку, чтобы обезопасить себя от всякого бедствия». К.Э.Циолков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6" descr="060405_e2"/>
          <p:cNvPicPr/>
          <p:nvPr/>
        </p:nvPicPr>
        <p:blipFill>
          <a:blip r:embed="rId1"/>
          <a:stretch/>
        </p:blipFill>
        <p:spPr>
          <a:xfrm>
            <a:off x="1500120" y="2924280"/>
            <a:ext cx="5834160" cy="3290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500040" y="428760"/>
            <a:ext cx="8229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весенними лучами солнца лед на водоемах становится рыхлым и непрочным. В это время выходить на его поверхность крайне опасно. Однако каждый год многие люди пренебрегают мерами предосторожности и выходят на тонкий весенний лед, тем самым, подвергая свою жизнь смертельной опас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Documents and Settings\Admin\Рабочий стол\для презент. тонкий лед\i_032.png"/>
          <p:cNvPicPr/>
          <p:nvPr/>
        </p:nvPicPr>
        <p:blipFill>
          <a:blip r:embed="rId1"/>
          <a:stretch/>
        </p:blipFill>
        <p:spPr>
          <a:xfrm>
            <a:off x="714240" y="4429080"/>
            <a:ext cx="2954520" cy="20001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Documents and Settings\Admin\Рабочий стол\для презент. тонкий лед\ice.jpg"/>
          <p:cNvPicPr/>
          <p:nvPr/>
        </p:nvPicPr>
        <p:blipFill>
          <a:blip r:embed="rId2"/>
          <a:stretch/>
        </p:blipFill>
        <p:spPr>
          <a:xfrm>
            <a:off x="4929120" y="4286160"/>
            <a:ext cx="3247920" cy="22431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5840" y="285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нужно знать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пасным для человека считается лед толщиною не менее 10 сантиметров в пресной воде и 15 сантиметров в солено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Admin\Рабочий стол\i_033.png"/>
          <p:cNvPicPr/>
          <p:nvPr/>
        </p:nvPicPr>
        <p:blipFill>
          <a:blip r:embed="rId1"/>
          <a:stretch/>
        </p:blipFill>
        <p:spPr>
          <a:xfrm>
            <a:off x="1357200" y="3714840"/>
            <a:ext cx="3000600" cy="258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Admin\Рабочий стол\для презент. тонкий лед\416815_DETAIL.jpg"/>
          <p:cNvPicPr/>
          <p:nvPr/>
        </p:nvPicPr>
        <p:blipFill>
          <a:blip r:embed="rId2"/>
          <a:stretch/>
        </p:blipFill>
        <p:spPr>
          <a:xfrm>
            <a:off x="4572000" y="4000680"/>
            <a:ext cx="3238560" cy="2571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28760" y="428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стьях рек и притоках прочность льда ослаблена. Лед непрочен в местах быстрого течения, бьющих ключей и стоковых вод, а также в районах произрастания водной растительности, вблизи деревьев, кустов и камыш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Рисунок 3" descr="http://whiteschool.narod.ru/zdorov_bez/led_1.jpg"/>
          <p:cNvPicPr/>
          <p:nvPr/>
        </p:nvPicPr>
        <p:blipFill>
          <a:blip r:embed="rId1"/>
          <a:stretch/>
        </p:blipFill>
        <p:spPr>
          <a:xfrm>
            <a:off x="2214720" y="3357720"/>
            <a:ext cx="6072120" cy="3214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28760" y="357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чность льда можно определить визуально: лед голубого цвета – прочный, белого – прочность его в 2 раза меньше, серый, матово-белый или с желтоватым оттенком лед ненадежен. Если температура воздуха выше 0 градусов держится более трех дней, то прочность льда снижается на 25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C:\Documents and Settings\Администратор\Рабочий стол\DSC_1403.jpg"/>
          <p:cNvPicPr/>
          <p:nvPr/>
        </p:nvPicPr>
        <p:blipFill>
          <a:blip r:embed="rId1"/>
          <a:stretch/>
        </p:blipFill>
        <p:spPr>
          <a:xfrm>
            <a:off x="5357880" y="3357720"/>
            <a:ext cx="2500200" cy="29289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Documents and Settings\Администратор\Рабочий стол\Копия 800xp1090843-1.jpg"/>
          <p:cNvPicPr/>
          <p:nvPr/>
        </p:nvPicPr>
        <p:blipFill>
          <a:blip r:embed="rId2"/>
          <a:stretch/>
        </p:blipFill>
        <p:spPr>
          <a:xfrm>
            <a:off x="857160" y="3429000"/>
            <a:ext cx="4106880" cy="2857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Admin\Рабочий стол\для презент. тонкий лед\Копия (2) pravilaperexodapol-duvodoemov.jpg"/>
          <p:cNvPicPr/>
          <p:nvPr/>
        </p:nvPicPr>
        <p:blipFill>
          <a:blip r:embed="rId1"/>
          <a:stretch/>
        </p:blipFill>
        <p:spPr>
          <a:xfrm>
            <a:off x="0" y="0"/>
            <a:ext cx="9151920" cy="674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1"/>
          <a:stretch/>
        </p:blipFill>
        <p:spPr>
          <a:xfrm>
            <a:off x="615960" y="-85680"/>
            <a:ext cx="7997760" cy="316368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MCHS-3"/>
          <p:cNvPicPr/>
          <p:nvPr/>
        </p:nvPicPr>
        <p:blipFill>
          <a:blip r:embed="rId2"/>
          <a:stretch/>
        </p:blipFill>
        <p:spPr>
          <a:xfrm>
            <a:off x="2000160" y="1857240"/>
            <a:ext cx="5643720" cy="4429440"/>
          </a:xfrm>
          <a:prstGeom prst="rect">
            <a:avLst/>
          </a:prstGeom>
          <a:ln w="0">
            <a:noFill/>
          </a:ln>
        </p:spPr>
      </p:pic>
    </p:spTree>
  </p:cSld>
  <p:transition spd="slow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28760" y="0"/>
            <a:ext cx="822960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аникуйте, не делайте резких движений, стабилизируйте дыха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ьте руки в стороны и постарайтесь зацепиться за кромку льда, придав телу горизонтальное положение по направлению теч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ытайтесь осторожно налечь грудью на край льда и забросить одну, а потом и другую ноги на л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Admin\Рабочий стол\для презент. тонкий лед\1111111111111111.jpg"/>
          <p:cNvPicPr/>
          <p:nvPr/>
        </p:nvPicPr>
        <p:blipFill>
          <a:blip r:embed="rId1"/>
          <a:stretch/>
        </p:blipFill>
        <p:spPr>
          <a:xfrm>
            <a:off x="2357280" y="3571920"/>
            <a:ext cx="4286520" cy="3048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8:54:10Z</dcterms:created>
  <dc:creator>Вурдалак</dc:creator>
  <dc:description/>
  <dc:language>en-US</dc:language>
  <cp:lastModifiedBy>user</cp:lastModifiedBy>
  <dcterms:modified xsi:type="dcterms:W3CDTF">2016-01-18T07:44:21Z</dcterms:modified>
  <cp:revision>36</cp:revision>
  <dc:subject/>
  <dc:title>ГИДРОДИНАМИЧЕСКИЕ АВАРИИ</dc:title>
</cp:coreProperties>
</file>