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949-2407-4936-B7A0-1309947F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27F-B15E-4B9D-BE8B-66EC91E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762-74A1-4F13-9433-39435C40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EC6-292F-4714-8C6F-797863FB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820A-6487-4A2E-808F-5E1D43A1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B2C8-0821-40FD-8847-D052F8C4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0520-B0D4-4FD6-9227-B1917B6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3C6D-BF4A-4089-BD8B-2138A0A9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50E6-A7EE-4EE0-ACE5-A5BCFF9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A08A-C890-4511-AD4E-1D1B7FC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2B9-6AE2-401F-B31D-61412B3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505-F6E9-4B74-B199-441F7B05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8BF0-E196-4337-8230-AA265E3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DF6-0FF5-4473-AA04-8DDFCAE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0B53-B5FD-4F72-BE6C-D52254EB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E42E-FB2F-4F02-90D2-93E80C8F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2DE-795D-4736-99DE-151522EA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79F6-D625-40E7-871C-E61CD06B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D2AF-53D4-43CF-938B-AB36B70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F330-B0BE-45A0-84C1-C2D7102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E52E-09EF-432E-B2CB-04A5957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0ABA-F600-4D31-8921-69AF256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0D3-64BB-43ED-A51E-CA4D9ABD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4978-8D12-4F35-9EBD-3FEAD4C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E979-4F70-42B6-B34F-AC17602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E3AC-FA87-473A-B6A4-B88EF0C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C495-D0B9-4D6F-B2E0-FFF2639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C660-FFB2-4883-B85D-8FC5F541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B572-4BE6-4F7E-AB59-E253375A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6163-A4CA-44C1-9303-B7114593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3892-61C8-4C23-8860-E4945476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CDC6-417B-4815-90A4-136F8CC3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B7A3-4D27-4480-A9A6-4C1BE246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375-FF8E-405C-970E-F04D4AD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0C56-6D17-4F4E-898D-7D82F9E7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F051-DA99-44A5-8FD4-9F6E28F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17C5-B070-4B94-B55B-D7C777FF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FA7B-446F-471E-BB07-8C5964E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8795-BCAC-4D43-A5BB-12CE3C8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BA57-B22C-40F7-9B86-0B8CF80F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61A9-782B-48A4-AED8-83CF7B54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B13F-6D00-48FF-9B88-A3AFEF2E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86EE-3AD3-4CE2-84F5-FB5A54DE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0088-37F6-4619-AFAC-0874383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985-2DF2-43D3-AF7F-968AAF03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29FD-D75F-4326-AAF3-A065A62A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2082-544F-46DB-B31E-E4CD32F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A761-0120-4448-AE99-11FF027D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1D164-C340-4E97-B8DB-D5827D04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7333-44F1-402B-B550-1C892CAC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715B-6A57-4968-9E32-748F6B9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4D831-FC7F-4DC6-8312-1D19735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8E20-BB31-4C3E-91EF-AA36B51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AA6A-1F31-4470-95A5-E3BBED0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720D-FE3A-4886-A768-2100D4A5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DDE-ADF7-4A72-AF4C-C9E4270A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8B89-5496-47E0-84EA-9807B30E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FFE4-1467-4BB7-A498-8A1EC98C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ED34-C92B-4BA8-8938-24D1DBF8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C034A-5CF7-489E-8CAC-C00814D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0D161-A0BC-4AF3-86DF-9BF7CF6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02C17-34CC-4E84-AEBB-234D7AF2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923B-80E3-415E-9B71-35EEBA02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90FD1-EC6E-4CCE-8B56-C6AEF4B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C892-229A-4FFF-B982-05AAA8C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0608D-97AF-416C-911F-D0F42E3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9F1-E003-424C-B460-60D7196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857C4-8490-4B48-97E0-BFC8283C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8550-EBBA-48B8-8C76-0A75B620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CD33-8A57-4531-851F-ECA5B816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7BD7-C518-4EE0-90D9-ED630C22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B238-BA2E-45EC-ACDE-ED58477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87D6-86AC-4D0B-A800-F9272AD6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10B4-16EC-4F07-B543-2E0F106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69D5A-DF01-4BFB-9C6B-1A6FA74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809E5-7E3F-49D4-A69B-A3C6465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91179-7381-4412-9C24-8B7EF01F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073-7B06-4406-878E-DA0324F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0B19-DC07-455A-B32A-685AF0B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F671-E66E-40EA-94FF-26CDEE2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0A2D-3F81-4C62-BB49-A6A7672E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85BC-3BFB-4273-BFFB-7170DED6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3234-5866-4176-91F6-64D3539B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F70B4-16BB-4C70-948C-E78EAFDF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7D0B-13EF-4E26-A1D6-B155A067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44D7F-D92A-40A1-A709-3C9B4865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D247-EBF3-4F07-8298-F7C974C9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0E1A1-0FCC-4191-89CA-588284D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FD4-A94E-447F-8443-549F297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A5DA-5E6F-4CD9-9481-66616E3A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392F-63E2-4040-80CB-162A16A7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57092-B32D-4E8E-919E-E456C40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63863-47F6-48D1-AD0E-F62042B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A709C-19B8-4086-9713-93ADE7A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60A3D-6B00-4E4D-9BB7-B533F3A1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EBCC-F226-4BD2-B922-0B3992CA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9BDF-FB16-4AB7-A700-98A0AE83636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DE3-5E66-43AF-99FF-2A32175281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2E85-2869-4CC7-9730-B3FE5D3B21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92F-6A5F-4CB8-AB59-41F648E5272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F7B2-D541-4474-BCBF-8493129DC67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74C9-5403-4FB6-B304-67721282CE8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2A1D-D978-4AEA-82CF-5473FE3F004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0FE-2B79-4286-8516-BB45352F152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ГБПОУ ДЗМ «Медицинский колледж №6»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СП №3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e193"/>
                </a:solidFill>
                <a:latin typeface="Corbel"/>
              </a:rPr>
              <a:t>«Бронхиальная астма» </a:t>
            </a:r>
            <a:br>
              <a:rPr sz="3200"/>
            </a:br>
            <a:r>
              <a:rPr b="1" lang="ru-RU" sz="16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6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 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                                                                                                  </a:t>
            </a:r>
            <a:br>
              <a:rPr sz="1200"/>
            </a:br>
            <a:r>
              <a:rPr b="1" lang="ru-RU" sz="1600" spc="-1" strike="noStrike">
                <a:solidFill>
                  <a:srgbClr val="ffe193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Москва  2018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тупень 1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нтермиттирующая Б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 реже 1 раза в недел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роткие обостр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чные симптомы не чаще 2 раз в месяц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80% и более от должных значе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бельность показателей ПСВ или ОФВ1 составляет менее 20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547120" cy="1305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 чаще 1 раза в неделю, но реже 1 раза в ден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острения могут влиять на физическую активность и сон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чные симптомы чаще 2 раз в месяц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80% и более от должных значе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бельность показателей ПСВ или ОФВ1 составляет 20-30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255600" y="12600"/>
            <a:ext cx="8437680" cy="1279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жедневные симптом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острения могут влиять на физическую активность и сон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чные симптомы чаще 1 раза в недел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жедневный прием ингаляционных в2-агонист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60-80% от должных значе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бельность показателей ПСВ или ОФВ1 составляет более 30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034560" cy="1511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жедневные симптом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ые обостр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ые ночные симптом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граничение физической актив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менее 60% от должных значе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омплексная терапия больных Б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Обучение больны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Оценка и мониторинг тяжести Б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Элиминация триггеров или контроль их влияния на течение болезн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Разработка плана медикаментозной терапии для постоянного леч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Разработка плана лечения в период обостр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 Обеспечение регулярного наблюд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341280" y="201600"/>
            <a:ext cx="8352000" cy="1303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далить ковры из спальн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далить перь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нять непропускаемые постельные покрывал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жедневно стирать постель в горячей вод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нять средства, ликвидирующие сапрофи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 держать в квартире животных и птиц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 курить в помещениях, где находятся больны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упреждать инфекции дыхательных пу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I. Препараты для контроля за течением астм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галяционные ГКС (беклометазона дипропионат, будесонид, флунизомид, флутиказон, триамцинолона ацетонид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истемные ГКС (преднизолон, метилпреднизолон); (!) п/э: кандидоз полости рта, охриплость голоса, кашель от раздражения слизистой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трия кромогликат (интал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докромил натрия (тайлед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офиллин замедленного высвобождения (теопек, теодур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галяционные в2-агонисты длительного действия (формотерол, сальметерол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нтилейкотриеновые препараты: а) антагонисты рецепторов к цистеинил-лейкотриену 1 (монтелукаст, зафирлукаст), б) ингибитор 5-липооксигеназы (зилеутон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506520" y="85680"/>
            <a:ext cx="8076960" cy="920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галяционные в2-агонисты быстрого действия (сальбутамол, фенотерол, тербуталин, репротерон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стемные ГКС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нтихолинергические препараты (ипратропиум бромид (атровент), окситропиума бромид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тилксантины (теофиллин в/в, эуфиллин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341280" y="133200"/>
            <a:ext cx="8352000" cy="800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упунктур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меопат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йо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онизато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елеотерап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 Бутейк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0" y="765000"/>
            <a:ext cx="8640720" cy="532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Бронхиальная астма (БА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хроническое воспалительное заболевание дыхательных путей, которое характеризу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м обратимой обструкции бронхов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м воспалительного процесса в области слизистой бронхов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иперреактивностью бронхов к факторам внешней сре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NA (General Initiative for Asthma)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смот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200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д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енетическая предрасположеннос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топия (гиперпродукция IgE в ответ на поступление аллергена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иперреактивность дыхательных пу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 (чаще у женщин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овая принадлеж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ашние аллерген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ашняя пыль (домашний клещ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ллергены животных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ллергены таракан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ибы (плесень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нешние аллерген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ыльц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иб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фессиональные (сенсибилизаторы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ре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здушные поллютан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спираторные инфек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разитарные инфек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иета и лекарств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жире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машние и внешние аллерген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лютанты помещений и внешние поллютан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спираторные инфек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ческая нагрузка и гипервентиля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менение погодных услов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вуокись се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ища, пищевые добавки, лекарст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резмерные эмоциональные нагруз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рение (пассивное и активно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рританты (домашний аэрозоль, запах краск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46160"/>
            <a:ext cx="8375760" cy="1268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Первичные эффекторные клет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учные клетки (гистамин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крофаги (цитокины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пителиальные клет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торичные эффекторные клет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озинофил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-лимфоци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йтрофил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омбоци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трый бронхоспазм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ек стенки бронха (подострый)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роническая обтурация слизью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моделирование стенки брон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орме ОФВ1 (объем форсированного выдоха за первую секунду) - не менее 75% от ЖЕ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70% - легка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9-50% - умеренна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нее 50% - тяжел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Б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топическая (экзогенна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аллергическая (эндогенная, аспиринова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мешанная (аллергическая + неаллергическа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уточненн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Астматический статус (острая тяжелая Б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спиринова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при БА наблюдается дефицит PG, а аспирин (как и другие НПВС) еще сильнее снижают их уровень. Салициловая кислота содержится в различных продуктах, поэтому важно не перепутать эту форму БА с пищевой аллерги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8:59:38Z</dcterms:created>
  <dc:creator>Алина</dc:creator>
  <dc:description/>
  <dc:language>en-US</dc:language>
  <cp:lastModifiedBy>Александр</cp:lastModifiedBy>
  <dcterms:modified xsi:type="dcterms:W3CDTF">2020-10-12T15:27:34Z</dcterms:modified>
  <cp:revision>6</cp:revision>
  <dc:subject/>
  <dc:title>Бронхиальная астма</dc:title>
</cp:coreProperties>
</file>