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9BF-5790-46FC-931D-3CCBA634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011-DCFE-4C04-8DD9-F33061F1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15F-614D-4D11-9EB6-E5071829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1B6-AF6A-47A1-83AC-EF5E7FF9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93EE-96BB-4052-BA6D-B41F66EE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5EC5-DE26-4EE5-A0DC-930BF0D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590-8C7E-4838-B30B-64FBF8C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4875-55C4-4CE8-83DD-9901D90B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F7D-FAF0-48E2-89BA-025B9C70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6518-7964-4950-9587-3B5A5B66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EE00-F4DA-4F5F-9FB7-C68DF62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84A-F645-435A-8113-B3C2D619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B897-2732-43D6-8449-13A41AD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C27-ABAC-45CC-89D3-1FBEB03F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81E-9914-4A17-9D6A-CFAA0BBB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868D-27D0-418A-96FF-929EA92A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751B-5C4D-4C2B-93BD-FE3816A6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E0A1-E0DE-4E59-97B9-5B2F5013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50DA-347A-470A-868E-F9E877D4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63EB-1A00-49EF-9948-5827E04F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A65C-6016-4D96-9083-8A89145B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59FC-9BB5-401E-B6A7-B8B6F67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ED1-94C4-4E9F-A461-559A0475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4176-04FD-4A43-B5B1-7268984D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DB70-5D61-4753-98AD-2F9901F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210D-1DE6-4CD0-B1F8-2713FC09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970B-61B5-441A-ABC4-E078885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1786-83E5-4632-97E5-72DE1970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3666-22BC-4CD1-9D20-22C2F870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1F73-AB21-48F1-A2B4-3F0452EC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89B2-8EF1-4B2A-A3CD-D6459C78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843B-AB73-45F0-B37D-0A6884C7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C05B-F042-4330-A692-7C6215F5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6D6-99C1-4494-BEE6-B5AA12F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98C1-FC1A-454C-84C1-1B3D6FF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C3D3-C450-4B74-9BEE-46E3ED25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9419-E28D-4D5A-9F75-3456C20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FBCB-BF75-438A-A527-B8B8F02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D97B-E5E9-4AF8-AA40-5FACFEF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BF99-2E97-4374-AD30-6328432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D0E2-8289-48DB-BB70-A0B03DD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1F27-7C65-4013-BF88-3FCAB4E3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C847-9D13-480C-BBE7-51A848A5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3E518-1FCC-4CBC-84C2-F77E0618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7C7-5239-4ED7-9D2A-60B3D87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D799-8F7B-4D6E-BCFE-EFC7514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6FAB-4205-4756-A344-B447585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5F56-BF77-480C-9670-2FF983E7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29E9-ADBA-44F4-AD72-BD8C6A4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779A-7849-4543-BF6C-C878099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33D3-5CB5-4CB3-81CE-F0B1A35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52B2-4955-4698-BB75-4D6A7DC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1587-A583-4273-8F38-46E975E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EB65-932E-4F7D-A60D-6B2FFE7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8FCA-BD22-4B59-8749-D8959E43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0A6-04C5-41CB-A34D-3859F907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7A48-1503-4D3B-86B5-97E711A4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30A5-A5A5-4E6B-8E50-273F66A7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3DDE-5514-4D70-AFF0-19C2B51A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BDB3-7AE2-4961-9A32-E2E86222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6A78-FF25-4B29-B07F-4A46014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A5A7-70DA-40DF-B16C-8D19800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CED4-EB98-45F0-9935-2AFD4070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BC3D-C270-4BE3-80B9-3D2E3C2F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62F5-A45A-4E9D-B4B7-4248603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6CB1-8B18-4E8C-B364-0F1A6A1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70A-3805-4200-ABC5-419F989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2CAF-2615-47E0-B71F-BE6FDFAC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E199-84FB-465D-B43D-77334F96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F952-9A4C-492B-B616-2C805AB5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997E5-7BE0-4CA8-B876-45CBA310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CF54-84F4-4F74-BC11-E967159B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D733-3F2F-4DBF-93DF-8CC88157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A7B2-1677-4367-AD37-2AC1B120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8F76-7F83-4FB7-BF29-EC61284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602F-787A-4DF8-819D-50A7D0E0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580C-0824-41DC-9A9E-4EB0DA52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201-8491-41D6-B825-69F70B8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75233-4DEA-4EF0-8CA9-70170BA1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E88C-6B90-4CB2-A1CC-1F1CE6B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235A-A65B-4853-8D03-F1E2AB4C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9528-B326-4DA7-A3D2-929206C2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BFA1-9FD7-4147-B09A-D872A7BA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9F96-5B3E-4E02-BB52-DA85E0F3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F161-097E-47D1-BE99-D4D944F2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724F4-7433-4D1C-84BB-B4B48431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2E6E6-15E0-4F85-957D-1FBDB60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A6212-D512-4615-A3CD-639BFE6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4B3-8821-4213-B70D-95F0DD1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1380-DF9B-42AD-B4C2-0D2DCE45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0E9E-198C-42C7-AC0F-0E818F95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1C28-ABD0-4DA8-81EC-BFC1BB6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568C8-259C-4895-9315-DEDDB18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53DF3-56E6-450C-9750-DABEEDAF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5B51-4E89-49AA-8B60-667D2CC9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9E42-160A-421E-BDDF-082D9C2A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0899-BA41-47BC-A27C-336B69B4FAC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C31E-2C2C-431D-9F6D-FECB9D8A0A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62CB-04B0-43C1-B4B6-619ED013E0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D3F3-CBF2-4C4C-A835-1074B334A7B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466-4594-443E-A8EA-F1EAE8F9DDD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F48-B295-4AB2-A60C-B2E5CC41971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32C-4269-4F5E-8F09-65974B4FB5C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0732-62E1-43B7-BAF0-3358B07B002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ГБПОУ ДЗМ «Медицинский колледж №6»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СП №3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e193"/>
                </a:solidFill>
                <a:latin typeface="Corbel"/>
              </a:rPr>
              <a:t>«Бронхиальная астма» </a:t>
            </a:r>
            <a:br>
              <a:rPr sz="3200"/>
            </a:br>
            <a:r>
              <a:rPr b="1" lang="ru-RU" sz="16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6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</a:t>
            </a: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  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                                                                                                  </a:t>
            </a:r>
            <a:br>
              <a:rPr sz="1200"/>
            </a:br>
            <a:r>
              <a:rPr b="1" lang="ru-RU" sz="1600" spc="-1" strike="noStrike">
                <a:solidFill>
                  <a:srgbClr val="ffe193"/>
                </a:solidFill>
                <a:latin typeface="Corbe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e193"/>
                </a:solidFill>
                <a:latin typeface="Corbel"/>
              </a:rPr>
              <a:t>Москва  2018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тупень 1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нтермиттирующая Б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 реже 1 раза в недел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роткие обостр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чные симптомы не чаще 2 раз в месяц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80% и более от должных значе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бельность показателей ПСВ или ОФВ1 составляет менее 20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547120" cy="1305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 чаще 1 раза в неделю, но реже 1 раза в ден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острения могут влиять на физическую активность и сон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чные симптомы чаще 2 раз в месяц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80% и более от должных значе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бельность показателей ПСВ или ОФВ1 составляет 20-30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255600" y="12600"/>
            <a:ext cx="8437680" cy="1279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жедневные симптом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острения могут влиять на физическую активность и сон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чные симптомы чаще 1 раза в недел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жедневный прием ингаляционных в2-агонист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60-80% от должных значен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бельность показателей ПСВ или ОФВ1 составляет более 30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-23760" y="-79200"/>
            <a:ext cx="9034560" cy="1511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жедневные симптом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ые обостр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ые ночные симптом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граничение физической актив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казатели ОФВ1 или ПСВ составляют менее 60% от должных значе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омплексная терапия больных Б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 Обучение больны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Оценка и мониторинг тяжести Б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Элиминация триггеров или контроль их влияния на течение болезн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 Разработка плана медикаментозной терапии для постоянного леч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 Разработка плана лечения в период обостр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 Обеспечение регулярного наблюд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341280" y="201600"/>
            <a:ext cx="8352000" cy="1303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далить ковры из спальн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далить перь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нять непропускаемые постельные покрывал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жедневно стирать постель в горячей вод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нять средства, ликвидирующие сапрофит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 держать в квартире животных и птиц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 курить в помещениях, где находятся больны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упреждать инфекции дыхательных пу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I. Препараты для контроля за течением астм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галяционные ГКС (беклометазона дипропионат, будесонид, флунизомид, флутиказон, триамцинолона ацетонид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истемные ГКС (преднизолон, метилпреднизолон); (!) п/э: кандидоз полости рта, охриплость голоса, кашель от раздражения слизистой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трия кромогликат (интал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докромил натрия (тайлед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офиллин замедленного высвобождения (теопек, теодур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галяционные в2-агонисты длительного действия (формотерол, сальметерол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нтилейкотриеновые препараты: а) антагонисты рецепторов к цистеинил-лейкотриену 1 (монтелукаст, зафирлукаст), б) ингибитор 5-липооксигеназы (зилеутон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506520" y="85680"/>
            <a:ext cx="8076960" cy="920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галяционные в2-агонисты быстрого действия (сальбутамол, фенотерол, тербуталин, репротерон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стемные ГКС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нтихолинергические препараты (ипратропиум бромид (атровент), окситропиума бромид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тилксантины (теофиллин в/в, эуфиллин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341280" y="133200"/>
            <a:ext cx="8352000" cy="800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упунктур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меопат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йо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онизато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елеотерап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 Бутейк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0" y="765000"/>
            <a:ext cx="8640720" cy="532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Бронхиальная астма (БА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хроническое воспалительное заболевание дыхательных путей, которое характеризуетс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м обратимой обструкции бронхов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м воспалительного процесса в области слизистой бронхов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иперреактивностью бронхов к факторам внешней сре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NA (General Initiative for Asthma)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смот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2002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да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енетическая предрасположеннос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топия (гиперпродукция IgE в ответ на поступление аллергена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иперреактивность дыхательных пу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 (чаще у женщин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овая принадлеж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ашние аллерген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ашняя пыль (домашний клещ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ллергены животных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ллергены таракан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ибы (плесень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нешние аллерген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ыльц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иб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фессиональные (сенсибилизаторы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рени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здушные поллютанты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спираторные инфек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разитарные инфек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иета и лекарств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жире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машние и внешние аллерген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лютанты помещений и внешние поллютан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спираторные инфек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ческая нагрузка и гипервентиля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менение погодных услов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вуокись се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ища, пищевые добавки, лекарст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резмерные эмоциональные нагруз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рение (пассивное и активно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рританты (домашний аэрозоль, запах краск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46160"/>
            <a:ext cx="8375760" cy="1268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Первичные эффекторные клет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учные клетки (гистамин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крофаги (цитокины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пителиальные клет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торичные эффекторные клет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озинофил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-лимфоци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йтрофил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омбоци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61372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трый бронхоспазм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ек стенки бронха (подострый)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роническая обтурация слизью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моделирование стенки брон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орме ОФВ1 (объем форсированного выдоха за первую секунду) - не менее 75% от ЖЕ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ее 70% - легка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9-50% - умеренна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­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нее 50% - тяжел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Б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топическая (экзогенна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аллергическая (эндогенная, аспиринова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мешанная (аллергическая + неаллергическа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уточненн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Астматический статус (острая тяжелая Б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спиринова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 при БА наблюдается дефицит PG, а аспирин (как и другие НПВС) еще сильнее снижают их уровень. Салициловая кислота содержится в различных продуктах, поэтому важно не перепутать эту форму БА с пищевой аллерги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8:59:38Z</dcterms:created>
  <dc:creator>Алина</dc:creator>
  <dc:description/>
  <dc:language>en-US</dc:language>
  <cp:lastModifiedBy>Александр</cp:lastModifiedBy>
  <dcterms:modified xsi:type="dcterms:W3CDTF">2020-10-12T15:27:34Z</dcterms:modified>
  <cp:revision>6</cp:revision>
  <dc:subject/>
  <dc:title>Бронхиальная астма</dc:title>
</cp:coreProperties>
</file>