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DEB8-3C73-4DBB-B70F-F516035A9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D9FC-D3F8-4BD3-BC39-3D6C4CCE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3ADD-479D-4BF9-B676-CE0692EE1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6CDC-541B-4980-BA22-8E6BC8F8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5908-B01B-4E2E-B6AC-D37F58882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FCB1-C167-4D60-9FB8-549B00A3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5512-0235-461E-A318-31DE94635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7E5E-6061-49A6-A374-CEA37AF4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1BEC-6C77-4539-A498-55D092EC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74EC2-6454-40FC-ACB3-47CB8342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6A30-F785-4C13-A7BF-E7062775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4D1-8312-436C-8EFB-E7ECF746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ED81-A75D-497D-9826-EA51BFED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100D-D2C4-4F96-ABA0-C2544CF2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9BD6-F03F-46C2-AEAC-372E60B5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E49F-B9D0-4B9E-BA92-9C84876F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29FD5-CB00-4F6A-95D2-879BBF9A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E589E-657F-472F-B9AA-DF3580859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0EF39-59E3-4721-98B9-3C6F54B8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63768-C587-4B24-8546-609F94C3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434F6-F718-437A-A3A6-0E74A10B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01E83-E398-4F4A-9C5E-1378C401E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DA0-7F0D-43E1-945D-4181AC429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82900D-E16F-4F3C-9514-E5A5BC62E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CCE21-F955-4405-92D4-966677C7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C68BE-0B3D-467F-B8AE-19BDFF0C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2F727-D80D-4A5D-B6DE-F2AEED4B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DB403-EF12-4AE1-AE12-4EF6A444D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3DA5B-41B6-4689-9B35-3E9BABE5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CFC8C-9E7C-47ED-8E61-4FE1633B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EFDADE-31CD-405D-8DB7-46722C1EF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0F841-1736-46D1-9F79-D910074F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0A1B7-4DA2-4E80-991D-E5DAF23DB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D1AB-6342-4EBA-87B1-921F804C2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7EF4D-2C65-4655-996A-AEC94301D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E99D0-EB7C-485C-A4FA-C7EC8646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BAE3F-57BF-40F9-9C68-7BDCEC3E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E74C6-6EAC-42E2-AB9C-17D69398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5B213-4E22-4845-96EE-90730613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0EB1A9-A3E1-41BE-95F1-B7C1B9E68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FC130-1C4D-4360-9E93-9A29DE61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BD10B-0936-404C-871E-8389D2073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0153B-0D56-41C9-9901-D991D5B5C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55868-21B7-4346-9A26-9580A4A8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5CA2-32AA-4376-B01A-E3ED35AD4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03ED37-A539-4223-83BC-197BF9B38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C5FF26-264F-417A-B8F8-98AFAB0F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F35AB-EE2D-4FAC-801A-9F0E2CA5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4B1A1-14C7-489D-8E38-BAEAB4E1B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AE42B5-4CE4-4C68-8400-B6F42601D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5A642-4E7A-45C3-BA4A-B552DDDB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42448-36FB-4073-8364-A2A7F6AA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8263D-6835-445C-9150-1B293821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81A61-8EB4-48B1-8082-569ECFC5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0187D-E44F-4F05-AE05-37F3FE37A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D83A-29D4-474C-972E-EF8E84BF8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FC40B-06F8-4B63-BAE3-8497D611E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060B00-730A-4340-B4FA-827F9385A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0D4AB-B313-4EE5-828E-2F1039FD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D0804-61C8-4C31-9E27-79952E65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9C6BF-D3BE-4754-815E-3A7942A4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F744F-9BC9-4553-98C1-DACEBD93F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4FC436-B6D9-41F8-B925-69F744F14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E3617B-E781-44BC-BDFC-251B90DC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8E2531-6AEB-4050-B334-CF49366A4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5BF8EF-9658-4810-B9A3-43A9CEA0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5E6-7AF3-4C2C-A91F-E92DFC43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1A7A3-4930-4D44-88B2-86F6D976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F8A5F-E0C6-4BED-BFB9-8E7870ECD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D5651-F38C-4BEC-BA41-4E93DF4E3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AC82-5C46-4F65-B710-D33858812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D66-6B4F-44F2-9BCA-7AFCDF3C5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25537-B1F2-448F-AD62-6169E6A21EF7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8867-D5B0-4034-96EA-44A86AC3C0EF}" type="slidenum">
              <a:rPr b="0" lang="ru-RU" sz="1000" spc="-1" strike="noStrike">
                <a:solidFill>
                  <a:srgbClr val="ffffff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7578-9C1B-4034-A548-372C295AECB7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C1986-1A78-4065-B51B-01E5D8675490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39A7-8C58-4917-9DA0-CA300BC27BD2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0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Calibri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mbri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3B7AF-C48C-4A44-B4C9-42A462BD65F1}" type="slidenum">
              <a:rPr b="0" lang="ru-RU" sz="1000" spc="-1" strike="noStrike">
                <a:solidFill>
                  <a:srgbClr val="000000"/>
                </a:solidFill>
                <a:latin typeface="Cambri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Схема 4" descr=""/>
          <p:cNvPicPr/>
          <p:nvPr/>
        </p:nvPicPr>
        <p:blipFill>
          <a:blip r:embed="rId1"/>
          <a:stretch/>
        </p:blipFill>
        <p:spPr>
          <a:xfrm>
            <a:off x="609480" y="622440"/>
            <a:ext cx="7901280" cy="5205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Содержимое 3" descr=""/>
          <p:cNvPicPr/>
          <p:nvPr/>
        </p:nvPicPr>
        <p:blipFill>
          <a:blip r:embed="rId1"/>
          <a:stretch/>
        </p:blipFill>
        <p:spPr>
          <a:xfrm>
            <a:off x="390600" y="1474920"/>
            <a:ext cx="835668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Содержимое 3" descr=""/>
          <p:cNvPicPr/>
          <p:nvPr/>
        </p:nvPicPr>
        <p:blipFill>
          <a:blip r:embed="rId1"/>
          <a:stretch/>
        </p:blipFill>
        <p:spPr>
          <a:xfrm>
            <a:off x="390600" y="1474920"/>
            <a:ext cx="835668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428760" y="1500120"/>
            <a:ext cx="8229600" cy="4525920"/>
          </a:xfrm>
          <a:prstGeom prst="rect">
            <a:avLst/>
          </a:pr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txBody>
          <a:bodyPr anchor="t">
            <a:normAutofit fontScale="97000"/>
          </a:bodyPr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развивать слухоречевое внимание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вырабатывать правильные артикуляционные уклады и закреплять их в речи детей</a:t>
            </a:r>
            <a:r>
              <a:rPr b="0" lang="ru-RU" sz="2400" spc="-1" strike="noStrike">
                <a:solidFill>
                  <a:srgbClr val="d9d9d9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вырабатывать правильное речевое дыхание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развивать интонационную выразительность речи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обогащать и активизировать словарный запас детей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стимулировать речевую активность детей;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3" marL="1108440" indent="-221400">
              <a:spcBef>
                <a:spcPts val="349"/>
              </a:spcBef>
              <a:buClr>
                <a:srgbClr val="f2f2f2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9d9d9"/>
                </a:solidFill>
                <a:latin typeface="Cambria"/>
              </a:rPr>
              <a:t>развивать речевое общение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353880" indent="-247680">
              <a:spcBef>
                <a:spcPts val="400"/>
              </a:spcBef>
              <a:buClr>
                <a:srgbClr val="f2f2f2"/>
              </a:buClr>
              <a:buSzPct val="68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278" name="Заголовок 2" descr=""/>
          <p:cNvPicPr/>
          <p:nvPr/>
        </p:nvPicPr>
        <p:blipFill>
          <a:blip r:embed="rId1"/>
          <a:stretch/>
        </p:blipFill>
        <p:spPr>
          <a:xfrm>
            <a:off x="165240" y="231840"/>
            <a:ext cx="8643960" cy="130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Заголовок 3" descr=""/>
          <p:cNvPicPr/>
          <p:nvPr/>
        </p:nvPicPr>
        <p:blipFill>
          <a:blip r:embed="rId1"/>
          <a:stretch/>
        </p:blipFill>
        <p:spPr>
          <a:xfrm>
            <a:off x="378000" y="231840"/>
            <a:ext cx="8381880" cy="130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285840" y="1397160"/>
          <a:ext cx="8715240" cy="4754520"/>
        </p:xfrm>
        <a:graphic>
          <a:graphicData uri="http://schemas.openxmlformats.org/drawingml/2006/table">
            <a:tbl>
              <a:tblPr/>
              <a:tblGrid>
                <a:gridCol w="2179440"/>
                <a:gridCol w="2360880"/>
                <a:gridCol w="2746080"/>
                <a:gridCol w="1428840"/>
              </a:tblGrid>
              <a:tr h="5306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1. Специфические методы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вигательно-кинесте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ухозрительно-кинестетическ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2. 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Дидактические методы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наглядны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овесные методы с опорой на наглядност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овесные методы без опоры на наглядность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рактические методы, которые должны носить игровой характе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3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. Словесные методы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овесный образец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дновременное произнесение звука ребенком и логопедом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повтор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бъясне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указание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словесные упражнения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вопрос как стимул речевой активности ребенка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—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оценка детской речи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4.  </a:t>
                      </a: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Cambria"/>
                        </a:rPr>
                        <a:t>Игровые приемы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</a:tbl>
          </a:graphicData>
        </a:graphic>
      </p:graphicFrame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Содержимое 5" descr=""/>
          <p:cNvPicPr/>
          <p:nvPr/>
        </p:nvPicPr>
        <p:blipFill>
          <a:blip r:embed="rId1"/>
          <a:stretch/>
        </p:blipFill>
        <p:spPr>
          <a:xfrm>
            <a:off x="426960" y="1420920"/>
            <a:ext cx="8504280" cy="4589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Содержимое 3" descr=""/>
          <p:cNvPicPr/>
          <p:nvPr/>
        </p:nvPicPr>
        <p:blipFill>
          <a:blip r:embed="rId1"/>
          <a:stretch/>
        </p:blipFill>
        <p:spPr>
          <a:xfrm>
            <a:off x="420840" y="255600"/>
            <a:ext cx="8302320" cy="63468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Содержимое 3" descr=""/>
          <p:cNvPicPr/>
          <p:nvPr/>
        </p:nvPicPr>
        <p:blipFill>
          <a:blip r:embed="rId1"/>
          <a:stretch/>
        </p:blipFill>
        <p:spPr>
          <a:xfrm>
            <a:off x="420840" y="1878120"/>
            <a:ext cx="8242200" cy="4986360"/>
          </a:xfrm>
          <a:prstGeom prst="rect">
            <a:avLst/>
          </a:prstGeom>
          <a:ln w="0">
            <a:noFill/>
          </a:ln>
        </p:spPr>
      </p:pic>
      <p:pic>
        <p:nvPicPr>
          <p:cNvPr id="284" name="Заголовок 4" descr=""/>
          <p:cNvPicPr/>
          <p:nvPr/>
        </p:nvPicPr>
        <p:blipFill>
          <a:blip r:embed="rId2"/>
          <a:stretch/>
        </p:blipFill>
        <p:spPr>
          <a:xfrm>
            <a:off x="334800" y="-30240"/>
            <a:ext cx="8418600" cy="184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Содержимое 3" descr=""/>
          <p:cNvPicPr/>
          <p:nvPr/>
        </p:nvPicPr>
        <p:blipFill>
          <a:blip r:embed="rId1"/>
          <a:stretch/>
        </p:blipFill>
        <p:spPr>
          <a:xfrm>
            <a:off x="353880" y="1474920"/>
            <a:ext cx="839340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Содержимое 3" descr=""/>
          <p:cNvPicPr/>
          <p:nvPr/>
        </p:nvPicPr>
        <p:blipFill>
          <a:blip r:embed="rId1"/>
          <a:stretch/>
        </p:blipFill>
        <p:spPr>
          <a:xfrm>
            <a:off x="334800" y="1206360"/>
            <a:ext cx="8437680" cy="45482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Содержимое 3" descr=""/>
          <p:cNvPicPr/>
          <p:nvPr/>
        </p:nvPicPr>
        <p:blipFill>
          <a:blip r:embed="rId1"/>
          <a:stretch/>
        </p:blipFill>
        <p:spPr>
          <a:xfrm>
            <a:off x="390600" y="1474920"/>
            <a:ext cx="8356680" cy="45352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2:48:43Z</dcterms:created>
  <dc:creator>v</dc:creator>
  <dc:description/>
  <dc:language>en-US</dc:language>
  <cp:lastModifiedBy>v</cp:lastModifiedBy>
  <dcterms:modified xsi:type="dcterms:W3CDTF">2011-03-12T07:53:01Z</dcterms:modified>
  <cp:revision>13</cp:revision>
  <dc:subject/>
  <dc:title>«Взаимодействие  учителя-логопеда и педагогов ДОУ  в работе по развитию просодической стороны речи у детей».</dc:title>
</cp:coreProperties>
</file>