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A08-C921-4D10-B5E7-A3E24053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81D-36E8-41B0-A1AD-223F43D2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4B5-B9B8-4674-84EF-69A64D3C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365-7F5A-42F5-9599-62ACFC85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643-2EBA-4ADE-8929-6FC65EC0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0F9C-D7E6-46DB-A886-80E3E368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C490-118C-45CA-B7DE-FA3F91A7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94A1-4C8F-494E-96F0-DEC81CF9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9067-2E42-4CAA-8563-B4206F0E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CEC-5808-45AA-86AE-31F73153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483B-D5ED-4315-8658-3199AE7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41F-6812-43CC-BA97-69503BE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EC81-28AF-4DAA-ADBE-18D9379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CEE2-DCA0-4EAD-82F0-8CC327B2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6B25-A1F7-439A-B81F-24E6A31B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9125-BA5B-4066-8C2F-E43C4D8E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04AC-58E1-43A1-BEE0-D5C9A210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76C9-92CE-4FBB-9486-4B9F6FBD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4D57-D70A-414E-89EA-D822C5DA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3FC0-AA5D-47AD-81A7-52CEE83C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4E58-7BF3-459F-BC31-345B163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EEDF-6B4F-41AB-AE06-151B7D7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8A0-0916-4500-A490-76D91ED5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BC7B-4026-4229-AE71-40F9BDD9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5403-781C-47E9-916D-11154B5A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CB7C8-798D-4577-8CA6-C5097C1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C50DC-BF96-4DB6-8A7F-BE82338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D0C3-C732-465B-AC35-7F303CDC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C086-03BA-4235-B548-3F9624E3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D613-3BFC-4FE8-9401-F747D9E3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1FFD-676F-46F7-9F54-C9DF6410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94FF2-9535-4A13-B2E4-6A600EDD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162C-80AC-4ED7-9C4A-F4C2EF16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BD9-6B77-4990-B68F-C9B71ADF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2729-ECAA-4E47-B3F0-F18DF174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2016-BFF0-438D-9E0F-8CE9570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6801-EBDB-462E-95C1-5760EE8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FCDA-460D-4631-8D34-F8894A1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BA84-6B23-45C6-8704-4B1A6E4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9294-69C4-4925-B45B-B2DF2604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3BB1-9C0E-4BA4-8EBB-F6AB052E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BEF95-0A4F-4944-8B77-1135FC89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F815-E26D-4475-865C-853F16DB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FF12F-514D-4C71-9576-40632B29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CE5-37E3-4BDF-B308-9532AD0A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4A715-8A8F-4B33-ACC3-0BDB5884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D3DC-650E-4DB2-9C1D-A93069B0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AD09-21E0-4EF4-BCC0-A7ECF67E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48E6B-A908-407B-9E55-FF6F5EA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ACDC-7CED-437F-8F77-857F3080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76F3-341D-4BE2-BD6B-5C246360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7C99-8889-4A41-BB75-42BC7DE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F71C-7625-41DA-9900-37936D3D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9226-18D2-43F1-B05F-C31E8FEC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5CCDC-DC1F-4F27-8F6B-6E758D8C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2B4-F766-42EE-A636-6979EDAD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5AD4-0594-4635-9172-42CB7E62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9B48E-D36F-4844-BC83-83F0748E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9DBB-B917-4DB5-AA16-65366A5F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58E3-BC11-4927-A59C-05073B2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43E7-2BFC-4C3F-B4D5-5E3CE25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22F90-93A7-49F2-A042-C247C535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C9C9-DE21-49E0-81DC-351C035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A87E-4E4C-496A-9D29-1FABD7EE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CF18A-F88B-4758-810F-D515573F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850EF-D158-4BE7-A6E7-84269D7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38E-E07E-4C5B-9250-1B27F60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AA0D9-0250-45C1-92EE-BAB4D49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6CCBB-B199-4679-9DC8-BA68FF55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A765-F547-47F0-810A-C5347E7F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D95-93B6-4754-82A4-BEE90867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A81-F139-4BF0-AAA0-BF053B5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32B1-8294-4B9E-B75A-21AD7A775116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1479-EF65-418C-88ED-C12DEA5E5C19}" type="slidenum">
              <a:rPr b="0" lang="ru-RU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A2C4-B17E-4B2C-97F9-A3AA24D540F7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1BEF-54AF-4C9A-8613-505906A5DDC8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3D3-ADBF-47F2-9094-57AC481BFC04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E23-50D0-4E5D-98FF-603E14F7BBF3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Схема 4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7901280" cy="520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txBody>
          <a:bodyPr anchor="t">
            <a:normAutofit fontScale="97000"/>
          </a:bodyPr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слухоречевое внимание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вырабатывать правильные артикуляционные уклады и закреплять их в речи детей</a:t>
            </a:r>
            <a:r>
              <a:rPr b="0" lang="ru-RU" sz="2400" spc="-1" strike="noStrike">
                <a:solidFill>
                  <a:srgbClr val="d9d9d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вырабатывать правильное речевое дыхание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интонационную выразительность реч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обогащать и активизировать словарный запас дете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стимулировать речевую активность дете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речевое общ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247680">
              <a:spcBef>
                <a:spcPts val="400"/>
              </a:spcBef>
              <a:buClr>
                <a:srgbClr val="f2f2f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8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64396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3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85840" y="1397160"/>
          <a:ext cx="8715240" cy="4754520"/>
        </p:xfrm>
        <a:graphic>
          <a:graphicData uri="http://schemas.openxmlformats.org/drawingml/2006/table">
            <a:tbl>
              <a:tblPr/>
              <a:tblGrid>
                <a:gridCol w="2179440"/>
                <a:gridCol w="2360880"/>
                <a:gridCol w="2746080"/>
                <a:gridCol w="1428840"/>
              </a:tblGrid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. Специфические методы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вигательно-кинесте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ухозрительно-кинесте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идактические метод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глядны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методы с опорой на нагляд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методы без опоры на нагляд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актические методы, которые должны носить игровой харак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. Словесные методы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й образец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дновременное произнесение звука ребенком и логопед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втор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бъясн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указа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упражн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опрос как стимул речевой активности ребен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ценка детской ре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.  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гровые прие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Содержимое 5" descr=""/>
          <p:cNvPicPr/>
          <p:nvPr/>
        </p:nvPicPr>
        <p:blipFill>
          <a:blip r:embed="rId1"/>
          <a:stretch/>
        </p:blipFill>
        <p:spPr>
          <a:xfrm>
            <a:off x="426960" y="1420920"/>
            <a:ext cx="8504280" cy="458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Содержимое 3" descr=""/>
          <p:cNvPicPr/>
          <p:nvPr/>
        </p:nvPicPr>
        <p:blipFill>
          <a:blip r:embed="rId1"/>
          <a:stretch/>
        </p:blipFill>
        <p:spPr>
          <a:xfrm>
            <a:off x="420840" y="255600"/>
            <a:ext cx="8302320" cy="634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Содержимое 3" descr=""/>
          <p:cNvPicPr/>
          <p:nvPr/>
        </p:nvPicPr>
        <p:blipFill>
          <a:blip r:embed="rId1"/>
          <a:stretch/>
        </p:blipFill>
        <p:spPr>
          <a:xfrm>
            <a:off x="420840" y="1878120"/>
            <a:ext cx="8242200" cy="4986360"/>
          </a:xfrm>
          <a:prstGeom prst="rect">
            <a:avLst/>
          </a:prstGeom>
          <a:ln w="0">
            <a:noFill/>
          </a:ln>
        </p:spPr>
      </p:pic>
      <p:pic>
        <p:nvPicPr>
          <p:cNvPr id="284" name="Заголовок 4" descr=""/>
          <p:cNvPicPr/>
          <p:nvPr/>
        </p:nvPicPr>
        <p:blipFill>
          <a:blip r:embed="rId2"/>
          <a:stretch/>
        </p:blipFill>
        <p:spPr>
          <a:xfrm>
            <a:off x="334800" y="-30240"/>
            <a:ext cx="8418600" cy="184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Содержимое 3" descr=""/>
          <p:cNvPicPr/>
          <p:nvPr/>
        </p:nvPicPr>
        <p:blipFill>
          <a:blip r:embed="rId1"/>
          <a:stretch/>
        </p:blipFill>
        <p:spPr>
          <a:xfrm>
            <a:off x="353880" y="1474920"/>
            <a:ext cx="839340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334800" y="1206360"/>
            <a:ext cx="843768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2:48:43Z</dcterms:created>
  <dc:creator>v</dc:creator>
  <dc:description/>
  <dc:language>en-US</dc:language>
  <cp:lastModifiedBy>v</cp:lastModifiedBy>
  <dcterms:modified xsi:type="dcterms:W3CDTF">2011-03-12T07:53:01Z</dcterms:modified>
  <cp:revision>13</cp:revision>
  <dc:subject/>
  <dc:title>«Взаимодействие  учителя-логопеда и педагогов ДОУ  в работе по развитию просодической стороны речи у детей».</dc:title>
</cp:coreProperties>
</file>