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614-3D5B-48CB-A4B6-EAFE880F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50E-6371-4BE7-9F20-B34F5555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C0D-1F8B-45D1-BD2E-DA322557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AE9-DA1B-49ED-A020-79B1070F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F849-82DC-4F28-9648-7096D9E6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17A2-9AF0-40DD-8F20-5B363F95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73F3-67FB-4837-AC1C-04DA35E7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EED4-1E4C-4273-BC03-6120DE0D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2828-8354-4174-A535-58A09A30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BED9-3BEE-4C1E-B359-8166A133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EDDF-7306-4A00-9734-CE59FF11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21C-BA53-4D14-B8BA-E9F06988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DF88-7576-4A6C-A214-C59D1E41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B582-3C41-4ED3-84DE-3FEC0B4D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A585-719A-4293-9EBE-897C67F5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0EA4-968A-4511-83BD-5D94C6BF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1F30-AD63-4905-821B-907A232D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9E4C8-5171-4FB5-B5DD-C762FA33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FDD0-7420-458D-B6A4-9D8C5D49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DDEC-F91C-4945-8B24-CC85FE0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E520-EEA2-4DE4-8D66-A76915EE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1279-E2E6-4739-930C-7D7BF00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D29-DE98-41CE-9F06-624FCDEA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37C5-93DD-4410-BB97-F190E723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18F2D-9192-4F48-B7AB-F165F575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FF2C-7F9E-4E3A-A123-F87C6346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A3AEE-05DF-4360-9F82-F5D62CCF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CA31-E13C-4DE9-8587-B74EE938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24D3-CFCF-44A7-A34A-1D812C0C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37D0-9526-46B7-8EC0-2209811D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87A5-BC50-4988-BC47-D1589B42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00BA-B101-432C-8382-8151D42D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2775-B6EE-4B98-860B-1A0E0953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1CA-6E09-413B-9BA5-4672F21C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0D6F3-F8DB-4233-A8FC-2B86B75A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F6D70-A288-49F5-949D-F883D328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F078-0539-46AD-80DE-59C19C19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F1B2-BB83-4DCA-A03A-C8B22B5C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57994-0784-484F-9632-89D1F1B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2CD02-8003-4A76-BC3C-B18D627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4304-22AE-44E0-A08E-4D11F8D8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ED1F-BB40-48D1-955D-02CEB41B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5C325-E49E-49E3-ACF2-3BAB8B80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BE75-23F3-4F61-B1F7-727D415D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E3C-5798-4057-A038-08DDF08C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265FB-222B-4E46-B174-1F8E3033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A471D-BD16-423E-943F-1F4B7B38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32EF-F835-45BE-9454-79F75274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FDDA5-A8BB-4BA8-8AB7-E5D94E66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590E-0923-431A-9A6A-AA2C6A9D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5586-47FA-4CBF-991F-69CC5348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85446-35E9-48DF-BEA4-86501F1E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45F07-47E2-49EE-9356-3B2A54C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CB07D-7E64-4BDD-8DD5-EBE43807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AA311-A371-406A-A375-F0E42002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6DE-458D-426A-9F08-35B2E366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D6E1E-7842-494C-BE60-5E660505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83D85-C4F9-4793-A5F6-78988A85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0093-3F75-4B90-822F-1DAC0BB9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EB033-4B8E-441E-AF3C-7C4B8298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9A112-F0CB-4204-B59E-E94ADD1D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A2A4E-BEC9-44EC-A260-3B9EE6AA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515C2-DBAB-46E6-99D2-DEF02B15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23270-2008-4D0E-AEB0-38B7631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62B47-9538-4F5D-BA0F-339DE5AE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8634-B02A-49E3-8809-C8B48FBA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07F-A7AB-40AB-B95E-CDD4E86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6AA9F-6F04-4B2E-AC80-694742F3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8A2DE-DA73-44BC-944C-CE44A463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C739B-9402-4E62-9140-48A1F046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574-F6BA-47D4-8EC3-CCBC0BF4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8BB-268B-4728-B615-F24B0F5F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F4F0-BECE-4BAD-9860-EE696E6C5CCE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56C2-9135-4702-B0F2-D08368A4AD0C}" type="slidenum">
              <a:rPr b="0" lang="ru-RU" sz="10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38C-AD86-48F0-B2FB-0C1EB0A6302B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17A4-5D09-4D32-9FF7-484298B016BA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2F41-F6B1-49CC-AA63-924E461F3255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F3E5-0090-4E1B-9083-1AC524FA0CB6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Схема 4" descr=""/>
          <p:cNvPicPr/>
          <p:nvPr/>
        </p:nvPicPr>
        <p:blipFill>
          <a:blip r:embed="rId1"/>
          <a:stretch/>
        </p:blipFill>
        <p:spPr>
          <a:xfrm>
            <a:off x="609480" y="622440"/>
            <a:ext cx="7901280" cy="5205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3566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3566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txBody>
          <a:bodyPr anchor="t">
            <a:normAutofit fontScale="97000"/>
          </a:bodyPr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развивать слухоречевое внимание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вырабатывать правильные артикуляционные уклады и закреплять их в речи детей</a:t>
            </a:r>
            <a:r>
              <a:rPr b="0" lang="ru-RU" sz="2400" spc="-1" strike="noStrike">
                <a:solidFill>
                  <a:srgbClr val="d9d9d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вырабатывать правильное речевое дыхание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развивать интонационную выразительность реч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обогащать и активизировать словарный запас детей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стимулировать речевую активность детей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развивать речевое общен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247680">
              <a:spcBef>
                <a:spcPts val="400"/>
              </a:spcBef>
              <a:buClr>
                <a:srgbClr val="f2f2f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8" name="Заголовок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64396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3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285840" y="1397160"/>
          <a:ext cx="8715240" cy="4754520"/>
        </p:xfrm>
        <a:graphic>
          <a:graphicData uri="http://schemas.openxmlformats.org/drawingml/2006/table">
            <a:tbl>
              <a:tblPr/>
              <a:tblGrid>
                <a:gridCol w="2179440"/>
                <a:gridCol w="2360880"/>
                <a:gridCol w="2746080"/>
                <a:gridCol w="1428840"/>
              </a:tblGrid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. Специфические методы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вигательно-кинесте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ухозрительно-кинесте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.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идактические метод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глядны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е методы с опорой на нагляд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е методы без опоры на нагляд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актические методы, которые должны носить игровой харак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. Словесные методы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й образец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дновременное произнесение звука ребенком и логопед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втор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бъясн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указа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е упражн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опрос как стимул речевой активности ребен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ценка детской ре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.  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гровые прие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Содержимое 5" descr=""/>
          <p:cNvPicPr/>
          <p:nvPr/>
        </p:nvPicPr>
        <p:blipFill>
          <a:blip r:embed="rId1"/>
          <a:stretch/>
        </p:blipFill>
        <p:spPr>
          <a:xfrm>
            <a:off x="426960" y="1420920"/>
            <a:ext cx="8504280" cy="458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Содержимое 3" descr=""/>
          <p:cNvPicPr/>
          <p:nvPr/>
        </p:nvPicPr>
        <p:blipFill>
          <a:blip r:embed="rId1"/>
          <a:stretch/>
        </p:blipFill>
        <p:spPr>
          <a:xfrm>
            <a:off x="420840" y="255600"/>
            <a:ext cx="8302320" cy="634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Содержимое 3" descr=""/>
          <p:cNvPicPr/>
          <p:nvPr/>
        </p:nvPicPr>
        <p:blipFill>
          <a:blip r:embed="rId1"/>
          <a:stretch/>
        </p:blipFill>
        <p:spPr>
          <a:xfrm>
            <a:off x="420840" y="1878120"/>
            <a:ext cx="8242200" cy="4986360"/>
          </a:xfrm>
          <a:prstGeom prst="rect">
            <a:avLst/>
          </a:prstGeom>
          <a:ln w="0">
            <a:noFill/>
          </a:ln>
        </p:spPr>
      </p:pic>
      <p:pic>
        <p:nvPicPr>
          <p:cNvPr id="284" name="Заголовок 4" descr=""/>
          <p:cNvPicPr/>
          <p:nvPr/>
        </p:nvPicPr>
        <p:blipFill>
          <a:blip r:embed="rId2"/>
          <a:stretch/>
        </p:blipFill>
        <p:spPr>
          <a:xfrm>
            <a:off x="334800" y="-30240"/>
            <a:ext cx="8418600" cy="184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Содержимое 3" descr=""/>
          <p:cNvPicPr/>
          <p:nvPr/>
        </p:nvPicPr>
        <p:blipFill>
          <a:blip r:embed="rId1"/>
          <a:stretch/>
        </p:blipFill>
        <p:spPr>
          <a:xfrm>
            <a:off x="353880" y="1474920"/>
            <a:ext cx="839340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Содержимое 3" descr=""/>
          <p:cNvPicPr/>
          <p:nvPr/>
        </p:nvPicPr>
        <p:blipFill>
          <a:blip r:embed="rId1"/>
          <a:stretch/>
        </p:blipFill>
        <p:spPr>
          <a:xfrm>
            <a:off x="334800" y="1206360"/>
            <a:ext cx="8437680" cy="4548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3566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2:48:43Z</dcterms:created>
  <dc:creator>v</dc:creator>
  <dc:description/>
  <dc:language>en-US</dc:language>
  <cp:lastModifiedBy>v</cp:lastModifiedBy>
  <dcterms:modified xsi:type="dcterms:W3CDTF">2011-03-12T07:53:01Z</dcterms:modified>
  <cp:revision>13</cp:revision>
  <dc:subject/>
  <dc:title>«Взаимодействие  учителя-логопеда и педагогов ДОУ  в работе по развитию просодической стороны речи у детей».</dc:title>
</cp:coreProperties>
</file>