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634-E4AD-4CCE-8CBC-48D10197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940-209F-48B7-8013-A08E6B1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C06-3816-43C5-9BD9-3B36D249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20A-EC32-4C4C-ADA0-D37327B9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43AA-9C70-46EF-8305-A41AF17A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2D5-7AFF-4B48-A3BE-4164D48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E87-AF4E-4737-B239-CAB3FE0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ACA0-B066-42E4-A3D2-78C96B3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824-F00F-41C9-872F-02871129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A83A-CD15-4988-BBF5-42755049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5F57-219F-4004-BBA3-67F0927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9A0-01AD-4571-9DB5-6185C26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0154-A590-4D69-B523-35355C7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A3B9-9F06-45E0-9003-9DD69A4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94A-F17C-404D-96C4-C07A671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6063-F1D0-4828-AF90-8D6036BD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B8CA-263C-4D44-AA6D-1D47E169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164-9432-4008-B99C-550F112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97B-463D-4E4B-9007-F5004C92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3B0-1B5A-4592-A51A-01C4115A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29B-21B4-4A27-BE99-FF5FE88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2B1-7B13-4B36-BB01-BBDC407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BFA-2203-4276-B4E3-96FE927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672-117C-4242-982E-B476C87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26F-8C37-4FEE-B527-FDC8047C59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203-1B82-4156-9561-F29B4EBC8F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845964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Narrow"/>
              </a:rPr>
              <a:t>«Экстремизм в молодежной среде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ffffcc"/>
                </a:solidFill>
                <a:latin typeface="Arial Narrow"/>
              </a:rPr>
              <a:t>Классный час посвященный толерантности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26920" y="475200"/>
            <a:ext cx="61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юдей неинтересных в мире не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х судьбы – как история план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каждой  все особое, сво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ет планет, похожих на неё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 Е. Евтушен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44520" cy="2159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304480" cy="31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Narrow"/>
              </a:rPr>
              <a:t>Работа по группам.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Narrow"/>
              </a:rPr>
              <a:t>Необходимо продумать, изобразить и объяснить эмблему толерантности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7308720" y="5516640"/>
            <a:ext cx="1362240" cy="10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ерант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значает уважение, принятие и правильное понимание богатого многообразия культур нашего мира, форм самовыражения и способов проявлений человеческой индивидуальности (переводится как «терпимость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обровольчество (волонтерство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бровольный благотворительный труд людей на благо нуждающихся в помощи, сознательная деятельность по преобразованию социальной действительности при условии вовлечения граждан в эту деятельность на добровольной осно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987640" y="5338800"/>
            <a:ext cx="216072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8" descr="IMG_2757"/>
          <p:cNvPicPr/>
          <p:nvPr/>
        </p:nvPicPr>
        <p:blipFill>
          <a:blip r:embed="rId1"/>
          <a:stretch/>
        </p:blipFill>
        <p:spPr>
          <a:xfrm>
            <a:off x="0" y="907920"/>
            <a:ext cx="2887560" cy="192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DSC00746"/>
          <p:cNvPicPr/>
          <p:nvPr/>
        </p:nvPicPr>
        <p:blipFill>
          <a:blip r:embed="rId2"/>
          <a:stretch/>
        </p:blipFill>
        <p:spPr>
          <a:xfrm>
            <a:off x="3851280" y="115920"/>
            <a:ext cx="188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Изображение 235"/>
          <p:cNvPicPr/>
          <p:nvPr/>
        </p:nvPicPr>
        <p:blipFill>
          <a:blip r:embed="rId3"/>
          <a:stretch/>
        </p:blipFill>
        <p:spPr>
          <a:xfrm>
            <a:off x="6300720" y="1890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Рисунок7"/>
          <p:cNvPicPr/>
          <p:nvPr/>
        </p:nvPicPr>
        <p:blipFill>
          <a:blip r:embed="rId4"/>
          <a:stretch/>
        </p:blipFill>
        <p:spPr>
          <a:xfrm>
            <a:off x="179280" y="0"/>
            <a:ext cx="75096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626436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Narrow"/>
              </a:rPr>
              <a:t>Спасибо за понимание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0" name="Picture 11" descr="Изображение 246"/>
          <p:cNvPicPr/>
          <p:nvPr/>
        </p:nvPicPr>
        <p:blipFill>
          <a:blip r:embed="rId5"/>
          <a:stretch/>
        </p:blipFill>
        <p:spPr>
          <a:xfrm>
            <a:off x="6659640" y="2276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MG_4278"/>
          <p:cNvPicPr/>
          <p:nvPr/>
        </p:nvPicPr>
        <p:blipFill>
          <a:blip r:embed="rId6"/>
          <a:stretch/>
        </p:blipFill>
        <p:spPr>
          <a:xfrm>
            <a:off x="0" y="3573360"/>
            <a:ext cx="2170080" cy="1446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IMG_1491"/>
          <p:cNvPicPr/>
          <p:nvPr/>
        </p:nvPicPr>
        <p:blipFill>
          <a:blip r:embed="rId7"/>
          <a:stretch/>
        </p:blipFill>
        <p:spPr>
          <a:xfrm>
            <a:off x="7021440" y="5265720"/>
            <a:ext cx="2122560" cy="159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DSC00946"/>
          <p:cNvPicPr/>
          <p:nvPr/>
        </p:nvPicPr>
        <p:blipFill>
          <a:blip r:embed="rId8"/>
          <a:stretch/>
        </p:blipFill>
        <p:spPr>
          <a:xfrm>
            <a:off x="1835280" y="3594240"/>
            <a:ext cx="4895640" cy="326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такое экстремизм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948040" y="1981080"/>
            <a:ext cx="2714400" cy="198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6715080" y="22575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5"/>
          <a:stretch/>
        </p:blipFill>
        <p:spPr>
          <a:xfrm>
            <a:off x="6227640" y="458136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4"/>
          <p:cNvSpPr/>
          <p:nvPr/>
        </p:nvSpPr>
        <p:spPr>
          <a:xfrm>
            <a:off x="2627280" y="416736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лья Кубраков обвиняется в совершении преступлений, предусмотренных частью 2 статьи 105, частью 2 статьи 116 и частью 2 статьи 213 УК РФ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747 -0.62549 E">
                                      <p:cBhvr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Илья Кубраков обвиняется в совершении преступлений, предусмотренных частью 2 статьи 105, частью 2 статьи 116 и частью 2 статьи 213 УК РФ. 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52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ья 213. Хулиг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к до 20 лет лишения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050920" y="3213000"/>
            <a:ext cx="48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тья 105. Убий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50920" y="527112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атья 116 УК РФ. Побо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сновные нормативные правовые ак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Понятие «экстремизм» определено и упоминается в нормативных правовых актах, в числе которы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1. Конституция Российской Федерации. Экстремизм во всех своих проявлениях в разной степени, но всегда посягает именно на то, что закрепляет Конституция РФ: основы конституционного строя, права и свободы человека и гражданина, порядок и принципы государственного устройства и местного самоуправ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2. Федеральный закон от 25 июля 2002 года № 114-ФЗ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3. Федеральный закон от 05 июля 2002 года № 112-ФЗ «О внесении изменений и дополнений в законодательные акты Российской Федерации в связи с принятием Федерального закона «О противодействии экстремистской деятельност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4. Федеральный закон от 6 октября 2003 года № 131-ФЗ «Об общих принципах организации местного самоуправления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5. Федеральный закон от 24 июля 2007 года № 211-ФЗ «О внесении изменений в отдельные законодательные акты Российской Федерации в связи с совершенствованием государственного управления в области противодействия экстремизму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6. Указ Президента Российской Федерации от 23 марта 1995 года № 310 (в редакции от 03.11.2004) «О мерах по обеспечению согласованных действий органов государственной власти в борьбе с проявлениями фашизма и иных форм политического экстремизма в Российской Федерации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7. Постановление Правительства Российской Федерации о 18.01.2003 г. № 27 (в редакции от 08.12.2008) «Об утверждении Положения о порядке определения перечня организаций и физических лиц, в отношении которых имеются сведения об их участии в экстремистской деятельности, и доведения этого перечня до сведения организаций, осуществляющих операции с денежными средствами или иным имуществом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7786800" y="5229360"/>
            <a:ext cx="1357200" cy="187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1 0.12538 L -0.92569 -0.89891 E">
                                      <p:cBhvr>
                                        <p:cTn id="102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4273560" cy="109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из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39640" y="1484280"/>
            <a:ext cx="655308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ой толковый словарь дает следующее определение экстремизму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кстремизм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приверженность крайним взглядам и мер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ы насилия  относятся к категории экстремистских, ес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они направлены на то, чтобы  причинить вред не непосредственному противнику, а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149560" cy="17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2232000" cy="1666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Экстремальное поведение -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764640"/>
            <a:ext cx="716436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крайние способы достижения социальной справедливости, каких-то благ, привилегий, как для себя, так и депривированных социальных групп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ррор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крайнее проявление экстремизма явление, связанное с насилием, угрожающее жизни и здоровью гражд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ционал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форма общественного единства, основанная на идее национального превосходства и национальной исключи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с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совокупность концепций, основу которых составляют положения о физической и психической неравноценности человеческих расс и о решающем влиянии расовых различий на историю и культуру человеческого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ашиз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идеология и практика, утверждающие превосходство и исключительность определенной нации или расы и направленные на разжигание национальной нетерпимости, дискриминацию, применение насилия и терроризма, установления культа вожд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3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00628"/>
          <p:cNvPicPr/>
          <p:nvPr/>
        </p:nvPicPr>
        <p:blipFill>
          <a:blip r:embed="rId1"/>
          <a:stretch/>
        </p:blipFill>
        <p:spPr>
          <a:xfrm>
            <a:off x="2819520" y="10666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0" y="1125360"/>
            <a:ext cx="291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оставе современной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йской Федерации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ее ста этносов, в том числе около тридцати на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Предлагаю всем сосредоточиться на следующих вопросах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980720"/>
            <a:ext cx="755964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помните, как вы в детстве переживали оби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чего вы огорчалис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проявлял к вам жалость и сострадание в трудную минут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Что такое терпение? Что такое толерантно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чем их схожес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ы понимаете выражение «толерантность в общении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ли терпим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границы терпим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4680" y="388800"/>
            <a:ext cx="882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сключительности, низкий уровень воспитанности, чув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искомфортности, существования в окружающей е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действительности, желание власти, неприятие противополож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ных взглядов, традиций, обыча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81560" y="4724280"/>
            <a:ext cx="81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lonna MT"/>
              </a:rPr>
              <a:t>Толерантный путь</a:t>
            </a: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 – путь человека, хорошо знающего с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комфортно чувствующего себя в окружающей сре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нимающегодругих людей, и готового всегда прийт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помощь, человека с доброжелательным отношением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lonna MT"/>
              </a:rPr>
              <a:t>иным культурам, взглядам, традици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Новый год 2011 427"/>
          <p:cNvPicPr/>
          <p:nvPr/>
        </p:nvPicPr>
        <p:blipFill>
          <a:blip r:embed="rId1"/>
          <a:stretch/>
        </p:blipFill>
        <p:spPr>
          <a:xfrm>
            <a:off x="2941560" y="2227320"/>
            <a:ext cx="3260880" cy="240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pod</cp:lastModifiedBy>
  <dcterms:modified xsi:type="dcterms:W3CDTF">2020-10-27T07:23:45Z</dcterms:modified>
  <cp:revision>44</cp:revision>
  <dc:subject/>
  <dc:title>PowerPoint Presentation</dc:title>
</cp:coreProperties>
</file>