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DD0C-42B3-4C50-87EB-251F5151A4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FB76-428B-436D-9DCD-05F4B6665B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7E62-4338-421C-94AB-666B89DCC3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CD62-22CC-48F7-89A7-DC3809B5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1B5E-C9A8-4587-BEAC-632F4837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384F-12DA-4A20-AD42-1222B930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D767-35EA-4607-AED1-C9807636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33DC-AE30-4E1C-BF91-237C1743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0E8A-9972-42F5-B351-36F0FA38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E1EE-4964-48AA-8B4A-54C11DE7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5CFC-1DFB-4455-9826-C4385F96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0A86-77D2-4037-B595-5C1586E5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E6B3-2BD8-4961-AAA2-5C660F0B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13B9-9898-4294-9B25-E0A6DB15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1C97-97DE-4784-8191-93E5E83A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AB6C-6DCD-4AA7-9DBC-2CA14E3EE8D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C521-1AA4-4664-9A8D-85A1720CBE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8" descr="Рисунок1.jpg"/>
          <p:cNvPicPr/>
          <p:nvPr/>
        </p:nvPicPr>
        <p:blipFill>
          <a:blip r:embed="rId1"/>
          <a:stretch/>
        </p:blipFill>
        <p:spPr>
          <a:xfrm>
            <a:off x="-3571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99800" y="0"/>
            <a:ext cx="700092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Учитель года 202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643040" y="421488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мулянская Оксана Игор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  ОРКСЭ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СОШ № 11 г. Туап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6" descr="Image5.jpg"/>
          <p:cNvPicPr/>
          <p:nvPr/>
        </p:nvPicPr>
        <p:blipFill>
          <a:blip r:embed="rId2"/>
          <a:stretch/>
        </p:blipFill>
        <p:spPr>
          <a:xfrm>
            <a:off x="0" y="285840"/>
            <a:ext cx="1785960" cy="2428920"/>
          </a:xfrm>
          <a:prstGeom prst="rect">
            <a:avLst/>
          </a:prstGeom>
          <a:ln w="0">
            <a:noFill/>
          </a:ln>
        </p:spPr>
      </p:pic>
      <p:sp>
        <p:nvSpPr>
          <p:cNvPr id="52" name="TextBox 9"/>
          <p:cNvSpPr/>
          <p:nvPr/>
        </p:nvSpPr>
        <p:spPr>
          <a:xfrm>
            <a:off x="2214720" y="621504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ь     2020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"/>
          <p:cNvSpPr/>
          <p:nvPr/>
        </p:nvSpPr>
        <p:spPr>
          <a:xfrm>
            <a:off x="0" y="52862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ни  воздвигали  идолов, около  которых  не   только приносили   жертвы, но  давали   клятв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траивали   ритуальные   пирш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0OlshanskiyB_KlyatSvar18709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1000080" y="357120"/>
            <a:ext cx="7072200" cy="497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B133-854A-4432-BE76-10F869AAE63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0C43-1217-4EEF-9A8F-864EC21E6A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530280" y="90792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ак славяне узнавали о жизни и религии других стран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"/>
          <p:cNvSpPr/>
          <p:nvPr/>
        </p:nvSpPr>
        <p:spPr>
          <a:xfrm>
            <a:off x="214200" y="4935960"/>
            <a:ext cx="87868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ои первые знания о других верованиях они черпали от заморских купцов, в военных и торговых походах.  В соседней  процветающей  Византии  государственной религией    было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христиа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G:\Картинки из ДЭ\Древние Славяне\rerix.bmp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1428840" y="357120"/>
            <a:ext cx="6014880" cy="444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9DF3-0482-4D64-87EC-C4B6AAEE82D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B1A6-3F7A-4FA7-A12D-ABD44F6249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530280" y="49320"/>
            <a:ext cx="828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ак изменились границы русского государства во времена правления князя Владимира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5283-A737-4478-96C9-A4F78F6454B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38C0-72F9-4FF5-A02E-2405C3D246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530280" y="90792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Что предпринимал князь Владимир для объединения славян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Христос -Виноградная лоза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572000" y="571680"/>
            <a:ext cx="4140360" cy="50720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14200" y="2071800"/>
            <a:ext cx="42148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 соседних  государствах   с  юга   болгары  и   греки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к  тому  времени  уже стали   православными христиан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менно в греческую столицу </a:t>
            </a: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Константинополь 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киевский князь  Владимир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отправил  своих послов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Святой князь Владимир - Красное солнышко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929120" y="357120"/>
            <a:ext cx="3949920" cy="621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София в Константинополе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810720" cy="73580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11280" y="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 этом  городе ( сейчас   это Стамбул) высится   прекрасный   храм   Святой Соф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85480" y="1600200"/>
            <a:ext cx="3786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София»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  переводе с   греческого   языка означает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мудрость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дрость   одно   из свойств    Христ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___3"/>
          <p:cNvPicPr/>
          <p:nvPr/>
        </p:nvPicPr>
        <p:blipFill>
          <a:blip r:embed="rId2"/>
          <a:stretch/>
        </p:blipFill>
        <p:spPr>
          <a:xfrm>
            <a:off x="4268880" y="189000"/>
            <a:ext cx="4875120" cy="6441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Софийский собор (Константинополь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-387360"/>
            <a:ext cx="9144000" cy="8209080"/>
          </a:xfrm>
          <a:prstGeom prst="rect">
            <a:avLst/>
          </a:prstGeom>
          <a:ln w="0">
            <a:noFill/>
          </a:ln>
        </p:spPr>
      </p:pic>
      <p:pic>
        <p:nvPicPr>
          <p:cNvPr id="109" name="Херувимская обрезанная.mp3" descr=""/>
          <p:cNvPicPr/>
          <p:nvPr/>
        </p:nvPicPr>
        <p:blipFill>
          <a:blip r:embed="rId2"/>
          <a:stretch/>
        </p:blipFill>
        <p:spPr>
          <a:xfrm>
            <a:off x="8317080" y="4724280"/>
            <a:ext cx="487080" cy="487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946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493A-0AAA-4DB9-B672-29CF39E4288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91FB-FD23-447E-9283-AE8FD74FB6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G:\Учитель года\МОй урок\скачанные файлы (2).jpg"/>
          <p:cNvPicPr/>
          <p:nvPr/>
        </p:nvPicPr>
        <p:blipFill>
          <a:blip r:embed="rId1"/>
          <a:stretch/>
        </p:blipFill>
        <p:spPr>
          <a:xfrm>
            <a:off x="395280" y="333360"/>
            <a:ext cx="4176720" cy="2664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G:\Учитель года\МОй урок\images (4).jpg"/>
          <p:cNvPicPr/>
          <p:nvPr/>
        </p:nvPicPr>
        <p:blipFill>
          <a:blip r:embed="rId2"/>
          <a:stretch/>
        </p:blipFill>
        <p:spPr>
          <a:xfrm>
            <a:off x="4716360" y="333360"/>
            <a:ext cx="4176720" cy="2664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G:\Учитель года\МОй урок\images (5).jpg"/>
          <p:cNvPicPr/>
          <p:nvPr/>
        </p:nvPicPr>
        <p:blipFill>
          <a:blip r:embed="rId3"/>
          <a:stretch/>
        </p:blipFill>
        <p:spPr>
          <a:xfrm>
            <a:off x="395280" y="3213000"/>
            <a:ext cx="4176720" cy="3240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G:\Учитель года\МОй урок\edc1d0314df26f4954651131e82a7939.jpg"/>
          <p:cNvPicPr/>
          <p:nvPr/>
        </p:nvPicPr>
        <p:blipFill>
          <a:blip r:embed="rId4"/>
          <a:stretch/>
        </p:blipFill>
        <p:spPr>
          <a:xfrm>
            <a:off x="4716360" y="3213000"/>
            <a:ext cx="4176720" cy="324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9219-09EF-40A0-A7B0-E3080C8B930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F88C-DCAE-4987-AEB6-2928C46B15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530280" y="90792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Что предпринял князь Владимир для принятия христианства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C04B-3A4F-42EC-8247-2C556A821B2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0B8B-DA86-446C-B68D-1AC8142158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530280" y="0"/>
            <a:ext cx="828036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ак отреагировала византийская царевна Анна узнав, что ей предстоит выйти замуж за неверующего варвара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9BAC-E1AD-4EEF-8F8A-44309633DAA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EE74-D672-4952-86DB-53A5293143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530280" y="1268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акое несчастье постигло князя Владимира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0125-3FFF-4F9C-B273-5C838D70905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E1CC-3BB8-40AC-837C-526AE90B85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519120" y="549360"/>
            <a:ext cx="828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акое чудо произошло с князем Владимиром во время крещения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1C8C-99DF-4BD1-B3FB-F680172265E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B795-C550-4E5C-B494-496996EF29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531720" y="90792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ак это чудо восприняли дружина князя и бояре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E657-99BE-453B-A496-A97D868BCAF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2604-EDAD-408E-96C5-4B8166B685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531720" y="90792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Что случилось дальше с Анной и Владимиром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857840" y="1071720"/>
            <a:ext cx="392904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 древнему преданию, князь Владимир принял крещение в церкви Святого Василия в греческом городе Корсунь. Так в те времена назывался Херсонес, развалины которого и сейчас можно увидеть рядом с крымским городом Севастопо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5" descr="крещение руси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357120" y="357120"/>
            <a:ext cx="4786560" cy="6143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3840" y="5071680"/>
            <a:ext cx="8472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изантийские   священники   окрестили  вначале  князя  и его  дружину,   а   потом   уже   сам  Владимир   осуществил массовое   крещение   жителей    Ки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Крещение Руси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1214280" y="357120"/>
            <a:ext cx="6929640" cy="4923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9640" y="476280"/>
          <a:ext cx="8136000" cy="5516640"/>
        </p:xfrm>
        <a:graphic>
          <a:graphicData uri="http://schemas.openxmlformats.org/drawingml/2006/table">
            <a:tbl>
              <a:tblPr/>
              <a:tblGrid>
                <a:gridCol w="2160720"/>
                <a:gridCol w="2898720"/>
                <a:gridCol w="3076560"/>
              </a:tblGrid>
              <a:tr h="1368360"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в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зыч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ристиан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92360"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олько бог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18880"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риту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17800"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ому образу поклоняли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19240"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ь данной веры для государ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3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1325-F8AE-4D7E-93C5-1A5E6F2F587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F336-EA7A-47F1-A7A2-55A4F1AF6E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9640" y="476280"/>
          <a:ext cx="8136000" cy="5516640"/>
        </p:xfrm>
        <a:graphic>
          <a:graphicData uri="http://schemas.openxmlformats.org/drawingml/2006/table">
            <a:tbl>
              <a:tblPr/>
              <a:tblGrid>
                <a:gridCol w="2160720"/>
                <a:gridCol w="2898720"/>
                <a:gridCol w="3076560"/>
              </a:tblGrid>
              <a:tr h="1368360"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в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зыч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ристиан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92360"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олько бог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бож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Бо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18880"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риту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17800"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ому образу поклоняли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19240"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ь данной веры для государ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B82A-76C0-4849-808F-4BC4E5F24C6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BE3E-4934-4FB6-A8D6-0F57CA044A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717A-17D2-4A2C-BACE-50279BF96FA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700F-A621-4DDF-9AE1-C4120AE86D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G:\Учитель года\МОй урок\drevnyaya_rus.jpg"/>
          <p:cNvPicPr/>
          <p:nvPr/>
        </p:nvPicPr>
        <p:blipFill>
          <a:blip r:embed="rId1"/>
          <a:stretch/>
        </p:blipFill>
        <p:spPr>
          <a:xfrm>
            <a:off x="324000" y="260280"/>
            <a:ext cx="4248000" cy="2521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G:\Учитель года\МОй урок\Drevnyaya-Rus-i-srednevekovaya-klimaticheskaya-katastrofa.jpg"/>
          <p:cNvPicPr/>
          <p:nvPr/>
        </p:nvPicPr>
        <p:blipFill>
          <a:blip r:embed="rId2"/>
          <a:stretch/>
        </p:blipFill>
        <p:spPr>
          <a:xfrm>
            <a:off x="4859280" y="260280"/>
            <a:ext cx="4176720" cy="619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G:\Учитель года\МОй урок\142377_900.jpg"/>
          <p:cNvPicPr/>
          <p:nvPr/>
        </p:nvPicPr>
        <p:blipFill>
          <a:blip r:embed="rId3"/>
          <a:stretch/>
        </p:blipFill>
        <p:spPr>
          <a:xfrm>
            <a:off x="324000" y="2852640"/>
            <a:ext cx="4248000" cy="3600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9640" y="476280"/>
          <a:ext cx="8136000" cy="5516640"/>
        </p:xfrm>
        <a:graphic>
          <a:graphicData uri="http://schemas.openxmlformats.org/drawingml/2006/table">
            <a:tbl>
              <a:tblPr/>
              <a:tblGrid>
                <a:gridCol w="2160720"/>
                <a:gridCol w="2898720"/>
                <a:gridCol w="3076560"/>
              </a:tblGrid>
              <a:tr h="1368360"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в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зыч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ристиан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92360"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олько бог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бож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Бо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18880"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риту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ртвопринош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щ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17800"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ому образу поклоняли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19240"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ь данной веры для государ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DD78-0112-4E01-BC46-C08CDF524B4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B41B-EF5C-4D39-AFFA-0B8BB2C7A6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39640" y="476280"/>
          <a:ext cx="8136000" cy="5516640"/>
        </p:xfrm>
        <a:graphic>
          <a:graphicData uri="http://schemas.openxmlformats.org/drawingml/2006/table">
            <a:tbl>
              <a:tblPr/>
              <a:tblGrid>
                <a:gridCol w="2160720"/>
                <a:gridCol w="2898720"/>
                <a:gridCol w="3076560"/>
              </a:tblGrid>
              <a:tr h="1368360"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в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зыч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ристиан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92360"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олько бог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бож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Бо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18880"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риту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ртвопринош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щ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17800"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ому образу поклоняли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ол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он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19240"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ь данной веры для государ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A77E-F8DB-4A8C-B126-0DDD127ECD2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491C-D295-4FA4-9D73-F126F188B5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39640" y="476280"/>
          <a:ext cx="8136000" cy="5516640"/>
        </p:xfrm>
        <a:graphic>
          <a:graphicData uri="http://schemas.openxmlformats.org/drawingml/2006/table">
            <a:tbl>
              <a:tblPr/>
              <a:tblGrid>
                <a:gridCol w="2160720"/>
                <a:gridCol w="2898720"/>
                <a:gridCol w="3076560"/>
              </a:tblGrid>
              <a:tr h="1368360"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в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зыч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ристиан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92360"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олько бог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бож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Бо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18880"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риту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ртвопринош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щ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17800"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ому образу поклоняли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ол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он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19240"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ь данной веры для государ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оусоб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ди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08B3-1D2D-412B-A783-BB1E76C08F8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1482-773B-459F-846D-C14012DA0E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A4BD-1623-4818-B481-6E12623A55D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0274-8E2C-47FC-8DAF-F13EFF5E20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G:\Учитель года\МОй урок\img8.jpg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619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8282-BA4C-49F8-B7E4-7C374515F2A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742A-4DCB-426A-9137-0AEE32D471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3"/>
          <p:cNvSpPr/>
          <p:nvPr/>
        </p:nvSpPr>
        <p:spPr>
          <a:xfrm>
            <a:off x="549360" y="981000"/>
            <a:ext cx="82818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ти объяснения следующим понятия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Церковь и Крещ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ы вы сможете найти не только в учебнике на стр. 58-59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о и в других источник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4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WordArt 6"/>
          <p:cNvSpPr txBox="1"/>
          <p:nvPr/>
        </p:nvSpPr>
        <p:spPr>
          <a:xfrm>
            <a:off x="571680" y="642960"/>
            <a:ext cx="8572320" cy="557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рещение Рус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и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ак   христианств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ришло   на   Русь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4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WordArt 6"/>
          <p:cNvSpPr txBox="1"/>
          <p:nvPr/>
        </p:nvSpPr>
        <p:spPr>
          <a:xfrm>
            <a:off x="571680" y="642960"/>
            <a:ext cx="8572320" cy="557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рещение Рус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и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ак   христианств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ришло   на   Русь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BF58-997C-4645-AD77-E44BB934242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4DA3-61D8-49D9-BDFF-277906DB0F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549360" y="1341360"/>
            <a:ext cx="828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Отчего зависило название того или иного племени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5504-7A63-4F01-ACE5-A53C1F344C0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55A6-70F1-4BBF-A579-FD3846B39E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549360" y="1341360"/>
            <a:ext cx="82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то   так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нязья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92CD-1C69-41F6-92D5-3E3FDCD1579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6DA0-B8BD-44B6-9873-A0C53C22EA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530280" y="98100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акая религия была на Руси до принятия христианства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4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63923e2be51c"/>
          <p:cNvPicPr/>
          <p:nvPr/>
        </p:nvPicPr>
        <p:blipFill>
          <a:blip r:embed="rId2"/>
          <a:stretch/>
        </p:blipFill>
        <p:spPr>
          <a:xfrm>
            <a:off x="214200" y="428760"/>
            <a:ext cx="8643960" cy="45734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735120" y="6184800"/>
            <a:ext cx="714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684360" y="5214960"/>
            <a:ext cx="781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древле Русь была языческой. Славяне поклонялись многим богам, лесным и водяным дух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5AED-47C0-4863-B136-90B2CAC24F7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00A4-3BBF-4FA9-9780-E7B0ACCB11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530280" y="141300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ак проявлялось язычество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6:19:41Z</dcterms:created>
  <dc:creator>Шумейко Лариса Анатольевна</dc:creator>
  <dc:description>http://aida.ucoz.ru</dc:description>
  <dc:language>en-US</dc:language>
  <cp:lastModifiedBy>каб54</cp:lastModifiedBy>
  <dcterms:modified xsi:type="dcterms:W3CDTF">2020-10-27T10:59:02Z</dcterms:modified>
  <cp:revision>143</cp:revision>
  <dc:subject/>
  <dc:title>Как христианство пришло на Русь.</dc:title>
</cp:coreProperties>
</file>