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DB86-40BB-40C2-BF0F-964A20A60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271F-62F2-49B6-BD54-265964DB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8D05-DBCC-4226-8606-E9BDC1370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4853-5198-4B9C-8D00-21804D46E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26CE0-3D3F-4500-AB8A-43740AF53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7280-4163-4BD7-905C-5BC9CC242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50B2-71C7-4518-ACA2-50FC7A9D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56A6-30E4-4FC5-9EC5-84266949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D9A4-93BC-4514-BFEE-75B36C8DC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505CF-6A05-41F1-9854-2BB451F4A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D292-9417-46E6-9E5F-5083AE5D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05F-5745-42FE-BC0A-18ED3CE7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16F4-F1D0-49C6-8BD8-0EC56666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5F1DA-ECB4-49A2-BC3C-BC36B3F6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67D4-8E7F-4E61-8F25-86D9502D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F167-156F-43B5-98C3-B260CD0F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36E53-D15B-4B08-AFD4-B6D202C0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B4AD7-1EEA-4EFF-A341-B82EB954B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FF10C-6E6A-4E7E-BA17-440CCE7B6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FFA96B-655E-4831-B7B1-4318A9C12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7988E-970E-4E6A-91AB-46C0E67B2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1B8B0-7140-4106-9D5F-A894FCF8E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F549-7D66-4FAF-B796-689A551C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A279E9-B325-4A9F-83D7-9B066071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13BB3D-A025-45BC-9A87-8089C4CBD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EF44C-681D-4845-B47B-A1E8842F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1BD79-0B01-453A-9CA8-9A3C9B2D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D94E9-9D06-46DA-BAD1-ABA0688F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AB41D7-A9A9-4B22-924E-EFE2D68DA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B340A-56DC-4562-9271-69901AFE3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10A20-BD6B-4E34-A59A-0EA2A02D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0ACE89-4FD3-46A2-9A00-56777C1B2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ADC3E-B073-4B0C-9BE7-96BDCA27C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56AD-1634-44C7-8DF4-F054E12C0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9C4BE-E2B2-44F3-8993-A09EA6844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8602C6-4B6C-42D0-A4CE-FCDB3C31D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E0D78D-FD41-4E73-BAF0-CE46542F3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F78720-25FB-4E0E-9EFE-B9DF17D64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0AF3A-2335-46AA-B620-82362966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C7DF6-64B5-45F6-8F59-038441E46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19A5F-27F6-4228-AB4C-DE607393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E668A-F9C4-468A-99B2-8B01F9ED8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AC89C-8BB2-4E49-95D1-6ACEB6412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6B9D44-7415-467F-B31B-A7C4DC4DC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34E-D3EF-4804-85CE-CF3AB9C67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11A1DC-D0AE-4428-9FF4-77D43D8FD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6854C3-F114-4BF6-B1C0-C8D2FA7D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07FC0-F30F-4B6D-B21D-69E0B790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8C4D59-BC45-4C6C-A804-44C99381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0407C2-812D-4CBE-81DC-D1491B0E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CF675-4261-4417-AC6C-01D84900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FFF2DF-F206-4C16-A6DF-FB1A774B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5DFD3-6C27-4E4B-8046-EF491E8F3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60FCF7-E954-42B0-AE0E-6784FCD7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FC3F0-3AB7-48E8-8E6C-0223B0787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AB0E-01C4-424E-BD3A-390D6E027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AA7692-EA76-4507-A790-2E095FF8B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787F-739F-4377-A102-18671948C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92A29-1D8D-43D5-9842-4920F3D9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B2CC-D8AB-4042-B325-4DBE799F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1EEF3-ED79-4A86-947A-A5CC2FE3A72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E779-2F7C-4065-9102-7C80E28AACA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D02D-4F7F-47C3-A0D3-2998267E2A2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274E-D683-4801-BAD4-B67B2EA0FD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1E63-A229-4548-A5E3-8B0B59A36814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Русский язык в схем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23640" y="5589720"/>
            <a:ext cx="370332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Соколова Г.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"/>
          <p:cNvSpPr/>
          <p:nvPr/>
        </p:nvSpPr>
        <p:spPr>
          <a:xfrm>
            <a:off x="1476360" y="476280"/>
            <a:ext cx="597528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езударный гласный в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Прямая со стрелкой 4"/>
          <p:cNvCxnSpPr/>
          <p:nvPr/>
        </p:nvCxnSpPr>
        <p:spPr>
          <a:xfrm>
            <a:off x="4284360" y="1052280"/>
            <a:ext cx="1080" cy="432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378" name="TextBox 5"/>
          <p:cNvSpPr/>
          <p:nvPr/>
        </p:nvSpPr>
        <p:spPr>
          <a:xfrm>
            <a:off x="3203640" y="1484280"/>
            <a:ext cx="230508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част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Прямая со стрелкой 6"/>
          <p:cNvCxnSpPr/>
          <p:nvPr/>
        </p:nvCxnSpPr>
        <p:spPr>
          <a:xfrm flipH="1">
            <a:off x="2555640" y="2060640"/>
            <a:ext cx="504000" cy="2167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80" name="Прямая со стрелкой 7"/>
          <p:cNvCxnSpPr/>
          <p:nvPr/>
        </p:nvCxnSpPr>
        <p:spPr>
          <a:xfrm>
            <a:off x="4571640" y="2133720"/>
            <a:ext cx="1080" cy="3589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81" name="Прямая со стрелкой 8"/>
          <p:cNvCxnSpPr/>
          <p:nvPr/>
        </p:nvCxnSpPr>
        <p:spPr>
          <a:xfrm>
            <a:off x="5651640" y="2060640"/>
            <a:ext cx="576360" cy="2167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382" name="TextBox 9"/>
          <p:cNvSpPr/>
          <p:nvPr/>
        </p:nvSpPr>
        <p:spPr>
          <a:xfrm>
            <a:off x="1619280" y="2349360"/>
            <a:ext cx="122400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0"/>
          <p:cNvSpPr/>
          <p:nvPr/>
        </p:nvSpPr>
        <p:spPr>
          <a:xfrm>
            <a:off x="4067280" y="2565360"/>
            <a:ext cx="122544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1"/>
          <p:cNvSpPr/>
          <p:nvPr/>
        </p:nvSpPr>
        <p:spPr>
          <a:xfrm>
            <a:off x="6012000" y="2349360"/>
            <a:ext cx="172872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"/>
          <p:cNvSpPr/>
          <p:nvPr/>
        </p:nvSpPr>
        <p:spPr>
          <a:xfrm>
            <a:off x="468360" y="2997360"/>
            <a:ext cx="28796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адеж,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50920" y="3573360"/>
          <a:ext cx="3095640" cy="3024360"/>
        </p:xfrm>
        <a:graphic>
          <a:graphicData uri="http://schemas.openxmlformats.org/drawingml/2006/table">
            <a:tbl>
              <a:tblPr/>
              <a:tblGrid>
                <a:gridCol w="718920"/>
                <a:gridCol w="792360"/>
                <a:gridCol w="792000"/>
                <a:gridCol w="792360"/>
              </a:tblGrid>
              <a:tr h="52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TextBox 14"/>
          <p:cNvSpPr/>
          <p:nvPr/>
        </p:nvSpPr>
        <p:spPr>
          <a:xfrm>
            <a:off x="3708360" y="3284640"/>
            <a:ext cx="215892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вопр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3564000" y="4005360"/>
            <a:ext cx="230328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какое окончание в вопросе, такое окончание у прилага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6443640" y="2997360"/>
            <a:ext cx="216072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спря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6516720" y="3500280"/>
            <a:ext cx="20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поставить глагол в неопределённую фор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если перед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21"/>
          <p:cNvCxnSpPr/>
          <p:nvPr/>
        </p:nvCxnSpPr>
        <p:spPr>
          <a:xfrm flipH="1">
            <a:off x="6948000" y="4653000"/>
            <a:ext cx="216720" cy="2167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92" name="Прямая со стрелкой 23"/>
          <p:cNvCxnSpPr/>
          <p:nvPr/>
        </p:nvCxnSpPr>
        <p:spPr>
          <a:xfrm>
            <a:off x="8172360" y="4653000"/>
            <a:ext cx="216720" cy="2167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393" name="TextBox 25"/>
          <p:cNvSpPr/>
          <p:nvPr/>
        </p:nvSpPr>
        <p:spPr>
          <a:xfrm>
            <a:off x="601200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А,О,У,Ы,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7956720" y="4941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7"/>
          <p:cNvSpPr/>
          <p:nvPr/>
        </p:nvSpPr>
        <p:spPr>
          <a:xfrm>
            <a:off x="6392160" y="537372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с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8"/>
          <p:cNvSpPr/>
          <p:nvPr/>
        </p:nvSpPr>
        <p:spPr>
          <a:xfrm>
            <a:off x="7820280" y="537372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I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с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7956720" y="587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0"/>
          <p:cNvSpPr/>
          <p:nvPr/>
        </p:nvSpPr>
        <p:spPr>
          <a:xfrm>
            <a:off x="6443640" y="587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1"/>
          <p:cNvSpPr/>
          <p:nvPr/>
        </p:nvSpPr>
        <p:spPr>
          <a:xfrm>
            <a:off x="971640" y="414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2"/>
          <p:cNvSpPr/>
          <p:nvPr/>
        </p:nvSpPr>
        <p:spPr>
          <a:xfrm>
            <a:off x="2556000" y="414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3"/>
          <p:cNvSpPr/>
          <p:nvPr/>
        </p:nvSpPr>
        <p:spPr>
          <a:xfrm>
            <a:off x="255600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4"/>
          <p:cNvSpPr/>
          <p:nvPr/>
        </p:nvSpPr>
        <p:spPr>
          <a:xfrm>
            <a:off x="2556000" y="59500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5"/>
          <p:cNvSpPr/>
          <p:nvPr/>
        </p:nvSpPr>
        <p:spPr>
          <a:xfrm>
            <a:off x="97164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6"/>
          <p:cNvSpPr/>
          <p:nvPr/>
        </p:nvSpPr>
        <p:spPr>
          <a:xfrm>
            <a:off x="971640" y="59500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7"/>
          <p:cNvSpPr/>
          <p:nvPr/>
        </p:nvSpPr>
        <p:spPr>
          <a:xfrm>
            <a:off x="1763640" y="5950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8"/>
          <p:cNvSpPr/>
          <p:nvPr/>
        </p:nvSpPr>
        <p:spPr>
          <a:xfrm>
            <a:off x="971640" y="52293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9"/>
          <p:cNvSpPr/>
          <p:nvPr/>
        </p:nvSpPr>
        <p:spPr>
          <a:xfrm>
            <a:off x="1763640" y="52293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правляющая кнопка: домой 40"/>
          <p:cNvSpPr/>
          <p:nvPr/>
        </p:nvSpPr>
        <p:spPr>
          <a:xfrm>
            <a:off x="250920" y="260280"/>
            <a:ext cx="649080" cy="8650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65080"/>
              <a:gd name="textAreaBottom" fmla="*/ 823320 h 865080"/>
            </a:gdLst>
            <a:ahLst/>
            <a:rect l="textAreaLeft" t="textAreaTop" r="textAreaRight" b="textAreaBottom"/>
            <a:pathLst>
              <a:path w="21600" h="28784">
                <a:moveTo>
                  <a:pt x="0" y="0"/>
                </a:moveTo>
                <a:lnTo>
                  <a:pt x="21600" y="0"/>
                </a:lnTo>
                <a:lnTo>
                  <a:pt x="21600" y="28784"/>
                </a:lnTo>
                <a:lnTo>
                  <a:pt x="0" y="28784"/>
                </a:lnTo>
                <a:close/>
              </a:path>
              <a:path fill="lightenLess" w="21600" h="287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4">
                <a:moveTo>
                  <a:pt x="21600" y="0"/>
                </a:moveTo>
                <a:lnTo>
                  <a:pt x="21600" y="28784"/>
                </a:lnTo>
                <a:lnTo>
                  <a:pt x="20200" y="27384"/>
                </a:lnTo>
                <a:lnTo>
                  <a:pt x="20200" y="1400"/>
                </a:lnTo>
                <a:close/>
              </a:path>
              <a:path fill="darkenLess" w="21600" h="28784">
                <a:moveTo>
                  <a:pt x="21600" y="28784"/>
                </a:moveTo>
                <a:lnTo>
                  <a:pt x="0" y="28784"/>
                </a:lnTo>
                <a:lnTo>
                  <a:pt x="1400" y="27384"/>
                </a:lnTo>
                <a:lnTo>
                  <a:pt x="20200" y="27384"/>
                </a:lnTo>
                <a:close/>
              </a:path>
              <a:path fill="lighten" w="21600" h="28784">
                <a:moveTo>
                  <a:pt x="0" y="287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4"/>
                </a:lnTo>
                <a:close/>
              </a:path>
              <a:path fill="darken" w="21600" h="28784">
                <a:moveTo>
                  <a:pt x="10800" y="7429"/>
                </a:moveTo>
                <a:lnTo>
                  <a:pt x="13376" y="10040"/>
                </a:lnTo>
                <a:lnTo>
                  <a:pt x="13376" y="8299"/>
                </a:lnTo>
                <a:lnTo>
                  <a:pt x="15152" y="8299"/>
                </a:lnTo>
                <a:lnTo>
                  <a:pt x="15152" y="11816"/>
                </a:lnTo>
                <a:lnTo>
                  <a:pt x="17763" y="14392"/>
                </a:lnTo>
                <a:lnTo>
                  <a:pt x="16109" y="14392"/>
                </a:lnTo>
                <a:lnTo>
                  <a:pt x="16109" y="21581"/>
                </a:lnTo>
                <a:lnTo>
                  <a:pt x="5491" y="21581"/>
                </a:lnTo>
                <a:lnTo>
                  <a:pt x="5491" y="14392"/>
                </a:lnTo>
                <a:lnTo>
                  <a:pt x="3837" y="14392"/>
                </a:lnTo>
                <a:close/>
              </a:path>
              <a:path fill="darkenLess" w="21600" h="28784">
                <a:moveTo>
                  <a:pt x="13376" y="10040"/>
                </a:moveTo>
                <a:lnTo>
                  <a:pt x="13376" y="8299"/>
                </a:lnTo>
                <a:lnTo>
                  <a:pt x="15152" y="8299"/>
                </a:lnTo>
                <a:lnTo>
                  <a:pt x="15152" y="11816"/>
                </a:lnTo>
                <a:close/>
              </a:path>
              <a:path fill="darkenLess" w="21600" h="28784">
                <a:moveTo>
                  <a:pt x="9877" y="17891"/>
                </a:moveTo>
                <a:lnTo>
                  <a:pt x="11723" y="17891"/>
                </a:lnTo>
                <a:lnTo>
                  <a:pt x="11723" y="21581"/>
                </a:lnTo>
                <a:lnTo>
                  <a:pt x="16109" y="21581"/>
                </a:lnTo>
                <a:lnTo>
                  <a:pt x="16109" y="14392"/>
                </a:lnTo>
                <a:lnTo>
                  <a:pt x="5491" y="14392"/>
                </a:lnTo>
                <a:lnTo>
                  <a:pt x="5491" y="21581"/>
                </a:lnTo>
                <a:lnTo>
                  <a:pt x="9877" y="21581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8172360" y="6497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4067280" y="2852640"/>
            <a:ext cx="86364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"/>
          <p:cNvSpPr/>
          <p:nvPr/>
        </p:nvSpPr>
        <p:spPr>
          <a:xfrm flipH="1" flipV="1">
            <a:off x="3131640" y="2707920"/>
            <a:ext cx="86364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395280" y="1916280"/>
            <a:ext cx="2519280" cy="107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показатель мяг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огла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пал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тетрад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 flipV="1">
            <a:off x="4572000" y="2276640"/>
            <a:ext cx="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3059280" y="1341360"/>
            <a:ext cx="251928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раздел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лист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в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ю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2987640" y="836640"/>
            <a:ext cx="358920" cy="36036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3493800" y="62064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4064400" y="76500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е, ё, ю, я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0"/>
          <p:cNvSpPr/>
          <p:nvPr/>
        </p:nvSpPr>
        <p:spPr>
          <a:xfrm flipV="1">
            <a:off x="5003640" y="3068280"/>
            <a:ext cx="720720" cy="730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5867280" y="2276640"/>
            <a:ext cx="2781360" cy="140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на кон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уществительных ж.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вещ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реч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4500720" y="357336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3492360" y="3933720"/>
            <a:ext cx="187164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у глаг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771280" y="4221000"/>
            <a:ext cx="576360" cy="71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468360" y="3933720"/>
            <a:ext cx="2232000" cy="1079640"/>
          </a:xfrm>
          <a:prstGeom prst="rect">
            <a:avLst/>
          </a:prstGeom>
          <a:solidFill>
            <a:srgbClr val="e6fe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2-го л., ед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- ИШЬ, - 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летиш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теряеш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6"/>
          <p:cNvSpPr/>
          <p:nvPr/>
        </p:nvSpPr>
        <p:spPr>
          <a:xfrm flipH="1">
            <a:off x="4211280" y="4365720"/>
            <a:ext cx="144360" cy="503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2771640" y="5013360"/>
            <a:ext cx="2519640" cy="1079640"/>
          </a:xfrm>
          <a:prstGeom prst="rect">
            <a:avLst/>
          </a:prstGeom>
          <a:solidFill>
            <a:srgbClr val="e6fe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в неопределё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форме на 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береч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леч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5435640" y="4149720"/>
            <a:ext cx="504720" cy="21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5435640" y="4437000"/>
            <a:ext cx="3240000" cy="1079640"/>
          </a:xfrm>
          <a:prstGeom prst="rect">
            <a:avLst/>
          </a:prstGeom>
          <a:solidFill>
            <a:srgbClr val="e6fe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тся, 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Что делает?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 смеётся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без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Что делат</a:t>
            </a:r>
            <a:r>
              <a:rPr b="1" lang="ru-RU" sz="18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Ь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?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смеят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Управляющая кнопка: домой 22"/>
          <p:cNvSpPr/>
          <p:nvPr/>
        </p:nvSpPr>
        <p:spPr>
          <a:xfrm>
            <a:off x="539640" y="333360"/>
            <a:ext cx="649440" cy="8650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65080"/>
              <a:gd name="textAreaBottom" fmla="*/ 823320 h 865080"/>
            </a:gdLst>
            <a:ahLst/>
            <a:rect l="textAreaLeft" t="textAreaTop" r="textAreaRight" b="textAreaBottom"/>
            <a:pathLst>
              <a:path w="21600" h="28768">
                <a:moveTo>
                  <a:pt x="0" y="0"/>
                </a:moveTo>
                <a:lnTo>
                  <a:pt x="21600" y="0"/>
                </a:lnTo>
                <a:lnTo>
                  <a:pt x="21600" y="28768"/>
                </a:lnTo>
                <a:lnTo>
                  <a:pt x="0" y="28768"/>
                </a:lnTo>
                <a:close/>
              </a:path>
              <a:path fill="lightenLess" w="21600" h="28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8">
                <a:moveTo>
                  <a:pt x="21600" y="0"/>
                </a:moveTo>
                <a:lnTo>
                  <a:pt x="21600" y="28768"/>
                </a:lnTo>
                <a:lnTo>
                  <a:pt x="20200" y="27368"/>
                </a:lnTo>
                <a:lnTo>
                  <a:pt x="20200" y="1400"/>
                </a:lnTo>
                <a:close/>
              </a:path>
              <a:path fill="darkenLess" w="21600" h="28768">
                <a:moveTo>
                  <a:pt x="21600" y="28768"/>
                </a:moveTo>
                <a:lnTo>
                  <a:pt x="0" y="28768"/>
                </a:lnTo>
                <a:lnTo>
                  <a:pt x="1400" y="27368"/>
                </a:lnTo>
                <a:lnTo>
                  <a:pt x="20200" y="27368"/>
                </a:lnTo>
                <a:close/>
              </a:path>
              <a:path fill="lighten" w="21600" h="28768">
                <a:moveTo>
                  <a:pt x="0" y="28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8"/>
                </a:lnTo>
                <a:close/>
              </a:path>
              <a:path fill="darken" w="21600" h="28768">
                <a:moveTo>
                  <a:pt x="10800" y="7421"/>
                </a:moveTo>
                <a:lnTo>
                  <a:pt x="13376" y="10032"/>
                </a:lnTo>
                <a:lnTo>
                  <a:pt x="13376" y="8291"/>
                </a:lnTo>
                <a:lnTo>
                  <a:pt x="15152" y="8291"/>
                </a:lnTo>
                <a:lnTo>
                  <a:pt x="15152" y="11808"/>
                </a:lnTo>
                <a:lnTo>
                  <a:pt x="17763" y="14384"/>
                </a:lnTo>
                <a:lnTo>
                  <a:pt x="16109" y="14384"/>
                </a:lnTo>
                <a:lnTo>
                  <a:pt x="16109" y="21573"/>
                </a:lnTo>
                <a:lnTo>
                  <a:pt x="5491" y="21573"/>
                </a:lnTo>
                <a:lnTo>
                  <a:pt x="5491" y="14384"/>
                </a:lnTo>
                <a:lnTo>
                  <a:pt x="3837" y="14384"/>
                </a:lnTo>
                <a:close/>
              </a:path>
              <a:path fill="darkenLess" w="21600" h="28768">
                <a:moveTo>
                  <a:pt x="13376" y="10032"/>
                </a:moveTo>
                <a:lnTo>
                  <a:pt x="13376" y="8291"/>
                </a:lnTo>
                <a:lnTo>
                  <a:pt x="15152" y="8291"/>
                </a:lnTo>
                <a:lnTo>
                  <a:pt x="15152" y="11808"/>
                </a:lnTo>
                <a:close/>
              </a:path>
              <a:path fill="darkenLess" w="21600" h="28768">
                <a:moveTo>
                  <a:pt x="9877" y="17883"/>
                </a:moveTo>
                <a:lnTo>
                  <a:pt x="11723" y="17883"/>
                </a:lnTo>
                <a:lnTo>
                  <a:pt x="11723" y="21573"/>
                </a:lnTo>
                <a:lnTo>
                  <a:pt x="16109" y="21573"/>
                </a:lnTo>
                <a:lnTo>
                  <a:pt x="16109" y="14384"/>
                </a:lnTo>
                <a:lnTo>
                  <a:pt x="5491" y="14384"/>
                </a:lnTo>
                <a:lnTo>
                  <a:pt x="5491" y="21573"/>
                </a:lnTo>
                <a:lnTo>
                  <a:pt x="9877" y="21573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57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795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801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>
            <a:hlinkClick r:id="rId1" action="ppaction://hlinksldjump"/>
          </p:cNvPr>
          <p:cNvSpPr/>
          <p:nvPr/>
        </p:nvSpPr>
        <p:spPr>
          <a:xfrm>
            <a:off x="755640" y="333360"/>
            <a:ext cx="237636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>
            <a:hlinkClick r:id="rId2" action="ppaction://hlinksldjump"/>
          </p:cNvPr>
          <p:cNvSpPr/>
          <p:nvPr/>
        </p:nvSpPr>
        <p:spPr>
          <a:xfrm>
            <a:off x="755640" y="907920"/>
            <a:ext cx="576108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Однородные член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>
            <a:hlinkClick r:id="rId3" action="ppaction://hlinksldjump"/>
          </p:cNvPr>
          <p:cNvSpPr/>
          <p:nvPr/>
        </p:nvSpPr>
        <p:spPr>
          <a:xfrm>
            <a:off x="755640" y="1484280"/>
            <a:ext cx="374508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>
            <a:hlinkClick r:id="rId4" action="ppaction://hlinksldjump"/>
          </p:cNvPr>
          <p:cNvSpPr/>
          <p:nvPr/>
        </p:nvSpPr>
        <p:spPr>
          <a:xfrm>
            <a:off x="755640" y="2708280"/>
            <a:ext cx="122400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>
            <a:hlinkClick r:id="rId5" action="ppaction://hlinksldjump"/>
          </p:cNvPr>
          <p:cNvSpPr/>
          <p:nvPr/>
        </p:nvSpPr>
        <p:spPr>
          <a:xfrm>
            <a:off x="755640" y="3357720"/>
            <a:ext cx="237636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>
            <a:hlinkClick r:id="rId6" action="ppaction://hlinksldjump"/>
          </p:cNvPr>
          <p:cNvSpPr/>
          <p:nvPr/>
        </p:nvSpPr>
        <p:spPr>
          <a:xfrm>
            <a:off x="755640" y="2133720"/>
            <a:ext cx="374508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>
            <a:hlinkClick r:id="rId7" action="ppaction://hlinksldjump"/>
          </p:cNvPr>
          <p:cNvSpPr/>
          <p:nvPr/>
        </p:nvSpPr>
        <p:spPr>
          <a:xfrm>
            <a:off x="755640" y="4292640"/>
            <a:ext cx="540072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Безударные окончания глаг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>
            <a:hlinkClick r:id="rId8" action="ppaction://hlinksldjump"/>
          </p:cNvPr>
          <p:cNvSpPr/>
          <p:nvPr/>
        </p:nvSpPr>
        <p:spPr>
          <a:xfrm>
            <a:off x="755640" y="5084640"/>
            <a:ext cx="5472000" cy="9471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Безударный гласный в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>
            <a:hlinkClick r:id="rId9" action="ppaction://hlinksldjump"/>
          </p:cNvPr>
          <p:cNvSpPr/>
          <p:nvPr/>
        </p:nvSpPr>
        <p:spPr>
          <a:xfrm>
            <a:off x="755640" y="5950080"/>
            <a:ext cx="302436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Правописание 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2771640" y="242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3"/>
          <p:cNvCxnSpPr/>
          <p:nvPr/>
        </p:nvCxnSpPr>
        <p:spPr>
          <a:xfrm flipH="1" flipV="1">
            <a:off x="2339280" y="2133360"/>
            <a:ext cx="577080" cy="57528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cxnSp>
        <p:nvCxnSpPr>
          <p:cNvPr id="219" name="Прямая со стрелкой 5"/>
          <p:cNvCxnSpPr/>
          <p:nvPr/>
        </p:nvCxnSpPr>
        <p:spPr>
          <a:xfrm flipV="1">
            <a:off x="6227280" y="2204640"/>
            <a:ext cx="577080" cy="43272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cxnSp>
        <p:nvCxnSpPr>
          <p:cNvPr id="220" name="Прямая со стрелкой 9"/>
          <p:cNvCxnSpPr/>
          <p:nvPr/>
        </p:nvCxnSpPr>
        <p:spPr>
          <a:xfrm flipH="1">
            <a:off x="2410560" y="3067560"/>
            <a:ext cx="505800" cy="28944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cxnSp>
        <p:nvCxnSpPr>
          <p:cNvPr id="221" name="Прямая со стрелкой 11"/>
          <p:cNvCxnSpPr/>
          <p:nvPr/>
        </p:nvCxnSpPr>
        <p:spPr>
          <a:xfrm flipH="1">
            <a:off x="4427280" y="2997000"/>
            <a:ext cx="2160" cy="43236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cxnSp>
        <p:nvCxnSpPr>
          <p:cNvPr id="222" name="Прямая со стрелкой 13"/>
          <p:cNvCxnSpPr/>
          <p:nvPr/>
        </p:nvCxnSpPr>
        <p:spPr>
          <a:xfrm>
            <a:off x="6227280" y="2997000"/>
            <a:ext cx="505800" cy="36108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sp>
        <p:nvSpPr>
          <p:cNvPr id="223" name="TextBox 14"/>
          <p:cNvSpPr/>
          <p:nvPr/>
        </p:nvSpPr>
        <p:spPr>
          <a:xfrm>
            <a:off x="250920" y="1268280"/>
            <a:ext cx="29527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из двух или нескольких с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6"/>
          <p:cNvSpPr/>
          <p:nvPr/>
        </p:nvSpPr>
        <p:spPr>
          <a:xfrm>
            <a:off x="6732720" y="1341360"/>
            <a:ext cx="223200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законч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мыс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539640" y="3500280"/>
            <a:ext cx="2519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инто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3276720" y="3500280"/>
            <a:ext cx="25192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цели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6227640" y="3500280"/>
            <a:ext cx="2521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стро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468360" y="4221000"/>
            <a:ext cx="2519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восклиц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2"/>
          <p:cNvSpPr/>
          <p:nvPr/>
        </p:nvSpPr>
        <p:spPr>
          <a:xfrm>
            <a:off x="324000" y="4797360"/>
            <a:ext cx="2735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невосклиц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3"/>
          <p:cNvSpPr/>
          <p:nvPr/>
        </p:nvSpPr>
        <p:spPr>
          <a:xfrm>
            <a:off x="3276720" y="4508640"/>
            <a:ext cx="2735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повествов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3276720" y="5084640"/>
            <a:ext cx="2519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вопрос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3276720" y="5661000"/>
            <a:ext cx="2519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побуд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6"/>
          <p:cNvSpPr/>
          <p:nvPr/>
        </p:nvSpPr>
        <p:spPr>
          <a:xfrm>
            <a:off x="6300720" y="4437000"/>
            <a:ext cx="266400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распростран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7"/>
          <p:cNvSpPr/>
          <p:nvPr/>
        </p:nvSpPr>
        <p:spPr>
          <a:xfrm>
            <a:off x="6084720" y="5084640"/>
            <a:ext cx="288000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нераспростран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Прямая со стрелкой 29"/>
          <p:cNvCxnSpPr/>
          <p:nvPr/>
        </p:nvCxnSpPr>
        <p:spPr>
          <a:xfrm flipV="1">
            <a:off x="4930920" y="2061360"/>
            <a:ext cx="2160" cy="57708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sp>
        <p:nvSpPr>
          <p:cNvPr id="236" name="TextBox 33"/>
          <p:cNvSpPr/>
          <p:nvPr/>
        </p:nvSpPr>
        <p:spPr>
          <a:xfrm>
            <a:off x="3492360" y="765000"/>
            <a:ext cx="28800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лова связаны по смыслу и грам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Управляющая кнопка: далее 28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правляющая кнопка: домой 30">
            <a:hlinkClick r:id="rId1" action="ppaction://hlinksldjump"/>
          </p:cNvPr>
          <p:cNvSpPr/>
          <p:nvPr/>
        </p:nvSpPr>
        <p:spPr>
          <a:xfrm>
            <a:off x="539640" y="189000"/>
            <a:ext cx="719280" cy="93636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6360"/>
              <a:gd name="textAreaBottom" fmla="*/ 889920 h 936360"/>
            </a:gdLst>
            <a:ahLst/>
            <a:rect l="textAreaLeft" t="textAreaTop" r="textAreaRight" b="textAreaBottom"/>
            <a:pathLst>
              <a:path w="21600" h="28116">
                <a:moveTo>
                  <a:pt x="0" y="0"/>
                </a:moveTo>
                <a:lnTo>
                  <a:pt x="21600" y="0"/>
                </a:lnTo>
                <a:lnTo>
                  <a:pt x="21600" y="28116"/>
                </a:lnTo>
                <a:lnTo>
                  <a:pt x="0" y="28116"/>
                </a:lnTo>
                <a:close/>
              </a:path>
              <a:path fill="lightenLess" w="21600" h="281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16">
                <a:moveTo>
                  <a:pt x="21600" y="0"/>
                </a:moveTo>
                <a:lnTo>
                  <a:pt x="21600" y="28116"/>
                </a:lnTo>
                <a:lnTo>
                  <a:pt x="20200" y="26716"/>
                </a:lnTo>
                <a:lnTo>
                  <a:pt x="20200" y="1400"/>
                </a:lnTo>
                <a:close/>
              </a:path>
              <a:path fill="darkenLess" w="21600" h="28116">
                <a:moveTo>
                  <a:pt x="21600" y="28116"/>
                </a:moveTo>
                <a:lnTo>
                  <a:pt x="0" y="28116"/>
                </a:lnTo>
                <a:lnTo>
                  <a:pt x="1400" y="26716"/>
                </a:lnTo>
                <a:lnTo>
                  <a:pt x="20200" y="26716"/>
                </a:lnTo>
                <a:close/>
              </a:path>
              <a:path fill="lighten" w="21600" h="28116">
                <a:moveTo>
                  <a:pt x="0" y="281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16"/>
                </a:lnTo>
                <a:close/>
              </a:path>
              <a:path fill="darken" w="21600" h="28116">
                <a:moveTo>
                  <a:pt x="10800" y="7095"/>
                </a:moveTo>
                <a:lnTo>
                  <a:pt x="13376" y="9706"/>
                </a:ln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lnTo>
                  <a:pt x="17763" y="14058"/>
                </a:lnTo>
                <a:lnTo>
                  <a:pt x="16109" y="14058"/>
                </a:lnTo>
                <a:lnTo>
                  <a:pt x="16109" y="21247"/>
                </a:lnTo>
                <a:lnTo>
                  <a:pt x="5491" y="21247"/>
                </a:lnTo>
                <a:lnTo>
                  <a:pt x="5491" y="14058"/>
                </a:lnTo>
                <a:lnTo>
                  <a:pt x="3837" y="14058"/>
                </a:lnTo>
                <a:close/>
              </a:path>
              <a:path fill="darkenLess" w="21600" h="28116">
                <a:moveTo>
                  <a:pt x="13376" y="9706"/>
                </a:move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close/>
              </a:path>
              <a:path fill="darkenLess" w="21600" h="28116">
                <a:moveTo>
                  <a:pt x="9877" y="17557"/>
                </a:moveTo>
                <a:lnTo>
                  <a:pt x="11723" y="17557"/>
                </a:lnTo>
                <a:lnTo>
                  <a:pt x="11723" y="21247"/>
                </a:lnTo>
                <a:lnTo>
                  <a:pt x="16109" y="21247"/>
                </a:lnTo>
                <a:lnTo>
                  <a:pt x="16109" y="14058"/>
                </a:lnTo>
                <a:lnTo>
                  <a:pt x="5491" y="14058"/>
                </a:lnTo>
                <a:lnTo>
                  <a:pt x="5491" y="21247"/>
                </a:lnTo>
                <a:lnTo>
                  <a:pt x="9877" y="21247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1187280" y="2637000"/>
            <a:ext cx="676944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днород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5"/>
          <p:cNvCxnSpPr/>
          <p:nvPr/>
        </p:nvCxnSpPr>
        <p:spPr>
          <a:xfrm flipH="1" flipV="1">
            <a:off x="1618920" y="2276280"/>
            <a:ext cx="289440" cy="28944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1" name="Прямая со стрелкой 7"/>
          <p:cNvCxnSpPr/>
          <p:nvPr/>
        </p:nvCxnSpPr>
        <p:spPr>
          <a:xfrm flipV="1">
            <a:off x="3492000" y="1988640"/>
            <a:ext cx="1080" cy="50400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2" name="Прямая со стрелкой 9"/>
          <p:cNvCxnSpPr/>
          <p:nvPr/>
        </p:nvCxnSpPr>
        <p:spPr>
          <a:xfrm flipV="1">
            <a:off x="5435280" y="1988640"/>
            <a:ext cx="1080" cy="50400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3" name="Прямая со стрелкой 11"/>
          <p:cNvCxnSpPr/>
          <p:nvPr/>
        </p:nvCxnSpPr>
        <p:spPr>
          <a:xfrm flipV="1">
            <a:off x="7596000" y="2348640"/>
            <a:ext cx="216360" cy="28836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4" name="Прямая со стрелкой 14"/>
          <p:cNvCxnSpPr/>
          <p:nvPr/>
        </p:nvCxnSpPr>
        <p:spPr>
          <a:xfrm flipH="1">
            <a:off x="1402560" y="3499920"/>
            <a:ext cx="361080" cy="36108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5" name="Прямая со стрелкой 16"/>
          <p:cNvCxnSpPr/>
          <p:nvPr/>
        </p:nvCxnSpPr>
        <p:spPr>
          <a:xfrm>
            <a:off x="3995280" y="3499920"/>
            <a:ext cx="1080" cy="108180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6" name="Прямая со стрелкой 18"/>
          <p:cNvCxnSpPr/>
          <p:nvPr/>
        </p:nvCxnSpPr>
        <p:spPr>
          <a:xfrm>
            <a:off x="6875280" y="3428640"/>
            <a:ext cx="1080" cy="57708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47" name="TextBox 19"/>
          <p:cNvSpPr/>
          <p:nvPr/>
        </p:nvSpPr>
        <p:spPr>
          <a:xfrm>
            <a:off x="108000" y="1413000"/>
            <a:ext cx="19429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ва и более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2050920" y="620640"/>
            <a:ext cx="244980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тносятся к одному и тому же с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1"/>
          <p:cNvSpPr/>
          <p:nvPr/>
        </p:nvSpPr>
        <p:spPr>
          <a:xfrm>
            <a:off x="4500720" y="620640"/>
            <a:ext cx="244764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твечают на один и тот же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2"/>
          <p:cNvSpPr/>
          <p:nvPr/>
        </p:nvSpPr>
        <p:spPr>
          <a:xfrm>
            <a:off x="6696000" y="1628640"/>
            <a:ext cx="244800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еречислительная интон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5"/>
          <p:cNvSpPr/>
          <p:nvPr/>
        </p:nvSpPr>
        <p:spPr>
          <a:xfrm>
            <a:off x="395280" y="4005360"/>
            <a:ext cx="244800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зделяются запят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6"/>
          <p:cNvSpPr/>
          <p:nvPr/>
        </p:nvSpPr>
        <p:spPr>
          <a:xfrm>
            <a:off x="2916360" y="4581360"/>
            <a:ext cx="244764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оединяются союзами И, А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9"/>
          <p:cNvSpPr/>
          <p:nvPr/>
        </p:nvSpPr>
        <p:spPr>
          <a:xfrm>
            <a:off x="5940360" y="4076640"/>
            <a:ext cx="244800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лежащее, сказу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5940360" y="4941720"/>
            <a:ext cx="244800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торостепенные ч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правляющая кнопка: домой 24">
            <a:hlinkClick r:id="rId1" action="ppaction://hlinksldjump"/>
          </p:cNvPr>
          <p:cNvSpPr/>
          <p:nvPr/>
        </p:nvSpPr>
        <p:spPr>
          <a:xfrm>
            <a:off x="539640" y="189000"/>
            <a:ext cx="719280" cy="93636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6360"/>
              <a:gd name="textAreaBottom" fmla="*/ 889920 h 936360"/>
            </a:gdLst>
            <a:ahLst/>
            <a:rect l="textAreaLeft" t="textAreaTop" r="textAreaRight" b="textAreaBottom"/>
            <a:pathLst>
              <a:path w="21600" h="28116">
                <a:moveTo>
                  <a:pt x="0" y="0"/>
                </a:moveTo>
                <a:lnTo>
                  <a:pt x="21600" y="0"/>
                </a:lnTo>
                <a:lnTo>
                  <a:pt x="21600" y="28116"/>
                </a:lnTo>
                <a:lnTo>
                  <a:pt x="0" y="28116"/>
                </a:lnTo>
                <a:close/>
              </a:path>
              <a:path fill="lightenLess" w="21600" h="281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16">
                <a:moveTo>
                  <a:pt x="21600" y="0"/>
                </a:moveTo>
                <a:lnTo>
                  <a:pt x="21600" y="28116"/>
                </a:lnTo>
                <a:lnTo>
                  <a:pt x="20200" y="26716"/>
                </a:lnTo>
                <a:lnTo>
                  <a:pt x="20200" y="1400"/>
                </a:lnTo>
                <a:close/>
              </a:path>
              <a:path fill="darkenLess" w="21600" h="28116">
                <a:moveTo>
                  <a:pt x="21600" y="28116"/>
                </a:moveTo>
                <a:lnTo>
                  <a:pt x="0" y="28116"/>
                </a:lnTo>
                <a:lnTo>
                  <a:pt x="1400" y="26716"/>
                </a:lnTo>
                <a:lnTo>
                  <a:pt x="20200" y="26716"/>
                </a:lnTo>
                <a:close/>
              </a:path>
              <a:path fill="lighten" w="21600" h="28116">
                <a:moveTo>
                  <a:pt x="0" y="281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16"/>
                </a:lnTo>
                <a:close/>
              </a:path>
              <a:path fill="darken" w="21600" h="28116">
                <a:moveTo>
                  <a:pt x="10800" y="7095"/>
                </a:moveTo>
                <a:lnTo>
                  <a:pt x="13376" y="9706"/>
                </a:ln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lnTo>
                  <a:pt x="17763" y="14058"/>
                </a:lnTo>
                <a:lnTo>
                  <a:pt x="16109" y="14058"/>
                </a:lnTo>
                <a:lnTo>
                  <a:pt x="16109" y="21247"/>
                </a:lnTo>
                <a:lnTo>
                  <a:pt x="5491" y="21247"/>
                </a:lnTo>
                <a:lnTo>
                  <a:pt x="5491" y="14058"/>
                </a:lnTo>
                <a:lnTo>
                  <a:pt x="3837" y="14058"/>
                </a:lnTo>
                <a:close/>
              </a:path>
              <a:path fill="darkenLess" w="21600" h="28116">
                <a:moveTo>
                  <a:pt x="13376" y="9706"/>
                </a:move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close/>
              </a:path>
              <a:path fill="darkenLess" w="21600" h="28116">
                <a:moveTo>
                  <a:pt x="9877" y="17557"/>
                </a:moveTo>
                <a:lnTo>
                  <a:pt x="11723" y="17557"/>
                </a:lnTo>
                <a:lnTo>
                  <a:pt x="11723" y="21247"/>
                </a:lnTo>
                <a:lnTo>
                  <a:pt x="16109" y="21247"/>
                </a:lnTo>
                <a:lnTo>
                  <a:pt x="16109" y="14058"/>
                </a:lnTo>
                <a:lnTo>
                  <a:pt x="5491" y="14058"/>
                </a:lnTo>
                <a:lnTo>
                  <a:pt x="5491" y="21247"/>
                </a:lnTo>
                <a:lnTo>
                  <a:pt x="9877" y="21247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5"/>
          <p:cNvCxnSpPr/>
          <p:nvPr/>
        </p:nvCxnSpPr>
        <p:spPr>
          <a:xfrm flipH="1" flipV="1">
            <a:off x="1618560" y="2059920"/>
            <a:ext cx="7380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59" name="Прямая со стрелкой 7"/>
          <p:cNvCxnSpPr/>
          <p:nvPr/>
        </p:nvCxnSpPr>
        <p:spPr>
          <a:xfrm flipV="1">
            <a:off x="3354840" y="1642320"/>
            <a:ext cx="2520" cy="1005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0" name="Прямая со стрелкой 9"/>
          <p:cNvCxnSpPr/>
          <p:nvPr/>
        </p:nvCxnSpPr>
        <p:spPr>
          <a:xfrm flipV="1">
            <a:off x="5076360" y="1989000"/>
            <a:ext cx="108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1" name="Прямая со стрелкой 11"/>
          <p:cNvCxnSpPr/>
          <p:nvPr/>
        </p:nvCxnSpPr>
        <p:spPr>
          <a:xfrm flipV="1">
            <a:off x="7020000" y="1571040"/>
            <a:ext cx="124560" cy="1065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2" name="Прямая со стрелкой 14"/>
          <p:cNvCxnSpPr/>
          <p:nvPr/>
        </p:nvCxnSpPr>
        <p:spPr>
          <a:xfrm flipH="1">
            <a:off x="1476000" y="3428640"/>
            <a:ext cx="21672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3" name="Прямая со стрелкой 16"/>
          <p:cNvCxnSpPr/>
          <p:nvPr/>
        </p:nvCxnSpPr>
        <p:spPr>
          <a:xfrm flipH="1">
            <a:off x="3284280" y="3430440"/>
            <a:ext cx="2160" cy="9295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4" name="Прямая со стрелкой 18"/>
          <p:cNvCxnSpPr/>
          <p:nvPr/>
        </p:nvCxnSpPr>
        <p:spPr>
          <a:xfrm>
            <a:off x="5362920" y="3357720"/>
            <a:ext cx="14220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5" name="Прямая со стрелкой 21"/>
          <p:cNvCxnSpPr/>
          <p:nvPr/>
        </p:nvCxnSpPr>
        <p:spPr>
          <a:xfrm>
            <a:off x="7358040" y="3429000"/>
            <a:ext cx="643320" cy="714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266" name="TextBox 10"/>
          <p:cNvGrpSpPr/>
          <p:nvPr/>
        </p:nvGrpSpPr>
        <p:grpSpPr>
          <a:xfrm>
            <a:off x="158760" y="1494000"/>
            <a:ext cx="2182680" cy="749160"/>
            <a:chOff x="158760" y="1494000"/>
            <a:chExt cx="2182680" cy="749160"/>
          </a:xfrm>
        </p:grpSpPr>
        <p:pic>
          <p:nvPicPr>
            <p:cNvPr id="267" name="TextBox 10" descr=""/>
            <p:cNvPicPr/>
            <p:nvPr/>
          </p:nvPicPr>
          <p:blipFill>
            <a:blip r:embed="rId1"/>
            <a:stretch/>
          </p:blipFill>
          <p:spPr>
            <a:xfrm>
              <a:off x="158760" y="1494000"/>
              <a:ext cx="21826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14200" y="157176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Часть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TextBox 12"/>
          <p:cNvGrpSpPr/>
          <p:nvPr/>
        </p:nvGrpSpPr>
        <p:grpSpPr>
          <a:xfrm>
            <a:off x="2230560" y="920880"/>
            <a:ext cx="2182680" cy="749160"/>
            <a:chOff x="2230560" y="920880"/>
            <a:chExt cx="2182680" cy="749160"/>
          </a:xfrm>
        </p:grpSpPr>
        <p:pic>
          <p:nvPicPr>
            <p:cNvPr id="270" name="TextBox 12" descr=""/>
            <p:cNvPicPr/>
            <p:nvPr/>
          </p:nvPicPr>
          <p:blipFill>
            <a:blip r:embed="rId2"/>
            <a:stretch/>
          </p:blipFill>
          <p:spPr>
            <a:xfrm>
              <a:off x="2230560" y="920880"/>
              <a:ext cx="21826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286000" y="10000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Предм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TextBox 15"/>
          <p:cNvGrpSpPr/>
          <p:nvPr/>
        </p:nvGrpSpPr>
        <p:grpSpPr>
          <a:xfrm>
            <a:off x="4017960" y="1420920"/>
            <a:ext cx="2181240" cy="749160"/>
            <a:chOff x="4017960" y="1420920"/>
            <a:chExt cx="2181240" cy="749160"/>
          </a:xfrm>
        </p:grpSpPr>
        <p:pic>
          <p:nvPicPr>
            <p:cNvPr id="273" name="TextBox 15" descr=""/>
            <p:cNvPicPr/>
            <p:nvPr/>
          </p:nvPicPr>
          <p:blipFill>
            <a:blip r:embed="rId3"/>
            <a:stretch/>
          </p:blipFill>
          <p:spPr>
            <a:xfrm>
              <a:off x="4017960" y="1420920"/>
              <a:ext cx="2181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071960" y="150012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Кто? Ч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Box 17"/>
          <p:cNvGrpSpPr/>
          <p:nvPr/>
        </p:nvGrpSpPr>
        <p:grpSpPr>
          <a:xfrm>
            <a:off x="6229440" y="566640"/>
            <a:ext cx="2543040" cy="1116000"/>
            <a:chOff x="6229440" y="566640"/>
            <a:chExt cx="2543040" cy="1116000"/>
          </a:xfrm>
        </p:grpSpPr>
        <p:pic>
          <p:nvPicPr>
            <p:cNvPr id="276" name="TextBox 17" descr=""/>
            <p:cNvPicPr/>
            <p:nvPr/>
          </p:nvPicPr>
          <p:blipFill>
            <a:blip r:embed="rId4"/>
            <a:stretch/>
          </p:blipFill>
          <p:spPr>
            <a:xfrm>
              <a:off x="6229440" y="566640"/>
              <a:ext cx="254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286680" y="642960"/>
              <a:ext cx="242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Подлежащее, вт.чл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TextBox 20"/>
          <p:cNvGrpSpPr/>
          <p:nvPr/>
        </p:nvGrpSpPr>
        <p:grpSpPr>
          <a:xfrm>
            <a:off x="2292480" y="4352760"/>
            <a:ext cx="2408040" cy="1481400"/>
            <a:chOff x="2292480" y="4352760"/>
            <a:chExt cx="2408040" cy="1481400"/>
          </a:xfrm>
        </p:grpSpPr>
        <p:pic>
          <p:nvPicPr>
            <p:cNvPr id="279" name="TextBox 20" descr=""/>
            <p:cNvPicPr/>
            <p:nvPr/>
          </p:nvPicPr>
          <p:blipFill>
            <a:blip r:embed="rId5"/>
            <a:stretch/>
          </p:blipFill>
          <p:spPr>
            <a:xfrm>
              <a:off x="2292480" y="4352760"/>
              <a:ext cx="240804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428920" y="4429080"/>
              <a:ext cx="20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Изменяется по падежам и чи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TextBox 22"/>
          <p:cNvGrpSpPr/>
          <p:nvPr/>
        </p:nvGrpSpPr>
        <p:grpSpPr>
          <a:xfrm>
            <a:off x="231840" y="3992400"/>
            <a:ext cx="2182680" cy="1481400"/>
            <a:chOff x="231840" y="3992400"/>
            <a:chExt cx="2182680" cy="1481400"/>
          </a:xfrm>
        </p:grpSpPr>
        <p:pic>
          <p:nvPicPr>
            <p:cNvPr id="282" name="TextBox 22" descr=""/>
            <p:cNvPicPr/>
            <p:nvPr/>
          </p:nvPicPr>
          <p:blipFill>
            <a:blip r:embed="rId6"/>
            <a:stretch/>
          </p:blipFill>
          <p:spPr>
            <a:xfrm>
              <a:off x="231840" y="3992400"/>
              <a:ext cx="218268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85840" y="4071960"/>
              <a:ext cx="20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М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Ж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Ср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TextBox 27"/>
          <p:cNvGrpSpPr/>
          <p:nvPr/>
        </p:nvGrpSpPr>
        <p:grpSpPr>
          <a:xfrm>
            <a:off x="4876920" y="4211640"/>
            <a:ext cx="2182680" cy="1122480"/>
            <a:chOff x="4876920" y="4211640"/>
            <a:chExt cx="2182680" cy="1122480"/>
          </a:xfrm>
        </p:grpSpPr>
        <p:pic>
          <p:nvPicPr>
            <p:cNvPr id="285" name="TextBox 27" descr=""/>
            <p:cNvPicPr/>
            <p:nvPr/>
          </p:nvPicPr>
          <p:blipFill>
            <a:blip r:embed="rId7"/>
            <a:stretch/>
          </p:blipFill>
          <p:spPr>
            <a:xfrm>
              <a:off x="4876920" y="4211640"/>
              <a:ext cx="2182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932360" y="4292640"/>
              <a:ext cx="20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Не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TextBox 28"/>
          <p:cNvGrpSpPr/>
          <p:nvPr/>
        </p:nvGrpSpPr>
        <p:grpSpPr>
          <a:xfrm>
            <a:off x="7016760" y="4138560"/>
            <a:ext cx="2182680" cy="750960"/>
            <a:chOff x="7016760" y="4138560"/>
            <a:chExt cx="2182680" cy="750960"/>
          </a:xfrm>
        </p:grpSpPr>
        <p:pic>
          <p:nvPicPr>
            <p:cNvPr id="288" name="TextBox 28" descr=""/>
            <p:cNvPicPr/>
            <p:nvPr/>
          </p:nvPicPr>
          <p:blipFill>
            <a:blip r:embed="rId8"/>
            <a:stretch/>
          </p:blipFill>
          <p:spPr>
            <a:xfrm>
              <a:off x="7016760" y="4138560"/>
              <a:ext cx="2182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072200" y="42148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Собстве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Прямая со стрелкой 19"/>
          <p:cNvCxnSpPr/>
          <p:nvPr/>
        </p:nvCxnSpPr>
        <p:spPr>
          <a:xfrm>
            <a:off x="4499640" y="3357360"/>
            <a:ext cx="286200" cy="1857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291" name="TextBox 23"/>
          <p:cNvGrpSpPr/>
          <p:nvPr/>
        </p:nvGrpSpPr>
        <p:grpSpPr>
          <a:xfrm>
            <a:off x="4443480" y="5297400"/>
            <a:ext cx="1542960" cy="1481400"/>
            <a:chOff x="4443480" y="5297400"/>
            <a:chExt cx="1542960" cy="1481400"/>
          </a:xfrm>
        </p:grpSpPr>
        <p:pic>
          <p:nvPicPr>
            <p:cNvPr id="292" name="TextBox 23" descr=""/>
            <p:cNvPicPr/>
            <p:nvPr/>
          </p:nvPicPr>
          <p:blipFill>
            <a:blip r:embed="rId9"/>
            <a:stretch/>
          </p:blipFill>
          <p:spPr>
            <a:xfrm>
              <a:off x="4443480" y="5297400"/>
              <a:ext cx="154296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00720" y="5373720"/>
              <a:ext cx="142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1 ск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2 ск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3 скл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Управляющая кнопка: домой 30">
            <a:hlinkClick r:id="rId10" action="ppaction://hlinksldjump"/>
          </p:cNvPr>
          <p:cNvSpPr/>
          <p:nvPr/>
        </p:nvSpPr>
        <p:spPr>
          <a:xfrm>
            <a:off x="539640" y="189000"/>
            <a:ext cx="719280" cy="93636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6360"/>
              <a:gd name="textAreaBottom" fmla="*/ 889920 h 936360"/>
            </a:gdLst>
            <a:ahLst/>
            <a:rect l="textAreaLeft" t="textAreaTop" r="textAreaRight" b="textAreaBottom"/>
            <a:pathLst>
              <a:path w="21600" h="28116">
                <a:moveTo>
                  <a:pt x="0" y="0"/>
                </a:moveTo>
                <a:lnTo>
                  <a:pt x="21600" y="0"/>
                </a:lnTo>
                <a:lnTo>
                  <a:pt x="21600" y="28116"/>
                </a:lnTo>
                <a:lnTo>
                  <a:pt x="0" y="28116"/>
                </a:lnTo>
                <a:close/>
              </a:path>
              <a:path fill="lightenLess" w="21600" h="281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16">
                <a:moveTo>
                  <a:pt x="21600" y="0"/>
                </a:moveTo>
                <a:lnTo>
                  <a:pt x="21600" y="28116"/>
                </a:lnTo>
                <a:lnTo>
                  <a:pt x="20200" y="26716"/>
                </a:lnTo>
                <a:lnTo>
                  <a:pt x="20200" y="1400"/>
                </a:lnTo>
                <a:close/>
              </a:path>
              <a:path fill="darkenLess" w="21600" h="28116">
                <a:moveTo>
                  <a:pt x="21600" y="28116"/>
                </a:moveTo>
                <a:lnTo>
                  <a:pt x="0" y="28116"/>
                </a:lnTo>
                <a:lnTo>
                  <a:pt x="1400" y="26716"/>
                </a:lnTo>
                <a:lnTo>
                  <a:pt x="20200" y="26716"/>
                </a:lnTo>
                <a:close/>
              </a:path>
              <a:path fill="lighten" w="21600" h="28116">
                <a:moveTo>
                  <a:pt x="0" y="281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16"/>
                </a:lnTo>
                <a:close/>
              </a:path>
              <a:path fill="darken" w="21600" h="28116">
                <a:moveTo>
                  <a:pt x="10800" y="7095"/>
                </a:moveTo>
                <a:lnTo>
                  <a:pt x="13376" y="9706"/>
                </a:ln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lnTo>
                  <a:pt x="17763" y="14058"/>
                </a:lnTo>
                <a:lnTo>
                  <a:pt x="16109" y="14058"/>
                </a:lnTo>
                <a:lnTo>
                  <a:pt x="16109" y="21247"/>
                </a:lnTo>
                <a:lnTo>
                  <a:pt x="5491" y="21247"/>
                </a:lnTo>
                <a:lnTo>
                  <a:pt x="5491" y="14058"/>
                </a:lnTo>
                <a:lnTo>
                  <a:pt x="3837" y="14058"/>
                </a:lnTo>
                <a:close/>
              </a:path>
              <a:path fill="darkenLess" w="21600" h="28116">
                <a:moveTo>
                  <a:pt x="13376" y="9706"/>
                </a:move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close/>
              </a:path>
              <a:path fill="darkenLess" w="21600" h="28116">
                <a:moveTo>
                  <a:pt x="9877" y="17557"/>
                </a:moveTo>
                <a:lnTo>
                  <a:pt x="11723" y="17557"/>
                </a:lnTo>
                <a:lnTo>
                  <a:pt x="11723" y="21247"/>
                </a:lnTo>
                <a:lnTo>
                  <a:pt x="16109" y="21247"/>
                </a:lnTo>
                <a:lnTo>
                  <a:pt x="16109" y="14058"/>
                </a:lnTo>
                <a:lnTo>
                  <a:pt x="5491" y="14058"/>
                </a:lnTo>
                <a:lnTo>
                  <a:pt x="5491" y="21247"/>
                </a:lnTo>
                <a:lnTo>
                  <a:pt x="9877" y="21247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Прямая со стрелкой 5"/>
          <p:cNvCxnSpPr/>
          <p:nvPr/>
        </p:nvCxnSpPr>
        <p:spPr>
          <a:xfrm flipH="1" flipV="1">
            <a:off x="1547280" y="2059920"/>
            <a:ext cx="14544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98" name="Прямая со стрелкой 7"/>
          <p:cNvCxnSpPr/>
          <p:nvPr/>
        </p:nvCxnSpPr>
        <p:spPr>
          <a:xfrm flipH="1" flipV="1">
            <a:off x="3708000" y="1699920"/>
            <a:ext cx="288000" cy="9374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99" name="Прямая со стрелкой 9"/>
          <p:cNvCxnSpPr>
            <a:endCxn id="300" idx="2"/>
          </p:cNvCxnSpPr>
          <p:nvPr/>
        </p:nvCxnSpPr>
        <p:spPr>
          <a:xfrm flipV="1">
            <a:off x="6443640" y="1964880"/>
            <a:ext cx="324720" cy="7437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01" name="Прямая со стрелкой 11"/>
          <p:cNvCxnSpPr/>
          <p:nvPr/>
        </p:nvCxnSpPr>
        <p:spPr>
          <a:xfrm>
            <a:off x="6659280" y="3357720"/>
            <a:ext cx="865800" cy="792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02" name="Прямая со стрелкой 14"/>
          <p:cNvCxnSpPr/>
          <p:nvPr/>
        </p:nvCxnSpPr>
        <p:spPr>
          <a:xfrm flipH="1">
            <a:off x="1834560" y="3357720"/>
            <a:ext cx="216360" cy="576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03" name="Прямая со стрелкой 16"/>
          <p:cNvCxnSpPr/>
          <p:nvPr/>
        </p:nvCxnSpPr>
        <p:spPr>
          <a:xfrm flipH="1">
            <a:off x="4355280" y="3357360"/>
            <a:ext cx="2520" cy="9291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04" name="TextBox 10"/>
          <p:cNvSpPr/>
          <p:nvPr/>
        </p:nvSpPr>
        <p:spPr>
          <a:xfrm>
            <a:off x="684360" y="1484280"/>
            <a:ext cx="176508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3059280" y="765000"/>
            <a:ext cx="172872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знак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5"/>
          <p:cNvSpPr/>
          <p:nvPr/>
        </p:nvSpPr>
        <p:spPr>
          <a:xfrm>
            <a:off x="5364000" y="765000"/>
            <a:ext cx="280836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акой? Какая? Какое? Какие? Чей? Чь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6084720" y="4292640"/>
            <a:ext cx="259092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торостепенный чл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3419640" y="4365720"/>
            <a:ext cx="207144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огласуется с им.сущ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2"/>
          <p:cNvSpPr/>
          <p:nvPr/>
        </p:nvSpPr>
        <p:spPr>
          <a:xfrm>
            <a:off x="684360" y="4005360"/>
            <a:ext cx="201600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яется по числам, родам,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Управляющая кнопка: далее 32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Управляющая кнопка: домой 33"/>
          <p:cNvSpPr/>
          <p:nvPr/>
        </p:nvSpPr>
        <p:spPr>
          <a:xfrm>
            <a:off x="395280" y="333360"/>
            <a:ext cx="720720" cy="934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934920"/>
              <a:gd name="textAreaBottom" fmla="*/ 888480 h 934920"/>
            </a:gdLst>
            <a:ahLst/>
            <a:rect l="textAreaLeft" t="textAreaTop" r="textAreaRight" b="textAreaBottom"/>
            <a:pathLst>
              <a:path w="21600" h="28016">
                <a:moveTo>
                  <a:pt x="0" y="0"/>
                </a:moveTo>
                <a:lnTo>
                  <a:pt x="21600" y="0"/>
                </a:lnTo>
                <a:lnTo>
                  <a:pt x="21600" y="28016"/>
                </a:lnTo>
                <a:lnTo>
                  <a:pt x="0" y="28016"/>
                </a:lnTo>
                <a:close/>
              </a:path>
              <a:path fill="lightenLess" w="21600" h="280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16">
                <a:moveTo>
                  <a:pt x="21600" y="0"/>
                </a:moveTo>
                <a:lnTo>
                  <a:pt x="21600" y="28016"/>
                </a:lnTo>
                <a:lnTo>
                  <a:pt x="20200" y="26616"/>
                </a:lnTo>
                <a:lnTo>
                  <a:pt x="20200" y="1400"/>
                </a:lnTo>
                <a:close/>
              </a:path>
              <a:path fill="darkenLess" w="21600" h="28016">
                <a:moveTo>
                  <a:pt x="21600" y="28016"/>
                </a:moveTo>
                <a:lnTo>
                  <a:pt x="0" y="28016"/>
                </a:lnTo>
                <a:lnTo>
                  <a:pt x="1400" y="26616"/>
                </a:lnTo>
                <a:lnTo>
                  <a:pt x="20200" y="26616"/>
                </a:lnTo>
                <a:close/>
              </a:path>
              <a:path fill="lighten" w="21600" h="28016">
                <a:moveTo>
                  <a:pt x="0" y="280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16"/>
                </a:lnTo>
                <a:close/>
              </a:path>
              <a:path fill="darken" w="21600" h="28016">
                <a:moveTo>
                  <a:pt x="10800" y="7045"/>
                </a:moveTo>
                <a:lnTo>
                  <a:pt x="13376" y="9656"/>
                </a:lnTo>
                <a:lnTo>
                  <a:pt x="13376" y="7916"/>
                </a:lnTo>
                <a:lnTo>
                  <a:pt x="15152" y="7916"/>
                </a:lnTo>
                <a:lnTo>
                  <a:pt x="15152" y="11432"/>
                </a:lnTo>
                <a:lnTo>
                  <a:pt x="17763" y="14008"/>
                </a:lnTo>
                <a:lnTo>
                  <a:pt x="16109" y="14008"/>
                </a:lnTo>
                <a:lnTo>
                  <a:pt x="16109" y="21197"/>
                </a:lnTo>
                <a:lnTo>
                  <a:pt x="5491" y="21197"/>
                </a:lnTo>
                <a:lnTo>
                  <a:pt x="5491" y="14008"/>
                </a:lnTo>
                <a:lnTo>
                  <a:pt x="3837" y="14008"/>
                </a:lnTo>
                <a:close/>
              </a:path>
              <a:path fill="darkenLess" w="21600" h="28016">
                <a:moveTo>
                  <a:pt x="13376" y="9656"/>
                </a:moveTo>
                <a:lnTo>
                  <a:pt x="13376" y="7916"/>
                </a:lnTo>
                <a:lnTo>
                  <a:pt x="15152" y="7916"/>
                </a:lnTo>
                <a:lnTo>
                  <a:pt x="15152" y="11432"/>
                </a:lnTo>
                <a:close/>
              </a:path>
              <a:path fill="darkenLess" w="21600" h="28016">
                <a:moveTo>
                  <a:pt x="9877" y="17507"/>
                </a:moveTo>
                <a:lnTo>
                  <a:pt x="11723" y="17507"/>
                </a:lnTo>
                <a:lnTo>
                  <a:pt x="11723" y="21197"/>
                </a:lnTo>
                <a:lnTo>
                  <a:pt x="16109" y="21197"/>
                </a:lnTo>
                <a:lnTo>
                  <a:pt x="16109" y="14008"/>
                </a:lnTo>
                <a:lnTo>
                  <a:pt x="5491" y="14008"/>
                </a:lnTo>
                <a:lnTo>
                  <a:pt x="5491" y="21197"/>
                </a:lnTo>
                <a:lnTo>
                  <a:pt x="9877" y="21197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3"/>
          <p:cNvSpPr/>
          <p:nvPr/>
        </p:nvSpPr>
        <p:spPr>
          <a:xfrm>
            <a:off x="1476360" y="2421000"/>
            <a:ext cx="612000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Прямая со стрелкой 5"/>
          <p:cNvCxnSpPr/>
          <p:nvPr/>
        </p:nvCxnSpPr>
        <p:spPr>
          <a:xfrm flipH="1" flipV="1">
            <a:off x="1331280" y="1843920"/>
            <a:ext cx="43236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3" name="Прямая со стрелкой 7"/>
          <p:cNvCxnSpPr/>
          <p:nvPr/>
        </p:nvCxnSpPr>
        <p:spPr>
          <a:xfrm flipH="1" flipV="1">
            <a:off x="2339280" y="1483560"/>
            <a:ext cx="440280" cy="948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4" name="Прямая со стрелкой 9"/>
          <p:cNvCxnSpPr/>
          <p:nvPr/>
        </p:nvCxnSpPr>
        <p:spPr>
          <a:xfrm flipH="1" flipV="1">
            <a:off x="3924000" y="1556640"/>
            <a:ext cx="72000" cy="864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5" name="Прямая со стрелкой 11"/>
          <p:cNvCxnSpPr/>
          <p:nvPr/>
        </p:nvCxnSpPr>
        <p:spPr>
          <a:xfrm flipV="1">
            <a:off x="5363640" y="1412640"/>
            <a:ext cx="72360" cy="1008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6" name="Прямая со стрелкой 14"/>
          <p:cNvCxnSpPr/>
          <p:nvPr/>
        </p:nvCxnSpPr>
        <p:spPr>
          <a:xfrm flipV="1">
            <a:off x="7019640" y="2059920"/>
            <a:ext cx="361080" cy="361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7" name="Прямая со стрелкой 16"/>
          <p:cNvCxnSpPr/>
          <p:nvPr/>
        </p:nvCxnSpPr>
        <p:spPr>
          <a:xfrm flipH="1">
            <a:off x="1546920" y="2997000"/>
            <a:ext cx="218520" cy="432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8" name="Прямая со стрелкой 18"/>
          <p:cNvCxnSpPr/>
          <p:nvPr/>
        </p:nvCxnSpPr>
        <p:spPr>
          <a:xfrm>
            <a:off x="3708000" y="3068640"/>
            <a:ext cx="1080" cy="7214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19" name="TextBox 10"/>
          <p:cNvSpPr/>
          <p:nvPr/>
        </p:nvSpPr>
        <p:spPr>
          <a:xfrm>
            <a:off x="179280" y="1341360"/>
            <a:ext cx="144000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Часть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547640" y="765000"/>
            <a:ext cx="136872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2987640" y="765000"/>
            <a:ext cx="180036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Что делает? Что сдел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7"/>
          <p:cNvSpPr/>
          <p:nvPr/>
        </p:nvSpPr>
        <p:spPr>
          <a:xfrm>
            <a:off x="4788000" y="981000"/>
            <a:ext cx="16556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0"/>
          <p:cNvSpPr/>
          <p:nvPr/>
        </p:nvSpPr>
        <p:spPr>
          <a:xfrm>
            <a:off x="395280" y="3429000"/>
            <a:ext cx="1728720" cy="100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зменяется по временам и ч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6659640" y="333360"/>
            <a:ext cx="207144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чальная форма – неопределенная форма глаг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(что делат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7"/>
          <p:cNvSpPr/>
          <p:nvPr/>
        </p:nvSpPr>
        <p:spPr>
          <a:xfrm>
            <a:off x="2268360" y="3789360"/>
            <a:ext cx="266400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В наст.в. и в буд.в.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зменяется по лица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Прямая со стрелкой 19"/>
          <p:cNvCxnSpPr/>
          <p:nvPr/>
        </p:nvCxnSpPr>
        <p:spPr>
          <a:xfrm>
            <a:off x="5651640" y="3068640"/>
            <a:ext cx="288000" cy="792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27" name="TextBox 21"/>
          <p:cNvSpPr/>
          <p:nvPr/>
        </p:nvSpPr>
        <p:spPr>
          <a:xfrm>
            <a:off x="5076720" y="3933720"/>
            <a:ext cx="2071800" cy="100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В пр.в.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в ед. ч. изменяется по ро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Прямая со стрелкой 39"/>
          <p:cNvCxnSpPr/>
          <p:nvPr/>
        </p:nvCxnSpPr>
        <p:spPr>
          <a:xfrm>
            <a:off x="1258560" y="4508280"/>
            <a:ext cx="1080" cy="216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329" name="TextBox 42"/>
          <p:cNvSpPr/>
          <p:nvPr/>
        </p:nvSpPr>
        <p:spPr>
          <a:xfrm>
            <a:off x="324000" y="4724280"/>
            <a:ext cx="2016000" cy="1465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Н.в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. – что 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П.в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. – что дел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Б.в.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– что сделает? что будет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8"/>
          <p:cNvSpPr/>
          <p:nvPr/>
        </p:nvSpPr>
        <p:spPr>
          <a:xfrm>
            <a:off x="2627280" y="4724280"/>
            <a:ext cx="2071800" cy="131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1 л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. – я, 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2 л.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– ты.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3 л.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– он, она, оно,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Прямая со стрелкой 49"/>
          <p:cNvCxnSpPr/>
          <p:nvPr/>
        </p:nvCxnSpPr>
        <p:spPr>
          <a:xfrm>
            <a:off x="3563640" y="4508280"/>
            <a:ext cx="1080" cy="216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332" name="Группа 54"/>
          <p:cNvGrpSpPr/>
          <p:nvPr/>
        </p:nvGrpSpPr>
        <p:grpSpPr>
          <a:xfrm>
            <a:off x="1835280" y="5013000"/>
            <a:ext cx="144360" cy="144720"/>
            <a:chOff x="1835280" y="5013000"/>
            <a:chExt cx="144360" cy="144720"/>
          </a:xfrm>
        </p:grpSpPr>
        <p:sp>
          <p:nvSpPr>
            <p:cNvPr id="333" name="Прямая соединительная линия 51"/>
            <p:cNvSpPr/>
            <p:nvPr/>
          </p:nvSpPr>
          <p:spPr>
            <a:xfrm flipV="1">
              <a:off x="1835280" y="5013000"/>
              <a:ext cx="73080" cy="144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53"/>
            <p:cNvSpPr/>
            <p:nvPr/>
          </p:nvSpPr>
          <p:spPr>
            <a:xfrm>
              <a:off x="1908360" y="5013360"/>
              <a:ext cx="71280" cy="144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Прямая со стрелкой 55"/>
          <p:cNvCxnSpPr/>
          <p:nvPr/>
        </p:nvCxnSpPr>
        <p:spPr>
          <a:xfrm>
            <a:off x="7380360" y="3068640"/>
            <a:ext cx="288000" cy="792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36" name="TextBox 56"/>
          <p:cNvSpPr/>
          <p:nvPr/>
        </p:nvSpPr>
        <p:spPr>
          <a:xfrm>
            <a:off x="7308720" y="3933720"/>
            <a:ext cx="164016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с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Управляющая кнопка: далее 57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Управляющая кнопка: домой 58"/>
          <p:cNvSpPr/>
          <p:nvPr/>
        </p:nvSpPr>
        <p:spPr>
          <a:xfrm>
            <a:off x="324000" y="333360"/>
            <a:ext cx="502920" cy="71928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719280"/>
              <a:gd name="textAreaBottom" fmla="*/ 686880 h 719280"/>
            </a:gdLst>
            <a:ahLst/>
            <a:rect l="textAreaLeft" t="textAreaTop" r="textAreaRight" b="textAreaBottom"/>
            <a:pathLst>
              <a:path w="21600" h="30886">
                <a:moveTo>
                  <a:pt x="0" y="0"/>
                </a:moveTo>
                <a:lnTo>
                  <a:pt x="21600" y="0"/>
                </a:lnTo>
                <a:lnTo>
                  <a:pt x="21600" y="30886"/>
                </a:lnTo>
                <a:lnTo>
                  <a:pt x="0" y="30886"/>
                </a:lnTo>
                <a:close/>
              </a:path>
              <a:path fill="lightenLess" w="21600" h="308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86">
                <a:moveTo>
                  <a:pt x="21600" y="0"/>
                </a:moveTo>
                <a:lnTo>
                  <a:pt x="21600" y="30886"/>
                </a:lnTo>
                <a:lnTo>
                  <a:pt x="20200" y="29486"/>
                </a:lnTo>
                <a:lnTo>
                  <a:pt x="20200" y="1400"/>
                </a:lnTo>
                <a:close/>
              </a:path>
              <a:path fill="darkenLess" w="21600" h="30886">
                <a:moveTo>
                  <a:pt x="21600" y="30886"/>
                </a:moveTo>
                <a:lnTo>
                  <a:pt x="0" y="30886"/>
                </a:lnTo>
                <a:lnTo>
                  <a:pt x="1400" y="29486"/>
                </a:lnTo>
                <a:lnTo>
                  <a:pt x="20200" y="29486"/>
                </a:lnTo>
                <a:close/>
              </a:path>
              <a:path fill="lighten" w="21600" h="30886">
                <a:moveTo>
                  <a:pt x="0" y="308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86"/>
                </a:lnTo>
                <a:close/>
              </a:path>
              <a:path fill="darken" w="21600" h="30886">
                <a:moveTo>
                  <a:pt x="10800" y="8480"/>
                </a:moveTo>
                <a:lnTo>
                  <a:pt x="13376" y="11091"/>
                </a:lnTo>
                <a:lnTo>
                  <a:pt x="13376" y="9350"/>
                </a:lnTo>
                <a:lnTo>
                  <a:pt x="15152" y="9350"/>
                </a:lnTo>
                <a:lnTo>
                  <a:pt x="15152" y="12867"/>
                </a:lnTo>
                <a:lnTo>
                  <a:pt x="17763" y="15443"/>
                </a:lnTo>
                <a:lnTo>
                  <a:pt x="16109" y="15443"/>
                </a:lnTo>
                <a:lnTo>
                  <a:pt x="16109" y="22632"/>
                </a:lnTo>
                <a:lnTo>
                  <a:pt x="5491" y="22632"/>
                </a:lnTo>
                <a:lnTo>
                  <a:pt x="5491" y="15443"/>
                </a:lnTo>
                <a:lnTo>
                  <a:pt x="3837" y="15443"/>
                </a:lnTo>
                <a:close/>
              </a:path>
              <a:path fill="darkenLess" w="21600" h="30886">
                <a:moveTo>
                  <a:pt x="13376" y="11091"/>
                </a:moveTo>
                <a:lnTo>
                  <a:pt x="13376" y="9350"/>
                </a:lnTo>
                <a:lnTo>
                  <a:pt x="15152" y="9350"/>
                </a:lnTo>
                <a:lnTo>
                  <a:pt x="15152" y="12867"/>
                </a:lnTo>
                <a:close/>
              </a:path>
              <a:path fill="darkenLess" w="21600" h="30886">
                <a:moveTo>
                  <a:pt x="9877" y="18942"/>
                </a:moveTo>
                <a:lnTo>
                  <a:pt x="11723" y="18942"/>
                </a:lnTo>
                <a:lnTo>
                  <a:pt x="11723" y="22632"/>
                </a:lnTo>
                <a:lnTo>
                  <a:pt x="16109" y="22632"/>
                </a:lnTo>
                <a:lnTo>
                  <a:pt x="16109" y="15443"/>
                </a:lnTo>
                <a:lnTo>
                  <a:pt x="5491" y="15443"/>
                </a:lnTo>
                <a:lnTo>
                  <a:pt x="5491" y="22632"/>
                </a:lnTo>
                <a:lnTo>
                  <a:pt x="9877" y="22632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Прямая со стрелкой 5"/>
          <p:cNvCxnSpPr/>
          <p:nvPr/>
        </p:nvCxnSpPr>
        <p:spPr>
          <a:xfrm flipH="1" flipV="1">
            <a:off x="1618560" y="2059920"/>
            <a:ext cx="7380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1" name="Прямая со стрелкой 7"/>
          <p:cNvCxnSpPr/>
          <p:nvPr/>
        </p:nvCxnSpPr>
        <p:spPr>
          <a:xfrm flipV="1">
            <a:off x="3354840" y="1642320"/>
            <a:ext cx="2520" cy="1005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2" name="Прямая со стрелкой 9"/>
          <p:cNvCxnSpPr/>
          <p:nvPr/>
        </p:nvCxnSpPr>
        <p:spPr>
          <a:xfrm flipV="1">
            <a:off x="5651280" y="1989000"/>
            <a:ext cx="108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3" name="Прямая со стрелкой 11"/>
          <p:cNvCxnSpPr/>
          <p:nvPr/>
        </p:nvCxnSpPr>
        <p:spPr>
          <a:xfrm flipV="1">
            <a:off x="7020000" y="1571040"/>
            <a:ext cx="124560" cy="1065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4" name="Прямая со стрелкой 14"/>
          <p:cNvCxnSpPr/>
          <p:nvPr/>
        </p:nvCxnSpPr>
        <p:spPr>
          <a:xfrm flipH="1">
            <a:off x="1691640" y="3357720"/>
            <a:ext cx="216360" cy="576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5" name="Прямая со стрелкой 16"/>
          <p:cNvCxnSpPr/>
          <p:nvPr/>
        </p:nvCxnSpPr>
        <p:spPr>
          <a:xfrm flipH="1">
            <a:off x="3419280" y="3357360"/>
            <a:ext cx="2160" cy="9291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6" name="Прямая со стрелкой 18"/>
          <p:cNvCxnSpPr/>
          <p:nvPr/>
        </p:nvCxnSpPr>
        <p:spPr>
          <a:xfrm>
            <a:off x="5148360" y="3357720"/>
            <a:ext cx="14184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47" name="TextBox 10"/>
          <p:cNvSpPr/>
          <p:nvPr/>
        </p:nvSpPr>
        <p:spPr>
          <a:xfrm>
            <a:off x="214200" y="1571760"/>
            <a:ext cx="20718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2411280" y="765000"/>
            <a:ext cx="207180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называет предмет, а указывает на 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5"/>
          <p:cNvSpPr/>
          <p:nvPr/>
        </p:nvSpPr>
        <p:spPr>
          <a:xfrm>
            <a:off x="4643280" y="1484280"/>
            <a:ext cx="20718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то?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7"/>
          <p:cNvSpPr/>
          <p:nvPr/>
        </p:nvSpPr>
        <p:spPr>
          <a:xfrm>
            <a:off x="6372360" y="907920"/>
            <a:ext cx="242892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лежа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2556000" y="4365720"/>
            <a:ext cx="207144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ывает ед.ч. и 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2"/>
          <p:cNvSpPr/>
          <p:nvPr/>
        </p:nvSpPr>
        <p:spPr>
          <a:xfrm>
            <a:off x="324000" y="4005360"/>
            <a:ext cx="207144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 л. – я, 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 л. – ты.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 л. – он, она, оно, 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7"/>
          <p:cNvSpPr/>
          <p:nvPr/>
        </p:nvSpPr>
        <p:spPr>
          <a:xfrm>
            <a:off x="4716360" y="4221000"/>
            <a:ext cx="207180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3л.ед.ч. изменяется по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19"/>
          <p:cNvCxnSpPr/>
          <p:nvPr/>
        </p:nvCxnSpPr>
        <p:spPr>
          <a:xfrm>
            <a:off x="7524720" y="3357720"/>
            <a:ext cx="288000" cy="792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55" name="TextBox 21"/>
          <p:cNvSpPr/>
          <p:nvPr/>
        </p:nvSpPr>
        <p:spPr>
          <a:xfrm>
            <a:off x="6804000" y="4221000"/>
            <a:ext cx="207180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яется по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правляющая кнопка: домой 24"/>
          <p:cNvSpPr/>
          <p:nvPr/>
        </p:nvSpPr>
        <p:spPr>
          <a:xfrm>
            <a:off x="395280" y="333360"/>
            <a:ext cx="647640" cy="863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09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395280" y="18900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Правописание безударных личных окончаний глаг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258920" y="1125360"/>
            <a:ext cx="6553080" cy="694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Прямая со стрелкой 7"/>
          <p:cNvCxnSpPr/>
          <p:nvPr/>
        </p:nvCxnSpPr>
        <p:spPr>
          <a:xfrm>
            <a:off x="4500360" y="1773000"/>
            <a:ext cx="1080" cy="36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361" name="TextBox 8"/>
          <p:cNvSpPr/>
          <p:nvPr/>
        </p:nvSpPr>
        <p:spPr>
          <a:xfrm>
            <a:off x="1187280" y="2708280"/>
            <a:ext cx="6480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5508720" y="2708280"/>
            <a:ext cx="64764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324000" y="2133720"/>
            <a:ext cx="8424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тавить глагол в неопределённую фор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539640" y="342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2"/>
          <p:cNvSpPr/>
          <p:nvPr/>
        </p:nvSpPr>
        <p:spPr>
          <a:xfrm>
            <a:off x="1692360" y="342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я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53964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4"/>
          <p:cNvSpPr/>
          <p:nvPr/>
        </p:nvSpPr>
        <p:spPr>
          <a:xfrm>
            <a:off x="169236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5"/>
          <p:cNvSpPr/>
          <p:nvPr/>
        </p:nvSpPr>
        <p:spPr>
          <a:xfrm>
            <a:off x="53964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6"/>
          <p:cNvSpPr/>
          <p:nvPr/>
        </p:nvSpPr>
        <p:spPr>
          <a:xfrm>
            <a:off x="169236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ы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"/>
          <p:cNvSpPr/>
          <p:nvPr/>
        </p:nvSpPr>
        <p:spPr>
          <a:xfrm>
            <a:off x="5364000" y="3284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9"/>
          <p:cNvSpPr/>
          <p:nvPr/>
        </p:nvSpPr>
        <p:spPr>
          <a:xfrm>
            <a:off x="468360" y="4581360"/>
            <a:ext cx="2735280" cy="703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2 глагола на –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бр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, стел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3348000" y="3860640"/>
            <a:ext cx="2736720" cy="1618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4 глагола на –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гн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держ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слыш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дыш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1"/>
          <p:cNvSpPr/>
          <p:nvPr/>
        </p:nvSpPr>
        <p:spPr>
          <a:xfrm>
            <a:off x="6119640" y="3860640"/>
            <a:ext cx="2737080" cy="2838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4 глагола на –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вид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смотр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ерп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завис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верт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ненавид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обид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108000" y="6381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Управляющая кнопка: домой 22"/>
          <p:cNvSpPr/>
          <p:nvPr/>
        </p:nvSpPr>
        <p:spPr>
          <a:xfrm>
            <a:off x="179280" y="333360"/>
            <a:ext cx="576360" cy="863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863640"/>
              <a:gd name="textAreaBottom" fmla="*/ 826560 h 863640"/>
            </a:gdLst>
            <a:ahLst/>
            <a:rect l="textAreaLeft" t="textAreaTop" r="textAreaRight" b="textAreaBottom"/>
            <a:pathLst>
              <a:path w="21600" h="32360">
                <a:moveTo>
                  <a:pt x="0" y="0"/>
                </a:moveTo>
                <a:lnTo>
                  <a:pt x="21600" y="0"/>
                </a:lnTo>
                <a:lnTo>
                  <a:pt x="21600" y="32360"/>
                </a:lnTo>
                <a:lnTo>
                  <a:pt x="0" y="32360"/>
                </a:lnTo>
                <a:close/>
              </a:path>
              <a:path fill="lightenLess" w="21600" h="3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60">
                <a:moveTo>
                  <a:pt x="21600" y="0"/>
                </a:moveTo>
                <a:lnTo>
                  <a:pt x="21600" y="32360"/>
                </a:lnTo>
                <a:lnTo>
                  <a:pt x="20200" y="30960"/>
                </a:lnTo>
                <a:lnTo>
                  <a:pt x="20200" y="1400"/>
                </a:lnTo>
                <a:close/>
              </a:path>
              <a:path fill="darkenLess" w="21600" h="32360">
                <a:moveTo>
                  <a:pt x="21600" y="32360"/>
                </a:moveTo>
                <a:lnTo>
                  <a:pt x="0" y="32360"/>
                </a:lnTo>
                <a:lnTo>
                  <a:pt x="1400" y="30960"/>
                </a:lnTo>
                <a:lnTo>
                  <a:pt x="20200" y="30960"/>
                </a:lnTo>
                <a:close/>
              </a:path>
              <a:path fill="lighten" w="21600" h="32360">
                <a:moveTo>
                  <a:pt x="0" y="3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60"/>
                </a:lnTo>
                <a:close/>
              </a:path>
              <a:path fill="darken" w="21600" h="32360">
                <a:moveTo>
                  <a:pt x="10800" y="9217"/>
                </a:moveTo>
                <a:lnTo>
                  <a:pt x="13376" y="11828"/>
                </a:lnTo>
                <a:lnTo>
                  <a:pt x="13376" y="10087"/>
                </a:lnTo>
                <a:lnTo>
                  <a:pt x="15152" y="10087"/>
                </a:lnTo>
                <a:lnTo>
                  <a:pt x="15152" y="13603"/>
                </a:lnTo>
                <a:lnTo>
                  <a:pt x="17763" y="16180"/>
                </a:lnTo>
                <a:lnTo>
                  <a:pt x="16109" y="16180"/>
                </a:lnTo>
                <a:lnTo>
                  <a:pt x="16109" y="23369"/>
                </a:lnTo>
                <a:lnTo>
                  <a:pt x="5491" y="23369"/>
                </a:lnTo>
                <a:lnTo>
                  <a:pt x="5491" y="16180"/>
                </a:lnTo>
                <a:lnTo>
                  <a:pt x="3837" y="16180"/>
                </a:lnTo>
                <a:close/>
              </a:path>
              <a:path fill="darkenLess" w="21600" h="32360">
                <a:moveTo>
                  <a:pt x="13376" y="11828"/>
                </a:moveTo>
                <a:lnTo>
                  <a:pt x="13376" y="10087"/>
                </a:lnTo>
                <a:lnTo>
                  <a:pt x="15152" y="10087"/>
                </a:lnTo>
                <a:lnTo>
                  <a:pt x="15152" y="13603"/>
                </a:lnTo>
                <a:close/>
              </a:path>
              <a:path fill="darkenLess" w="21600" h="32360">
                <a:moveTo>
                  <a:pt x="9877" y="19679"/>
                </a:moveTo>
                <a:lnTo>
                  <a:pt x="11723" y="19679"/>
                </a:lnTo>
                <a:lnTo>
                  <a:pt x="11723" y="23369"/>
                </a:lnTo>
                <a:lnTo>
                  <a:pt x="16109" y="23369"/>
                </a:lnTo>
                <a:lnTo>
                  <a:pt x="16109" y="16180"/>
                </a:lnTo>
                <a:lnTo>
                  <a:pt x="5491" y="16180"/>
                </a:lnTo>
                <a:lnTo>
                  <a:pt x="5491" y="23369"/>
                </a:lnTo>
                <a:lnTo>
                  <a:pt x="9877" y="23369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12:54:48Z</dcterms:created>
  <dc:creator>User</dc:creator>
  <dc:description/>
  <dc:language>en-US</dc:language>
  <cp:lastModifiedBy>user</cp:lastModifiedBy>
  <dcterms:modified xsi:type="dcterms:W3CDTF">2020-11-03T04:18:54Z</dcterms:modified>
  <cp:revision>19</cp:revision>
  <dc:subject/>
  <dc:title>Слайд 1</dc:title>
</cp:coreProperties>
</file>