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C1351E-5120-46CC-89B3-22A6276B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1FDA2-93A0-4013-8C88-6FE188FBCB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C29-41D3-408B-BB2C-A4350FB0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207-FAF6-46A9-A203-CE0AF1F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CA1-8CFA-4BAC-A9CE-DA375EAE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835-561F-444D-91B6-7D0D369D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249-035E-41DF-A284-CA7437E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D0F-53F5-45C2-BDC8-8E364E9C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DD0-1046-4113-927B-30BBEA5C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B7F-20CC-4BD9-8B58-E37B735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A43-88EB-4B6C-A81F-CB89A927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4B4-B2F6-4BAE-9558-214E9FC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89E-21B4-4484-91CF-0E0A886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B34-AEFC-431D-9674-9BD155B0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D4E1DE-D777-45D9-94F4-6C940D01F6F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убличное высту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Патриотическое воспитание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через художественно-эстетическую деяте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IMG_8168.JPG"/>
          <p:cNvPicPr/>
          <p:nvPr/>
        </p:nvPicPr>
        <p:blipFill>
          <a:blip r:embed="rId1"/>
          <a:srcRect l="0" t="0" r="5504" b="12584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  <Words>2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53:33Z</dcterms:created>
  <dc:creator>user</dc:creator>
  <dc:description/>
  <dc:language>en-US</dc:language>
  <cp:lastModifiedBy>Елена</cp:lastModifiedBy>
  <dcterms:modified xsi:type="dcterms:W3CDTF">2020-11-04T10:00:18Z</dcterms:modified>
  <cp:revision>77</cp:revision>
  <dc:subject/>
  <dc:title>МБДО ЦРР детский сад №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</vt:r8>
  </property>
</Properties>
</file>