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467D29-3ECA-4701-B2A9-F9CDBE735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6C73C6-2CB6-4B00-A594-A3505638A25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3CE-499F-467D-BF63-2054F012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CF9-989D-41C2-A9A7-F662CD76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1E6-4C1D-41A2-901E-DDE4F005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320-4537-47E1-9365-076F682D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1EA-8E3E-4850-AB33-CAFA7636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211-FD90-40D2-95F6-0560FBDC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3EA-8B80-47FE-AC52-44E7FAC2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619-796A-490E-8CB8-E3D8FF13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AFF-5839-4EE0-B59B-F3AC1016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46A-D33F-4393-A9FD-18801F31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595-9489-480C-9E13-DB99963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A2B-FDD1-4B9E-8525-991BAC3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47C20B-AB98-4694-9346-66E80AA5D064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убличное высту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Патриотическое воспитание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через художественно-эстетическую деяте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IMG_8168.JPG"/>
          <p:cNvPicPr/>
          <p:nvPr/>
        </p:nvPicPr>
        <p:blipFill>
          <a:blip r:embed="rId1"/>
          <a:srcRect l="0" t="0" r="5504" b="12584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  <Words>2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53:33Z</dcterms:created>
  <dc:creator>user</dc:creator>
  <dc:description/>
  <dc:language>en-US</dc:language>
  <cp:lastModifiedBy>Елена</cp:lastModifiedBy>
  <dcterms:modified xsi:type="dcterms:W3CDTF">2020-11-04T10:00:18Z</dcterms:modified>
  <cp:revision>77</cp:revision>
  <dc:subject/>
  <dc:title>МБДО ЦРР детский сад №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</vt:r8>
  </property>
</Properties>
</file>