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7F8EC0-8F98-4943-B3E0-CB866CC86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718A84-E5D7-4D59-8FB4-73107D3CC61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A38-8EB6-4EE4-9825-3341A010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912-35E1-493D-A371-6BF807EE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D293-4454-43B3-B55A-84BB592B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2F2-785A-43EC-B992-D0CD8828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D21-3250-4AD1-A18C-F86F478C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09F-5C45-42D0-8D6F-3D2D2496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C01-464A-4F05-A382-8F8995C5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033-4B69-4888-BDBD-7390648E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229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F24-C1F2-44D5-BE1C-5D883973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971-F877-435B-95A4-0C11817A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7E4-CA42-47E1-AA62-2A075C15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A03-EE50-41A1-968E-D14A8DEE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A27411-120C-46C2-9C99-32761C1624BC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556280"/>
          </a:xfrm>
          <a:prstGeom prst="rect">
            <a:avLst/>
          </a:prstGeom>
          <a:gradFill rotWithShape="0">
            <a:gsLst>
              <a:gs pos="0">
                <a:srgbClr val="c57838"/>
              </a:gs>
              <a:gs pos="100000">
                <a:srgbClr val="f8a978"/>
              </a:gs>
            </a:gsLst>
            <a:lin ang="8346000"/>
          </a:gradFill>
          <a:ln w="9360">
            <a:solidFill>
              <a:srgbClr val="000000"/>
            </a:solidFill>
            <a:round/>
          </a:ln>
          <a:effectLst>
            <a:outerShdw dist="228593" dir="2700000" blurRad="190440" rotWithShape="0">
              <a:srgbClr val="000000">
                <a:alpha val="25000"/>
              </a:srgbClr>
            </a:outerShdw>
          </a:effectLst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муниципального образования «город Бугуруслан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«Детский сад комбинированного вида №18»</a:t>
            </a: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Book Antiqua"/>
              </a:rPr>
              <a:t>(МБДОУ «Д/с №18»)</a:t>
            </a:r>
            <a:br>
              <a:rPr sz="1800"/>
            </a:br>
            <a:endParaRPr b="0" lang="ru-RU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556640"/>
            <a:ext cx="9143640" cy="5301000"/>
          </a:xfrm>
          <a:prstGeom prst="rect">
            <a:avLst/>
          </a:prstGeom>
          <a:gradFill rotWithShape="0">
            <a:gsLst>
              <a:gs pos="0">
                <a:srgbClr val="f9bd9e"/>
              </a:gs>
              <a:gs pos="100000">
                <a:srgbClr val="fef7f5"/>
              </a:gs>
            </a:gsLst>
            <a:lin ang="13500000"/>
          </a:gradFill>
          <a:ln w="9360">
            <a:solidFill>
              <a:srgbClr val="b96c2c"/>
            </a:solidFill>
            <a:round/>
          </a:ln>
          <a:effectLst>
            <a:outerShdw dist="101314" dir="2700000" blurRad="1299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Публичное выступ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«Патриотическое воспитание до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через художественно-эстетическую деятель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оспитате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кляренко Вер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IMG_8168.JPG"/>
          <p:cNvPicPr/>
          <p:nvPr/>
        </p:nvPicPr>
        <p:blipFill>
          <a:blip r:embed="rId1"/>
          <a:srcRect l="0" t="0" r="5504" b="12584"/>
          <a:stretch/>
        </p:blipFill>
        <p:spPr>
          <a:xfrm>
            <a:off x="179640" y="3861000"/>
            <a:ext cx="4320000" cy="266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Апекс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  <Words>21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1:53:33Z</dcterms:created>
  <dc:creator>user</dc:creator>
  <dc:description/>
  <dc:language>en-US</dc:language>
  <cp:lastModifiedBy>Елена</cp:lastModifiedBy>
  <dcterms:modified xsi:type="dcterms:W3CDTF">2020-11-04T10:00:18Z</dcterms:modified>
  <cp:revision>77</cp:revision>
  <dc:subject/>
  <dc:title>МБДО ЦРР детский сад №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</vt:r8>
  </property>
</Properties>
</file>