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65D-4143-4830-80A7-D6956160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979-D9AE-4917-A576-F9C26C2B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565-0006-49A7-998D-FD4A3A20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562-6BB0-48E8-A51F-E39278A9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E425-FBBA-4C61-9E9F-90DF50CA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5D94-F69C-4D14-B3DB-0A3E0F7D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4231-C6C8-4CC9-96CD-FBA9CBE3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AB3D-C60D-46AF-86BE-8779E280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4C5-BBC9-469C-8087-BCB12FEC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FDC-BE79-4D3B-B99F-EA308C58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D33D-E528-43AC-9E0D-6DA12E13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A94-22C4-46C8-AE97-89696787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2394-04F8-4A5D-AA74-FFB8514F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CC0A-9101-4E84-9F19-6FE275C9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3F4C-53B3-4063-843E-9FCAD462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22DB-3CFA-43AE-81EF-5B465C28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4343-619C-48A3-9E68-C3F98974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8A4-1231-4003-A6CD-4C986ECB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BC9-955A-4E9C-A184-2D32CDBE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628-F79D-491E-8ECE-738F1C66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C53-B41B-4C0A-A8BB-B4CCC9AC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2C3-C5FB-488E-9DA7-41E949CF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BA3-6A34-4AE6-91E7-26FA2D7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80B-AF5A-40D0-9CE8-3839FAD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3D2F-4A67-402C-9390-AD1B5D46EB9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00A4-855F-465B-B189-B8C17EDC0F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759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ДЕНЬ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АРОДНОГО ЕДИНСТВА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лассный час</a:t>
            </a:r>
            <a:br>
              <a:rPr sz="2800"/>
            </a:br>
            <a:br>
              <a:rPr sz="28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cc"/>
                </a:solidFill>
                <a:latin typeface="Arial Black"/>
              </a:rPr>
              <a:t>                                     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ffffcc"/>
                </a:solidFill>
                <a:latin typeface="Arial Black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ff9900"/>
                </a:solidFill>
                <a:latin typeface="Arial Black"/>
              </a:rPr>
              <a:t>Разработал: Устименко Н.Ю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ерть Бориса Годун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605 году умер русский царь Борис Году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оссии начался трагический период её истории, получивший название «Смутное врем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1006271_PH08083"/>
          <p:cNvPicPr/>
          <p:nvPr/>
        </p:nvPicPr>
        <p:blipFill>
          <a:blip r:embed="rId1"/>
          <a:stretch/>
        </p:blipFill>
        <p:spPr>
          <a:xfrm>
            <a:off x="395280" y="148428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inin2"/>
          <p:cNvPicPr/>
          <p:nvPr/>
        </p:nvPicPr>
        <p:blipFill>
          <a:blip r:embed="rId1"/>
          <a:stretch/>
        </p:blipFill>
        <p:spPr>
          <a:xfrm>
            <a:off x="324000" y="274680"/>
            <a:ext cx="84247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мутное время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 называли тревожное время неурожаев, голода, беспорядков и восста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Минин на площади Нижнего Новгорода, призывающий народ к пожертвованиям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0_443c_e217a00c_XL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н Кузь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харьевич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розванью Сухору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освободителей   Отечества» от поляков в 161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Minin"/>
          <p:cNvPicPr/>
          <p:nvPr/>
        </p:nvPicPr>
        <p:blipFill>
          <a:blip r:embed="rId1"/>
          <a:stretch/>
        </p:blipFill>
        <p:spPr>
          <a:xfrm>
            <a:off x="5062680" y="1600200"/>
            <a:ext cx="3830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митрий Пожарск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ь, воево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а Второго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олч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613 года боярин.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ди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старинного обедневшего р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зей Стародубск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726cd798c2e2"/>
          <p:cNvPicPr/>
          <p:nvPr/>
        </p:nvPicPr>
        <p:blipFill>
          <a:blip r:embed="rId1"/>
          <a:stretch/>
        </p:blipFill>
        <p:spPr>
          <a:xfrm>
            <a:off x="250920" y="1600200"/>
            <a:ext cx="37940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н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справа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жар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организаторы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ционально-освободительной борьбы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1261371240_7337863_imgb"/>
          <p:cNvPicPr/>
          <p:nvPr/>
        </p:nvPicPr>
        <p:blipFill>
          <a:blip r:embed="rId1"/>
          <a:stretch/>
        </p:blipFill>
        <p:spPr>
          <a:xfrm>
            <a:off x="826920" y="274680"/>
            <a:ext cx="7490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User\Мои документы\Мои рисунки\единство\edinsnvo2.jpg"/>
          <p:cNvPicPr/>
          <p:nvPr/>
        </p:nvPicPr>
        <p:blipFill>
          <a:blip r:embed="rId1"/>
          <a:stretch/>
        </p:blipFill>
        <p:spPr>
          <a:xfrm>
            <a:off x="1403280" y="620640"/>
            <a:ext cx="64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kazanskaya3"/>
          <p:cNvPicPr/>
          <p:nvPr/>
        </p:nvPicPr>
        <p:blipFill>
          <a:blip r:embed="rId1"/>
          <a:stretch/>
        </p:blipFill>
        <p:spPr>
          <a:xfrm>
            <a:off x="684360" y="274680"/>
            <a:ext cx="77752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876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 бы там ни было, Минин и Пожарский всё же выгнали из Москвы поляк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0_6d4c8_af2ce2e1_XL"/>
          <p:cNvPicPr/>
          <p:nvPr/>
        </p:nvPicPr>
        <p:blipFill>
          <a:blip r:embed="rId1"/>
          <a:stretch/>
        </p:blipFill>
        <p:spPr>
          <a:xfrm>
            <a:off x="395280" y="274680"/>
            <a:ext cx="8424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x_4363c4a7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око ты, Русь, по лицу земл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расе царственной развернулас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инин и Пожарский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Земли Русско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12" descr="726cd798c2e2"/>
          <p:cNvPicPr/>
          <p:nvPr/>
        </p:nvPicPr>
        <p:blipFill>
          <a:blip r:embed="rId1"/>
          <a:stretch/>
        </p:blipFill>
        <p:spPr>
          <a:xfrm>
            <a:off x="906480" y="1600200"/>
            <a:ext cx="31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inin"/>
          <p:cNvPicPr/>
          <p:nvPr/>
        </p:nvPicPr>
        <p:blipFill>
          <a:blip r:embed="rId2"/>
          <a:stretch/>
        </p:blipFill>
        <p:spPr>
          <a:xfrm>
            <a:off x="5062680" y="16002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амятник Кузьме Минину и Дмитрию Пожарскому в Москв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8" descr="770528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ражданину Минину и князю Пожарско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дарная Россия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400px-Monument_to_Minin_and_Pozharsky_and_St_Basils_Cthedral2"/>
          <p:cNvPicPr/>
          <p:nvPr/>
        </p:nvPicPr>
        <p:blipFill>
          <a:blip r:embed="rId1"/>
          <a:stretch/>
        </p:blipFill>
        <p:spPr>
          <a:xfrm>
            <a:off x="1258920" y="189000"/>
            <a:ext cx="633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занский собор в Моск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4" descr="img-wPC9Xp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же такое 4 Ноября для русского народа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ДЕНЬ НАРОДНОГО ЕДИНСТВА -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ь глубокого уважения к тем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менательным страница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чественной истории, когд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триотизм и гражданственность помог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ему народу объединиться и защи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у от захватчиков. Преодоле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ена безвластия и укрепи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йское государ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единства всех российских народов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спасения Росси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от самой большой опасности, которая когда-либо ей грозила;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возрожденный праздник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со своей историей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 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реальных дел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а не сомнительных маршей. 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4 ноября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– это день памяти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Казанской иконы Божией Матер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помните это чувство единения и сохраните его на всю жизнь. Будьте достойны своих славных предков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Ч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вмест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др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е - с сердцем горящим в груд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м равнодушие не нужн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бу, обиду прочь го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2563"/>
          <p:cNvPicPr/>
          <p:nvPr/>
        </p:nvPicPr>
        <p:blipFill>
          <a:blip r:embed="rId1"/>
          <a:stretch/>
        </p:blipFill>
        <p:spPr>
          <a:xfrm>
            <a:off x="539640" y="274680"/>
            <a:ext cx="8136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4noaybr"/>
          <p:cNvPicPr/>
          <p:nvPr/>
        </p:nvPicPr>
        <p:blipFill>
          <a:blip r:embed="rId1"/>
          <a:stretch/>
        </p:blipFill>
        <p:spPr>
          <a:xfrm>
            <a:off x="684360" y="274680"/>
            <a:ext cx="770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ne"/>
          <p:cNvPicPr/>
          <p:nvPr/>
        </p:nvPicPr>
        <p:blipFill>
          <a:blip r:embed="rId1"/>
          <a:stretch/>
        </p:blipFill>
        <p:spPr>
          <a:xfrm>
            <a:off x="324000" y="274680"/>
            <a:ext cx="835164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агословленная молит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1292008162-16"/>
          <p:cNvPicPr/>
          <p:nvPr/>
        </p:nvPicPr>
        <p:blipFill>
          <a:blip r:embed="rId1"/>
          <a:stretch/>
        </p:blipFill>
        <p:spPr>
          <a:xfrm>
            <a:off x="324000" y="274680"/>
            <a:ext cx="83516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нтернет-ресур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www.xxc.ru/orthodox/pastor/kazanskay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www.homutovo.ru/vocabulary/v_bm_kazansk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www.pravoslavie.ru/jurnal/culture/svmos-kazanskij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images.yandex.ru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ru.wikipedia.org/wiki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retromoscow.narod.ru/moscow_back-to-the-future_023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top50.nameofrussia.ru/person.html?id=1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http://shkolazhizni.ru/archive/0/n-17055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80536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 и есть за что, Русь могуча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d4708e7eb588"/>
          <p:cNvPicPr/>
          <p:nvPr/>
        </p:nvPicPr>
        <p:blipFill>
          <a:blip r:embed="rId1"/>
          <a:stretch/>
        </p:blipFill>
        <p:spPr>
          <a:xfrm>
            <a:off x="250920" y="274680"/>
            <a:ext cx="84978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5949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юбить тебя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2347800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ДЕНЬ НАРОДНОГО ЕДИНСТВ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не спорят, 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 историей живу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а объединяет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На подвиг и на труд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Едино государство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един народ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Когда великой силой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н движется впере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рага он побе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Объединившись в 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Русь освобождает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И жертвует собо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Во славу тех героев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Живем одной судьбой,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Сегодня День единства</a:t>
            </a:r>
            <a:br>
              <a:rPr sz="1800"/>
            </a:br>
            <a:r>
              <a:rPr b="0" lang="ru-RU" sz="1800" spc="-1" strike="noStrike">
                <a:solidFill>
                  <a:srgbClr val="ffcc66"/>
                </a:solidFill>
                <a:latin typeface="Arial Black"/>
              </a:rPr>
              <a:t>Мы празднуем с тобой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den_narod_edinstva"/>
          <p:cNvPicPr/>
          <p:nvPr/>
        </p:nvPicPr>
        <p:blipFill>
          <a:blip r:embed="rId1"/>
          <a:stretch/>
        </p:blipFill>
        <p:spPr>
          <a:xfrm>
            <a:off x="324000" y="260280"/>
            <a:ext cx="4608360" cy="6408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2448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2005 года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ударственный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здни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ен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ого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– день Казанской иконы Божией Матери с 161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zanskaya3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 теперь перенесемс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 400 лет назад в начало XVII века, когда в России началась Смута велика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0:37:01Z</dcterms:created>
  <dc:creator>Admin</dc:creator>
  <dc:description/>
  <dc:language>en-US</dc:language>
  <cp:lastModifiedBy>prepod</cp:lastModifiedBy>
  <dcterms:modified xsi:type="dcterms:W3CDTF">2020-11-05T09:24:39Z</dcterms:modified>
  <cp:revision>10</cp:revision>
  <dc:subject/>
  <dc:title>ДЕНЬ  НАРОДНОГО ЕДИНСТВА  классный час        Разработала  учитель начальных классов:  Медведева Т.Н.  МБОУ «Афанасовская СОШ» </dc:title>
</cp:coreProperties>
</file>