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E6F134-3F00-49FD-8FD6-0BF93AA9D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1712BB-1B5C-4C17-B80A-6C4D87CD261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4177EA-46A8-4BA6-8CE2-E4D713CAA8F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B17-F5EA-433F-BF65-D1517D9A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3C6-7183-44B1-A6CA-DEF267E4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C35-D212-4309-8D9D-E827DD91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FF8-3425-41B8-B1E7-FF8102A3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704B-8E9E-44F5-B526-6A22E034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5FB4-7F37-4167-B5B4-936F3483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7BAD-263C-4A5F-AEAE-3C18C219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DEA3-300A-431F-9029-1A562E28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6116-6A63-4FD8-B364-FF68C6BB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229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18CC-CD04-4A9C-BC9C-FA932DC9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18B2-04B9-4F5A-80B6-71A7E0DB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9AB-6115-4BA7-B527-1AA8F75D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13A4-4D2E-45AE-BA3A-8BADA8A8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E47E-638B-4656-BA57-0978959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6593-48DE-4A61-8735-6D902CFA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29B3-818F-4564-A4CF-95150909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C400-E736-48BA-A683-E44272F9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8F0-19E8-4B1E-9925-3F245874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E62-1F2C-4844-AAF6-6F913358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771-C2E6-4C56-83E0-364A5CD7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229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9D4-5311-46A5-80A3-B9E1254C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431-810C-4BE2-81CD-17FE83A2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132-4CDB-417C-B745-F6FDA49B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CF9-F7E2-4265-93E0-A72131D3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D1F26D-A201-4A6B-A47F-EF38A2027B79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8F7698-1C8B-4733-85F9-A1D0814AC81A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000000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го образования «город Бугуруслан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«Детский сад комбинированного вида №18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(МБДОУ «Д/с №18»)</a:t>
            </a:r>
            <a:br>
              <a:rPr sz="1800"/>
            </a:b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556640"/>
            <a:ext cx="9143640" cy="5301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Образовательный про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Создание мини-музеев «Народная игрушк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Моя родословн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кляренко Ве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IMG_8168.JPG"/>
          <p:cNvPicPr/>
          <p:nvPr/>
        </p:nvPicPr>
        <p:blipFill>
          <a:blip r:embed="rId1"/>
          <a:srcRect l="0" t="0" r="5502" b="12583"/>
          <a:stretch/>
        </p:blipFill>
        <p:spPr>
          <a:xfrm>
            <a:off x="179640" y="3861000"/>
            <a:ext cx="4320000" cy="266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20000">
              <a:srgbClr val="f2f2f2"/>
            </a:gs>
            <a:gs pos="100000">
              <a:srgbClr val="f9bd9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Бесед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43760" y="3645000"/>
            <a:ext cx="45360" cy="1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11"/>
          <p:cNvSpPr/>
          <p:nvPr/>
        </p:nvSpPr>
        <p:spPr>
          <a:xfrm>
            <a:off x="2500200" y="1214280"/>
            <a:ext cx="4214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</a:rPr>
              <a:t>«Русская народная игр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14240" y="1889280"/>
            <a:ext cx="2928600" cy="467532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929040" y="2428920"/>
            <a:ext cx="4714560" cy="307800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Мастер-класс для родителе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«Разукрашивание народной игрушки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в технике «пластилинография»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71760" y="2286000"/>
            <a:ext cx="6095520" cy="350028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Мастер-класс от родителей детям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«Научу вязать игрушку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4073040" y="3244320"/>
            <a:ext cx="99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0" y="1071720"/>
            <a:ext cx="9143640" cy="578592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24" name="Picture 2" descr="C:\Users\Елена\Desktop\изображение_viber_2020-11-03_21-46-32.jpg"/>
          <p:cNvPicPr/>
          <p:nvPr/>
        </p:nvPicPr>
        <p:blipFill>
          <a:blip r:embed="rId1"/>
          <a:stretch/>
        </p:blipFill>
        <p:spPr>
          <a:xfrm>
            <a:off x="571320" y="1571760"/>
            <a:ext cx="3428640" cy="45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Елена\Desktop\изображение_viber_2020-11-03_22-18-22.jpg"/>
          <p:cNvPicPr/>
          <p:nvPr/>
        </p:nvPicPr>
        <p:blipFill>
          <a:blip r:embed="rId2"/>
          <a:stretch/>
        </p:blipFill>
        <p:spPr>
          <a:xfrm>
            <a:off x="4429080" y="2214720"/>
            <a:ext cx="428580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Создание мини-музе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«Народная игрушка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4073040" y="3244320"/>
            <a:ext cx="99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071720"/>
            <a:ext cx="9143640" cy="578592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928880" y="2000160"/>
            <a:ext cx="5111640" cy="353340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1071720"/>
            <a:ext cx="4928760" cy="370944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4643280" y="1071720"/>
            <a:ext cx="4374360" cy="371448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2928600" cy="292860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571320" y="4143240"/>
            <a:ext cx="2134800" cy="257832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3500280" y="1214280"/>
            <a:ext cx="2080800" cy="296352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5929200" y="1643040"/>
            <a:ext cx="2714400" cy="482544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Picture 2" descr="C:\Users\Елена\Desktop\изображение_viber_2020-11-03_22-18-23.jpg"/>
          <p:cNvPicPr/>
          <p:nvPr/>
        </p:nvPicPr>
        <p:blipFill>
          <a:blip r:embed="rId1"/>
          <a:stretch/>
        </p:blipFill>
        <p:spPr>
          <a:xfrm>
            <a:off x="142920" y="1928880"/>
            <a:ext cx="4285800" cy="32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Елена\Desktop\изображение_viber_2020-11-03_22-18-21.jpg"/>
          <p:cNvPicPr/>
          <p:nvPr/>
        </p:nvPicPr>
        <p:blipFill>
          <a:blip r:embed="rId2"/>
          <a:stretch/>
        </p:blipFill>
        <p:spPr>
          <a:xfrm>
            <a:off x="4643280" y="2786040"/>
            <a:ext cx="421452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Выставка рисунков «Моя семь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0" y="1071720"/>
            <a:ext cx="4266720" cy="288576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4357800" y="1071720"/>
            <a:ext cx="4642920" cy="286200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tretch/>
        </p:blipFill>
        <p:spPr>
          <a:xfrm>
            <a:off x="2286000" y="3832200"/>
            <a:ext cx="4536720" cy="302544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5" descr="C:\Users\Елена\Desktop\для Скляренко\40377606.jpg"/>
          <p:cNvPicPr/>
          <p:nvPr/>
        </p:nvPicPr>
        <p:blipFill>
          <a:blip r:embed="rId1"/>
          <a:stretch/>
        </p:blipFill>
        <p:spPr>
          <a:xfrm>
            <a:off x="642960" y="1428840"/>
            <a:ext cx="749052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000000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го образования «город Бугуруслан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«Детский сад комбинированного вида №18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(МБДОУ «Д/с №18»)</a:t>
            </a:r>
            <a:br>
              <a:rPr sz="1800"/>
            </a:b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1556640"/>
            <a:ext cx="9143640" cy="5301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Образовательный про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Роль музеев как социокультурного института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патриотическом и гражданском воспит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личности дошколь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кляренко Ве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IMG_8168.JPG"/>
          <p:cNvPicPr/>
          <p:nvPr/>
        </p:nvPicPr>
        <p:blipFill>
          <a:blip r:embed="rId1"/>
          <a:srcRect l="0" t="0" r="5502" b="12583"/>
          <a:stretch/>
        </p:blipFill>
        <p:spPr>
          <a:xfrm>
            <a:off x="179640" y="3861000"/>
            <a:ext cx="4320000" cy="266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24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b96c2c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аспорт проекта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24640"/>
            <a:ext cx="9143640" cy="5733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86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частники проекта: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оспитатель группы: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ураева Г.В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Дети и родители групп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ипология проекта: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ворческий, интегрированный,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коллективный, долгосрочный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ремя проведения: 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ентябрь 2019г. – май 2020г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bd9e"/>
            </a:gs>
            <a:gs pos="100000">
              <a:srgbClr val="fef7f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79646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Актуальность проекта 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42960" y="1285920"/>
            <a:ext cx="81435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узей в детском саду является интерактивным образовательным пространством, в котором ребёнок может действовать самостоятельно с учётом своих интересов и возможностей, обследовать предметы, делать выводы, отражать в речи собственные наблюдение, общаться со взрослыми, сверстниками по поводу увиденного . Назначение , создаваемых мини-музеев – вовлечь детей в деятельность и общение, воздействовать на их эмоциональную сф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80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Цель и задачи проекта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3640" cy="5877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Цель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формирование патриотических и гражданских чувств средствами музейной педагогик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Задачи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1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Воспитывать у детей интерес к культуре своих предков, культуре предков России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2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Воспитывать патриотические чувства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3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Обогащать предметно-развивающую среду группы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4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Формировать художественно-эстетическое воспитание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5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Формировать представления о взаимосвязях разных культур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340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br>
              <a:rPr sz="3700"/>
            </a:b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Этапы</a:t>
            </a:r>
            <a:br>
              <a:rPr sz="3100"/>
            </a:b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1 этап подготовительный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40640"/>
            <a:ext cx="9143640" cy="5517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1.Составление плана по реализации проекта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2.Изучение литературы, новых методик и технологий по вопросам нравственно-патриотического воспитания детей, музейной педагогики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3.Индивидуальное консультирование родителей и привлечение их к сбор у наглядного материала и необходимой литературы. 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3" descr="C:\Users\Елена\Desktop\для Скляренко\1010792475.jpg"/>
          <p:cNvPicPr/>
          <p:nvPr/>
        </p:nvPicPr>
        <p:blipFill>
          <a:blip r:embed="rId1"/>
          <a:stretch/>
        </p:blipFill>
        <p:spPr>
          <a:xfrm>
            <a:off x="571320" y="3857760"/>
            <a:ext cx="1956960" cy="281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Елена\Desktop\для Скляренко\306505.jpg"/>
          <p:cNvPicPr/>
          <p:nvPr/>
        </p:nvPicPr>
        <p:blipFill>
          <a:blip r:embed="rId2"/>
          <a:stretch/>
        </p:blipFill>
        <p:spPr>
          <a:xfrm>
            <a:off x="2714760" y="3857760"/>
            <a:ext cx="1969560" cy="278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Users\Елена\Desktop\для Скляренко\1024973594.jpg"/>
          <p:cNvPicPr/>
          <p:nvPr/>
        </p:nvPicPr>
        <p:blipFill>
          <a:blip r:embed="rId3"/>
          <a:stretch/>
        </p:blipFill>
        <p:spPr>
          <a:xfrm>
            <a:off x="4857840" y="4000680"/>
            <a:ext cx="3657240" cy="2319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2 этап. Основной: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85840" y="1443600"/>
            <a:ext cx="8572320" cy="301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конспектов занятий, сценария праздник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вместных мероприятий с родителями, с ветеран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детской библиотеки, муз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мини-музеев в группе «Наша родина - Россия», «Моя родословная», «Народная игруш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зентаций к тематическим занятиям и беседа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3 этап Итоговы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1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Анализ результатов проекта, оформление результатов проекта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2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Создание мини-музеев в группе «Наша родина - Россия», «Моя родословная», «Народная игрушка»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3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Анкетирование и опрос детей и родителей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4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Обобщение работы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20000">
              <a:srgbClr val="f2f2f2"/>
            </a:gs>
            <a:gs pos="100000">
              <a:srgbClr val="f9bd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57096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77000"/>
          </a:bodyPr>
          <a:p>
            <a:pPr indent="0">
              <a:buNone/>
            </a:pPr>
            <a:endParaRPr b="1" lang="ru-RU" sz="4100" spc="-1" strike="noStrike">
              <a:solidFill>
                <a:srgbClr val="8facdd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571320"/>
            <a:ext cx="9143640" cy="6286320"/>
          </a:xfrm>
          <a:prstGeom prst="rect">
            <a:avLst/>
          </a:prstGeom>
          <a:gradFill rotWithShape="0">
            <a:gsLst>
              <a:gs pos="20000">
                <a:srgbClr val="eeece1"/>
              </a:gs>
              <a:gs pos="100000">
                <a:srgbClr val="f9bd9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редполагаемые результаты для детей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богатится представление детей о народном искусстве и художественных промыслах.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сширятся представления детей об истории семьи в контексте истории родной страны.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ти привлечены к созданию развивающей среды дошкольного учрежден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зовьются патриоти­ческие и интернациональные чувства, любовь к Родине. Расширятся представления о Родине — Росси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редполагаемые результаты для воспитателей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явится тесный контакт с родителями воспитанников;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полнится предметно - развивающая среда;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зработанные материалы проекта будут широко использованы при проведении организованной образовательной деятельности и в семье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редполагаемые результаты для родителей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одители станут активными помощниками в жизни группы;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тношения родителей и детей станут более близкими, доброжелательным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bd9e"/>
            </a:gs>
            <a:gs pos="100000">
              <a:srgbClr val="f79646">
                <a:alpha val="80000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84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над созданием мини-проек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«Народная игрушка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" y="1484640"/>
            <a:ext cx="9143640" cy="5373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eeece1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бразовательная деятельность</a:t>
            </a: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рисование: «Кукла моей бабушки», «Матрешка».                                                          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https://ya-odarennost.ru/code/image.php?width=960&amp;image=77891_1582854180.jpg"/>
          <p:cNvPicPr/>
          <p:nvPr/>
        </p:nvPicPr>
        <p:blipFill>
          <a:blip r:embed="rId1"/>
          <a:stretch/>
        </p:blipFill>
        <p:spPr>
          <a:xfrm>
            <a:off x="214200" y="2714760"/>
            <a:ext cx="3357360" cy="3154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4000320" y="2714760"/>
            <a:ext cx="4857480" cy="3142800"/>
          </a:xfrm>
          <a:prstGeom prst="rect">
            <a:avLst/>
          </a:prstGeom>
          <a:ln w="9525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Апекс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  <Words>378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1:53:33Z</dcterms:created>
  <dc:creator>user</dc:creator>
  <dc:description/>
  <dc:language>en-US</dc:language>
  <cp:lastModifiedBy>Елена</cp:lastModifiedBy>
  <dcterms:modified xsi:type="dcterms:W3CDTF">2020-11-05T06:43:47Z</dcterms:modified>
  <cp:revision>77</cp:revision>
  <dc:subject/>
  <dc:title>МБДО ЦРР детский сад №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54883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1</vt:lpwstr>
  </property>
  <property fmtid="{D5CDD505-2E9C-101B-9397-08002B2CF9AE}" pid="5" name="Notes">
    <vt:r8>2</vt:r8>
  </property>
  <property fmtid="{D5CDD505-2E9C-101B-9397-08002B2CF9AE}" pid="6" name="PresentationFormat">
    <vt:lpwstr>Экран (4:3)</vt:lpwstr>
  </property>
  <property fmtid="{D5CDD505-2E9C-101B-9397-08002B2CF9AE}" pid="7" name="Slides">
    <vt:r8>19</vt:r8>
  </property>
</Properties>
</file>