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37B1C6-79B1-42F4-BA51-60E550320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0BAB7F-A7C6-49CA-BC85-D52F90D19E2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A04F61-EEA7-4C73-BF2E-53430CC8EFF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E3EA-DC37-4337-B04B-AF98A972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B7E6-38AB-4216-92AC-B8EF2959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9B87-6DD9-4375-BAF4-9A522E071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E62C-B823-473A-BC63-0A906527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E6F1-EB05-4633-9EBF-63D033882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0DF4-8FB6-4C0B-A437-1504A790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B008-C129-4A88-9D41-DADE8BA2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7C39-BD6A-4E16-B304-E2C78B09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95BB-9466-4960-A706-7B778A05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1920" y="1371600"/>
            <a:ext cx="822924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949B-2D4D-4C65-8E3C-2AE888FF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1DD2-569F-430E-8040-18F3AE70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3AD5-7683-472D-B4C9-7A3CC727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C081-B5A0-4941-8F1E-C621DEF0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EA57-2F1C-4220-BB76-6ADD6AE1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9582-5EC4-4D01-BB0F-5153B93D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9166-CA8D-4540-93B5-0117E65E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3116-149A-44BE-9B3E-883B9219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4593-5023-444B-A925-FF1D97E1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B7E4-43C9-4AA8-9AE3-E5B10AD0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4694-A1EC-49DA-95CB-13BDD9DF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1920" y="1371600"/>
            <a:ext cx="822924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E345-1C51-4754-8C8D-6B244163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DDCD-54ED-4229-9DDB-F13F7FC6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BEE7-6D78-48AB-9E71-1FD8FB68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3583-1401-4388-A488-CD53E769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 cap="all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8AE02E-DD54-4ED0-B6F3-527DAB6457DF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Третий уровень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CD95A5-7207-4846-8A63-B3B93692518D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556280"/>
          </a:xfrm>
          <a:prstGeom prst="rect">
            <a:avLst/>
          </a:prstGeom>
          <a:gradFill rotWithShape="0">
            <a:gsLst>
              <a:gs pos="0">
                <a:srgbClr val="c57838"/>
              </a:gs>
              <a:gs pos="100000">
                <a:srgbClr val="f8a978"/>
              </a:gs>
            </a:gsLst>
            <a:lin ang="8346000"/>
          </a:gradFill>
          <a:ln w="9360">
            <a:solidFill>
              <a:srgbClr val="000000"/>
            </a:solidFill>
            <a:round/>
          </a:ln>
          <a:effectLst>
            <a:outerShdw dist="228593" dir="2700000" blurRad="190440" rotWithShape="0">
              <a:srgbClr val="000000">
                <a:alpha val="25000"/>
              </a:srgbClr>
            </a:outerShdw>
          </a:effectLst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600" spc="-1" strike="noStrike" cap="all">
                <a:solidFill>
                  <a:srgbClr val="000000"/>
                </a:solidFill>
                <a:latin typeface="Book Antiqua"/>
              </a:rPr>
              <a:t>Муниципальное бюджетное дошкольное образовательное учреждение</a:t>
            </a:r>
            <a:br>
              <a:rPr sz="1600"/>
            </a:br>
            <a:r>
              <a:rPr b="1" lang="ru-RU" sz="1600" spc="-1" strike="noStrike" cap="all">
                <a:solidFill>
                  <a:srgbClr val="000000"/>
                </a:solidFill>
                <a:latin typeface="Book Antiqua"/>
              </a:rPr>
              <a:t>муниципального образования «город Бугуруслан»</a:t>
            </a:r>
            <a:br>
              <a:rPr sz="1600"/>
            </a:br>
            <a:r>
              <a:rPr b="1" lang="ru-RU" sz="1600" spc="-1" strike="noStrike" cap="all">
                <a:solidFill>
                  <a:srgbClr val="000000"/>
                </a:solidFill>
                <a:latin typeface="Book Antiqua"/>
              </a:rPr>
              <a:t>«Детский сад комбинированного вида №18»</a:t>
            </a:r>
            <a:br>
              <a:rPr sz="1600"/>
            </a:br>
            <a:r>
              <a:rPr b="1" lang="ru-RU" sz="1600" spc="-1" strike="noStrike" cap="all">
                <a:solidFill>
                  <a:srgbClr val="000000"/>
                </a:solidFill>
                <a:latin typeface="Book Antiqua"/>
              </a:rPr>
              <a:t>(МБДОУ «Д/с №18»)</a:t>
            </a:r>
            <a:br>
              <a:rPr sz="1800"/>
            </a:br>
            <a:endParaRPr b="0" lang="ru-RU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556640"/>
            <a:ext cx="9143640" cy="5301000"/>
          </a:xfrm>
          <a:prstGeom prst="rect">
            <a:avLst/>
          </a:prstGeom>
          <a:gradFill rotWithShape="0">
            <a:gsLst>
              <a:gs pos="0">
                <a:srgbClr val="f9bd9e"/>
              </a:gs>
              <a:gs pos="100000">
                <a:srgbClr val="fef7f5"/>
              </a:gs>
            </a:gsLst>
            <a:lin ang="13500000"/>
          </a:gradFill>
          <a:ln w="9360">
            <a:solidFill>
              <a:srgbClr val="b96c2c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Образовательный проек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«Создание мини-музеев «Народная игрушка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«Моя родословна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Авто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оспита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первой квалификационной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Скляренко Вера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3" descr="IMG_8168.JPG"/>
          <p:cNvPicPr/>
          <p:nvPr/>
        </p:nvPicPr>
        <p:blipFill>
          <a:blip r:embed="rId1"/>
          <a:srcRect l="0" t="0" r="5502" b="12583"/>
          <a:stretch/>
        </p:blipFill>
        <p:spPr>
          <a:xfrm>
            <a:off x="179640" y="3861000"/>
            <a:ext cx="4320000" cy="2664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20000">
              <a:srgbClr val="f2f2f2"/>
            </a:gs>
            <a:gs pos="100000">
              <a:srgbClr val="f9bd9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05228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9360">
            <a:solidFill>
              <a:srgbClr val="355d8d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Беседа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343760" y="3645000"/>
            <a:ext cx="45360" cy="1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3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Прямоугольник 11"/>
          <p:cNvSpPr/>
          <p:nvPr/>
        </p:nvSpPr>
        <p:spPr>
          <a:xfrm>
            <a:off x="2500200" y="1214280"/>
            <a:ext cx="42145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2060"/>
                </a:solidFill>
                <a:latin typeface="Book Antiqua"/>
              </a:rPr>
              <a:t>«Русская народная игруш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714240" y="1889280"/>
            <a:ext cx="2928600" cy="4675320"/>
          </a:xfrm>
          <a:prstGeom prst="rect">
            <a:avLst/>
          </a:prstGeom>
          <a:ln w="9525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3929040" y="2428920"/>
            <a:ext cx="4714560" cy="3078000"/>
          </a:xfrm>
          <a:prstGeom prst="rect">
            <a:avLst/>
          </a:prstGeom>
          <a:ln w="9525">
            <a:noFill/>
          </a:ln>
        </p:spPr>
      </p:pic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05228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9360">
            <a:solidFill>
              <a:srgbClr val="355d8d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Мастер-класс для родителей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3640" cy="5805000"/>
          </a:xfrm>
          <a:prstGeom prst="rect">
            <a:avLst/>
          </a:prstGeom>
          <a:solidFill>
            <a:schemeClr val="accent6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4864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 Antiqua"/>
              </a:rPr>
              <a:t>«Разукрашивание народной игрушки 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 Antiqua"/>
              </a:rPr>
              <a:t>в технике «пластилинография»»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1571760" y="2286000"/>
            <a:ext cx="6095520" cy="3500280"/>
          </a:xfrm>
          <a:prstGeom prst="rect">
            <a:avLst/>
          </a:prstGeom>
          <a:ln w="9525">
            <a:noFill/>
          </a:ln>
        </p:spPr>
      </p:pic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05228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9360">
            <a:solidFill>
              <a:srgbClr val="355d8d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Мастер-класс от родителей детям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«Научу вязать игрушку»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4073040" y="3244320"/>
            <a:ext cx="997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4"/>
          <p:cNvSpPr/>
          <p:nvPr/>
        </p:nvSpPr>
        <p:spPr>
          <a:xfrm>
            <a:off x="0" y="1071720"/>
            <a:ext cx="9143640" cy="578592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pic>
        <p:nvPicPr>
          <p:cNvPr id="124" name="Picture 2" descr="C:\Users\Елена\Desktop\изображение_viber_2020-11-03_21-46-32.jpg"/>
          <p:cNvPicPr/>
          <p:nvPr/>
        </p:nvPicPr>
        <p:blipFill>
          <a:blip r:embed="rId1"/>
          <a:stretch/>
        </p:blipFill>
        <p:spPr>
          <a:xfrm>
            <a:off x="571320" y="1571760"/>
            <a:ext cx="3428640" cy="4571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C:\Users\Елена\Desktop\изображение_viber_2020-11-03_22-18-22.jpg"/>
          <p:cNvPicPr/>
          <p:nvPr/>
        </p:nvPicPr>
        <p:blipFill>
          <a:blip r:embed="rId2"/>
          <a:stretch/>
        </p:blipFill>
        <p:spPr>
          <a:xfrm>
            <a:off x="4429080" y="2214720"/>
            <a:ext cx="4285800" cy="3214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05228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9360">
            <a:solidFill>
              <a:srgbClr val="355d8d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Создание мини-музея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«Народная игрушка»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4073040" y="3244320"/>
            <a:ext cx="997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0" y="1071720"/>
            <a:ext cx="9143640" cy="578592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1928880" y="2000160"/>
            <a:ext cx="5111640" cy="3533400"/>
          </a:xfrm>
          <a:prstGeom prst="rect">
            <a:avLst/>
          </a:prstGeom>
          <a:ln w="9525">
            <a:noFill/>
          </a:ln>
        </p:spPr>
      </p:pic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05228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9360">
            <a:solidFill>
              <a:srgbClr val="355d8d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Работа над созданием мини-музея «Моя родословная»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3640" cy="5805000"/>
          </a:xfrm>
          <a:prstGeom prst="rect">
            <a:avLst/>
          </a:prstGeom>
          <a:solidFill>
            <a:schemeClr val="accent6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0" y="1071720"/>
            <a:ext cx="4928760" cy="3709440"/>
          </a:xfrm>
          <a:prstGeom prst="rect">
            <a:avLst/>
          </a:prstGeom>
          <a:ln w="9525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4643280" y="1071720"/>
            <a:ext cx="4374360" cy="3714480"/>
          </a:xfrm>
          <a:prstGeom prst="rect">
            <a:avLst/>
          </a:prstGeom>
          <a:ln w="9525">
            <a:noFill/>
          </a:ln>
        </p:spPr>
      </p:pic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05228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9360">
            <a:solidFill>
              <a:srgbClr val="355d8d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Работа над созданием мини-музея «Моя родословная»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3640" cy="5805000"/>
          </a:xfrm>
          <a:prstGeom prst="rect">
            <a:avLst/>
          </a:prstGeom>
          <a:solidFill>
            <a:schemeClr val="accent6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285840" y="1143000"/>
            <a:ext cx="2928600" cy="2928600"/>
          </a:xfrm>
          <a:prstGeom prst="rect">
            <a:avLst/>
          </a:prstGeom>
          <a:ln w="9525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2"/>
          <a:stretch/>
        </p:blipFill>
        <p:spPr>
          <a:xfrm>
            <a:off x="571320" y="4143240"/>
            <a:ext cx="2134800" cy="2578320"/>
          </a:xfrm>
          <a:prstGeom prst="rect">
            <a:avLst/>
          </a:prstGeom>
          <a:ln w="9525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3"/>
          <a:stretch/>
        </p:blipFill>
        <p:spPr>
          <a:xfrm>
            <a:off x="3500280" y="1214280"/>
            <a:ext cx="2080800" cy="2963520"/>
          </a:xfrm>
          <a:prstGeom prst="rect">
            <a:avLst/>
          </a:prstGeom>
          <a:ln w="9525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4"/>
          <a:stretch/>
        </p:blipFill>
        <p:spPr>
          <a:xfrm>
            <a:off x="5929200" y="1643040"/>
            <a:ext cx="2714400" cy="4825440"/>
          </a:xfrm>
          <a:prstGeom prst="rect">
            <a:avLst/>
          </a:prstGeom>
          <a:ln w="9525">
            <a:noFill/>
          </a:ln>
        </p:spPr>
      </p:pic>
    </p:spTree>
  </p:cSld>
  <p:transition spd="slow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05228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9360">
            <a:solidFill>
              <a:srgbClr val="355d8d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Работа над созданием мини-музея «Моя родословная»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3640" cy="5805000"/>
          </a:xfrm>
          <a:prstGeom prst="rect">
            <a:avLst/>
          </a:prstGeom>
          <a:solidFill>
            <a:schemeClr val="accent6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2" name="Picture 2" descr="C:\Users\Елена\Desktop\изображение_viber_2020-11-03_22-18-23.jpg"/>
          <p:cNvPicPr/>
          <p:nvPr/>
        </p:nvPicPr>
        <p:blipFill>
          <a:blip r:embed="rId1"/>
          <a:stretch/>
        </p:blipFill>
        <p:spPr>
          <a:xfrm>
            <a:off x="142920" y="1928880"/>
            <a:ext cx="4285800" cy="3214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C:\Users\Елена\Desktop\изображение_viber_2020-11-03_22-18-21.jpg"/>
          <p:cNvPicPr/>
          <p:nvPr/>
        </p:nvPicPr>
        <p:blipFill>
          <a:blip r:embed="rId2"/>
          <a:stretch/>
        </p:blipFill>
        <p:spPr>
          <a:xfrm>
            <a:off x="4643280" y="2786040"/>
            <a:ext cx="4214520" cy="31608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05228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9360">
            <a:solidFill>
              <a:srgbClr val="355d8d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Выставка рисунков «Моя семья»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3640" cy="5805000"/>
          </a:xfrm>
          <a:prstGeom prst="rect">
            <a:avLst/>
          </a:prstGeom>
          <a:solidFill>
            <a:schemeClr val="accent6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0" y="1071720"/>
            <a:ext cx="4266720" cy="2885760"/>
          </a:xfrm>
          <a:prstGeom prst="rect">
            <a:avLst/>
          </a:prstGeom>
          <a:ln w="9525">
            <a:noFill/>
          </a:ln>
        </p:spPr>
      </p:pic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4357800" y="1071720"/>
            <a:ext cx="4642920" cy="2862000"/>
          </a:xfrm>
          <a:prstGeom prst="rect">
            <a:avLst/>
          </a:prstGeom>
          <a:ln w="9525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3"/>
          <a:stretch/>
        </p:blipFill>
        <p:spPr>
          <a:xfrm>
            <a:off x="2286000" y="3832200"/>
            <a:ext cx="4536720" cy="3025440"/>
          </a:xfrm>
          <a:prstGeom prst="rect">
            <a:avLst/>
          </a:prstGeom>
          <a:ln w="9525">
            <a:noFill/>
          </a:ln>
        </p:spPr>
      </p:pic>
    </p:spTree>
  </p:cSld>
  <p:transition spd="slow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05228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9360">
            <a:solidFill>
              <a:srgbClr val="355d8d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Работа над созданием мини-музея «Моя родословная»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3640" cy="5805000"/>
          </a:xfrm>
          <a:prstGeom prst="rect">
            <a:avLst/>
          </a:prstGeom>
          <a:solidFill>
            <a:schemeClr val="accent6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1" name="Picture 5" descr="C:\Users\Елена\Desktop\для Скляренко\40377606.jpg"/>
          <p:cNvPicPr/>
          <p:nvPr/>
        </p:nvPicPr>
        <p:blipFill>
          <a:blip r:embed="rId1"/>
          <a:stretch/>
        </p:blipFill>
        <p:spPr>
          <a:xfrm>
            <a:off x="642960" y="1428840"/>
            <a:ext cx="7490520" cy="4857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556280"/>
          </a:xfrm>
          <a:prstGeom prst="rect">
            <a:avLst/>
          </a:prstGeom>
          <a:gradFill rotWithShape="0">
            <a:gsLst>
              <a:gs pos="0">
                <a:srgbClr val="c57838"/>
              </a:gs>
              <a:gs pos="100000">
                <a:srgbClr val="f8a978"/>
              </a:gs>
            </a:gsLst>
            <a:lin ang="8346000"/>
          </a:gradFill>
          <a:ln w="9360">
            <a:solidFill>
              <a:srgbClr val="000000"/>
            </a:solidFill>
            <a:round/>
          </a:ln>
          <a:effectLst>
            <a:outerShdw dist="228593" dir="2700000" blurRad="190440" rotWithShape="0">
              <a:srgbClr val="000000">
                <a:alpha val="25000"/>
              </a:srgbClr>
            </a:outerShdw>
          </a:effectLst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600" spc="-1" strike="noStrike" cap="all">
                <a:solidFill>
                  <a:srgbClr val="000000"/>
                </a:solidFill>
                <a:latin typeface="Book Antiqua"/>
              </a:rPr>
              <a:t>Муниципальное бюджетное дошкольное образовательное учреждение</a:t>
            </a:r>
            <a:br>
              <a:rPr sz="1600"/>
            </a:br>
            <a:r>
              <a:rPr b="1" lang="ru-RU" sz="1600" spc="-1" strike="noStrike" cap="all">
                <a:solidFill>
                  <a:srgbClr val="000000"/>
                </a:solidFill>
                <a:latin typeface="Book Antiqua"/>
              </a:rPr>
              <a:t>муниципального образования «город Бугуруслан»</a:t>
            </a:r>
            <a:br>
              <a:rPr sz="1600"/>
            </a:br>
            <a:r>
              <a:rPr b="1" lang="ru-RU" sz="1600" spc="-1" strike="noStrike" cap="all">
                <a:solidFill>
                  <a:srgbClr val="000000"/>
                </a:solidFill>
                <a:latin typeface="Book Antiqua"/>
              </a:rPr>
              <a:t>«Детский сад комбинированного вида №18»</a:t>
            </a:r>
            <a:br>
              <a:rPr sz="1600"/>
            </a:br>
            <a:r>
              <a:rPr b="1" lang="ru-RU" sz="1600" spc="-1" strike="noStrike" cap="all">
                <a:solidFill>
                  <a:srgbClr val="000000"/>
                </a:solidFill>
                <a:latin typeface="Book Antiqua"/>
              </a:rPr>
              <a:t>(МБДОУ «Д/с №18»)</a:t>
            </a:r>
            <a:br>
              <a:rPr sz="1800"/>
            </a:br>
            <a:endParaRPr b="0" lang="ru-RU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0" y="1556640"/>
            <a:ext cx="9143640" cy="5301000"/>
          </a:xfrm>
          <a:prstGeom prst="rect">
            <a:avLst/>
          </a:prstGeom>
          <a:gradFill rotWithShape="0">
            <a:gsLst>
              <a:gs pos="0">
                <a:srgbClr val="f9bd9e"/>
              </a:gs>
              <a:gs pos="100000">
                <a:srgbClr val="fef7f5"/>
              </a:gs>
            </a:gsLst>
            <a:lin ang="13500000"/>
          </a:gradFill>
          <a:ln w="9360">
            <a:solidFill>
              <a:srgbClr val="b96c2c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Образовательный проек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«Роль музеев как социокультурного института обще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в патриотическом и гражданском воспита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личности дошколь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Авто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оспита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первой квалификационной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Скляренко Вера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3" descr="IMG_8168.JPG"/>
          <p:cNvPicPr/>
          <p:nvPr/>
        </p:nvPicPr>
        <p:blipFill>
          <a:blip r:embed="rId1"/>
          <a:srcRect l="0" t="0" r="5502" b="12583"/>
          <a:stretch/>
        </p:blipFill>
        <p:spPr>
          <a:xfrm>
            <a:off x="179640" y="3861000"/>
            <a:ext cx="4320000" cy="2664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124280"/>
          </a:xfrm>
          <a:prstGeom prst="rect">
            <a:avLst/>
          </a:prstGeom>
          <a:gradFill rotWithShape="0">
            <a:gsLst>
              <a:gs pos="0">
                <a:srgbClr val="c57838"/>
              </a:gs>
              <a:gs pos="100000">
                <a:srgbClr val="f8a978"/>
              </a:gs>
            </a:gsLst>
            <a:lin ang="8346000"/>
          </a:gradFill>
          <a:ln w="9360">
            <a:solidFill>
              <a:srgbClr val="b96c2c"/>
            </a:solidFill>
            <a:round/>
          </a:ln>
          <a:effectLst>
            <a:outerShdw dist="228593" dir="2700000" blurRad="190440" rotWithShape="0">
              <a:srgbClr val="000000">
                <a:alpha val="25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Паспорт проекта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124640"/>
            <a:ext cx="9143640" cy="5733000"/>
          </a:xfrm>
          <a:prstGeom prst="rect">
            <a:avLst/>
          </a:prstGeom>
          <a:gradFill rotWithShape="0">
            <a:gsLst>
              <a:gs pos="0">
                <a:srgbClr val="f9bd9e"/>
              </a:gs>
              <a:gs pos="100000">
                <a:srgbClr val="fef7f5"/>
              </a:gs>
            </a:gsLst>
            <a:lin ang="13500000"/>
          </a:gradFill>
          <a:ln w="9360">
            <a:solidFill>
              <a:srgbClr val="b96c2c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86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Участники проекта: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Воспитатель группы: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Тураева Г.В.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Дети и родители группы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Типология проекта: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творческий, интегрированный,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коллективный, долгосрочный.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Время проведения: 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сентябрь 2019г. – май 2020г.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bd9e"/>
            </a:gs>
            <a:gs pos="100000">
              <a:srgbClr val="fef7f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052280"/>
          </a:xfrm>
          <a:prstGeom prst="rect">
            <a:avLst/>
          </a:prstGeom>
          <a:gradFill rotWithShape="0">
            <a:gsLst>
              <a:gs pos="0">
                <a:srgbClr val="f9bd9e"/>
              </a:gs>
              <a:gs pos="100000">
                <a:srgbClr val="f79646"/>
              </a:gs>
            </a:gsLst>
            <a:lin ang="13500000"/>
          </a:gradFill>
          <a:ln w="9360">
            <a:solidFill>
              <a:srgbClr val="b96c2c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Актуальность проекта 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42960" y="1285920"/>
            <a:ext cx="814356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Музей в детском саду является интерактивным образовательным пространством, в котором ребёнок может действовать самостоятельно с учётом своих интересов и возможностей, обследовать предметы, делать выводы, отражать в речи собственные наблюдение, общаться со взрослыми, сверстниками по поводу увиденного . Назначение , создаваемых мини-музеев – вовлечь детей в деятельность и общение, воздействовать на их эмоциональную сфе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8028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9360">
            <a:solidFill>
              <a:srgbClr val="355d8d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Цель и задачи проекта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3640" cy="5877000"/>
          </a:xfrm>
          <a:prstGeom prst="rect">
            <a:avLst/>
          </a:prstGeom>
          <a:gradFill rotWithShape="0">
            <a:gsLst>
              <a:gs pos="0">
                <a:srgbClr val="f9bd9e"/>
              </a:gs>
              <a:gs pos="100000">
                <a:srgbClr val="fef7f5"/>
              </a:gs>
            </a:gsLst>
            <a:lin ang="13500000"/>
          </a:gradFill>
          <a:ln w="9360">
            <a:solidFill>
              <a:srgbClr val="b96c2c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 Antiqua"/>
              </a:rPr>
              <a:t>     </a:t>
            </a:r>
            <a:r>
              <a:rPr b="1" lang="ru-RU" sz="2800" spc="-1" strike="noStrike">
                <a:solidFill>
                  <a:srgbClr val="c00000"/>
                </a:solidFill>
                <a:latin typeface="Book Antiqua"/>
              </a:rPr>
              <a:t>Цель: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ru-RU" sz="2800" spc="-1" strike="noStrike">
                <a:solidFill>
                  <a:schemeClr val="dk1"/>
                </a:solidFill>
                <a:latin typeface="Book Antiqua"/>
              </a:rPr>
              <a:t>формирование патриотических и гражданских чувств средствами музейной педагогики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 Antiqua"/>
              </a:rPr>
              <a:t>Задачи: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 Antiqua"/>
              </a:rPr>
              <a:t>1.</a:t>
            </a:r>
            <a:r>
              <a:rPr b="0" lang="ru-RU" sz="2400" spc="-1" strike="noStrike">
                <a:solidFill>
                  <a:schemeClr val="dk1"/>
                </a:solidFill>
                <a:latin typeface="Book Antiqua"/>
              </a:rPr>
              <a:t>Воспитывать у детей интерес к культуре своих предков, культуре предков России;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 Antiqua"/>
              </a:rPr>
              <a:t>2.</a:t>
            </a:r>
            <a:r>
              <a:rPr b="0" lang="ru-RU" sz="2400" spc="-1" strike="noStrike">
                <a:solidFill>
                  <a:schemeClr val="dk1"/>
                </a:solidFill>
                <a:latin typeface="Book Antiqua"/>
              </a:rPr>
              <a:t>Воспитывать патриотические чувства;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 Antiqua"/>
              </a:rPr>
              <a:t>3.</a:t>
            </a:r>
            <a:r>
              <a:rPr b="0" lang="ru-RU" sz="2400" spc="-1" strike="noStrike">
                <a:solidFill>
                  <a:schemeClr val="dk1"/>
                </a:solidFill>
                <a:latin typeface="Book Antiqua"/>
              </a:rPr>
              <a:t>Обогащать предметно-развивающую среду группы;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 Antiqua"/>
              </a:rPr>
              <a:t>4.</a:t>
            </a:r>
            <a:r>
              <a:rPr b="0" lang="ru-RU" sz="2400" spc="-1" strike="noStrike">
                <a:solidFill>
                  <a:schemeClr val="dk1"/>
                </a:solidFill>
                <a:latin typeface="Book Antiqua"/>
              </a:rPr>
              <a:t>Формировать художественно-эстетическое воспитание;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 Antiqua"/>
              </a:rPr>
              <a:t>5.</a:t>
            </a:r>
            <a:r>
              <a:rPr b="0" lang="ru-RU" sz="2400" spc="-1" strike="noStrike">
                <a:solidFill>
                  <a:schemeClr val="dk1"/>
                </a:solidFill>
                <a:latin typeface="Book Antiqua"/>
              </a:rPr>
              <a:t>Формировать представления о взаимосвязях разных культур</a:t>
            </a:r>
            <a:r>
              <a:rPr b="0" lang="ru-RU" sz="2800" spc="-1" strike="noStrike">
                <a:solidFill>
                  <a:schemeClr val="dk1"/>
                </a:solidFill>
                <a:latin typeface="Book Antiqua"/>
              </a:rPr>
              <a:t>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34028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9360">
            <a:solidFill>
              <a:srgbClr val="355d8d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 fontScale="63000"/>
          </a:bodyPr>
          <a:p>
            <a:pPr indent="0" algn="ctr">
              <a:lnSpc>
                <a:spcPct val="100000"/>
              </a:lnSpc>
              <a:buNone/>
            </a:pPr>
            <a:br>
              <a:rPr sz="3700"/>
            </a:br>
            <a:r>
              <a:rPr b="1" lang="ru-RU" sz="3100" spc="-1" strike="noStrike">
                <a:solidFill>
                  <a:srgbClr val="002060"/>
                </a:solidFill>
                <a:latin typeface="Times New Roman"/>
              </a:rPr>
              <a:t>Этапы</a:t>
            </a:r>
            <a:br>
              <a:rPr sz="3100"/>
            </a:br>
            <a:r>
              <a:rPr b="1" lang="ru-RU" sz="3100" spc="-1" strike="noStrike">
                <a:solidFill>
                  <a:srgbClr val="002060"/>
                </a:solidFill>
                <a:latin typeface="Times New Roman"/>
              </a:rPr>
              <a:t>1 этап подготовительный</a:t>
            </a:r>
            <a:br>
              <a:rPr sz="3100"/>
            </a:br>
            <a:endParaRPr b="0" lang="ru-RU" sz="3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40640"/>
            <a:ext cx="9143640" cy="5517000"/>
          </a:xfrm>
          <a:prstGeom prst="rect">
            <a:avLst/>
          </a:prstGeom>
          <a:gradFill rotWithShape="0">
            <a:gsLst>
              <a:gs pos="0">
                <a:srgbClr val="f9bd9e"/>
              </a:gs>
              <a:gs pos="100000">
                <a:srgbClr val="fef7f5"/>
              </a:gs>
            </a:gsLst>
            <a:lin ang="13500000"/>
          </a:gradFill>
          <a:ln w="9360">
            <a:solidFill>
              <a:srgbClr val="b96c2c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548640" indent="-411480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400" spc="-1" strike="noStrike">
                <a:solidFill>
                  <a:schemeClr val="dk1"/>
                </a:solidFill>
                <a:latin typeface="Book Antiqua"/>
              </a:rPr>
              <a:t>1.Составление плана по реализации проекта.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400" spc="-1" strike="noStrike">
                <a:solidFill>
                  <a:schemeClr val="dk1"/>
                </a:solidFill>
                <a:latin typeface="Book Antiqua"/>
              </a:rPr>
              <a:t>2.Изучение литературы, новых методик и технологий по вопросам нравственно-патриотического воспитания детей, музейной педагогики.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400" spc="-1" strike="noStrike">
                <a:solidFill>
                  <a:schemeClr val="dk1"/>
                </a:solidFill>
                <a:latin typeface="Book Antiqua"/>
              </a:rPr>
              <a:t>3.Индивидуальное консультирование родителей и привлечение их к сбор у наглядного материала и необходимой литературы. 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9" name="Picture 3" descr="C:\Users\Елена\Desktop\для Скляренко\1010792475.jpg"/>
          <p:cNvPicPr/>
          <p:nvPr/>
        </p:nvPicPr>
        <p:blipFill>
          <a:blip r:embed="rId1"/>
          <a:stretch/>
        </p:blipFill>
        <p:spPr>
          <a:xfrm>
            <a:off x="571320" y="3857760"/>
            <a:ext cx="1956960" cy="2818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:\Users\Елена\Desktop\для Скляренко\306505.jpg"/>
          <p:cNvPicPr/>
          <p:nvPr/>
        </p:nvPicPr>
        <p:blipFill>
          <a:blip r:embed="rId2"/>
          <a:stretch/>
        </p:blipFill>
        <p:spPr>
          <a:xfrm>
            <a:off x="2714760" y="3857760"/>
            <a:ext cx="1969560" cy="2785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C:\Users\Елена\Desktop\для Скляренко\1024973594.jpg"/>
          <p:cNvPicPr/>
          <p:nvPr/>
        </p:nvPicPr>
        <p:blipFill>
          <a:blip r:embed="rId3"/>
          <a:stretch/>
        </p:blipFill>
        <p:spPr>
          <a:xfrm>
            <a:off x="4857840" y="4000680"/>
            <a:ext cx="3657240" cy="2319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05228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9360">
            <a:solidFill>
              <a:srgbClr val="355d8d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 fontScale="61000"/>
          </a:bodyPr>
          <a:p>
            <a:pPr indent="0" algn="ctr">
              <a:lnSpc>
                <a:spcPct val="100000"/>
              </a:lnSpc>
              <a:buNone/>
            </a:pPr>
            <a:br>
              <a:rPr sz="4100"/>
            </a:br>
            <a:r>
              <a:rPr b="1" lang="ru-RU" sz="3100" spc="-1" strike="noStrike">
                <a:solidFill>
                  <a:srgbClr val="002060"/>
                </a:solidFill>
                <a:latin typeface="Times New Roman"/>
              </a:rPr>
              <a:t>2 этап. Основной:</a:t>
            </a:r>
            <a:br>
              <a:rPr sz="3100"/>
            </a:br>
            <a:endParaRPr b="0" lang="ru-RU" sz="3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3640" cy="5805000"/>
          </a:xfrm>
          <a:prstGeom prst="rect">
            <a:avLst/>
          </a:prstGeom>
          <a:gradFill rotWithShape="0">
            <a:gsLst>
              <a:gs pos="0">
                <a:srgbClr val="f9bd9e"/>
              </a:gs>
              <a:gs pos="100000">
                <a:srgbClr val="fef7f5"/>
              </a:gs>
            </a:gsLst>
            <a:lin ang="13500000"/>
          </a:gradFill>
          <a:ln w="9360">
            <a:solidFill>
              <a:srgbClr val="b96c2c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285840" y="1443600"/>
            <a:ext cx="8572320" cy="3016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конспектов занятий, сценария праздников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совместных мероприятий с родителями, с ветеранам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детской библиотеки, музе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мини-музеев в группе «Наша родина - Россия», «Моя родословная», «Народная игруш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резентаций к тематическим занятиям и беседа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 де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3640" cy="105228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9360">
            <a:solidFill>
              <a:srgbClr val="355d8d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3 этап Итоговый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3640" cy="5805000"/>
          </a:xfrm>
          <a:prstGeom prst="rect">
            <a:avLst/>
          </a:prstGeom>
          <a:gradFill rotWithShape="0">
            <a:gsLst>
              <a:gs pos="0">
                <a:srgbClr val="f9bd9e"/>
              </a:gs>
              <a:gs pos="100000">
                <a:srgbClr val="fef7f5"/>
              </a:gs>
            </a:gsLst>
            <a:lin ang="13500000"/>
          </a:gradFill>
          <a:ln w="9360">
            <a:solidFill>
              <a:srgbClr val="b96c2c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"/>
            </a:pPr>
            <a:r>
              <a:rPr b="1" lang="ru-RU" sz="2800" spc="-1" strike="noStrike">
                <a:solidFill>
                  <a:srgbClr val="c00000"/>
                </a:solidFill>
                <a:latin typeface="Book Antiqua"/>
              </a:rPr>
              <a:t>1.</a:t>
            </a:r>
            <a:r>
              <a:rPr b="0" lang="ru-RU" sz="2800" spc="-1" strike="noStrike">
                <a:solidFill>
                  <a:schemeClr val="dk1"/>
                </a:solidFill>
                <a:latin typeface="Book Antiqua"/>
              </a:rPr>
              <a:t>Анализ результатов проекта, оформление результатов проекта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1" lang="ru-RU" sz="2800" spc="-1" strike="noStrike">
                <a:solidFill>
                  <a:srgbClr val="c00000"/>
                </a:solidFill>
                <a:latin typeface="Book Antiqua"/>
              </a:rPr>
              <a:t>2.</a:t>
            </a:r>
            <a:r>
              <a:rPr b="0" lang="ru-RU" sz="2800" spc="-1" strike="noStrike">
                <a:solidFill>
                  <a:schemeClr val="dk1"/>
                </a:solidFill>
                <a:latin typeface="Book Antiqua"/>
              </a:rPr>
              <a:t>Создание мини-музеев в группе «Наша родина - Россия», «Моя родословная», «Народная игрушка»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1" lang="ru-RU" sz="2800" spc="-1" strike="noStrike">
                <a:solidFill>
                  <a:srgbClr val="c00000"/>
                </a:solidFill>
                <a:latin typeface="Book Antiqua"/>
              </a:rPr>
              <a:t>3.</a:t>
            </a:r>
            <a:r>
              <a:rPr b="0" lang="ru-RU" sz="2800" spc="-1" strike="noStrike">
                <a:solidFill>
                  <a:schemeClr val="dk1"/>
                </a:solidFill>
                <a:latin typeface="Book Antiqua"/>
              </a:rPr>
              <a:t>Анкетирование и опрос детей и родителей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1" lang="ru-RU" sz="2800" spc="-1" strike="noStrike">
                <a:solidFill>
                  <a:srgbClr val="c00000"/>
                </a:solidFill>
                <a:latin typeface="Book Antiqua"/>
              </a:rPr>
              <a:t>4.</a:t>
            </a:r>
            <a:r>
              <a:rPr b="0" lang="ru-RU" sz="2800" spc="-1" strike="noStrike">
                <a:solidFill>
                  <a:schemeClr val="dk1"/>
                </a:solidFill>
                <a:latin typeface="Book Antiqua"/>
              </a:rPr>
              <a:t>Обобщение работы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20000">
              <a:srgbClr val="f2f2f2"/>
            </a:gs>
            <a:gs pos="100000">
              <a:srgbClr val="f9bd9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57096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9360">
            <a:solidFill>
              <a:srgbClr val="355d8d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 fontScale="77000"/>
          </a:bodyPr>
          <a:p>
            <a:pPr indent="0">
              <a:buNone/>
            </a:pPr>
            <a:endParaRPr b="1" lang="ru-RU" sz="4100" spc="-1" strike="noStrike">
              <a:solidFill>
                <a:srgbClr val="8facdd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571320"/>
            <a:ext cx="9143640" cy="6286320"/>
          </a:xfrm>
          <a:prstGeom prst="rect">
            <a:avLst/>
          </a:prstGeom>
          <a:gradFill rotWithShape="0">
            <a:gsLst>
              <a:gs pos="20000">
                <a:srgbClr val="eeece1"/>
              </a:gs>
              <a:gs pos="100000">
                <a:srgbClr val="f9bd9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ctr">
            <a:normAutofit fontScale="69000"/>
          </a:bodyPr>
          <a:p>
            <a:pPr marL="488160" indent="-366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Предполагаемые результаты для детей: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88160" indent="-366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Обогатится представление детей о народном искусстве и художественных промыслах. 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88160" indent="-366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Расширятся представления детей об истории семьи в контексте истории родной страны. 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88160" indent="-366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Дети привлечены к созданию развивающей среды дошкольного учреждения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88160" indent="-366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Разовьются патриоти­ческие и интернациональные чувства, любовь к Родине. Расширятся представления о Родине — России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88160" indent="-366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Предполагаемые результаты для воспитателей: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88160" indent="-366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Появится тесный контакт с родителями воспитанников;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88160" indent="-366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Пополнится предметно - развивающая среда;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88160" indent="-366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Разработанные материалы проекта будут широко использованы при проведении организованной образовательной деятельности и в семье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88160" indent="-366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Предполагаемые результаты для родителей: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88160" indent="-366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родители станут активными помощниками в жизни группы;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88160" indent="-366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отношения родителей и детей станут более близкими, доброжелательными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bd9e"/>
            </a:gs>
            <a:gs pos="100000">
              <a:srgbClr val="f79646">
                <a:alpha val="80000"/>
              </a:srgbClr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48428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та над созданием мини-проект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«Народная игрушка»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60" y="1484640"/>
            <a:ext cx="9143640" cy="5373000"/>
          </a:xfrm>
          <a:prstGeom prst="rect">
            <a:avLst/>
          </a:prstGeom>
          <a:gradFill rotWithShape="0">
            <a:gsLst>
              <a:gs pos="0">
                <a:srgbClr val="f9bd9e"/>
              </a:gs>
              <a:gs pos="100000">
                <a:srgbClr val="eeece1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4864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Образовательная деятельность</a:t>
            </a:r>
            <a:r>
              <a:rPr b="0" lang="ru-RU" sz="2800" spc="-1" strike="noStrike">
                <a:solidFill>
                  <a:srgbClr val="002060"/>
                </a:solidFill>
                <a:latin typeface="Book Antiqua"/>
              </a:rPr>
              <a:t> 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 Antiqua"/>
              </a:rPr>
              <a:t>рисование: «Кукла моей бабушки», «Матрешка».                                                           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1" name="Picture 2" descr="https://ya-odarennost.ru/code/image.php?width=960&amp;image=77891_1582854180.jpg"/>
          <p:cNvPicPr/>
          <p:nvPr/>
        </p:nvPicPr>
        <p:blipFill>
          <a:blip r:embed="rId1"/>
          <a:stretch/>
        </p:blipFill>
        <p:spPr>
          <a:xfrm>
            <a:off x="214200" y="2714760"/>
            <a:ext cx="3357360" cy="3154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4000320" y="2714760"/>
            <a:ext cx="4857480" cy="3142800"/>
          </a:xfrm>
          <a:prstGeom prst="rect">
            <a:avLst/>
          </a:prstGeom>
          <a:ln w="9525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Апекс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пекс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  <Words>378</Words>
  <Paragraphs>8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1:53:33Z</dcterms:created>
  <dc:creator>user</dc:creator>
  <dc:description/>
  <dc:language>en-US</dc:language>
  <cp:lastModifiedBy>Елена</cp:lastModifiedBy>
  <dcterms:modified xsi:type="dcterms:W3CDTF">2020-11-05T06:43:47Z</dcterms:modified>
  <cp:revision>77</cp:revision>
  <dc:subject/>
  <dc:title>МБДО ЦРР детский сад №1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954883</vt:lpwstr>
  </property>
  <property fmtid="{D5CDD505-2E9C-101B-9397-08002B2CF9AE}" pid="3" name="NXPowerLiteSettings">
    <vt:lpwstr>C7000400038000</vt:lpwstr>
  </property>
  <property fmtid="{D5CDD505-2E9C-101B-9397-08002B2CF9AE}" pid="4" name="NXPowerLiteVersion">
    <vt:lpwstr>S9.0.1</vt:lpwstr>
  </property>
  <property fmtid="{D5CDD505-2E9C-101B-9397-08002B2CF9AE}" pid="5" name="Notes">
    <vt:r8>2</vt:r8>
  </property>
  <property fmtid="{D5CDD505-2E9C-101B-9397-08002B2CF9AE}" pid="6" name="PresentationFormat">
    <vt:lpwstr>Экран (4:3)</vt:lpwstr>
  </property>
  <property fmtid="{D5CDD505-2E9C-101B-9397-08002B2CF9AE}" pid="7" name="Slides">
    <vt:r8>19</vt:r8>
  </property>
</Properties>
</file>