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A28-3DE9-45CF-90D8-2B3C038C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725-BAA5-464B-8502-B818EA7E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988-0844-4A21-8462-CDD77752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929-CA85-4C0B-BA5F-98A7028B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1CB7-386E-4057-8F63-00522A00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4873-3767-48EB-B7E8-470FB17D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820-2A40-43E4-A47B-7B69937F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171F-0154-4267-B351-F03FF0E8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082E-98F2-4D46-AB64-06136AB3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8D15-9BC4-46EC-8DAA-1A066110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58D1-08F7-4F12-88F4-B90CBE16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07E-991D-4309-A951-D194DCF6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8F97-9DF1-4E75-8C98-915B3D2BF0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55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о</a:t>
            </a:r>
            <a:r>
              <a:rPr b="0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ание готовности старшикласников к обеспечению безопасности жизнедеятельности</a:t>
            </a:r>
            <a:br>
              <a:rPr sz="4400"/>
            </a:br>
            <a:br>
              <a:rPr sz="4400"/>
            </a:b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Преподаватель-организатор ОБЖ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Годишин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656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шения поставленных задач и проверки исходных предположений использовался комплекс взаимодополняющих методов исследования, адекватных его предмет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психологической, педагогической литерату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пирические методы (педагогическое наблюдение, анкетирование, тестирование, самооценка, анализ образовательных програм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модел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1846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ное исследование проблемы формирования готовности старшеклассников к обеспечению безопасности жизнедеятельности вносит определенный вклад в возможность решения выше поставленных задач, а полученные результаты позволяют сделать следующие выво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держание учебного процесса, обеспечивающего формирование готовности старшеклассников к обеспечению безопасности жизнедеятельности, должно разрабатываться на основ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уальных положений контекстного и информационного подходов к отбору учебных школьных программ по предметам. Это позволит выделить базовые учебные дисциплины и определить возможности их межпредметных связей для максимального овладения старшеклассниками основами безопасности жизнедеятельност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ратегия деятельности преподавателя заключается в разработке модулей, в виде взаимосвязи мотивационного, когнитивного, деятельностного и оценочно-рефлексивного компонентов при освоении школьных дисциплин и предмета ОБЖ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таких модулей должно осваиваться поэтапно, в зависимости от возраста старшеклассников, например, 8-9 класс, 10класс и 11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ритериями оценки эффективности системы формирования готовности старшеклассников к обеспечению безопасности жизнедеятельности выступают доминирующие компоненты, показатели которых свидетельствуют о становлении мировоззренче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и, ответственности за жизнь окружающих и за безопасность окружающей среды, о выработке умений и навыков безопасного труда, о способности предотвращать опасные ситуации, которые могут привести к несчастному случаю как в быту, так и на производ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огинск  МБОУ ЦО№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современного промышленного производства и развитие новых отраслевых направлений, увеличение размеров техносферных регионов, потепление климата, распространение новых видов вирусов, экологические катастрофы, терроризм, межнациональные и религиозные войны, всё это окружает людей и создаёт дополнительные опасные аспекты в жизнедеятельности человека, поэтому выпускники школ должны быть готовы к вызовам, для сохранения жизни людей, природы, материальных и культурных ценностей план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предметные связи, как основа подготовки старшеклассников школ к безопасной жизне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связь мотивационного, когнитивного, деятельностного и оценочно-рефлексивного компонентов, как основа межпредметного взаимо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276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ни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ко - методологическое обоснование влияния межпредметных связей на формирование готовности старшеклассников к обеспечению безопасности жизне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старшеклассников к обеспечению безопасности жизнедеятельности представляет собой целостное системное образование в виде взаимосвязи мотивационного, когнитивного, деятельностного и оценочно-рефлексивного компон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исследова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456840"/>
            <a:ext cx="8763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изировать научное представление о специфике рабочих программ разных пред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явить компоненты овладения знаниями, умениями и навыками школьных предме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основать необходимость целостной взаимосвязи мотивационного, когнитивного, деятельностного и оценочно-рефлексивного компонентов к обеспечению безопасности жизне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пределить сущность и структурные компоненты готовности старшеклассников к обеспечению безопасности жизне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ая значимость исследова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сследования будут способствов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работке содержательных аспектов будущей профессиональн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ят научное представление о средствах формирования готовности к обеспечению безопасности жизнедеятельности выпускников ш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значимость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будут способствов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ю процесса воспитания и     обучения старшеклассников к обеспечению  безопасности жизнедеятель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ю межпредметных связей в школьных программах в цел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51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гической основой исследования являются педагогические и психологические теории и концепции развития личности; современные теории профессионального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ами исследования являются фундаментальные положения: о единстве личности и деятельности (Л.С. Выготский, Л.С. Рубинштейн и др.); о сущности целостного педагогического процесса (В.П. Беспалько, В. А. Сластенин и др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илетний опыт работы преподавателем-организатором ОБЖ во Фрязинском филиале МГО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вухлетний опыт работы в Ногинском МБОУ ЦО №12 преподавателем-организатором ОБЖ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02:28:50Z</dcterms:created>
  <dc:creator>Ирина</dc:creator>
  <dc:description/>
  <dc:language>en-US</dc:language>
  <cp:lastModifiedBy>igodishin@yandex.ru</cp:lastModifiedBy>
  <dcterms:modified xsi:type="dcterms:W3CDTF">2020-11-06T17:38:34Z</dcterms:modified>
  <cp:revision>43</cp:revision>
  <dc:subject/>
  <dc:title>ЭМОЦИОНАЛЬНОЕ ВЫГОРАНИЕ ПЕДАГОГА</dc:title>
</cp:coreProperties>
</file>