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604-FFC0-476C-8D56-681C9E37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40F-D421-4040-9892-78A16016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ABC-8915-44F9-A7D0-B6F3E6E8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6B1-223D-4E57-AFBF-6B1DA2D0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D87-4131-4F5D-AB5C-86DB86D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E33-100C-438A-8F4E-F27AFC3F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701-D679-440D-9A5E-5C1AFB99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46F-1A96-445F-A4DF-F0C1F7F6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21B-8A54-45A4-B9A0-DD1F8DFA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078-DD68-41EF-B5B2-66A12B1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665-8E24-4529-8C81-9B4F5F2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8A9-4BA4-4346-8EBF-08ED757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3A37-6561-42CC-A1B2-3DB2051AD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5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</a:t>
            </a: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ание готовности старшикласников к обеспечению безопасности жизнедеятельности</a:t>
            </a: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Преподаватель-организатор ОБЖ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Годишин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поставленных задач и проверки исходных предположений использовался комплекс взаимодополняющих методов исследования, адекватных его предмет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сихологической, педагогической литерату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ие методы (педагогическое наблюдение, анкетирование, тестирование, самооценка, анализ образовательных програм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модел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846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ное исследование проблемы формирования готовности старшеклассников к обеспечению безопасности жизнедеятельности вносит определенный вклад в возможность решения выше поставленных задач, а полученные результаты позволяют сделать следующие 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держание учебного процесса, обеспечивающего формирование готовности старшеклассников к обеспечению безопасности жизнедеятельности, должно разрабатываться на основ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ых положений контекстного и информационного подходов к отбору учебных школьных программ по предметам. Это позволит выделить базовые учебные дисциплины и определить возможности их межпредметных связей для максимального овладения старшеклассниками основами безопасности жизнедеятельн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ратегия деятельности преподавателя заключается в разработке модулей, в виде взаимосвязи мотивационного, когнитивного, деятельностного и оценочно-рефлексивного компонентов при освоении школьных дисциплин и предмета ОБЖ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таких модулей должно осваиваться поэтапно, в зависимости от возраста старшеклассников, например, 8-9 класс, 10класс и 11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ритериями оценки эффективности системы формирования готовности старшеклассников к обеспечению безопасности жизнедеятельности выступают доминирующие компоненты, показатели которых свидетельствуют о становлении мировоззрен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и, ответственности за жизнь окружающих и за безопасность окружающей среды, о выработке умений и навыков безопасного труда, о способности предотвращать опасные ситуации, которые могут привести к несчастному случаю как в быту, так и на производ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гинск  МБОУ ЦО№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овременного промышленного производства и развитие новых отраслевых направлений, увеличение размеров техносферных регионов, потепление климата, распространение новых видов вирусов, экологические катастрофы, терроризм, межнациональные и религиозные войны, всё это окружает людей и создаёт дополнительные опасные аспекты в жизнедеятельности человека, поэтому выпускники школ должны быть готовы к вызовам, для сохранения жизни людей, природы, материальных и культурных ценностей план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редметные связи, как основа подготовки старшеклассников школ к безопасной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отивационного, когнитивного, деятельностного и оценочно-рефлексивного компонентов, как основа межпредме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27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ко - методологическое обоснование влияния межпредметных связей на формирование готовности старшеклассников к обеспечению безопасности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старшеклассников к обеспечению безопасности жизнедеятельности представляет собой целостное системное образование в виде взаимосвязи мотивационного, когнитивного, деятельностного и оценочно-рефлексивного компон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ировать научное представление о специфике рабочих программ разны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вить компоненты овладения знаниями, умениями и навыками школьных предм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основать необходимость целостной взаимосвязи мотивационного, когнитивного, деятельностного и оценочно-рефлексивного компонентов к обеспечению безопасности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ределить сущность и структурные компоненты готовности старшеклассников к обеспечению безопасности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 значимость исследов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будут способство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работке содержательных аспектов будущей профессиональ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 научное представление о средствах формирования готовности к обеспечению безопасности жизнедеятельности выпускников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будут способство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ю процесса воспитания и     обучения старшеклассников к обеспечению  безопасности жизнедея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ю межпредметных связей в школьных программах в це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51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ической основой исследования являются педагогические и психологические теории и концепции развития личности; современные теории профессионально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ами исследования являются фундаментальные положения: о единстве личности и деятельности (Л.С. Выготский, Л.С. Рубинштейн и др.); о сущности целостного педагогического процесса (В.П. Беспалько, В. А. Сластенин и д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летний опыт работы преподавателем-организатором ОБЖ во Фрязинском филиале МГО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ухлетний опыт работы в Ногинском МБОУ ЦО №12 преподавателем-организатором ОБ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02:28:50Z</dcterms:created>
  <dc:creator>Ирина</dc:creator>
  <dc:description/>
  <dc:language>en-US</dc:language>
  <cp:lastModifiedBy>igodishin@yandex.ru</cp:lastModifiedBy>
  <dcterms:modified xsi:type="dcterms:W3CDTF">2020-11-06T17:38:34Z</dcterms:modified>
  <cp:revision>43</cp:revision>
  <dc:subject/>
  <dc:title>ЭМОЦИОНАЛЬНОЕ ВЫГОРАНИЕ ПЕДАГОГА</dc:title>
</cp:coreProperties>
</file>