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F7D11-841E-4E0B-B1B4-B51C5B8646C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619D6-445B-46DA-8B51-120839180F8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3AA34-477D-4A70-91A5-086818CD4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0693C-A624-4DFD-A05D-5C10BF6A6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D2269-303A-45C3-9A69-089B55566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C5A42-6CB6-45E6-86D2-48F4E974F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28B8E-F769-42E8-950C-08E433E7D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AEA1B-924F-4D50-920D-8FBF6F783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338B3-9A07-4882-884E-9E3F2F734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F2100-A656-4692-A1C8-535CA82F3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96414-8726-4C8C-A77C-0C50DDE65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7FFA7-E7B3-4CFC-9FB0-91FAB95E6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EDFD4-C600-4384-98EE-F00063DB0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9C7CD-E26B-477C-8F22-9411B25A9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097D9-6F3F-492F-B67F-E3226632B25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1481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5"/>
          <p:cNvSpPr/>
          <p:nvPr/>
        </p:nvSpPr>
        <p:spPr>
          <a:xfrm>
            <a:off x="-76320" y="609480"/>
            <a:ext cx="929664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Десятое  мар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Классная рабо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Имя прилагательно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Игра «Узнай кто, какой?»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ерый, хищный, жадный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ыжая, хищная, ловкая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сой, слабый, трусливый..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ольшой, косолапый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лнечный, весёлый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Ясная, холодная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ерая, хмурая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оставь словосочет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990720" y="1523880"/>
          <a:ext cx="7391160" cy="4876920"/>
        </p:xfrm>
        <a:graphic>
          <a:graphicData uri="http://schemas.openxmlformats.org/drawingml/2006/table">
            <a:tbl>
              <a:tblPr/>
              <a:tblGrid>
                <a:gridCol w="3695760"/>
                <a:gridCol w="3695400"/>
              </a:tblGrid>
              <a:tr h="4876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2060"/>
                          </a:solidFill>
                          <a:latin typeface="Times New Roman"/>
                          <a:ea typeface="Droid Sans Fallback"/>
                        </a:rPr>
                        <a:t>голодный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2060"/>
                          </a:solidFill>
                          <a:latin typeface="Times New Roman"/>
                          <a:ea typeface="Droid Sans Fallback"/>
                        </a:rPr>
                        <a:t>трусливый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2060"/>
                          </a:solidFill>
                          <a:latin typeface="Times New Roman"/>
                          <a:ea typeface="Droid Sans Fallback"/>
                        </a:rPr>
                        <a:t>хитрая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2060"/>
                          </a:solidFill>
                          <a:latin typeface="Times New Roman"/>
                          <a:ea typeface="Droid Sans Fallback"/>
                        </a:rPr>
                        <a:t>пушистая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2060"/>
                          </a:solidFill>
                          <a:latin typeface="Times New Roman"/>
                          <a:ea typeface="Droid Sans Fallback"/>
                        </a:rPr>
                        <a:t>неуклюжий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2060"/>
                          </a:solidFill>
                          <a:latin typeface="Times New Roman"/>
                          <a:ea typeface="Droid Sans Fallback"/>
                        </a:rPr>
                        <a:t>рогатый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2060"/>
                          </a:solidFill>
                          <a:latin typeface="Times New Roman"/>
                          <a:ea typeface="Droid Sans Fallback"/>
                        </a:rPr>
                        <a:t>колючий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2060"/>
                          </a:solidFill>
                          <a:latin typeface="Times New Roman"/>
                          <a:ea typeface="Droid Sans Fallback"/>
                        </a:rPr>
                        <a:t>ядовитая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0000"/>
                          </a:solidFill>
                          <a:latin typeface="Times New Roman"/>
                          <a:ea typeface="Droid Sans Fallback"/>
                        </a:rPr>
                        <a:t>олень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0000"/>
                          </a:solidFill>
                          <a:latin typeface="Times New Roman"/>
                          <a:ea typeface="Droid Sans Fallback"/>
                        </a:rPr>
                        <a:t>медведь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0000"/>
                          </a:solidFill>
                          <a:latin typeface="Times New Roman"/>
                          <a:ea typeface="Droid Sans Fallback"/>
                        </a:rPr>
                        <a:t>ёж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0000"/>
                          </a:solidFill>
                          <a:latin typeface="Times New Roman"/>
                          <a:ea typeface="Droid Sans Fallback"/>
                        </a:rPr>
                        <a:t>змея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0000"/>
                          </a:solidFill>
                          <a:latin typeface="Times New Roman"/>
                          <a:ea typeface="Droid Sans Fallback"/>
                        </a:rPr>
                        <a:t>лиса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0000"/>
                          </a:solidFill>
                          <a:latin typeface="Times New Roman"/>
                          <a:ea typeface="Droid Sans Fallback"/>
                        </a:rPr>
                        <a:t>заяц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0000"/>
                          </a:solidFill>
                          <a:latin typeface="Times New Roman"/>
                          <a:ea typeface="Droid Sans Fallback"/>
                        </a:rPr>
                        <a:t>волк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0000"/>
                          </a:solidFill>
                          <a:latin typeface="Times New Roman"/>
                          <a:ea typeface="Droid Sans Fallback"/>
                        </a:rPr>
                        <a:t>белка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Вадим</cp:lastModifiedBy>
  <dcterms:modified xsi:type="dcterms:W3CDTF">2020-03-08T20:38:13Z</dcterms:modified>
  <cp:revision>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