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133E1-BD7E-49C1-8401-DB8661DEA1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BA2BE-1B00-4024-BF95-B123C2C1CF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A400-544E-4852-8626-671DC939A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D913-EB00-42F3-9D1F-E15872301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A2A3-3A56-4E48-8C50-52CCD72F1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CFE8-B5EE-46FD-85CA-70DF2E7DE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7540-9D53-4D8D-B900-2A06412EF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01DA-7885-423E-BEF2-8DC00A3F9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CD0C-23F1-4C57-8C21-63F1F5A69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004D-A7D5-4E2D-9992-9B5C8DF76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D0A0-5961-4526-B080-F7E4EC473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D961-CC36-421E-866F-682B88DA1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E569-DB77-405D-8E9E-57691E324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6560-2ECD-434D-80D6-7CE7C9FC8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CAD8A-27AB-4B09-B574-CE9EB038D5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1481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-76320" y="609480"/>
            <a:ext cx="929664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Десятое  мар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Классная ра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Имя прилагатель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Игра «Узнай кто, какой?»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рый, хищный, жадный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ыжая, хищная, ловкая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сой, слабый, трусливый..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ьшой, косолапый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лнечный, весёлый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сная, холодная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рая, хмурая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оставь словосочет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990720" y="1523880"/>
          <a:ext cx="7391160" cy="4876920"/>
        </p:xfrm>
        <a:graphic>
          <a:graphicData uri="http://schemas.openxmlformats.org/drawingml/2006/table">
            <a:tbl>
              <a:tblPr/>
              <a:tblGrid>
                <a:gridCol w="3695760"/>
                <a:gridCol w="3695400"/>
              </a:tblGrid>
              <a:tr h="4876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Droid Sans Fallback"/>
                        </a:rPr>
                        <a:t>голодный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Droid Sans Fallback"/>
                        </a:rPr>
                        <a:t>трусливый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Droid Sans Fallback"/>
                        </a:rPr>
                        <a:t>хитрая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Droid Sans Fallback"/>
                        </a:rPr>
                        <a:t>пушистая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Droid Sans Fallback"/>
                        </a:rPr>
                        <a:t>неуклюжий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Droid Sans Fallback"/>
                        </a:rPr>
                        <a:t>рогатый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Droid Sans Fallback"/>
                        </a:rPr>
                        <a:t>колючий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Droid Sans Fallback"/>
                        </a:rPr>
                        <a:t>ядовитая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Droid Sans Fallback"/>
                        </a:rPr>
                        <a:t>олень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Droid Sans Fallback"/>
                        </a:rPr>
                        <a:t>медведь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Droid Sans Fallback"/>
                        </a:rPr>
                        <a:t>ёж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Droid Sans Fallback"/>
                        </a:rPr>
                        <a:t>змея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Droid Sans Fallback"/>
                        </a:rPr>
                        <a:t>лис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Droid Sans Fallback"/>
                        </a:rPr>
                        <a:t>заяц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Droid Sans Fallback"/>
                        </a:rPr>
                        <a:t>волк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Droid Sans Fallback"/>
                        </a:rPr>
                        <a:t>белк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адим</cp:lastModifiedBy>
  <dcterms:modified xsi:type="dcterms:W3CDTF">2020-03-08T20:38:13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