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13B9-864D-41CA-9DFD-C06DAB5B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BF2D-9FC9-4EF7-93FC-B801C19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A5D5-73B5-4EB1-9748-411F481A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5FF8-A7AC-4C26-9A82-EE083C11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3791-287B-4D22-83F7-2EC8E89D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90A4-CFFD-444E-86B2-4AF60979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2C5B-6BFF-45DC-A7CA-521FA89B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D02-9970-4698-BA00-91475FB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CB2B-282D-495A-B2E8-A56C1970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8527-C935-4776-8136-CF5771C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07F-0CDC-4795-967A-B67CBD3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620E-D022-4820-823C-C34CBABF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0820-B3FF-4FEC-9EBF-90770FB7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719F-FADF-4195-B918-964449F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BE6A-6E98-4327-A285-DD82825A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74A-44EC-4C66-B235-5B959304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0C9E-BFBA-4672-B387-54F502C3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3A60-D2B2-403B-91F3-C810F1B0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882D-1EAC-4A26-9F7C-5E53F7FA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89F1-5347-41FB-AF53-38EEF9FE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5F2F-9B62-4C47-BE30-65F0085B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2CA0-3F9A-4FA9-B08A-7AD8FC1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F8AD-371B-4A12-AC14-E725FFE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7B3C-E92D-4C9E-B185-1CE05420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53A-1FF6-48A7-A5CF-497828CBF1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6E4-2560-41D0-9D5A-08064AF1D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Arial"/>
              </a:rPr>
              <a:t>Свойства твердых те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138560" cy="4343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114800" cy="30207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деформации тела возникают силы упругости. Физическая величина, равная отношению модуля силы упругости к площади сечения тела, называется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ханическим напря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называет-ся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дулем упруг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одуль упругости одинаков для образцов любой формы и размеров, изготовленных из одного матери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rcRect l="63478" t="-357" r="0" b="25520"/>
          <a:stretch/>
        </p:blipFill>
        <p:spPr>
          <a:xfrm>
            <a:off x="4648320" y="1676520"/>
            <a:ext cx="3431880" cy="4038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4"/>
          <a:stretch/>
        </p:blipFill>
        <p:spPr>
          <a:xfrm>
            <a:off x="6552720" y="5105160"/>
            <a:ext cx="2133720" cy="990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5"/>
          <a:srcRect l="63478" t="-357" r="0" b="25520"/>
          <a:stretch/>
        </p:blipFill>
        <p:spPr>
          <a:xfrm>
            <a:off x="4648320" y="1676520"/>
            <a:ext cx="3431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Проверь себя.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илы межмолекулярного взаимодействия твердого те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одинаковы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б) силы притяжения больше сил отталкивания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силы отталкивания больше сил притяжения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ристаллическую решетку име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все твердые тела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б) только аморфные твердые тела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только кристаллы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6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лиморфиз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вода и лед;  б) сталь и серебро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7" action="ppaction://hlinksldjump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в) алмаз и графит</a:t>
            </a:r>
            <a:r>
              <a:rPr b="0" lang="ru-RU" sz="1800" spc="-1" strike="noStrike" u="sng">
                <a:solidFill>
                  <a:srgbClr val="9999ff"/>
                </a:solidFill>
                <a:uFillTx/>
                <a:latin typeface="Arial"/>
                <a:hlinkClick r:id="rId8" action="ppaction://hlinksldjump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Надел он дырявый, заплатанный плащ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только осталось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кой подпереться да взять на плеч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итую хлебом суму.</a:t>
            </a:r>
            <a:br>
              <a:rPr sz="1800"/>
            </a:b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акой вид деформации испытала клю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изгиб;    б) растяжение;   в) кру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относительное удлинение свинцовой детали, если предел прочности 0,016 ГПа, а модуль Юнга 17 Г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0,9 мм;   б) 0,9 см;    в) 0,9 д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ерно. Молодец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Подумай ещё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762120" y="1218960"/>
            <a:ext cx="7696080" cy="41907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1523880" y="1905120"/>
            <a:ext cx="662940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Особенности строения тве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12408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тояния между молекулами равны размерам молеку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лы отталкивания и силы притяжения между молекулами рав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яя структура твердых тел упорядоченная – это кристаллическая реше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505320" y="1828800"/>
            <a:ext cx="533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rcRect l="16693" t="54808" r="17795" b="742"/>
          <a:stretch/>
        </p:blipFill>
        <p:spPr>
          <a:xfrm>
            <a:off x="3657600" y="19810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вердые тела обладают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руг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стич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упк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храняют объём и фор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962160" y="1218960"/>
            <a:ext cx="4724280" cy="51814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rcRect l="5264" t="19297" r="55264" b="43864"/>
          <a:stretch/>
        </p:blipFill>
        <p:spPr>
          <a:xfrm>
            <a:off x="4038480" y="12952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rcRect l="5000" t="55559" r="60000" b="24446"/>
          <a:stretch/>
        </p:blipFill>
        <p:spPr>
          <a:xfrm>
            <a:off x="6324480" y="1447920"/>
            <a:ext cx="2362320" cy="12952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8"/>
          <a:srcRect l="69169" t="37780" r="1665" b="2220"/>
          <a:stretch/>
        </p:blipFill>
        <p:spPr>
          <a:xfrm>
            <a:off x="6477120" y="2819520"/>
            <a:ext cx="2124000" cy="32763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9"/>
          <a:srcRect l="835" t="34446" r="67504" b="0"/>
          <a:stretch/>
        </p:blipFill>
        <p:spPr>
          <a:xfrm>
            <a:off x="4191120" y="2971800"/>
            <a:ext cx="2109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лассификация твёрдых те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371600" y="1295280"/>
            <a:ext cx="6248160" cy="3733200"/>
            <a:chOff x="1371600" y="1295280"/>
            <a:chExt cx="6248160" cy="3733200"/>
          </a:xfrm>
        </p:grpSpPr>
        <p:cxnSp>
          <p:nvCxnSpPr>
            <p:cNvPr id="530" name="_s8223"/>
            <p:cNvCxnSpPr>
              <a:stCxn id="531" idx="0"/>
              <a:endCxn id="532" idx="3"/>
            </p:cNvCxnSpPr>
            <p:nvPr/>
          </p:nvCxnSpPr>
          <p:spPr>
            <a:xfrm flipV="1" rot="16200000">
              <a:off x="4261320" y="3140640"/>
              <a:ext cx="467280" cy="144180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3" name="_s8221"/>
            <p:cNvCxnSpPr>
              <a:stCxn id="534" idx="0"/>
              <a:endCxn id="532" idx="3"/>
            </p:cNvCxnSpPr>
            <p:nvPr/>
          </p:nvCxnSpPr>
          <p:spPr>
            <a:xfrm flipH="1" flipV="1" rot="5400000">
              <a:off x="2936160" y="3256560"/>
              <a:ext cx="467280" cy="120996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5" name="_s8219"/>
            <p:cNvCxnSpPr>
              <a:stCxn id="536" idx="0"/>
              <a:endCxn id="537" idx="3"/>
            </p:cNvCxnSpPr>
            <p:nvPr/>
          </p:nvCxnSpPr>
          <p:spPr>
            <a:xfrm flipV="1" rot="16200000">
              <a:off x="5586840" y="1740600"/>
              <a:ext cx="467280" cy="144180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cxnSp>
          <p:nvCxnSpPr>
            <p:cNvPr id="538" name="_s8217"/>
            <p:cNvCxnSpPr>
              <a:stCxn id="532" idx="0"/>
              <a:endCxn id="537" idx="3"/>
            </p:cNvCxnSpPr>
            <p:nvPr/>
          </p:nvCxnSpPr>
          <p:spPr>
            <a:xfrm flipH="1" flipV="1" rot="5400000">
              <a:off x="4261680" y="1856520"/>
              <a:ext cx="467280" cy="1209960"/>
            </a:xfrm>
            <a:prstGeom prst="bentConnector3">
              <a:avLst>
                <a:gd name="adj1" fmla="val 16345"/>
              </a:avLst>
            </a:prstGeom>
            <a:ln w="28440">
              <a:solidFill>
                <a:srgbClr val="5b5b89"/>
              </a:solidFill>
              <a:miter/>
            </a:ln>
          </p:spPr>
        </p:cxnSp>
        <p:sp>
          <p:nvSpPr>
            <p:cNvPr id="537" name="_s8213"/>
            <p:cNvSpPr/>
            <p:nvPr/>
          </p:nvSpPr>
          <p:spPr>
            <a:xfrm>
              <a:off x="4021920" y="129528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6666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Твёрдые тел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_s8214"/>
            <p:cNvSpPr/>
            <p:nvPr/>
          </p:nvSpPr>
          <p:spPr>
            <a:xfrm>
              <a:off x="2697120" y="269532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2527c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525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кристаллически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8216"/>
            <p:cNvSpPr/>
            <p:nvPr/>
          </p:nvSpPr>
          <p:spPr>
            <a:xfrm>
              <a:off x="5347800" y="269532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2527c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5252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аморф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8220"/>
            <p:cNvSpPr/>
            <p:nvPr/>
          </p:nvSpPr>
          <p:spPr>
            <a:xfrm>
              <a:off x="1371600" y="409536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монокристалл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_s8222"/>
            <p:cNvSpPr/>
            <p:nvPr/>
          </p:nvSpPr>
          <p:spPr>
            <a:xfrm>
              <a:off x="4021920" y="4095360"/>
              <a:ext cx="2271960" cy="93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666699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ликристаллы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3520" y="5033880"/>
            <a:ext cx="1676160" cy="1576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191120" y="5105520"/>
            <a:ext cx="1600200" cy="14284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1504800" cy="1305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6858000" y="3505320"/>
            <a:ext cx="149544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ристаллические твердые тел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1920" y="1218960"/>
            <a:ext cx="4496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ды кристаллических реше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219320"/>
            <a:ext cx="403848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лиморфизм (образование различных структур одинаковыми молекул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rcRect l="2226" t="33970" r="49037" b="24500"/>
          <a:stretch/>
        </p:blipFill>
        <p:spPr>
          <a:xfrm>
            <a:off x="609480" y="2057400"/>
            <a:ext cx="3276720" cy="2362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rcRect l="52382" t="33377" r="0" b="23714"/>
          <a:stretch/>
        </p:blipFill>
        <p:spPr>
          <a:xfrm>
            <a:off x="609480" y="44956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rcRect l="1665" t="0" r="0" b="23150"/>
          <a:stretch/>
        </p:blipFill>
        <p:spPr>
          <a:xfrm>
            <a:off x="4267080" y="2743200"/>
            <a:ext cx="4496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ристаллические твердые тел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560" y="1218960"/>
            <a:ext cx="419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низотропия(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одинаковость физических свойств по разным направлениям в кристалл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48320" y="12189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мпература плавления постоян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2478240" cy="2209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295280" y="4876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rcRect l="1754" t="6435" r="42105" b="7016"/>
          <a:stretch/>
        </p:blipFill>
        <p:spPr>
          <a:xfrm>
            <a:off x="5334120" y="198108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6477120" y="3886200"/>
            <a:ext cx="2395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Аморфные твердые тел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00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имеют строго порядка( ближний порядок как у жидкост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ладают изотроп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 физические свойства одинаковы по всем направлениям в кристалл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 имеют постоянной температуры пл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ку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733920" y="1066680"/>
            <a:ext cx="49528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3733920" y="1066680"/>
            <a:ext cx="2286000" cy="16210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rcRect l="33751" t="48339" r="32499" b="3331"/>
          <a:stretch/>
        </p:blipFill>
        <p:spPr>
          <a:xfrm>
            <a:off x="6324480" y="114300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7"/>
          <a:srcRect l="61615" t="19835" r="6903" b="8014"/>
          <a:stretch/>
        </p:blipFill>
        <p:spPr>
          <a:xfrm>
            <a:off x="3733920" y="281952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8"/>
          <a:srcRect l="16367" t="20607" r="18183" b="1822"/>
          <a:stretch/>
        </p:blipFill>
        <p:spPr>
          <a:xfrm>
            <a:off x="5943600" y="35812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990360"/>
            <a:ext cx="40384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пловое расшир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=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=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2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+3β·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эффициент линейного расшир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990360"/>
            <a:ext cx="40384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ормация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формы и размеров тела под действием си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2652840" cy="26668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rcRect l="22500" t="35003" r="6249" b="11670"/>
          <a:stretch/>
        </p:blipFill>
        <p:spPr>
          <a:xfrm>
            <a:off x="4495680" y="236232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изические свойства твердых тел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36576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 действием приложенных внешних сил твердые тела изменяют свою форму и объем - деформируются. Если после прекращения действия силы, форма и объем тела полностью восстанавливаются, то деформацию называют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упруг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а тело - абсолютно упругим. Деформации, которые не исчезают после прекращения действия сил, называются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пластически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а тела - пластич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05520" y="160020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32767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05520" y="2437920"/>
            <a:ext cx="3808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2286000"/>
            <a:ext cx="685800" cy="77760"/>
          </a:xfrm>
          <a:custGeom>
            <a:avLst/>
            <a:gdLst/>
            <a:ahLst/>
            <a:rect l="l" t="t" r="r" b="b"/>
            <a:pathLst>
              <a:path w="2032" h="1">
                <a:moveTo>
                  <a:pt x="0" y="0"/>
                </a:moveTo>
                <a:cubicBezTo>
                  <a:pt x="712" y="0"/>
                  <a:pt x="1424" y="0"/>
                  <a:pt x="1728" y="0"/>
                </a:cubicBezTo>
                <a:cubicBezTo>
                  <a:pt x="2032" y="0"/>
                  <a:pt x="1928" y="0"/>
                  <a:pt x="18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73" idx="0"/>
            <a:endCxn id="574" idx="0"/>
          </p:cNvCxnSpPr>
          <p:nvPr/>
        </p:nvCxnSpPr>
        <p:spPr>
          <a:xfrm flipH="1" flipV="1" rot="5400000">
            <a:off x="5524200" y="2247120"/>
            <a:ext cx="153000" cy="2293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76" name=""/>
          <p:cNvCxnSpPr/>
          <p:nvPr/>
        </p:nvCxnSpPr>
        <p:spPr>
          <a:xfrm flipV="1">
            <a:off x="6248520" y="1752120"/>
            <a:ext cx="832320" cy="534240"/>
          </a:xfrm>
          <a:prstGeom prst="curvedConnector5">
            <a:avLst>
              <a:gd name="adj1" fmla="val 51882"/>
              <a:gd name="adj2" fmla="val 49966"/>
              <a:gd name="adj3" fmla="val 51882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77" name=""/>
          <p:cNvCxnSpPr/>
          <p:nvPr/>
        </p:nvCxnSpPr>
        <p:spPr>
          <a:xfrm flipH="1" rot="16200000">
            <a:off x="7085520" y="1752120"/>
            <a:ext cx="229320" cy="229320"/>
          </a:xfrm>
          <a:prstGeom prst="curvedConnector5">
            <a:avLst>
              <a:gd name="adj1" fmla="val 4716"/>
              <a:gd name="adj2" fmla="val 50000"/>
              <a:gd name="adj3" fmla="val 4716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48020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91160" y="31608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05520" y="2438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105160" y="17524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3124080"/>
            <a:ext cx="2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2536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п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20574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15238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11520" y="228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48320" y="2068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248520" y="19810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10280" y="14479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413240" y="3733920"/>
            <a:ext cx="473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– 1 –область упругих деформ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– 2 – область пластичных деформ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– 3 – текуче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– предел проч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2T19:21:53Z</dcterms:created>
  <dc:creator>Ирина</dc:creator>
  <dc:description/>
  <dc:language>en-US</dc:language>
  <cp:lastModifiedBy>Ирина</cp:lastModifiedBy>
  <dcterms:modified xsi:type="dcterms:W3CDTF">2020-11-06T15:25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