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60CD-72D8-4D70-AF38-F662E2BB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B79E-6D79-49EC-A678-5EDFC12B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FB8D-5605-4DC4-8EBA-7932CCD2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D5E2-9255-4EE6-9EDD-4656AB45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30CB-4CCE-45B8-8DCB-19359623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3407-27A7-4EDA-B902-FF6862E1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4284-B8B9-440D-95D8-171C9732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864A-E904-407C-BD8F-8BBCC7BE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F34E-BB5A-44AE-96B6-A72F9FFD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407A-6080-458F-9E97-EDD5C610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E1A8-B7EE-494A-ACE0-D1229DCF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EBBE-6057-4D2D-BDAD-6389BC80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4D3B-244D-42B2-90C5-FFACC878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117C-B76B-4BB1-976A-803F09E4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7498-910C-4FF6-AA0E-8A1E2AEA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FF9D-B41E-476D-82F1-D5EE2AB7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8E81-EB20-4097-A7A7-352CFB2E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235A-1F2C-48D8-85D8-7DF9C75E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F535-A7F3-45A0-81FA-BD809475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4FDB-96DF-431A-BBEE-678D9EB8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5DE7-3643-4963-8D0E-549A07D5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AF3A-3BBF-4E9B-98DD-D4A5A2FD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910C-E890-4ECA-9B18-88F40270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3AA2-0ED4-4422-A013-D1886624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A0DE-E3FE-4AB5-AE2F-100A20433F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9503-0420-43EF-8234-680E5434E6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jpeg"/><Relationship Id="rId4" Type="http://schemas.openxmlformats.org/officeDocument/2006/relationships/image" Target="../media/image8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Свойства твердых те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138560" cy="4343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4114800" cy="30207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Физические свойства твердых тел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деформации тела возникают силы упругости. Физическая величина, равная отношению модуля силы упругости к площади сечения тела, называется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еханическим напряже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называет-ся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одулем упругост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Модуль упругости одинаков для образцов любой формы и размеров, изготовленных из одного материа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3"/>
          <a:srcRect l="63478" t="-357" r="0" b="25520"/>
          <a:stretch/>
        </p:blipFill>
        <p:spPr>
          <a:xfrm>
            <a:off x="4648320" y="1676520"/>
            <a:ext cx="3431880" cy="40384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4"/>
          <a:stretch/>
        </p:blipFill>
        <p:spPr>
          <a:xfrm>
            <a:off x="6552720" y="5105160"/>
            <a:ext cx="2133720" cy="9903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5"/>
          <a:srcRect l="63478" t="-357" r="0" b="25520"/>
          <a:stretch/>
        </p:blipFill>
        <p:spPr>
          <a:xfrm>
            <a:off x="4648320" y="1676520"/>
            <a:ext cx="3431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ef6"/>
                </a:solidFill>
                <a:latin typeface="Arial"/>
              </a:rPr>
              <a:t>Проверь себя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илы межмолекулярного взаимодействия твердого те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одинаковы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1" action="ppaction://hlinksldjump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б) силы притяжения больше сил отталкивания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в) силы отталкивания больше сил притяжения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ристаллическую решетку име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все твердые тела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б) только аморфные твердые тела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в) только кристаллы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6" action="ppaction://hlinksldjump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лиморфиз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вода и лед;  б) сталь и серебро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7" action="ppaction://hlinksldjump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в) алмаз и графит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8" action="ppaction://hlinksldjump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Надел он дырявый, заплатанный плащ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только осталось е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юкой подпереться да взять на плеч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итую хлебом суму.</a:t>
            </a:r>
            <a:br>
              <a:rPr sz="1800"/>
            </a:b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акой вид деформации испытала клю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изгиб;    б) растяжение;   в) круч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пределите относительное удлинение свинцовой детали, если предел прочности 0,016 ГПа, а модуль Юнга 17 ГП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0,9 мм;   б) 0,9 см;    в) 0,9 д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Верно. Молодец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Подумай ещё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762120" y="1218960"/>
            <a:ext cx="7696080" cy="419076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1523880" y="1905120"/>
            <a:ext cx="6629400" cy="20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Особенности строения твердых те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12408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тояния между молекулами равны размерам молеку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илы отталкивания и силы притяжения между молекулами рав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утренняя структура твердых тел упорядоченная – это кристаллическая решет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505320" y="182880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5"/>
          <a:srcRect l="16693" t="54808" r="17795" b="742"/>
          <a:stretch/>
        </p:blipFill>
        <p:spPr>
          <a:xfrm>
            <a:off x="3657600" y="1981080"/>
            <a:ext cx="510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Физические свойства твердых те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вердые тела обладают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руго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стично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упко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храняют объём и фор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3962160" y="1218960"/>
            <a:ext cx="4724280" cy="51814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6"/>
          <a:srcRect l="5264" t="19297" r="55264" b="43864"/>
          <a:stretch/>
        </p:blipFill>
        <p:spPr>
          <a:xfrm>
            <a:off x="4038480" y="12952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7"/>
          <a:srcRect l="5000" t="55559" r="60000" b="24446"/>
          <a:stretch/>
        </p:blipFill>
        <p:spPr>
          <a:xfrm>
            <a:off x="6324480" y="1447920"/>
            <a:ext cx="2362320" cy="129528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8"/>
          <a:srcRect l="69169" t="37780" r="1665" b="2220"/>
          <a:stretch/>
        </p:blipFill>
        <p:spPr>
          <a:xfrm>
            <a:off x="6477120" y="2819520"/>
            <a:ext cx="2124000" cy="32763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9"/>
          <a:srcRect l="835" t="34446" r="67504" b="0"/>
          <a:stretch/>
        </p:blipFill>
        <p:spPr>
          <a:xfrm>
            <a:off x="4191120" y="2971800"/>
            <a:ext cx="2109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Классификация твёрдых те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371600" y="1295280"/>
            <a:ext cx="6248160" cy="3733200"/>
            <a:chOff x="1371600" y="1295280"/>
            <a:chExt cx="6248160" cy="3733200"/>
          </a:xfrm>
        </p:grpSpPr>
        <p:cxnSp>
          <p:nvCxnSpPr>
            <p:cNvPr id="530" name="_s8223"/>
            <p:cNvCxnSpPr>
              <a:stCxn id="531" idx="0"/>
              <a:endCxn id="532" idx="3"/>
            </p:cNvCxnSpPr>
            <p:nvPr/>
          </p:nvCxnSpPr>
          <p:spPr>
            <a:xfrm flipV="1" rot="16200000">
              <a:off x="4261320" y="3140640"/>
              <a:ext cx="467280" cy="1441800"/>
            </a:xfrm>
            <a:prstGeom prst="bentConnector3">
              <a:avLst>
                <a:gd name="adj1" fmla="val 16345"/>
              </a:avLst>
            </a:prstGeom>
            <a:ln w="28440">
              <a:solidFill>
                <a:srgbClr val="5b5b89"/>
              </a:solidFill>
              <a:miter/>
            </a:ln>
          </p:spPr>
        </p:cxnSp>
        <p:cxnSp>
          <p:nvCxnSpPr>
            <p:cNvPr id="533" name="_s8221"/>
            <p:cNvCxnSpPr>
              <a:stCxn id="534" idx="0"/>
              <a:endCxn id="532" idx="3"/>
            </p:cNvCxnSpPr>
            <p:nvPr/>
          </p:nvCxnSpPr>
          <p:spPr>
            <a:xfrm flipH="1" flipV="1" rot="5400000">
              <a:off x="2936160" y="3256560"/>
              <a:ext cx="467280" cy="1209960"/>
            </a:xfrm>
            <a:prstGeom prst="bentConnector3">
              <a:avLst>
                <a:gd name="adj1" fmla="val 16345"/>
              </a:avLst>
            </a:prstGeom>
            <a:ln w="28440">
              <a:solidFill>
                <a:srgbClr val="5b5b89"/>
              </a:solidFill>
              <a:miter/>
            </a:ln>
          </p:spPr>
        </p:cxnSp>
        <p:cxnSp>
          <p:nvCxnSpPr>
            <p:cNvPr id="535" name="_s8219"/>
            <p:cNvCxnSpPr>
              <a:stCxn id="536" idx="0"/>
              <a:endCxn id="537" idx="3"/>
            </p:cNvCxnSpPr>
            <p:nvPr/>
          </p:nvCxnSpPr>
          <p:spPr>
            <a:xfrm flipV="1" rot="16200000">
              <a:off x="5586840" y="1740600"/>
              <a:ext cx="467280" cy="1441800"/>
            </a:xfrm>
            <a:prstGeom prst="bentConnector3">
              <a:avLst>
                <a:gd name="adj1" fmla="val 16345"/>
              </a:avLst>
            </a:prstGeom>
            <a:ln w="28440">
              <a:solidFill>
                <a:srgbClr val="5b5b89"/>
              </a:solidFill>
              <a:miter/>
            </a:ln>
          </p:spPr>
        </p:cxnSp>
        <p:cxnSp>
          <p:nvCxnSpPr>
            <p:cNvPr id="538" name="_s8217"/>
            <p:cNvCxnSpPr>
              <a:stCxn id="532" idx="0"/>
              <a:endCxn id="537" idx="3"/>
            </p:cNvCxnSpPr>
            <p:nvPr/>
          </p:nvCxnSpPr>
          <p:spPr>
            <a:xfrm flipH="1" flipV="1" rot="5400000">
              <a:off x="4261680" y="1856520"/>
              <a:ext cx="467280" cy="1209960"/>
            </a:xfrm>
            <a:prstGeom prst="bentConnector3">
              <a:avLst>
                <a:gd name="adj1" fmla="val 16345"/>
              </a:avLst>
            </a:prstGeom>
            <a:ln w="28440">
              <a:solidFill>
                <a:srgbClr val="5b5b89"/>
              </a:solidFill>
              <a:miter/>
            </a:ln>
          </p:spPr>
        </p:cxnSp>
        <p:sp>
          <p:nvSpPr>
            <p:cNvPr id="537" name="_s8213"/>
            <p:cNvSpPr/>
            <p:nvPr/>
          </p:nvSpPr>
          <p:spPr>
            <a:xfrm>
              <a:off x="4021920" y="1295280"/>
              <a:ext cx="2271960" cy="93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666ff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Твёрдые тел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_s8214"/>
            <p:cNvSpPr/>
            <p:nvPr/>
          </p:nvSpPr>
          <p:spPr>
            <a:xfrm>
              <a:off x="2697120" y="2695320"/>
              <a:ext cx="2271960" cy="93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52527c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5252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кристаллически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8216"/>
            <p:cNvSpPr/>
            <p:nvPr/>
          </p:nvSpPr>
          <p:spPr>
            <a:xfrm>
              <a:off x="5347800" y="2695320"/>
              <a:ext cx="2271960" cy="93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52527c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5252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аморфн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8220"/>
            <p:cNvSpPr/>
            <p:nvPr/>
          </p:nvSpPr>
          <p:spPr>
            <a:xfrm>
              <a:off x="1371600" y="4095360"/>
              <a:ext cx="2271960" cy="93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ff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монокристаллы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_s8222"/>
            <p:cNvSpPr/>
            <p:nvPr/>
          </p:nvSpPr>
          <p:spPr>
            <a:xfrm>
              <a:off x="4021920" y="4095360"/>
              <a:ext cx="2271960" cy="93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ff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поликристаллы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533520" y="5033880"/>
            <a:ext cx="1676160" cy="15764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4191120" y="5105520"/>
            <a:ext cx="1600200" cy="14284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914400" y="2514600"/>
            <a:ext cx="1504800" cy="13050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6858000" y="3505320"/>
            <a:ext cx="149544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Кристаллические твердые тела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51920" y="1218960"/>
            <a:ext cx="4496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ды кристаллических реше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48320" y="1219320"/>
            <a:ext cx="403848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лиморфизм (образование различных структур одинаковыми молекулам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3"/>
          <a:srcRect l="2226" t="33970" r="49037" b="24500"/>
          <a:stretch/>
        </p:blipFill>
        <p:spPr>
          <a:xfrm>
            <a:off x="609480" y="2057400"/>
            <a:ext cx="3276720" cy="2362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4"/>
          <a:srcRect l="52382" t="33377" r="0" b="23714"/>
          <a:stretch/>
        </p:blipFill>
        <p:spPr>
          <a:xfrm>
            <a:off x="609480" y="4495680"/>
            <a:ext cx="3276720" cy="21337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5"/>
          <a:srcRect l="1665" t="0" r="0" b="23150"/>
          <a:stretch/>
        </p:blipFill>
        <p:spPr>
          <a:xfrm>
            <a:off x="4267080" y="2743200"/>
            <a:ext cx="44960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Кристаллические твердые тела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04560" y="1218960"/>
            <a:ext cx="419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низотропия(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одинаковость физических свойств по разным направлениям в кристалл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648320" y="12189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мпература плавления постоян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838080" y="2590920"/>
            <a:ext cx="2478240" cy="22096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1295280" y="4876920"/>
            <a:ext cx="1524240" cy="17524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5"/>
          <a:srcRect l="1754" t="6435" r="42105" b="7016"/>
          <a:stretch/>
        </p:blipFill>
        <p:spPr>
          <a:xfrm>
            <a:off x="5334120" y="1981080"/>
            <a:ext cx="2971800" cy="28195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6"/>
          <a:stretch/>
        </p:blipFill>
        <p:spPr>
          <a:xfrm>
            <a:off x="6477120" y="3886200"/>
            <a:ext cx="2395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Аморфные твердые тел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3200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имеют строго порядка( ближний порядок как у жидкост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ладают изотропи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 физические свойства одинаковы по всем направлениям в кристалл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имеют постоянной температуры пл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куч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733920" y="1066680"/>
            <a:ext cx="495288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5"/>
          <a:stretch/>
        </p:blipFill>
        <p:spPr>
          <a:xfrm>
            <a:off x="3733920" y="1066680"/>
            <a:ext cx="2286000" cy="16210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6"/>
          <a:srcRect l="33751" t="48339" r="32499" b="3331"/>
          <a:stretch/>
        </p:blipFill>
        <p:spPr>
          <a:xfrm>
            <a:off x="6324480" y="1143000"/>
            <a:ext cx="2057400" cy="220968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7"/>
          <a:srcRect l="61615" t="19835" r="6903" b="8014"/>
          <a:stretch/>
        </p:blipFill>
        <p:spPr>
          <a:xfrm>
            <a:off x="3733920" y="2819520"/>
            <a:ext cx="2209680" cy="274320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8"/>
          <a:srcRect l="16367" t="20607" r="18183" b="1822"/>
          <a:stretch/>
        </p:blipFill>
        <p:spPr>
          <a:xfrm>
            <a:off x="5943600" y="3581280"/>
            <a:ext cx="2743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Физические свойства твердых тел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990360"/>
            <a:ext cx="40384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пловое расшире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=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+β·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=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+2β·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=V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+3β·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коэффициент линейного расшир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648320" y="990360"/>
            <a:ext cx="40384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формация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формы и размеров тела под действием си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380880" y="2590920"/>
            <a:ext cx="2652840" cy="26668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rcRect l="22500" t="35003" r="6249" b="11670"/>
          <a:stretch/>
        </p:blipFill>
        <p:spPr>
          <a:xfrm>
            <a:off x="4495680" y="2362320"/>
            <a:ext cx="4343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Физические свойства твердых тел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36576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 действием приложенных внешних сил твердые тела изменяют свою форму и объем - деформируются. Если после прекращения действия силы, форма и объем тела полностью восстанавливаются, то деформацию называют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пруго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а тело - абсолютно упругим. Деформации, которые не исчезают после прекращения действия сил, называются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ластическим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а тела - пластичны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105520" y="160020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029200" y="32767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105520" y="2437920"/>
            <a:ext cx="3808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2286000"/>
            <a:ext cx="685800" cy="77760"/>
          </a:xfrm>
          <a:custGeom>
            <a:avLst/>
            <a:gdLst/>
            <a:ahLst/>
            <a:rect l="l" t="t" r="r" b="b"/>
            <a:pathLst>
              <a:path w="2032" h="1">
                <a:moveTo>
                  <a:pt x="0" y="0"/>
                </a:moveTo>
                <a:cubicBezTo>
                  <a:pt x="712" y="0"/>
                  <a:pt x="1424" y="0"/>
                  <a:pt x="1728" y="0"/>
                </a:cubicBezTo>
                <a:cubicBezTo>
                  <a:pt x="2032" y="0"/>
                  <a:pt x="1928" y="0"/>
                  <a:pt x="182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75" name=""/>
          <p:cNvCxnSpPr>
            <a:stCxn id="573" idx="0"/>
            <a:endCxn id="574" idx="0"/>
          </p:cNvCxnSpPr>
          <p:nvPr/>
        </p:nvCxnSpPr>
        <p:spPr>
          <a:xfrm flipH="1" flipV="1" rot="5400000">
            <a:off x="5524200" y="2247120"/>
            <a:ext cx="153000" cy="2293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76" name=""/>
          <p:cNvCxnSpPr/>
          <p:nvPr/>
        </p:nvCxnSpPr>
        <p:spPr>
          <a:xfrm flipV="1">
            <a:off x="6248520" y="1752120"/>
            <a:ext cx="832320" cy="534240"/>
          </a:xfrm>
          <a:prstGeom prst="curvedConnector5">
            <a:avLst>
              <a:gd name="adj1" fmla="val 51882"/>
              <a:gd name="adj2" fmla="val 49966"/>
              <a:gd name="adj3" fmla="val 51882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77" name=""/>
          <p:cNvCxnSpPr/>
          <p:nvPr/>
        </p:nvCxnSpPr>
        <p:spPr>
          <a:xfrm flipH="1" rot="16200000">
            <a:off x="7085520" y="1752120"/>
            <a:ext cx="229320" cy="229320"/>
          </a:xfrm>
          <a:prstGeom prst="curvedConnector5">
            <a:avLst>
              <a:gd name="adj1" fmla="val 4716"/>
              <a:gd name="adj2" fmla="val 50000"/>
              <a:gd name="adj3" fmla="val 4716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4802040" y="1371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291160" y="31608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105520" y="2438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105520" y="2286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105160" y="17524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876920" y="3124080"/>
            <a:ext cx="2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725360" y="2286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уп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724280" y="205740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л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152388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41152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548320" y="2068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248520" y="19810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010280" y="1447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413240" y="3733920"/>
            <a:ext cx="473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– 1 –область упругих деформ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– 2 – область пластичных деформ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– 3 – текуче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– предел проч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2T19:21:53Z</dcterms:created>
  <dc:creator>Ирина</dc:creator>
  <dc:description/>
  <dc:language>en-US</dc:language>
  <cp:lastModifiedBy>Ирина</cp:lastModifiedBy>
  <dcterms:modified xsi:type="dcterms:W3CDTF">2020-11-06T15:25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