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81D-8594-46F3-9658-1AB2694D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D1D-3BB1-486D-84AA-DA421839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B87-8FC7-4BB1-8A0B-0D5665DE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CAE-B5ED-459F-AAC0-90AA9984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8521-8D59-4289-A43B-DB788CE4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FBBC-D907-4600-A1FD-0B1B2069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D60D-E2AD-4950-8150-07458FB5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B641-F168-4D71-B7F0-9BBEE6C7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117E-13F8-4767-B781-24E42B12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5DF6-466D-46E2-B9DA-AD79A60E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D579-BE94-4F12-9CC2-D376696A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AF8-E8BF-4C8F-A610-A96FBED9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6320-E2A0-4FEC-B7DD-AEBABE4A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8A1E-3028-4BF9-87F1-E488DD3C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722E-85A8-4060-814C-616FDB2C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AF05-5235-44F4-B4A0-A7983892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0155-6DF8-46B2-80F4-2BC8BABD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82203F-1CB5-4F01-A821-1D2D647C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6E229-CA50-4C56-8DE3-4A59A1E0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A3460-113F-4BFE-81BB-E426DB12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4AE59-F183-4AF7-81B0-236C7EB9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ED146-EEC9-4509-8C97-5FC30706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05E7-C3AC-44B7-A406-066FF23C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EB4F0-DA6B-492A-83FD-A6EB9E5A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8F4A2-CF68-4343-A308-C1A8FC08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67C4C-5E83-4DDA-82CF-8F27632F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9B5FA-4A5A-4C93-B071-BF8DE33F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25BAB-1E05-457E-92C8-20251FCB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2BFBC-BA24-40A4-9382-D3307EDE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40CF1-9BB9-4A6E-B530-876F8688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30250-A7ED-407A-AE45-56375664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E9B4E-23E1-41DD-A8A7-2175398A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2F5C6-B3A5-484A-9C09-A26590BB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B99-B5AF-4627-9617-B04607D5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97E0D-CE33-4F4D-8F9E-991C7110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77B15-C98F-45AD-B58C-978BD542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B10DD-AEBE-4A2C-9E41-6E2EB4B7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28F21-CE8D-43EE-AD9D-F7A6AF47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C392D-4D4C-407A-89C3-E57E916E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58C26-2ACB-4AAB-B7DB-BF70F543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457D6-1049-4492-912D-F179D992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49FD-E86B-4BF4-B96F-24A3AFC8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1B4E4-70B7-4727-9B4E-4EDB8923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0DB-2AAC-4AE6-88E6-64D7E0DC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CD1-DF4B-49E1-A46C-26E95752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A30A-EE11-4882-953B-51F0C2DD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931-BE53-4870-8C56-87D45F4F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216-0C21-4E2F-9C7B-5674D366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EACF-76B3-40C9-A377-40543B3AF71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9A9A-9222-4081-BF2D-5B34E23D10C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FA0F-9BCE-4D12-BE09-0BA8C251817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C134-D5C4-4320-AE95-064083DDB58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Делители и кратные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161960" y="443664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рок для обучающиеся 6 клас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азовите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три  числа, для которых 18 будет кратны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три числа, которые будут кратными числа 18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все числа, для которых число 12 будет кратны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утник Земли делает один оборот за 1 час 40 минут, а второй оборот – за 100 минут. Как это получается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У продавца имеется много гирь весом 3 кг и 5 кг. Может ли он взвесить товар массой 29 кг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928600"/>
            <a:ext cx="822960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: 3,6,9,12,15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: 5,10,15,20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*3+5*4=29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Можно ли 64 ручки разложить поровну, ответ обоснуйте: 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а) в 10 наборов; б) в 32 набора;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rebuchet MS"/>
              </a:rPr>
              <a:t>в) в 16 наборов; г) в 22 набора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амостоятельная работ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50920" y="1305000"/>
          <a:ext cx="8713800" cy="526248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49705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пишите в порядке возрастания все делители числа 3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пишите кратные числа 14, но меньше 5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пишите 3 числа, кратные числу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зовите три натуральные числа, для которых число 24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) будет кратным; б) будет делителе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 Докажите, что число 65484 кратно числу 321, а число 432 является делителем числа 21859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пишите в порядке убывания все делители числа 2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пишите кратные числа 25, но меньше 10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пишите 3 числа, кратные числу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Georg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зовите три натуральные числа, для которых число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) будет кратным; б) будет делителе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 Докажите, что число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7515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ратно числу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, а число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4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является делителем числ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1991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Домашнее зад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.4 прави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8, 27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5T09:20:53Z</dcterms:created>
  <dc:creator>BEST</dc:creator>
  <dc:description/>
  <dc:language>en-US</dc:language>
  <cp:lastModifiedBy>Домашний</cp:lastModifiedBy>
  <dcterms:modified xsi:type="dcterms:W3CDTF">2020-11-06T18:59:16Z</dcterms:modified>
  <cp:revision>8</cp:revision>
  <dc:subject/>
  <dc:title>Делители и кратные</dc:title>
</cp:coreProperties>
</file>