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F68-498C-41F8-B07E-136D52EB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A12-209B-4410-8304-5E3C7668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529-BBFB-4904-ADBF-A22C4217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54B-B09A-4B2D-B3EF-1CC2D579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112F-8B9F-435A-99E8-B6FCF0E0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E207-33B8-48F0-A4C6-95D5AD12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3797-0858-436A-8AE5-34946EE3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83FE-6244-491D-904B-3B976D65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D76A-948F-4F96-B1D6-821ABE64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C477-225E-48C1-9E74-2661D77A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0BE4-5B4F-4887-9AB8-AD40C74C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C4A-9403-45ED-99D9-52E13FF4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D030-5219-4E84-9702-5E04EB1E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BA94-997B-48BE-9EE3-4DB366C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98CB-2D79-4AAD-B15C-5E04C923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3E3E-C3CA-4631-8F55-00F7C0FA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61FF-A332-4BBB-BAF2-9F2A758F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B56BE-7498-4957-8AE9-46C05F6E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A4C73-CC1E-4218-939C-D4278F9F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F00A2-1F4A-47D7-9053-2DFB3600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07553-BB58-42ED-AAA3-2EDEEF1E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C734A-9F74-41B0-96D5-B86A54FF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563-1D74-44F8-80EA-CDCB382D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D0E70-A7C1-4B38-A928-9AF40797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C5FAE-82AC-4FBA-88B7-1E98B3C0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C223E-F941-435D-A960-4E10426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5F5C6-9910-41C2-9AD0-86916AF2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77BE1-CD1C-4E10-98F2-254AF81B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4BE9C-875A-4978-8F9D-C7E365BC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31474-1437-4572-A62A-04B5B987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0ACDD-381B-49CA-A06C-4234B58A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6C404-89E8-421B-BA57-6B9144DC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D2A9-6A8F-47DB-9DAA-04972488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477-1A7F-485D-A9F0-D0402E4B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D5EC-7D53-4EBA-8C7C-9E636EB5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6820F-D22B-4562-9812-54A5F369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C4B06-64D8-4D95-8514-7954B83D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DC886-C251-4634-8F01-B6953E14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8EA5-439E-47D0-92A1-1704A3C2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14E0-FF0F-4790-A4CC-DD1AC14D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A2968-C36A-4718-B077-4BB7B2BE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A3C1-46DF-4197-90D3-0F555231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17582-EE9E-471E-B8AB-9978D2F4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459-37D9-4B3C-8AC8-C017AD16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4DF-4E15-4484-9A0F-7F6B7374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57E-78FD-4B56-93EF-DBA1B961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196-940C-4683-A844-D808BE8B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830-D646-44D9-8113-1F941457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E5A2-18B5-4828-9415-D3D0AEECC26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6FF8-4C3E-41EE-9F65-9183AD9384D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FF58-953F-4677-B1FE-5DB763F7CBC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B4AA-5003-42E2-BCE0-929FE3F5034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Делители и кратные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61960" y="443664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рок для обучающиеся 6 кла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зовите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три  числа, для которых 18 будет кратны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три числа, которые будут кратными числа 18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все числа, для которых число 12 будет кратны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утник Земли делает один оборот за 1 час 40 минут, а второй оборот – за 100 минут. Как это получается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У продавца имеется много гирь весом 3 кг и 5 кг. Может ли он взвесить товар массой 29 кг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928600"/>
            <a:ext cx="82296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: 3,6,9,12,15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: 5,10,15,20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*3+5*4=29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Можно ли 64 ручки разложить поровну, ответ обоснуйте: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а) в 10 наборов; б) в 32 набора;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в) в 16 наборов; г) в 22 набора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амостоятельная рабо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50920" y="1305000"/>
          <a:ext cx="8713800" cy="526248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4970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в порядке возрастания все делители числа 3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кратные числа 14, но меньше 5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3 числа, кратные числу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зовите три натуральные числа, для которых число 24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будет кратным; б) будет делител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 Докажите, что число 65484 кратно числу 321, а число 432 является делителем числа 21859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в порядке убывания все делители числа 2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кратные числа 25, но меньше 10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3 числа, кратные числу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зовите три натуральные числа, для которых число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будет кратным; б) будет делител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 Докажите, что число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751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ратно числу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 а число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4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вляется делителем числ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199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.4 прави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8, 27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5T09:20:53Z</dcterms:created>
  <dc:creator>BEST</dc:creator>
  <dc:description/>
  <dc:language>en-US</dc:language>
  <cp:lastModifiedBy>Домашний</cp:lastModifiedBy>
  <dcterms:modified xsi:type="dcterms:W3CDTF">2020-11-06T18:59:16Z</dcterms:modified>
  <cp:revision>8</cp:revision>
  <dc:subject/>
  <dc:title>Делители и кратные</dc:title>
</cp:coreProperties>
</file>