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laser.wav" ContentType="audio/x-wav"/>
  <Override PartName="/ppt/media/chimes.wav" ContentType="audio/x-wav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929-65EE-444D-B840-A94A2284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BB1-B6F9-4095-92C2-4791244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372-D9DC-4E98-AE23-30A1B6B6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632-D4FA-44AF-B86A-6298667F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E615-B9EA-4F24-80E7-AB05A9A7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C36C-8975-4E83-909B-2227AD4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A4C-2492-4A07-8B21-5E3B6FC6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5205-3DC7-44C7-A210-5A4BE912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1A9A-D298-4A36-8F9E-BEC4E1C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A083-699B-4328-A5AD-9F08C118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7EED-EF79-473E-A49A-5482E9B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3DD-7ADB-4F91-AC48-FF5352C8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725-5BF8-4292-9772-B8F9FB8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E72-21F2-437D-B1D5-CF82DA0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5170-113B-4146-ADA1-12C069E0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9C0A-6D82-4DC0-8CA4-8589ED1F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4C08-CE77-4B1A-89A5-4DE826FA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0D8-6D83-4D92-A3A6-FD6E7C7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9F1-9027-49A0-9818-E2B86FE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33F-35F1-4D4E-9C40-F7FFC749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657-99B6-430B-9D9B-1498215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4B7-02FA-477A-B5D8-F65FA91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EC-5706-456F-8754-6F3EE6C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E3B-A045-428F-A87F-442457BA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C168-2A0B-4EE6-8C8E-EB34D0BEAF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C1A-2F80-44AD-962A-BE4F605AEE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28"/>
          <p:cNvSpPr/>
          <p:nvPr/>
        </p:nvSpPr>
        <p:spPr>
          <a:xfrm>
            <a:off x="304920" y="60948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стихотворениях русских поэ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3" descr="война 2.jpg"/>
          <p:cNvPicPr/>
          <p:nvPr/>
        </p:nvPicPr>
        <p:blipFill>
          <a:blip r:embed="rId1"/>
          <a:stretch/>
        </p:blipFill>
        <p:spPr>
          <a:xfrm>
            <a:off x="1285920" y="2571840"/>
            <a:ext cx="6215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68040"/>
            <a:ext cx="86868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«Его зарыли в шар земной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1857240"/>
            <a:ext cx="89154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стихотворение – памятник Неизвест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лдату, Вечный Огонь, зажённый в его ч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ерть одного человека, его подвиг приобре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ленский масштаб, когда от судьбы, от поступка одного человека зависит судьба всей Земли. Солдат не просто похоронен – его «зарыли в шар земной». «Ему как мавзолей земля» – образ мавзолея – образ вечности, благодарной памя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4" descr="008.JPG"/>
          <p:cNvPicPr/>
          <p:nvPr/>
        </p:nvPicPr>
        <p:blipFill>
          <a:blip r:embed="rId1"/>
          <a:stretch/>
        </p:blipFill>
        <p:spPr>
          <a:xfrm>
            <a:off x="4191120" y="4800600"/>
            <a:ext cx="243828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0760" y="152280"/>
            <a:ext cx="4627440" cy="205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Arial Black"/>
              </a:rPr>
              <a:t>Давид Самойлов (1920 – 1990)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080" y="2438280"/>
            <a:ext cx="7772400" cy="33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авид Самойлов был двадцатилетним, когда началась война. Но первую книгу он выпустил только спустя тринадцать лет после вой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963 году он опубликовал следующую книгу, которая называлась «Второй перевал». Она открывалась стихотворением, которое стало художественным паролем всего творчества Самойлова – «Сороковы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Двойная волна 4"/>
          <p:cNvSpPr/>
          <p:nvPr/>
        </p:nvSpPr>
        <p:spPr>
          <a:xfrm>
            <a:off x="1785960" y="578628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5760 h 46080"/>
              <a:gd name="textAreaBottom" fmla="*/ 40320 h 460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Рисунок 8" descr="024.JPG"/>
          <p:cNvPicPr/>
          <p:nvPr/>
        </p:nvPicPr>
        <p:blipFill>
          <a:blip r:embed="rId1"/>
          <a:stretch/>
        </p:blipFill>
        <p:spPr>
          <a:xfrm>
            <a:off x="0" y="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00400" y="304920"/>
            <a:ext cx="50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«Сороковые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14840" y="1142640"/>
            <a:ext cx="5276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 начале стихотворения поэт показывает нам землю как бы сверху. Затем на огромном пространстве, которое пришло  в движение, мы видим маленькую точку – полустанок, здесь находится гер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Юность целого поколения совпала с великой трагедией народа, и желание жить заставляло людей умирать ради жизни других. В последней строфе смерть противопоставлена молодости и желанию жить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Война гуляет по Росси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А мы такие молоды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Круглая лента лицом вниз 8"/>
          <p:cNvSpPr/>
          <p:nvPr/>
        </p:nvSpPr>
        <p:spPr>
          <a:xfrm>
            <a:off x="914400" y="6327720"/>
            <a:ext cx="7162920" cy="53028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132480 h 530280"/>
              <a:gd name="textAreaBottom" fmla="*/ 514800 h 530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98d4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Рисунок 6" descr="008.JPG"/>
          <p:cNvPicPr/>
          <p:nvPr/>
        </p:nvPicPr>
        <p:blipFill>
          <a:blip r:embed="rId1"/>
          <a:stretch/>
        </p:blipFill>
        <p:spPr>
          <a:xfrm>
            <a:off x="214200" y="14292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5112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Благодарная память воинам!!!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41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 останется в вечной памяти нашего народа как высша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ра неодолимости его духа, стойкости и преданности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чиз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пам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 огнём обжига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орога войны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тный путь для солд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сколько по ней на войну прошага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сколько по 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вернулось назад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7621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8d43"/>
                </a:solidFill>
                <a:latin typeface="Arial"/>
              </a:rPr>
              <a:t>1941 – 1945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тавай, страна огром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тавай на смертный 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фашистской силой тёмно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проклятою орд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дёт война наро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ященная вой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бедев – Кум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Program Files\Microsoft Office\MEDIA\CAGCAT10\j0233070.wmf"/>
          <p:cNvPicPr/>
          <p:nvPr/>
        </p:nvPicPr>
        <p:blipFill>
          <a:blip r:embed="rId1"/>
          <a:stretch/>
        </p:blipFill>
        <p:spPr>
          <a:xfrm>
            <a:off x="152280" y="5214960"/>
            <a:ext cx="2743200" cy="13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155160"/>
            <a:ext cx="5219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428400"/>
            <a:ext cx="8569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ликая Отечественная войн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ла огромное воздействие как на дальнейший ход истории, так и на развитие мировой и особенно рус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еликую народную беду сразу откликнулись и</a:t>
            </a:r>
            <a:r>
              <a:rPr b="0" lang="ru-RU" sz="2400" spc="-1" strike="noStrike">
                <a:solidFill>
                  <a:srgbClr val="5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эты</a:t>
            </a:r>
            <a:r>
              <a:rPr b="0" lang="ru-RU" sz="2400" spc="-1" strike="noStrike">
                <a:solidFill>
                  <a:srgbClr val="58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почувствовали себя призванными поддержив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ий патриотический подъем на фронте и в тыл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побед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йкость в преодолении всех выпавших на долю страны и народа испыт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403280" y="765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4" descr="война 3.jpg"/>
          <p:cNvPicPr/>
          <p:nvPr/>
        </p:nvPicPr>
        <p:blipFill>
          <a:blip r:embed="rId4"/>
          <a:stretch/>
        </p:blipFill>
        <p:spPr>
          <a:xfrm>
            <a:off x="3657600" y="4114800"/>
            <a:ext cx="5473800" cy="30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Война – трагедия и подвиг нашего нар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49976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еликая Отечественная война стала огромной трагедией и великим подвигом всего нашего народа. Войну ожидали, к ней готовились. Тем не менее война с фашистской Германией началась неожиданно и беспощадно. Несмотря на то что, казалось бы, на войне не до искусства, без него человеку ни на фронте, ни в тылу было не прожить, и поэзия была самым популярным жанром. Уже на третий день войны была создана песня, ставшая символом единства народа в борьбе с врагом, - «Священная война» на стихи Василия  Лебедева – Кумач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4" descr="фото 4.jpg"/>
          <p:cNvPicPr/>
          <p:nvPr/>
        </p:nvPicPr>
        <p:blipFill>
          <a:blip r:embed="rId3"/>
          <a:stretch/>
        </p:blipFill>
        <p:spPr>
          <a:xfrm>
            <a:off x="4071960" y="4786200"/>
            <a:ext cx="4572000" cy="1857600"/>
          </a:xfrm>
          <a:prstGeom prst="rect">
            <a:avLst/>
          </a:prstGeom>
          <a:ln w="0">
            <a:noFill/>
          </a:ln>
        </p:spPr>
      </p:pic>
      <p:pic>
        <p:nvPicPr>
          <p:cNvPr id="153" name="ПЕСНИ ПОБЕДЫ - Священная Война  (audiopoisk.com).mp3" descr=""/>
          <p:cNvPicPr/>
          <p:nvPr/>
        </p:nvPicPr>
        <p:blipFill>
          <a:blip r:embed="rId4"/>
          <a:stretch/>
        </p:blipFill>
        <p:spPr>
          <a:xfrm>
            <a:off x="321480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742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1980720"/>
            <a:ext cx="7772400" cy="34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стантин Симонов – военный корреспонден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гей Орлов – участник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вид Самойлов и его книга «Второй перевал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124080" y="285840"/>
            <a:ext cx="50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Calibri"/>
              </a:rPr>
              <a:t>Война и поэз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Рисунок 5" descr="026.JPG"/>
          <p:cNvPicPr/>
          <p:nvPr/>
        </p:nvPicPr>
        <p:blipFill>
          <a:blip r:embed="rId4"/>
          <a:stretch/>
        </p:blipFill>
        <p:spPr>
          <a:xfrm>
            <a:off x="0" y="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00320" y="355680"/>
            <a:ext cx="604368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Константин Симонов</a:t>
            </a:r>
            <a:br>
              <a:rPr sz="4400"/>
            </a:b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(1945 – 1979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2666520"/>
            <a:ext cx="835812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известный поэт, прошедший всю вой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рреспондентом газеты «Красная звез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 переезжал с фронта на фронт, зн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йну «изнутр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ть у Симонова стихи, которые солдаты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фицеры носят у себя на груди,- носят потому, что строки эти отвечают тому, что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их на серд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5" descr="007.JPG"/>
          <p:cNvPicPr/>
          <p:nvPr/>
        </p:nvPicPr>
        <p:blipFill>
          <a:blip r:embed="rId1"/>
          <a:stretch/>
        </p:blipFill>
        <p:spPr>
          <a:xfrm>
            <a:off x="142920" y="2142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16120" y="220680"/>
            <a:ext cx="5842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e157"/>
                </a:solidFill>
                <a:latin typeface="Arial Black"/>
              </a:rPr>
              <a:t>«Ты помнишь, Алёша, дороги Смоленщины»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2209320"/>
            <a:ext cx="822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стантин Симонов на дорогах войны увидел страшную картину отступления советских войс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ед нами предстают  картины военного быта: бесконечные дожди, усталые женщины, которые хотят напоить и накормить отступающих  голодных солдат, длинная дорога, вдоль которой стоят деревни с погостами. Стихотворение передаёт чувство горя, огромной беды, вызывает сострадание к тем, кто  пережил вой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5-конечная звезда 3"/>
          <p:cNvSpPr/>
          <p:nvPr/>
        </p:nvSpPr>
        <p:spPr>
          <a:xfrm>
            <a:off x="-357120" y="5715000"/>
            <a:ext cx="46080" cy="4608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5-конечная звезда 14"/>
          <p:cNvSpPr/>
          <p:nvPr/>
        </p:nvSpPr>
        <p:spPr>
          <a:xfrm>
            <a:off x="152280" y="502920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5-конечная звезда 15"/>
          <p:cNvSpPr/>
          <p:nvPr/>
        </p:nvSpPr>
        <p:spPr>
          <a:xfrm>
            <a:off x="2057400" y="54100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5-конечная звезда 16"/>
          <p:cNvSpPr/>
          <p:nvPr/>
        </p:nvSpPr>
        <p:spPr>
          <a:xfrm>
            <a:off x="4786200" y="5643720"/>
            <a:ext cx="46080" cy="7128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5-конечная звезда 17"/>
          <p:cNvSpPr/>
          <p:nvPr/>
        </p:nvSpPr>
        <p:spPr>
          <a:xfrm>
            <a:off x="4343400" y="594360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5-конечная звезда 18"/>
          <p:cNvSpPr/>
          <p:nvPr/>
        </p:nvSpPr>
        <p:spPr>
          <a:xfrm>
            <a:off x="6629400" y="54100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5-конечная звезда 19"/>
          <p:cNvSpPr/>
          <p:nvPr/>
        </p:nvSpPr>
        <p:spPr>
          <a:xfrm>
            <a:off x="8001000" y="49528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Рисунок 11" descr="009.JPG"/>
          <p:cNvPicPr/>
          <p:nvPr/>
        </p:nvPicPr>
        <p:blipFill>
          <a:blip r:embed="rId3"/>
          <a:stretch/>
        </p:blipFill>
        <p:spPr>
          <a:xfrm>
            <a:off x="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70" name="симонов.mp3" descr=""/>
          <p:cNvPicPr/>
          <p:nvPr/>
        </p:nvPicPr>
        <p:blipFill>
          <a:blip r:embed="rId4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229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4260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МЕРТЬ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Памяти Евгения Петро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Жди мен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4" descr="симонов 2.png"/>
          <p:cNvPicPr/>
          <p:nvPr/>
        </p:nvPicPr>
        <p:blipFill>
          <a:blip r:embed="rId1"/>
          <a:stretch/>
        </p:blipFill>
        <p:spPr>
          <a:xfrm>
            <a:off x="4267080" y="1779480"/>
            <a:ext cx="40417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50760" y="525600"/>
            <a:ext cx="57070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Сергей Орлов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(1921 – 1977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99980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ргею Орлову было 19 лет, когда началась Великая Отечественная война. Он воевал на Волховском и  Ленинградском фронтах, в 1944 году горел в танке. Шрамы от ожогов остались у него на всю жизнь. Но война оставила шрамы не только на теле, но и в душе поэта. Он всё время помнил о друзьях, погибших на войне. Первая книга его стихов вышла в 1946 году.Она называлась «Третья скорость» – скорость, на которой шли в бой тан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ила жизнь сама ме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Размышления у сгоревшего та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3" descr="016.JPG"/>
          <p:cNvPicPr/>
          <p:nvPr/>
        </p:nvPicPr>
        <p:blipFill>
          <a:blip r:embed="rId1"/>
          <a:stretch/>
        </p:blipFill>
        <p:spPr>
          <a:xfrm>
            <a:off x="142920" y="14292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Program Files\Microsoft Office\MEDIA\CAGCAT10\j0336075.wmf"/>
          <p:cNvPicPr/>
          <p:nvPr/>
        </p:nvPicPr>
        <p:blipFill>
          <a:blip r:embed="rId2"/>
          <a:stretch/>
        </p:blipFill>
        <p:spPr>
          <a:xfrm>
            <a:off x="7238880" y="5008680"/>
            <a:ext cx="1905120" cy="1849320"/>
          </a:xfrm>
          <a:prstGeom prst="rect">
            <a:avLst/>
          </a:prstGeom>
          <a:ln w="0">
            <a:noFill/>
          </a:ln>
        </p:spPr>
      </p:pic>
      <p:pic>
        <p:nvPicPr>
          <p:cNvPr id="178" name="орлов.mp3" descr=""/>
          <p:cNvPicPr/>
          <p:nvPr/>
        </p:nvPicPr>
        <p:blipFill>
          <a:blip r:embed="rId3"/>
          <a:stretch/>
        </p:blipFill>
        <p:spPr>
          <a:xfrm>
            <a:off x="6715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05:43Z</dcterms:created>
  <dc:creator>Коренная</dc:creator>
  <dc:description/>
  <dc:language>en-US</dc:language>
  <cp:lastModifiedBy>USER</cp:lastModifiedBy>
  <dcterms:modified xsi:type="dcterms:W3CDTF">2020-11-06T20:18:08Z</dcterms:modified>
  <cp:revision>183</cp:revision>
  <dc:subject/>
  <dc:title>Великая отечественная война в стихотворениях русских поэтов.</dc:title>
</cp:coreProperties>
</file>