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laser.wav" ContentType="audio/x-wav"/>
  <Override PartName="/ppt/media/chimes.wav" ContentType="audio/x-wav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C74-ABB6-4F74-96C7-98CF8EF6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4F8-310B-453F-9D93-4E016161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0DE-2243-4A24-A978-EA960801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1A0-A3D9-4F29-B6E5-8DCE0215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88BC-7BF0-42AE-89A8-4A24D56F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1D1-FE69-4493-8D6C-9F6B3320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72F1-A439-4CE2-B794-5FC4B25D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B3CB-8E5C-460B-A91C-716FE876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AD03-1909-450A-8FFB-D43699D3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2077-5DDF-4EA8-A716-3EEAED2F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2140-A74E-423C-870D-66D470D2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6DD-CF87-43DB-9D08-E5FE53B3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485-8C71-4819-ADB2-E17664B3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502-7A3B-43FC-B868-11EBC063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3DDF-42CB-42E2-B284-F8DE7AAC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0B28-F60C-4131-B9C2-8FF7BD11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8F7-8EB1-4037-BFF2-1591151B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933-950C-46ED-B8D8-26F2B746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BFA-8BD9-4CEC-939F-DCF40DCE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21C-DFA6-483D-8A13-CCAB83B1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423-5CDE-44D3-8A1E-FEBEF1F5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63F-ACBA-4062-8F0F-D07FA0FE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028-CC0B-41CC-AADD-72FC8F1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E79-7945-49AB-8C56-85919A3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E04C-59BA-4136-8073-20CA7C892C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999-BD34-449C-80CC-0B5E4241B7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28"/>
          <p:cNvSpPr/>
          <p:nvPr/>
        </p:nvSpPr>
        <p:spPr>
          <a:xfrm>
            <a:off x="304920" y="609480"/>
            <a:ext cx="8076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ликая Отечественная вой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 стихотворениях русских поэ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3" descr="война 2.jpg"/>
          <p:cNvPicPr/>
          <p:nvPr/>
        </p:nvPicPr>
        <p:blipFill>
          <a:blip r:embed="rId1"/>
          <a:stretch/>
        </p:blipFill>
        <p:spPr>
          <a:xfrm>
            <a:off x="1285920" y="2571840"/>
            <a:ext cx="62150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68040"/>
            <a:ext cx="86868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«Его зарыли в шар земной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1857240"/>
            <a:ext cx="89154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стихотворение – памятник Неизвест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лдату, Вечный Огонь, зажённый в его че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мерть одного человека, его подвиг приобрет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ленский масштаб, когда от судьбы, от поступка одного человека зависит судьба всей Земли. Солдат не просто похоронен – его «зарыли в шар земной». «Ему как мавзолей земля» – образ мавзолея – образ вечности, благодарной памя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Рисунок 4" descr="008.JPG"/>
          <p:cNvPicPr/>
          <p:nvPr/>
        </p:nvPicPr>
        <p:blipFill>
          <a:blip r:embed="rId1"/>
          <a:stretch/>
        </p:blipFill>
        <p:spPr>
          <a:xfrm>
            <a:off x="4191120" y="4800600"/>
            <a:ext cx="2438280" cy="13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30760" y="152280"/>
            <a:ext cx="4627440" cy="205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cc00"/>
                </a:solidFill>
                <a:latin typeface="Arial Black"/>
              </a:rPr>
              <a:t>Давид Самойлов (1920 – 1990)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080" y="2438280"/>
            <a:ext cx="7772400" cy="33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авид Самойлов был двадцатилетним, когда началась война. Но первую книгу он выпустил только спустя тринадцать лет после вой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1963 году он опубликовал следующую книгу, которая называлась «Второй перевал». Она открывалась стихотворением, которое стало художественным паролем всего творчества Самойлова – «Сороковые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Двойная волна 4"/>
          <p:cNvSpPr/>
          <p:nvPr/>
        </p:nvSpPr>
        <p:spPr>
          <a:xfrm>
            <a:off x="1785960" y="578628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5760 h 46080"/>
              <a:gd name="textAreaBottom" fmla="*/ 40320 h 460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Рисунок 8" descr="024.JPG"/>
          <p:cNvPicPr/>
          <p:nvPr/>
        </p:nvPicPr>
        <p:blipFill>
          <a:blip r:embed="rId1"/>
          <a:stretch/>
        </p:blipFill>
        <p:spPr>
          <a:xfrm>
            <a:off x="0" y="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00400" y="304920"/>
            <a:ext cx="50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8d43"/>
                </a:solidFill>
                <a:latin typeface="Arial Black"/>
              </a:rPr>
              <a:t>«Сороковые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14840" y="1142640"/>
            <a:ext cx="5276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В начале стихотворения поэт показывает нам землю как бы сверху. Затем на огромном пространстве, которое пришло  в движение, мы видим маленькую точку – полустанок, здесь находится гер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Юность целого поколения совпала с великой трагедией народа, и желание жить заставляло людей умирать ради жизни других. В последней строфе смерть противопоставлена молодости и желанию жить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2200" spc="-1" strike="noStrike">
                <a:solidFill>
                  <a:srgbClr val="ffcc00"/>
                </a:solidFill>
                <a:latin typeface="Arial"/>
              </a:rPr>
              <a:t>Война гуляет по России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1" i="1" lang="ru-RU" sz="2200" spc="-1" strike="noStrike">
                <a:solidFill>
                  <a:srgbClr val="ffcc00"/>
                </a:solidFill>
                <a:latin typeface="Arial"/>
              </a:rPr>
              <a:t>А мы такие молодые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Круглая лента лицом вниз 8"/>
          <p:cNvSpPr/>
          <p:nvPr/>
        </p:nvSpPr>
        <p:spPr>
          <a:xfrm>
            <a:off x="914400" y="6327720"/>
            <a:ext cx="7162920" cy="530280"/>
          </a:xfrm>
          <a:custGeom>
            <a:avLst/>
            <a:gdLst>
              <a:gd name="textAreaLeft" fmla="*/ 1790640 w 7162920"/>
              <a:gd name="textAreaRight" fmla="*/ 5372280 w 7162920"/>
              <a:gd name="textAreaTop" fmla="*/ 132480 h 530280"/>
              <a:gd name="textAreaBottom" fmla="*/ 514800 h 530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98d4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Рисунок 6" descr="008.JPG"/>
          <p:cNvPicPr/>
          <p:nvPr/>
        </p:nvPicPr>
        <p:blipFill>
          <a:blip r:embed="rId1"/>
          <a:stretch/>
        </p:blipFill>
        <p:spPr>
          <a:xfrm>
            <a:off x="214200" y="142920"/>
            <a:ext cx="3714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51120"/>
            <a:ext cx="777240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Благодарная память воинам!!!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941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 останется в вечной памяти нашего народа как высшая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ра неодолимости его духа, стойкости и преданности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чиз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памя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к будто огнём обжига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орога войны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тный путь для солд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сколько по ней на войну прошага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сколько по 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 вернулось назад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7621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8d43"/>
                </a:solidFill>
                <a:latin typeface="Arial"/>
              </a:rPr>
              <a:t>1941 – 1945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тавай, страна огром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тавай на смертный б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фашистской силой тёмно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проклятою ордо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дёт война народ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вященная вой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ебедев – Кум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Program Files\Microsoft Office\MEDIA\CAGCAT10\j0233070.wmf"/>
          <p:cNvPicPr/>
          <p:nvPr/>
        </p:nvPicPr>
        <p:blipFill>
          <a:blip r:embed="rId1"/>
          <a:stretch/>
        </p:blipFill>
        <p:spPr>
          <a:xfrm>
            <a:off x="152280" y="5214960"/>
            <a:ext cx="2743200" cy="13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5640" y="155160"/>
            <a:ext cx="5219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428400"/>
            <a:ext cx="8569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еликая Отечественная войн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ла огромное воздействие как на дальнейший ход истории, так и на развитие мировой и особенно русско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еликую народную беду сразу откликнулись и</a:t>
            </a:r>
            <a:r>
              <a:rPr b="0" lang="ru-RU" sz="2400" spc="-1" strike="noStrike">
                <a:solidFill>
                  <a:srgbClr val="58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эты</a:t>
            </a:r>
            <a:r>
              <a:rPr b="0" lang="ru-RU" sz="2400" spc="-1" strike="noStrike">
                <a:solidFill>
                  <a:srgbClr val="58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почувствовали себя призванными поддержив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ий патриотический подъем на фронте и в тыл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ренность в побед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йкость в преодолении всех выпавших на долю страны и народа испыт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403280" y="765000"/>
            <a:ext cx="24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4" descr="война 3.jpg"/>
          <p:cNvPicPr/>
          <p:nvPr/>
        </p:nvPicPr>
        <p:blipFill>
          <a:blip r:embed="rId4"/>
          <a:stretch/>
        </p:blipFill>
        <p:spPr>
          <a:xfrm>
            <a:off x="3657600" y="4114800"/>
            <a:ext cx="5473800" cy="30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Война – трагедия и подвиг нашего народ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499760"/>
            <a:ext cx="8329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еликая Отечественная война стала огромной трагедией и великим подвигом всего нашего народа. Войну ожидали, к ней готовились. Тем не менее война с фашистской Германией началась неожиданно и беспощадно. Несмотря на то что, казалось бы, на войне не до искусства, без него человеку ни на фронте, ни в тылу было не прожить, и поэзия была самым популярным жанром. Уже на третий день войны была создана песня, ставшая символом единства народа в борьбе с врагом, - «Священная война» на стихи Василия  Лебедева – Кумача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Рисунок 4" descr="фото 4.jpg"/>
          <p:cNvPicPr/>
          <p:nvPr/>
        </p:nvPicPr>
        <p:blipFill>
          <a:blip r:embed="rId3"/>
          <a:stretch/>
        </p:blipFill>
        <p:spPr>
          <a:xfrm>
            <a:off x="4071960" y="4786200"/>
            <a:ext cx="4572000" cy="1857600"/>
          </a:xfrm>
          <a:prstGeom prst="rect">
            <a:avLst/>
          </a:prstGeom>
          <a:ln w="0">
            <a:noFill/>
          </a:ln>
        </p:spPr>
      </p:pic>
      <p:pic>
        <p:nvPicPr>
          <p:cNvPr id="153" name="ПЕСНИ ПОБЕДЫ - Священная Война  (audiopoisk.com).mp3" descr=""/>
          <p:cNvPicPr/>
          <p:nvPr/>
        </p:nvPicPr>
        <p:blipFill>
          <a:blip r:embed="rId4"/>
          <a:stretch/>
        </p:blipFill>
        <p:spPr>
          <a:xfrm>
            <a:off x="321480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9742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1980720"/>
            <a:ext cx="7772400" cy="34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нстантин Симонов – военный корреспонден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ергей Орлов – участник вой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авид Самойлов и его книга «Второй перевал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124080" y="285840"/>
            <a:ext cx="50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Calibri"/>
              </a:rPr>
              <a:t>Война и поэз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Рисунок 5" descr="026.JPG"/>
          <p:cNvPicPr/>
          <p:nvPr/>
        </p:nvPicPr>
        <p:blipFill>
          <a:blip r:embed="rId4"/>
          <a:stretch/>
        </p:blipFill>
        <p:spPr>
          <a:xfrm>
            <a:off x="0" y="0"/>
            <a:ext cx="28576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00320" y="355680"/>
            <a:ext cx="604368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98d43"/>
                </a:solidFill>
                <a:latin typeface="Arial Black"/>
              </a:rPr>
              <a:t>Константин Симонов</a:t>
            </a:r>
            <a:br>
              <a:rPr sz="4400"/>
            </a:br>
            <a:r>
              <a:rPr b="0" lang="ru-RU" sz="4400" spc="-1" strike="noStrike">
                <a:solidFill>
                  <a:srgbClr val="f98d43"/>
                </a:solidFill>
                <a:latin typeface="Arial Black"/>
              </a:rPr>
              <a:t>(1945 – 1979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2666520"/>
            <a:ext cx="835812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известный поэт, прошедший всю вой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рреспондентом газеты «Красная звез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н переезжал с фронта на фронт, зн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йну «изнутр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Есть у Симонова стихи, которые солдаты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фицеры носят у себя на груди,- носят потому, что строки эти отвечают тому, что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их на сердц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5" descr="007.JPG"/>
          <p:cNvPicPr/>
          <p:nvPr/>
        </p:nvPicPr>
        <p:blipFill>
          <a:blip r:embed="rId1"/>
          <a:stretch/>
        </p:blipFill>
        <p:spPr>
          <a:xfrm>
            <a:off x="142920" y="214200"/>
            <a:ext cx="2928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16120" y="220680"/>
            <a:ext cx="584208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ce157"/>
                </a:solidFill>
                <a:latin typeface="Arial Black"/>
              </a:rPr>
              <a:t>«Ты помнишь, Алёша, дороги Смоленщины»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2209320"/>
            <a:ext cx="82296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нстантин Симонов на дорогах войны увидел страшную картину отступления советских войс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еред нами предстают  картины военного быта: бесконечные дожди, усталые женщины, которые хотят напоить и накормить отступающих  голодных солдат, длинная дорога, вдоль которой стоят деревни с погостами. Стихотворение передаёт чувство горя, огромной беды, вызывает сострадание к тем, кто  пережил вой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5-конечная звезда 3"/>
          <p:cNvSpPr/>
          <p:nvPr/>
        </p:nvSpPr>
        <p:spPr>
          <a:xfrm>
            <a:off x="-357120" y="5715000"/>
            <a:ext cx="46080" cy="4608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5-конечная звезда 14"/>
          <p:cNvSpPr/>
          <p:nvPr/>
        </p:nvSpPr>
        <p:spPr>
          <a:xfrm>
            <a:off x="152280" y="502920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5-конечная звезда 15"/>
          <p:cNvSpPr/>
          <p:nvPr/>
        </p:nvSpPr>
        <p:spPr>
          <a:xfrm>
            <a:off x="2057400" y="541008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5-конечная звезда 16"/>
          <p:cNvSpPr/>
          <p:nvPr/>
        </p:nvSpPr>
        <p:spPr>
          <a:xfrm>
            <a:off x="4786200" y="5643720"/>
            <a:ext cx="46080" cy="7128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5-конечная звезда 17"/>
          <p:cNvSpPr/>
          <p:nvPr/>
        </p:nvSpPr>
        <p:spPr>
          <a:xfrm>
            <a:off x="4343400" y="594360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5-конечная звезда 18"/>
          <p:cNvSpPr/>
          <p:nvPr/>
        </p:nvSpPr>
        <p:spPr>
          <a:xfrm>
            <a:off x="6629400" y="541008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5-конечная звезда 19"/>
          <p:cNvSpPr/>
          <p:nvPr/>
        </p:nvSpPr>
        <p:spPr>
          <a:xfrm>
            <a:off x="8001000" y="4952880"/>
            <a:ext cx="914400" cy="914400"/>
          </a:xfrm>
          <a:prstGeom prst="pie">
            <a:avLst/>
          </a:prstGeom>
          <a:solidFill>
            <a:srgbClr val="9ce157"/>
          </a:solidFill>
          <a:ln w="25560">
            <a:solidFill>
              <a:srgbClr val="71a5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Рисунок 11" descr="009.JPG"/>
          <p:cNvPicPr/>
          <p:nvPr/>
        </p:nvPicPr>
        <p:blipFill>
          <a:blip r:embed="rId3"/>
          <a:stretch/>
        </p:blipFill>
        <p:spPr>
          <a:xfrm>
            <a:off x="0" y="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170" name="симонов.mp3" descr=""/>
          <p:cNvPicPr/>
          <p:nvPr/>
        </p:nvPicPr>
        <p:blipFill>
          <a:blip r:embed="rId4"/>
          <a:stretch/>
        </p:blipFill>
        <p:spPr>
          <a:xfrm>
            <a:off x="828684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229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42600"/>
            <a:ext cx="77724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МЕРТЬ Д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ffc000"/>
                </a:solidFill>
                <a:latin typeface="Arial"/>
              </a:rPr>
              <a:t>Памяти Евгения Петров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Жди мен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Рисунок 4" descr="симонов 2.png"/>
          <p:cNvPicPr/>
          <p:nvPr/>
        </p:nvPicPr>
        <p:blipFill>
          <a:blip r:embed="rId1"/>
          <a:stretch/>
        </p:blipFill>
        <p:spPr>
          <a:xfrm>
            <a:off x="4267080" y="1779480"/>
            <a:ext cx="404172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50760" y="525600"/>
            <a:ext cx="57070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Сергей Орлов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(1921 – 1977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99980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ергею Орлову было 19 лет, когда началась Великая Отечественная война. Он воевал на Волховском и  Ленинградском фронтах, в 1944 году горел в танке. Шрамы от ожогов остались у него на всю жизнь. Но война оставила шрамы не только на теле, но и в душе поэта. Он всё время помнил о друзьях, погибших на войне. Первая книга его стихов вышла в 1946 году.Она называлась «Третья скорость» – скорость, на которой шли в бой тан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чила жизнь сама ме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Размышления у сгоревшего та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Рисунок 3" descr="016.JPG"/>
          <p:cNvPicPr/>
          <p:nvPr/>
        </p:nvPicPr>
        <p:blipFill>
          <a:blip r:embed="rId1"/>
          <a:stretch/>
        </p:blipFill>
        <p:spPr>
          <a:xfrm>
            <a:off x="142920" y="142920"/>
            <a:ext cx="2428920" cy="1857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Program Files\Microsoft Office\MEDIA\CAGCAT10\j0336075.wmf"/>
          <p:cNvPicPr/>
          <p:nvPr/>
        </p:nvPicPr>
        <p:blipFill>
          <a:blip r:embed="rId2"/>
          <a:stretch/>
        </p:blipFill>
        <p:spPr>
          <a:xfrm>
            <a:off x="7238880" y="5008680"/>
            <a:ext cx="1905120" cy="1849320"/>
          </a:xfrm>
          <a:prstGeom prst="rect">
            <a:avLst/>
          </a:prstGeom>
          <a:ln w="0">
            <a:noFill/>
          </a:ln>
        </p:spPr>
      </p:pic>
      <p:pic>
        <p:nvPicPr>
          <p:cNvPr id="178" name="орлов.mp3" descr=""/>
          <p:cNvPicPr/>
          <p:nvPr/>
        </p:nvPicPr>
        <p:blipFill>
          <a:blip r:embed="rId3"/>
          <a:stretch/>
        </p:blipFill>
        <p:spPr>
          <a:xfrm>
            <a:off x="67150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6:05:43Z</dcterms:created>
  <dc:creator>Коренная</dc:creator>
  <dc:description/>
  <dc:language>en-US</dc:language>
  <cp:lastModifiedBy>USER</cp:lastModifiedBy>
  <dcterms:modified xsi:type="dcterms:W3CDTF">2020-11-06T20:18:08Z</dcterms:modified>
  <cp:revision>183</cp:revision>
  <dc:subject/>
  <dc:title>Великая отечественная война в стихотворениях русских поэтов.</dc:title>
</cp:coreProperties>
</file>