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AC4-157A-4DF8-99F0-421818C7A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435A-4F98-40F4-95DF-3BFD76E05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FE9-E7B1-4C64-8DDF-8179B134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61D-5AB3-4243-AC19-3D6D739A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E63-202A-4EAF-B8E7-BEE8FAA4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3DF-E38E-4A62-B0C3-8F8BCD5F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2A50A-309B-4754-8F49-4BA92019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3077C-3857-4410-823F-651443CF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CAFF4-C586-4B09-A10C-92BC2EF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E0229-677A-4BE2-8333-1DD1B9B3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F5AF6-08FC-472C-A828-C8728045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80AA7-803B-4467-BA31-6AAEE83B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6DF16-B5C5-473B-858D-E05046BB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A96-3055-404D-A996-EFBD2F1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6823E-ACFB-455F-BDFF-9809F157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11EC6-CE7B-44C0-8B05-85557CA4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C3CE6-7B9C-4FC6-B262-FF1A3CC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97C7B-2998-4D9A-ADBE-5A7B0298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0D96-5714-44B4-9266-4744CC0D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3522-E635-4BF5-9C3D-5849D87B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B3C0-5E15-4DB8-B239-6C6C024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2BBE-51D9-40DB-ACC5-2A966ABD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1B0F-FF1F-4D96-BCD2-7E9C5795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E63D-D515-493D-839D-A22A0338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174-E39F-4A70-A3FA-A21F5E23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2EED4-9A6B-4429-ACEF-6252918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DF95-C71C-43A6-82CE-E9956600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97620-A1CD-4B61-BCD0-27EB4340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E556-C812-46CB-A219-19EB3B7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2059A-A21E-488E-B68E-83C6A635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D0A2-22DE-43E9-90DA-D780B9AD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7C74B-9FD6-4A09-93A2-C0A3BACB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41EF-4477-494C-8F5A-C5122DCC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5B23-F27E-4B45-9601-BED51B93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88138-F03E-48C9-9883-F1C5DA7D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599-926F-4F62-BBAB-AEC631A6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7AE4-207F-44D3-8A74-0DA5CCB8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014E3-CC8A-428D-83E4-51BB4579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C2CE5-2506-464F-AECB-1470071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E0134-7280-4834-9511-A0BDC03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166F-8B86-4CEE-809B-7D297CE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0790-DE6B-45E7-90F7-9FBF137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FD92-ED69-45CD-837B-F381B5E8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A5EC-D038-4A4B-8256-CF30C397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67C66-5FCC-44E4-90BC-8D9D2C0C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17A-BFAA-4DD5-B0C6-A57C3AC4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E8F-E796-418E-AC75-DD50239E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283-E5CC-4EA2-95EC-7F760A2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48E-BA0B-40D8-A81B-F5F8EA1F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E29-B45D-4FC7-A041-81B2AEC3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BF19-BCAA-4DFD-9F62-E916DA5600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D167-9FBB-40E6-BD69-39C3B6015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a7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b3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ad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0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04D2-62FF-45F9-9892-BDB7BA3BAA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e8e8b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d1a7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0b3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8d8ad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021-816D-4BCF-9F3C-99BD654812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Georgia"/>
              </a:rPr>
              <a:t>«Целый мир от красоты…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Без уси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С плеском кры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Залетат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В мир стремл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Прекло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И моли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Радость чу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Не хочу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Georgia"/>
              </a:rPr>
              <a:t>Ваших би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304920" y="228600"/>
            <a:ext cx="88390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330033"/>
                </a:solidFill>
                <a:latin typeface="Georgia"/>
              </a:rPr>
              <a:t>С 1838г. по 1844г А.Фет учился на словесном факультете Московского университета. Однокурсниками и друзьями Афанасия Фета были будущие известные поэты Аполлон Григорьев, Яков Полонский, философ и историк Сергей Соловье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PIC4"/>
          <p:cNvPicPr/>
          <p:nvPr/>
        </p:nvPicPr>
        <p:blipFill>
          <a:blip r:embed="rId1"/>
          <a:stretch/>
        </p:blipFill>
        <p:spPr>
          <a:xfrm>
            <a:off x="755640" y="2349360"/>
            <a:ext cx="3344760" cy="388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solovev"/>
          <p:cNvPicPr/>
          <p:nvPr/>
        </p:nvPicPr>
        <p:blipFill>
          <a:blip r:embed="rId2"/>
          <a:stretch/>
        </p:blipFill>
        <p:spPr>
          <a:xfrm>
            <a:off x="5222880" y="2421000"/>
            <a:ext cx="3089160" cy="3816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143000" y="6172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047240" y="616284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Аполлон Григор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4800600" y="6172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Сергей Соло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067280" y="620640"/>
            <a:ext cx="4897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В 1840г. Вышел первый сборник стихов Афанасия Фе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«Лирический пантеон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330033"/>
                </a:solidFill>
                <a:latin typeface="Georgia"/>
              </a:rPr>
              <a:t>В.Г.Белинский писал: «Из живущих в Москве поэтов всех даровитее Фет</a:t>
            </a:r>
            <a:r>
              <a:rPr b="0" i="1" lang="ru-RU" sz="2400" spc="-1" strike="noStrike">
                <a:solidFill>
                  <a:srgbClr val="330033"/>
                </a:solidFill>
                <a:latin typeface="Georgi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belinskij"/>
          <p:cNvPicPr/>
          <p:nvPr/>
        </p:nvPicPr>
        <p:blipFill>
          <a:blip r:embed="rId1"/>
          <a:stretch/>
        </p:blipFill>
        <p:spPr>
          <a:xfrm>
            <a:off x="324000" y="620640"/>
            <a:ext cx="3733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ml_objects670"/>
          <p:cNvPicPr/>
          <p:nvPr/>
        </p:nvPicPr>
        <p:blipFill>
          <a:blip r:embed="rId1"/>
          <a:stretch/>
        </p:blipFill>
        <p:spPr>
          <a:xfrm>
            <a:off x="611280" y="0"/>
            <a:ext cx="499752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5867280" y="371628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Georgia"/>
              </a:rPr>
              <a:t>А.Фет при поступлении на службу в лейб-гвардию Уланского п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81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284720" y="1052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ICT09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Мария Лазич"/>
          <p:cNvPicPr/>
          <p:nvPr/>
        </p:nvPicPr>
        <p:blipFill>
          <a:blip r:embed="rId2"/>
          <a:srcRect l="48891" t="0" r="0" b="-9255"/>
          <a:stretch/>
        </p:blipFill>
        <p:spPr>
          <a:xfrm>
            <a:off x="468360" y="692280"/>
            <a:ext cx="2448000" cy="41050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3851280" y="2470680"/>
            <a:ext cx="274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М а р и 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Л а з и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514"/>
                </a:solidFill>
                <a:latin typeface="Georgia"/>
              </a:rPr>
              <a:t>Старые пись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99cc"/>
                </a:solidFill>
                <a:latin typeface="Georgia"/>
              </a:rPr>
              <a:t>     </a:t>
            </a: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Давно забытые, под легким слоем пыли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Черты заветные, вы вновь передо мной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И в час душевных мук мгновенно воскресили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Все, что давно-давно утрачено душо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Горя огнем стыда, опять встречают взоры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Одну доверчивость, надежду и любовь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И задушевных слов поблекшие узоры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От сердца моего к ланитам гонят кров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Я вами осужден, свидетели немы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Весны души моей и сумрачной зимы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Вы те же светлые, святые, молодые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Как тот ужасный час, когда прощались м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А я доверился предательскому звуку, -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Как будто вне любви есть в мире что-нибудь! -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Я дерзко оттолкнул писавшую вас руку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Я осудил себя на вечную разлуку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И с холодом в груди пустился в дальний путь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Зачем же с прежнею улыбкой умиленья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Шептать мне о любви, глядеть в мои глаза?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Души не воскресит и голос все прощенья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Georgia"/>
              </a:rPr>
              <a:t>Не смоет этих строк и жгучая слез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4" descr="м2"/>
          <p:cNvPicPr/>
          <p:nvPr/>
        </p:nvPicPr>
        <p:blipFill>
          <a:blip r:embed="rId1"/>
          <a:stretch/>
        </p:blipFill>
        <p:spPr>
          <a:xfrm>
            <a:off x="6156360" y="1413000"/>
            <a:ext cx="22161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ml_objects677"/>
          <p:cNvPicPr/>
          <p:nvPr/>
        </p:nvPicPr>
        <p:blipFill>
          <a:blip r:embed="rId1"/>
          <a:stretch/>
        </p:blipFill>
        <p:spPr>
          <a:xfrm>
            <a:off x="179280" y="0"/>
            <a:ext cx="417672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4500720" y="471600"/>
            <a:ext cx="431928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Как лилия глядится в нагорный руч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Ты стояла над первою песней мо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была ли при этом победа, и чья,-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У ручья ль от цветка, у цветка ль от ручья?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Ты душою младенческой все поняла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Что мне высказать тайная сила дала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хоть жизнь без тебя суждено мне влачить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Но мы вместе с тобой, нас нельзя разлучить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Та трава, что вдали, на могиле тво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Здесь, на сердце, чем старее оно, тем свеже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я знаю, взглянувши на звезды порой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Что взирали на них мы как боги с тобой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У любви есть слова, те слова не умрут.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Нас с тобой ожидает особенный суд;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Он сумеет нас сразу в толпе различить,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И мы вместе придем, нас нельзя разлучи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914400" y="0"/>
            <a:ext cx="7864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В 1850г. Выходит второй сборник стихов А.Фета, в который вошли оригинальные стихи, вызвавшие много споров, и переводы стихов немецких поэт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Gete"/>
          <p:cNvPicPr/>
          <p:nvPr/>
        </p:nvPicPr>
        <p:blipFill>
          <a:blip r:embed="rId1"/>
          <a:stretch/>
        </p:blipFill>
        <p:spPr>
          <a:xfrm>
            <a:off x="1447920" y="243828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gejne"/>
          <p:cNvPicPr/>
          <p:nvPr/>
        </p:nvPicPr>
        <p:blipFill>
          <a:blip r:embed="rId2"/>
          <a:stretch/>
        </p:blipFill>
        <p:spPr>
          <a:xfrm>
            <a:off x="5181480" y="2438280"/>
            <a:ext cx="2971800" cy="3581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558000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Г. Ге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660680" y="60912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И.В. 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Turgenev"/>
          <p:cNvPicPr/>
          <p:nvPr/>
        </p:nvPicPr>
        <p:blipFill>
          <a:blip r:embed="rId1"/>
          <a:stretch/>
        </p:blipFill>
        <p:spPr>
          <a:xfrm>
            <a:off x="4788000" y="1484280"/>
            <a:ext cx="4190760" cy="51116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И.С.Тургенев и Н.А.Некрасов редактировали 3-ий сборник стихов Ф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nekrasov"/>
          <p:cNvPicPr/>
          <p:nvPr/>
        </p:nvPicPr>
        <p:blipFill>
          <a:blip r:embed="rId2"/>
          <a:stretch/>
        </p:blipFill>
        <p:spPr>
          <a:xfrm>
            <a:off x="184320" y="1484280"/>
            <a:ext cx="4362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PICT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Боткина"/>
          <p:cNvPicPr/>
          <p:nvPr/>
        </p:nvPicPr>
        <p:blipFill>
          <a:blip r:embed="rId2"/>
          <a:stretch/>
        </p:blipFill>
        <p:spPr>
          <a:xfrm>
            <a:off x="0" y="549360"/>
            <a:ext cx="2916360" cy="5256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4211640" y="549360"/>
            <a:ext cx="46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М а р и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П е т р о в н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Б о т к и 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ml_objects673"/>
          <p:cNvPicPr/>
          <p:nvPr/>
        </p:nvPicPr>
        <p:blipFill>
          <a:blip r:embed="rId1"/>
          <a:stretch/>
        </p:blipFill>
        <p:spPr>
          <a:xfrm>
            <a:off x="395280" y="0"/>
            <a:ext cx="505152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6012000" y="220500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А.Фет – хозяин Степ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И"/>
          <p:cNvPicPr/>
          <p:nvPr/>
        </p:nvPicPr>
        <p:blipFill>
          <a:blip r:embed="rId1"/>
          <a:stretch/>
        </p:blipFill>
        <p:spPr>
          <a:xfrm>
            <a:off x="3048120" y="1066680"/>
            <a:ext cx="3517920" cy="4343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58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Georgia"/>
              </a:rPr>
              <a:t>Афанасий Фет (Шенши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828800" y="5791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Georgia"/>
              </a:rPr>
              <a:t>1820 - 18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457200" y="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4724280" y="685800"/>
            <a:ext cx="4419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514"/>
                </a:solidFill>
                <a:latin typeface="Georgia"/>
              </a:rPr>
              <a:t>В 1859г. произошел</a:t>
            </a:r>
            <a:r>
              <a:rPr b="0" lang="ru-RU" sz="3200" spc="-1" strike="noStrike">
                <a:solidFill>
                  <a:srgbClr val="99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514"/>
                </a:solidFill>
                <a:latin typeface="Georgia"/>
              </a:rPr>
              <a:t>разрыв А.Фета с журналом «Современник» после резко критической статьи о фетовском переводе Шекспира. М.Е.Салтыков-Щедрин в 1863г.написал статью «Стихотворения А.А.Фе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saltikov"/>
          <p:cNvPicPr/>
          <p:nvPr/>
        </p:nvPicPr>
        <p:blipFill>
          <a:blip r:embed="rId1"/>
          <a:stretch/>
        </p:blipFill>
        <p:spPr>
          <a:xfrm>
            <a:off x="179280" y="549360"/>
            <a:ext cx="46688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457200"/>
            <a:ext cx="9144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514"/>
                </a:solidFill>
                <a:latin typeface="Georgia"/>
              </a:rPr>
              <a:t>«Если при всей своей искренности, при всей легкости,с которой покоряет поэт сердца читателей, он все-таки должен довольствоваться долею второстепенного поэта, то причина этого заключается в том, что мир, поэтическому воспроизведению которого посвятил себя  г.Фет, довольно тесен, однообразен и ограничен.Для современного человека процесс любви  уже не представляет достаточного разнообразия».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685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Georgia"/>
              </a:rPr>
              <a:t>Д.И. Писарев ставит Фета рядом с Я.Полонским, Меем, Бенедиктовым, которых относит к поэтам «чистого искусства». Обращаясь к ним, Писарев писа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Georgia"/>
              </a:rPr>
              <a:t>«Ведь нельзя, называя себя русским поэтом, не знать того, что наша эпоха занята интересами, идеями гораздо шире и поважнее ваших любовных похождений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Georgia"/>
              </a:rPr>
              <a:t>В 1860г. Фет осуществляет свою мечту и приобретает имение на юге Мценского уезда, а в 1877г. Покупает новое имение-Воробьевку</a:t>
            </a:r>
            <a:r>
              <a:rPr b="0" lang="ru-RU" sz="3200" spc="-1" strike="noStrike">
                <a:solidFill>
                  <a:srgbClr val="330033"/>
                </a:solidFill>
                <a:latin typeface="Georgia"/>
              </a:rPr>
              <a:t>.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PIC7"/>
          <p:cNvPicPr/>
          <p:nvPr/>
        </p:nvPicPr>
        <p:blipFill>
          <a:blip r:embed="rId1"/>
          <a:stretch/>
        </p:blipFill>
        <p:spPr>
          <a:xfrm>
            <a:off x="71280" y="1989000"/>
            <a:ext cx="8964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84360" y="112536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0033"/>
                </a:solidFill>
                <a:latin typeface="Georgia"/>
              </a:rPr>
              <a:t>Рабочий каби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5148360" y="4508640"/>
            <a:ext cx="327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33"/>
                </a:solidFill>
                <a:latin typeface="Georgia"/>
              </a:rPr>
              <a:t>Гостеприимный 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PIC9"/>
          <p:cNvPicPr/>
          <p:nvPr/>
        </p:nvPicPr>
        <p:blipFill>
          <a:blip r:embed="rId1"/>
          <a:stretch/>
        </p:blipFill>
        <p:spPr>
          <a:xfrm>
            <a:off x="4356000" y="189000"/>
            <a:ext cx="4611960" cy="338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PIC8"/>
          <p:cNvPicPr/>
          <p:nvPr/>
        </p:nvPicPr>
        <p:blipFill>
          <a:blip r:embed="rId2"/>
          <a:stretch/>
        </p:blipFill>
        <p:spPr>
          <a:xfrm>
            <a:off x="179280" y="3068640"/>
            <a:ext cx="48243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457200" y="95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Georgia"/>
              </a:rPr>
              <a:t>В последние годы жизни Фет был особенно дружен с Л.Н.Толс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PIC6"/>
          <p:cNvPicPr/>
          <p:nvPr/>
        </p:nvPicPr>
        <p:blipFill>
          <a:blip r:embed="rId1"/>
          <a:stretch/>
        </p:blipFill>
        <p:spPr>
          <a:xfrm>
            <a:off x="1619280" y="1125360"/>
            <a:ext cx="60055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ml_objects681"/>
          <p:cNvPicPr/>
          <p:nvPr/>
        </p:nvPicPr>
        <p:blipFill>
          <a:blip r:embed="rId1"/>
          <a:stretch/>
        </p:blipFill>
        <p:spPr>
          <a:xfrm>
            <a:off x="250920" y="0"/>
            <a:ext cx="521496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5651640" y="522936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Т.Бернс (Кузьминская), младшая сестра С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-23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9" name="Picture 4" descr="Террариум 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"/>
          <p:cNvSpPr/>
          <p:nvPr/>
        </p:nvSpPr>
        <p:spPr>
          <a:xfrm>
            <a:off x="4716360" y="4581360"/>
            <a:ext cx="38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Эта з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Эта вес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Так непостижна, зато так яс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Счастья ли пол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Плачу ли 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Ты - благодатная тайн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24000" y="46530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Сад весь в цве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ечер в ог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Так освежительно-радостно мн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от я сто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Вот я и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e1"/>
                </a:solidFill>
                <a:latin typeface="Arial"/>
              </a:rPr>
              <a:t>Словно таинственно речи я ж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ализ стихотворения «Шепот, робкое дыхань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-6163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77724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«Целый мир от красоты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Georgia"/>
              </a:rPr>
              <a:t>(жизнь и творчество Афанасия Фет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259160" cy="631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Отец Фета - Афанасий Неофитович Шеншин - был военным, участвовал в войне с Наполеоном , ушел в отставку в звании ротмистра и стал служить на гражданском поприще ( избирался на должность мценского уездного предводителя дворянства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2" name="Picture 4" descr="8"/>
          <p:cNvPicPr/>
          <p:nvPr/>
        </p:nvPicPr>
        <p:blipFill>
          <a:blip r:embed="rId1"/>
          <a:stretch/>
        </p:blipFill>
        <p:spPr>
          <a:xfrm>
            <a:off x="593640" y="692280"/>
            <a:ext cx="376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4284720" cy="658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Мать Фета, в девичестве Шарлотта Беккер, принадлежала по рождению к немецкой зажиточной бюргерской семье. Шеншин был ее вторым мужем. До 1820г. жила в Дармштадте, в Германии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14" name="Picture 4" descr="Ш"/>
          <p:cNvPicPr/>
          <p:nvPr/>
        </p:nvPicPr>
        <p:blipFill>
          <a:blip r:embed="rId1"/>
          <a:stretch/>
        </p:blipFill>
        <p:spPr>
          <a:xfrm>
            <a:off x="4284720" y="907920"/>
            <a:ext cx="4479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609480"/>
            <a:ext cx="24382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Афанасий </a:t>
            </a:r>
            <a:r>
              <a:rPr b="1" i="1" lang="ru-RU" sz="3600" spc="-1" strike="noStrike">
                <a:solidFill>
                  <a:srgbClr val="330033"/>
                </a:solidFill>
                <a:latin typeface="Georgia"/>
              </a:rPr>
              <a:t>Фет</a:t>
            </a: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родился в Орловской губернии, недалеко от города Мценс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Georgia"/>
              </a:rPr>
              <a:t>в родовом имении от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PIC1"/>
          <p:cNvPicPr/>
          <p:nvPr/>
        </p:nvPicPr>
        <p:blipFill>
          <a:blip r:embed="rId1"/>
          <a:stretch/>
        </p:blipFill>
        <p:spPr>
          <a:xfrm>
            <a:off x="2484360" y="189000"/>
            <a:ext cx="65613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ml_objects668"/>
          <p:cNvPicPr/>
          <p:nvPr/>
        </p:nvPicPr>
        <p:blipFill>
          <a:blip r:embed="rId1"/>
          <a:stretch/>
        </p:blipFill>
        <p:spPr>
          <a:xfrm>
            <a:off x="0" y="260280"/>
            <a:ext cx="8677440" cy="6013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519120" y="6375240"/>
            <a:ext cx="765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0033"/>
                </a:solidFill>
                <a:latin typeface="Georgia"/>
              </a:rPr>
              <a:t>Дом от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038480" y="1143000"/>
            <a:ext cx="472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В доме отца Афанасий прожил до 14 лет. По совету В.А.Жуковского , друга отца, юношу отправили учиться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Georgia"/>
              </a:rPr>
              <a:t>г. Вееро в пансион Крюмм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gukovskS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2280" y="620640"/>
            <a:ext cx="3918240" cy="5703840"/>
          </a:xfrm>
          <a:prstGeom prst="rect">
            <a:avLst/>
          </a:prstGeom>
          <a:ln w="9360">
            <a:solidFill>
              <a:srgbClr val="cc9900"/>
            </a:solidFill>
            <a:miter/>
          </a:ln>
        </p:spPr>
      </p:pic>
      <p:sp>
        <p:nvSpPr>
          <p:cNvPr id="221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4500720" y="404640"/>
            <a:ext cx="43970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Georgia"/>
              </a:rPr>
              <a:t>В 1837г. Афанасий Фет приезжает в Москву, учится в частном  пансионе Михаила Петровича Погодина, историка, журналиста, редактора журнала «Москвитянин». В доме Погодина жил тогда приехавший из-за границы Н. В. Гоголь. Именно ему показал Погодин тетрадь со стихами А.Фе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4800600"/>
            <a:ext cx="357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Georgia"/>
              </a:rPr>
              <a:t>Н.В. Гоголь сказал : «Это несомненное да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gogol"/>
          <p:cNvPicPr/>
          <p:nvPr/>
        </p:nvPicPr>
        <p:blipFill>
          <a:blip r:embed="rId1"/>
          <a:stretch/>
        </p:blipFill>
        <p:spPr>
          <a:xfrm>
            <a:off x="565200" y="189000"/>
            <a:ext cx="3752640" cy="4535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8:36:10Z</dcterms:created>
  <dc:creator>Компьютер</dc:creator>
  <dc:description/>
  <dc:language>en-US</dc:language>
  <cp:lastModifiedBy>кабинет 2</cp:lastModifiedBy>
  <dcterms:modified xsi:type="dcterms:W3CDTF">2019-01-29T08:24:54Z</dcterms:modified>
  <cp:revision>7</cp:revision>
  <dc:subject/>
  <dc:title>Слайд 1</dc:title>
</cp:coreProperties>
</file>