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1D67-A8DC-444C-B721-263629D24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43C-BFBC-415C-B0AF-DF4838D9D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B41-0784-4B7A-8C5E-3C6D2AB0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6C6-D47D-417E-82EB-F9E94CE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B94-0E5F-4189-BB67-BAD37F7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A6D-0268-4047-9EC8-3AF61D04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A9CA9-1C17-4891-9121-BDD97418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48C94-92C2-460B-90A5-7F3FDF15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4488-5DC8-422A-8540-075B05FB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C6E62-20C7-4E35-9553-E806D1F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074E8-A55C-48C2-B234-ECDB686D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71B12-02FA-4029-9F8B-79F87309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20950-51CD-4CF0-A3A4-A9FF399A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551-08DC-4F69-96E2-B000B09A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0F98-D709-44A5-8082-F79469B6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6A7D8-54F3-4797-BE66-30A0FE5F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DD4E-56C0-42A8-B144-7B2D88FA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29BA-D942-4116-BA1C-6892C34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4667-DCED-4E58-A343-D5CF134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285E-535D-4A05-94BF-8946254D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C2F2-F204-4E0A-8DAD-05DA8B9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3264-C6DD-4017-9145-ED65762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01F1-C7A2-46B9-BD0F-AFBD16AA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F092-80F0-4322-BDB2-D237026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EA6-FAD9-44A6-B790-96F043CF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56A3-887A-4088-AFEA-0BC4F5BA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A838-200C-4AC6-BD70-EBFAC69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8AD8-F1FA-47AD-806C-DDA4BBB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D3F8-8D7E-47A3-9AAD-2DCD996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758E-405A-41DB-B5EC-25E72A18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EC71-F35B-4816-9418-A1B64509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E0FA-0271-41E3-AE07-9ABDE6E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8A85-83F6-4075-854A-414FFC08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95C3-6AA1-4C88-A832-FE549BA3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D96B9-FA6F-4C0C-A9B0-49FEBB56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9E4-38AF-4E2B-AF32-CC82F19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E95B-AADD-41FB-82F0-59D01E89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E966-315A-4D69-A31D-A30472E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52BE-0B6B-4294-A18B-AF65BA0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A4EE-50BF-4959-8E58-5074831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9B72-80F9-4961-9122-7486AC8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06C6-36E3-4BCA-851A-20AF093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36E9-62B8-4580-BBC8-0975B23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37B4-801E-4805-952B-586B55AC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3E69-52A8-4B2C-B7EE-CC15DA1C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0B1-AC3E-4CA9-9DD5-7C93C90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1FD-2DDA-4ECC-8909-004C25FC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11F-BF40-487A-93B1-DD1EF07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1B8-7638-48C5-9EB4-3473E04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EFE-2217-4463-9A4C-09869F9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A989-C6B4-4A5A-9581-3C85E5F89C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FCD-06DB-45E1-A144-EF47F31A3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a7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b3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ad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B2D4-AB82-4C60-9A06-EE68D9BDCC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a7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b3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ad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CDA-D301-476B-BF70-0DA66E03BC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Georgia"/>
              </a:rPr>
              <a:t>«Целый мир от красоты…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Без уси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С плеском кры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Залетат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В мир стремл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Прекло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И моли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Радость чу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Не хочу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Ваших би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04920" y="228600"/>
            <a:ext cx="88390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0033"/>
                </a:solidFill>
                <a:latin typeface="Georgia"/>
              </a:rPr>
              <a:t>С 1838г. по 1844г А.Фет учился на словесном факультете Московского университета. Однокурсниками и друзьями Афанасия Фета были будущие известные поэты Аполлон Григорьев, Яков Полонский, философ и историк Сергей Соловье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PIC4"/>
          <p:cNvPicPr/>
          <p:nvPr/>
        </p:nvPicPr>
        <p:blipFill>
          <a:blip r:embed="rId1"/>
          <a:stretch/>
        </p:blipFill>
        <p:spPr>
          <a:xfrm>
            <a:off x="755640" y="2349360"/>
            <a:ext cx="3344760" cy="388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solovev"/>
          <p:cNvPicPr/>
          <p:nvPr/>
        </p:nvPicPr>
        <p:blipFill>
          <a:blip r:embed="rId2"/>
          <a:stretch/>
        </p:blipFill>
        <p:spPr>
          <a:xfrm>
            <a:off x="5222880" y="2421000"/>
            <a:ext cx="3089160" cy="3816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1430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47240" y="616284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Аполлон Григор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800600" y="6172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Сергей Соло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067280" y="620640"/>
            <a:ext cx="4897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В 1840г. Вышел первый сборник стихов Афанасия Ф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«Лирический пантеон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В.Г.Белинский писал: «Из живущих в Москве поэтов всех даровитее Фет</a:t>
            </a:r>
            <a:r>
              <a:rPr b="0" i="1" lang="ru-RU" sz="2400" spc="-1" strike="noStrike">
                <a:solidFill>
                  <a:srgbClr val="330033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belinskij"/>
          <p:cNvPicPr/>
          <p:nvPr/>
        </p:nvPicPr>
        <p:blipFill>
          <a:blip r:embed="rId1"/>
          <a:stretch/>
        </p:blipFill>
        <p:spPr>
          <a:xfrm>
            <a:off x="324000" y="62064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ml_objects670"/>
          <p:cNvPicPr/>
          <p:nvPr/>
        </p:nvPicPr>
        <p:blipFill>
          <a:blip r:embed="rId1"/>
          <a:stretch/>
        </p:blipFill>
        <p:spPr>
          <a:xfrm>
            <a:off x="611280" y="0"/>
            <a:ext cx="49975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5867280" y="371628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Georgia"/>
              </a:rPr>
              <a:t>А.Фет при поступлении на службу в лейб-гвардию Уланского п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81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284720" y="1052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ICT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Мария Лазич"/>
          <p:cNvPicPr/>
          <p:nvPr/>
        </p:nvPicPr>
        <p:blipFill>
          <a:blip r:embed="rId2"/>
          <a:srcRect l="48891" t="0" r="0" b="-9255"/>
          <a:stretch/>
        </p:blipFill>
        <p:spPr>
          <a:xfrm>
            <a:off x="468360" y="692280"/>
            <a:ext cx="2448000" cy="4105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3851280" y="2470680"/>
            <a:ext cx="274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М а р и 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Л а з и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514"/>
                </a:solidFill>
                <a:latin typeface="Georgia"/>
              </a:rPr>
              <a:t>Старые пись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99cc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Давно забытые, под легким слоем пыли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Черты заветные, вы вновь передо мной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в час душевных мук мгновенно воскресили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се, что давно-давно утрачено душ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Горя огнем стыда, опять встречают взоры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Одну доверчивость, надежду и любовь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задушевных слов поблекшие узоры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От сердца моего к ланитам гонят кров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вами осужден, свидетели немы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есны души моей и сумрачной зим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ы те же светлые, святые, молодые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Как тот ужасный час, когда прощались м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А я доверился предательскому звуку, -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Как будто вне любви есть в мире что-нибудь! -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дерзко оттолкнул писавшую вас руку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осудил себя на вечную разлуку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с холодом в груди пустился в дальний пу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Зачем же с прежнею улыбкой умиленья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Шептать мне о любви, глядеть в мои глаза?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Души не воскресит и голос все прощенья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Не смоет этих строк и жгучая сле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м2"/>
          <p:cNvPicPr/>
          <p:nvPr/>
        </p:nvPicPr>
        <p:blipFill>
          <a:blip r:embed="rId1"/>
          <a:stretch/>
        </p:blipFill>
        <p:spPr>
          <a:xfrm>
            <a:off x="6156360" y="1413000"/>
            <a:ext cx="22161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l_objects677"/>
          <p:cNvPicPr/>
          <p:nvPr/>
        </p:nvPicPr>
        <p:blipFill>
          <a:blip r:embed="rId1"/>
          <a:stretch/>
        </p:blipFill>
        <p:spPr>
          <a:xfrm>
            <a:off x="17928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4500720" y="471600"/>
            <a:ext cx="43192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Как лилия глядится в нагорный руч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ы стояла над первою песней мо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была ли при этом победа, и чья,-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У ручья ль от цветка, у цветка ль от ручья?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ы душою младенческой все поняла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Что мне высказать тайная сила дала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хоть жизнь без тебя суждено мне влачить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Но мы вместе с тобой, нас нельзя разлучит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а трава, что вдали, на могиле тво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Здесь, на сердце, чем старее оно, тем свеж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я знаю, взглянувши на звезды поро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Что взирали на них мы как боги с тобо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У любви есть слова, те слова не умрут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Нас с тобой ожидает особенный суд;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Он сумеет нас сразу в толпе различить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мы вместе придем, нас нельзя разлучи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914400" y="0"/>
            <a:ext cx="786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В 1850г. Выходит второй сборник стихов А.Фета, в который вошли оригинальные стихи, вызвавшие много споров, и переводы стихов немецких поэт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Gete"/>
          <p:cNvPicPr/>
          <p:nvPr/>
        </p:nvPicPr>
        <p:blipFill>
          <a:blip r:embed="rId1"/>
          <a:stretch/>
        </p:blipFill>
        <p:spPr>
          <a:xfrm>
            <a:off x="1447920" y="243828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gejne"/>
          <p:cNvPicPr/>
          <p:nvPr/>
        </p:nvPicPr>
        <p:blipFill>
          <a:blip r:embed="rId2"/>
          <a:stretch/>
        </p:blipFill>
        <p:spPr>
          <a:xfrm>
            <a:off x="5181480" y="2438280"/>
            <a:ext cx="2971800" cy="3581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58000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Г. Ге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660680" y="60912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Turgenev"/>
          <p:cNvPicPr/>
          <p:nvPr/>
        </p:nvPicPr>
        <p:blipFill>
          <a:blip r:embed="rId1"/>
          <a:stretch/>
        </p:blipFill>
        <p:spPr>
          <a:xfrm>
            <a:off x="4788000" y="1484280"/>
            <a:ext cx="4190760" cy="51116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И.С.Тургенев и Н.А.Некрасов редактировали 3-ий сборник стихов Ф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nekrasov"/>
          <p:cNvPicPr/>
          <p:nvPr/>
        </p:nvPicPr>
        <p:blipFill>
          <a:blip r:embed="rId2"/>
          <a:stretch/>
        </p:blipFill>
        <p:spPr>
          <a:xfrm>
            <a:off x="184320" y="1484280"/>
            <a:ext cx="4362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PICT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Боткина"/>
          <p:cNvPicPr/>
          <p:nvPr/>
        </p:nvPicPr>
        <p:blipFill>
          <a:blip r:embed="rId2"/>
          <a:stretch/>
        </p:blipFill>
        <p:spPr>
          <a:xfrm>
            <a:off x="0" y="549360"/>
            <a:ext cx="2916360" cy="5256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4211640" y="54936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М а р и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П е т р о в н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Б о т к и 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ml_objects673"/>
          <p:cNvPicPr/>
          <p:nvPr/>
        </p:nvPicPr>
        <p:blipFill>
          <a:blip r:embed="rId1"/>
          <a:stretch/>
        </p:blipFill>
        <p:spPr>
          <a:xfrm>
            <a:off x="395280" y="0"/>
            <a:ext cx="505152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6012000" y="220500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А.Фет – хозяин Степ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И"/>
          <p:cNvPicPr/>
          <p:nvPr/>
        </p:nvPicPr>
        <p:blipFill>
          <a:blip r:embed="rId1"/>
          <a:stretch/>
        </p:blipFill>
        <p:spPr>
          <a:xfrm>
            <a:off x="3048120" y="1066680"/>
            <a:ext cx="3517920" cy="4343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58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Georgia"/>
              </a:rPr>
              <a:t>Афанасий Фет (Шенши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828800" y="5791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Georgia"/>
              </a:rPr>
              <a:t>1820 - 18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724280" y="685800"/>
            <a:ext cx="4419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eorgia"/>
              </a:rPr>
              <a:t>В 1859г. произошел</a:t>
            </a:r>
            <a:r>
              <a:rPr b="0" lang="ru-RU" sz="3200" spc="-1" strike="noStrike">
                <a:solidFill>
                  <a:srgbClr val="99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eorgia"/>
              </a:rPr>
              <a:t>разрыв А.Фета с журналом «Современник» после резко критической статьи о фетовском переводе Шекспира. М.Е.Салтыков-Щедрин в 1863г.написал статью «Стихотворения А.А.Фе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saltikov"/>
          <p:cNvPicPr/>
          <p:nvPr/>
        </p:nvPicPr>
        <p:blipFill>
          <a:blip r:embed="rId1"/>
          <a:stretch/>
        </p:blipFill>
        <p:spPr>
          <a:xfrm>
            <a:off x="179280" y="549360"/>
            <a:ext cx="4668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457200"/>
            <a:ext cx="9144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eorgia"/>
              </a:rPr>
              <a:t>«Если при всей своей искренности, при всей легкости,с которой покоряет поэт сердца читателей, он все-таки должен довольствоваться долею второстепенного поэта, то причина этого заключается в том, что мир, поэтическому воспроизведению которого посвятил себя  г.Фет, довольно тесен, однообразен и ограничен.Для современного человека процесс любви  уже не представляет достаточного разнообразия».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685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Georgia"/>
              </a:rPr>
              <a:t>Д.И. Писарев ставит Фета рядом с Я.Полонским, Меем, Бенедиктовым, которых относит к поэтам «чистого искусства». Обращаясь к ним, Писарев писа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Georgia"/>
              </a:rPr>
              <a:t>«Ведь нельзя, называя себя русским поэтом, не знать того, что наша эпоха занята интересами, идеями гораздо шире и поважнее ваших любовных похождени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В 1860г. Фет осуществляет свою мечту и приобретает имение на юге Мценского уезда, а в 1877г. Покупает новое имение-Воробьевку</a:t>
            </a:r>
            <a:r>
              <a:rPr b="0" lang="ru-RU" sz="3200" spc="-1" strike="noStrike">
                <a:solidFill>
                  <a:srgbClr val="330033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PIC7"/>
          <p:cNvPicPr/>
          <p:nvPr/>
        </p:nvPicPr>
        <p:blipFill>
          <a:blip r:embed="rId1"/>
          <a:stretch/>
        </p:blipFill>
        <p:spPr>
          <a:xfrm>
            <a:off x="71280" y="1989000"/>
            <a:ext cx="896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84360" y="1125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Рабочий каби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148360" y="4508640"/>
            <a:ext cx="32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33"/>
                </a:solidFill>
                <a:latin typeface="Georgia"/>
              </a:rPr>
              <a:t>Гостеприимный 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PIC9"/>
          <p:cNvPicPr/>
          <p:nvPr/>
        </p:nvPicPr>
        <p:blipFill>
          <a:blip r:embed="rId1"/>
          <a:stretch/>
        </p:blipFill>
        <p:spPr>
          <a:xfrm>
            <a:off x="4356000" y="189000"/>
            <a:ext cx="4611960" cy="338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PIC8"/>
          <p:cNvPicPr/>
          <p:nvPr/>
        </p:nvPicPr>
        <p:blipFill>
          <a:blip r:embed="rId2"/>
          <a:stretch/>
        </p:blipFill>
        <p:spPr>
          <a:xfrm>
            <a:off x="179280" y="3068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57200" y="95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Georgia"/>
              </a:rPr>
              <a:t>В последние годы жизни Фет был особенно дружен с Л.Н.Тол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PIC6"/>
          <p:cNvPicPr/>
          <p:nvPr/>
        </p:nvPicPr>
        <p:blipFill>
          <a:blip r:embed="rId1"/>
          <a:stretch/>
        </p:blipFill>
        <p:spPr>
          <a:xfrm>
            <a:off x="1619280" y="1125360"/>
            <a:ext cx="6005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ml_objects681"/>
          <p:cNvPicPr/>
          <p:nvPr/>
        </p:nvPicPr>
        <p:blipFill>
          <a:blip r:embed="rId1"/>
          <a:stretch/>
        </p:blipFill>
        <p:spPr>
          <a:xfrm>
            <a:off x="25092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5651640" y="52293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.Бернс (Кузьминская), младшая сестра С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-23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9" name="Picture 4" descr="Террариум 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4716360" y="4581360"/>
            <a:ext cx="38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Эта з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Эта вес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ак непостижна, зато так яс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частья ли пол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Плачу ли 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ы - благодатная тайн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24000" y="46530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ад весь в цв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ечер в ог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ак освежительно-радостно м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от я сто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от я и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ловно таинственно речи я 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ализ стихотворения «Шепот, робкое дыхан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-61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«Целый мир от красот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(жизнь и творчество Афанасия Фе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259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Отец Фета - Афанасий Неофитович Шеншин - был военным, участвовал в войне с Наполеоном , ушел в отставку в звании ротмистра и стал служить на гражданском поприще ( избирался на должность мценского уездного предводителя дворянства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2" name="Picture 4" descr="8"/>
          <p:cNvPicPr/>
          <p:nvPr/>
        </p:nvPicPr>
        <p:blipFill>
          <a:blip r:embed="rId1"/>
          <a:stretch/>
        </p:blipFill>
        <p:spPr>
          <a:xfrm>
            <a:off x="593640" y="692280"/>
            <a:ext cx="376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28472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Мать Фета, в девичестве Шарлотта Беккер, принадлежала по рождению к немецкой зажиточной бюргерской семье. Шеншин был ее вторым мужем. До 1820г. жила в Дармштадте, в Германии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4" name="Picture 4" descr="Ш"/>
          <p:cNvPicPr/>
          <p:nvPr/>
        </p:nvPicPr>
        <p:blipFill>
          <a:blip r:embed="rId1"/>
          <a:stretch/>
        </p:blipFill>
        <p:spPr>
          <a:xfrm>
            <a:off x="4284720" y="907920"/>
            <a:ext cx="4479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609480"/>
            <a:ext cx="2438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Афанасий </a:t>
            </a:r>
            <a:r>
              <a:rPr b="1" i="1" lang="ru-RU" sz="3600" spc="-1" strike="noStrike">
                <a:solidFill>
                  <a:srgbClr val="330033"/>
                </a:solidFill>
                <a:latin typeface="Georgia"/>
              </a:rPr>
              <a:t>Фет</a:t>
            </a: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родился в Орловской губернии, недалеко от города Мценс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в родовом имении от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PIC1"/>
          <p:cNvPicPr/>
          <p:nvPr/>
        </p:nvPicPr>
        <p:blipFill>
          <a:blip r:embed="rId1"/>
          <a:stretch/>
        </p:blipFill>
        <p:spPr>
          <a:xfrm>
            <a:off x="2484360" y="189000"/>
            <a:ext cx="65613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ml_objects668"/>
          <p:cNvPicPr/>
          <p:nvPr/>
        </p:nvPicPr>
        <p:blipFill>
          <a:blip r:embed="rId1"/>
          <a:stretch/>
        </p:blipFill>
        <p:spPr>
          <a:xfrm>
            <a:off x="0" y="260280"/>
            <a:ext cx="8677440" cy="6013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519120" y="6375240"/>
            <a:ext cx="76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Georgia"/>
              </a:rPr>
              <a:t>Дом от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038480" y="1143000"/>
            <a:ext cx="472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В доме отца Афанасий прожил до 14 лет. По совету В.А.Жуковского , друга отца, юношу отправили учитьс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г. Вееро в пансион Крюм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gukovsk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20640"/>
            <a:ext cx="3918240" cy="570384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221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4500720" y="404640"/>
            <a:ext cx="43970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Georgia"/>
              </a:rPr>
              <a:t>В 1837г. Афанасий Фет приезжает в Москву, учится в частном  пансионе Михаила Петровича Погодина, историка, журналиста, редактора журнала «Москвитянин». В доме Погодина жил тогда приехавший из-за границы Н. В. Гоголь. Именно ему показал Погодин тетрадь со стихами А.Фе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4800600"/>
            <a:ext cx="357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Н.В. Гоголь сказал : «Это несомненное да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gogol"/>
          <p:cNvPicPr/>
          <p:nvPr/>
        </p:nvPicPr>
        <p:blipFill>
          <a:blip r:embed="rId1"/>
          <a:stretch/>
        </p:blipFill>
        <p:spPr>
          <a:xfrm>
            <a:off x="565200" y="189000"/>
            <a:ext cx="3752640" cy="4535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8:36:10Z</dcterms:created>
  <dc:creator>Компьютер</dc:creator>
  <dc:description/>
  <dc:language>en-US</dc:language>
  <cp:lastModifiedBy>кабинет 2</cp:lastModifiedBy>
  <dcterms:modified xsi:type="dcterms:W3CDTF">2019-01-29T08:24:54Z</dcterms:modified>
  <cp:revision>7</cp:revision>
  <dc:subject/>
  <dc:title>Слайд 1</dc:title>
</cp:coreProperties>
</file>