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704-E377-4820-9B2F-7DDF91EA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E32-09B0-4423-8BA6-256C8E5F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F8B-C3F2-4342-9022-02BC2E18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7EB-FD7A-4C89-8611-03834AAF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983-4C34-4380-856D-6E7B84D8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14B-1093-4DDC-9603-FF5F7AA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627-E7D4-4F80-9ABD-86A7688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1FE-1FD0-4013-A87C-EF903C72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7F3-CCB9-402D-94CE-F4D7169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578-DB0F-4070-A324-F2955B29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217-9A8C-4D07-8BA0-173A079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DEF-05B5-4E05-908F-30F1376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e2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63DD-EBF9-4974-8D0D-EAD68E186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т.png"/>
          <p:cNvPicPr/>
          <p:nvPr/>
        </p:nvPicPr>
        <p:blipFill>
          <a:blip r:embed="rId1"/>
          <a:stretch/>
        </p:blipFill>
        <p:spPr>
          <a:xfrm rot="21381600">
            <a:off x="569520" y="887040"/>
            <a:ext cx="78692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2971800" y="1523880"/>
            <a:ext cx="312408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1676520" y="40384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ецимет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838080" y="1828800"/>
            <a:ext cx="6098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438280" y="1600200"/>
            <a:ext cx="97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838080" y="3276720"/>
            <a:ext cx="6553440" cy="30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3733920" y="38098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42960" y="2858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   Децимет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714760" y="1357200"/>
            <a:ext cx="364320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 дм = 10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71508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857160" y="4286160"/>
            <a:ext cx="6929640" cy="21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6" name="Group 19"/>
          <p:cNvGrpSpPr/>
          <p:nvPr/>
        </p:nvGrpSpPr>
        <p:grpSpPr>
          <a:xfrm>
            <a:off x="3276720" y="2071800"/>
            <a:ext cx="3774600" cy="4292280"/>
            <a:chOff x="3276720" y="2071800"/>
            <a:chExt cx="3774600" cy="4292280"/>
          </a:xfrm>
        </p:grpSpPr>
        <p:sp>
          <p:nvSpPr>
            <p:cNvPr id="107" name="Text Box 10"/>
            <p:cNvSpPr/>
            <p:nvPr/>
          </p:nvSpPr>
          <p:spPr>
            <a:xfrm>
              <a:off x="4358160" y="207180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4358160" y="249984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4572360" y="321372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4500360" y="357084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4213440" y="457200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00"/>
                  </a:solidFill>
                  <a:latin typeface="Arial"/>
                  <a:ea typeface="Arial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4210560" y="491868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00"/>
                  </a:solidFill>
                  <a:latin typeface="Arial"/>
                  <a:ea typeface="Arial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3276720" y="584352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6428160" y="578592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8858160" cy="13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6" name="Group 14"/>
          <p:cNvGrpSpPr/>
          <p:nvPr/>
        </p:nvGrpSpPr>
        <p:grpSpPr>
          <a:xfrm>
            <a:off x="817560" y="2763360"/>
            <a:ext cx="4259160" cy="881640"/>
            <a:chOff x="817560" y="2763360"/>
            <a:chExt cx="4259160" cy="881640"/>
          </a:xfrm>
        </p:grpSpPr>
        <p:grpSp>
          <p:nvGrpSpPr>
            <p:cNvPr id="117" name="Group 11"/>
            <p:cNvGrpSpPr/>
            <p:nvPr/>
          </p:nvGrpSpPr>
          <p:grpSpPr>
            <a:xfrm>
              <a:off x="817560" y="2763360"/>
              <a:ext cx="4259160" cy="881640"/>
              <a:chOff x="817560" y="2763360"/>
              <a:chExt cx="4259160" cy="881640"/>
            </a:xfrm>
          </p:grpSpPr>
          <p:grpSp>
            <p:nvGrpSpPr>
              <p:cNvPr id="118" name="Group 9"/>
              <p:cNvGrpSpPr/>
              <p:nvPr/>
            </p:nvGrpSpPr>
            <p:grpSpPr>
              <a:xfrm>
                <a:off x="826920" y="3284640"/>
                <a:ext cx="4249800" cy="360360"/>
                <a:chOff x="826920" y="3284640"/>
                <a:chExt cx="4249800" cy="360360"/>
              </a:xfrm>
            </p:grpSpPr>
            <p:sp>
              <p:nvSpPr>
                <p:cNvPr id="119" name="Line 5"/>
                <p:cNvSpPr/>
                <p:nvPr/>
              </p:nvSpPr>
              <p:spPr>
                <a:xfrm>
                  <a:off x="826920" y="3429000"/>
                  <a:ext cx="424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"/>
                <p:cNvSpPr/>
                <p:nvPr/>
              </p:nvSpPr>
              <p:spPr>
                <a:xfrm>
                  <a:off x="82692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7"/>
                <p:cNvSpPr/>
                <p:nvPr/>
              </p:nvSpPr>
              <p:spPr>
                <a:xfrm>
                  <a:off x="320364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8"/>
                <p:cNvSpPr/>
                <p:nvPr/>
              </p:nvSpPr>
              <p:spPr>
                <a:xfrm>
                  <a:off x="507672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10"/>
              <p:cNvSpPr/>
              <p:nvPr/>
            </p:nvSpPr>
            <p:spPr>
              <a:xfrm rot="16200000">
                <a:off x="2624040" y="956880"/>
                <a:ext cx="644760" cy="4257720"/>
              </a:xfrm>
              <a:custGeom>
                <a:avLst/>
                <a:gdLst>
                  <a:gd name="textAreaLeft" fmla="*/ 0 w 644760"/>
                  <a:gd name="textAreaRight" fmla="*/ 452160 w 644760"/>
                  <a:gd name="textAreaTop" fmla="*/ 177120 h 4257720"/>
                  <a:gd name="textAreaBottom" fmla="*/ 4080600 h 425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2"/>
            <p:cNvSpPr/>
            <p:nvPr/>
          </p:nvSpPr>
          <p:spPr>
            <a:xfrm>
              <a:off x="971640" y="3068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расходова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3833640" y="3068640"/>
              <a:ext cx="8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1566720" y="2205000"/>
            <a:ext cx="2754360" cy="1828080"/>
            <a:chOff x="1566720" y="2205000"/>
            <a:chExt cx="2754360" cy="1828080"/>
          </a:xfrm>
        </p:grpSpPr>
        <p:sp>
          <p:nvSpPr>
            <p:cNvPr id="127" name="Text Box 15"/>
            <p:cNvSpPr/>
            <p:nvPr/>
          </p:nvSpPr>
          <p:spPr>
            <a:xfrm>
              <a:off x="1763640" y="220500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 + 4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 д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1566720" y="35323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0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3889440" y="357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8"/>
            <p:cNvSpPr/>
            <p:nvPr/>
          </p:nvSpPr>
          <p:spPr>
            <a:xfrm>
              <a:off x="3492360" y="2205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20"/>
          <p:cNvSpPr/>
          <p:nvPr/>
        </p:nvSpPr>
        <p:spPr>
          <a:xfrm>
            <a:off x="324000" y="4437000"/>
            <a:ext cx="4032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5 + 4 = 9 (дм) –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9 – 3 = 6 (д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твет: осталось 6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427640" y="4437000"/>
            <a:ext cx="439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50 + 40 = 90 (см) –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90 – 30 = 60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твет: осталось 6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684360" y="1483920"/>
            <a:ext cx="7343640" cy="4608720"/>
            <a:chOff x="684360" y="1483920"/>
            <a:chExt cx="7343640" cy="4608720"/>
          </a:xfrm>
        </p:grpSpPr>
        <p:grpSp>
          <p:nvGrpSpPr>
            <p:cNvPr id="134" name="Group 5"/>
            <p:cNvGrpSpPr/>
            <p:nvPr/>
          </p:nvGrpSpPr>
          <p:grpSpPr>
            <a:xfrm>
              <a:off x="684360" y="4579560"/>
              <a:ext cx="2448000" cy="1513080"/>
              <a:chOff x="684360" y="4579560"/>
              <a:chExt cx="2448000" cy="1513080"/>
            </a:xfrm>
          </p:grpSpPr>
          <p:sp>
            <p:nvSpPr>
              <p:cNvPr id="135" name="Line 6"/>
              <p:cNvSpPr/>
              <p:nvPr/>
            </p:nvSpPr>
            <p:spPr>
              <a:xfrm flipV="1">
                <a:off x="684360" y="457956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684360" y="4579920"/>
                <a:ext cx="24480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8"/>
            <p:cNvGrpSpPr/>
            <p:nvPr/>
          </p:nvGrpSpPr>
          <p:grpSpPr>
            <a:xfrm>
              <a:off x="3132360" y="3068280"/>
              <a:ext cx="2447640" cy="1513080"/>
              <a:chOff x="3132360" y="3068280"/>
              <a:chExt cx="2447640" cy="1513080"/>
            </a:xfrm>
          </p:grpSpPr>
          <p:sp>
            <p:nvSpPr>
              <p:cNvPr id="138" name="Line 9"/>
              <p:cNvSpPr/>
              <p:nvPr/>
            </p:nvSpPr>
            <p:spPr>
              <a:xfrm flipV="1">
                <a:off x="3132360" y="306828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3132360" y="3068640"/>
                <a:ext cx="244764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5580000" y="1483920"/>
              <a:ext cx="2448000" cy="1513080"/>
              <a:chOff x="5580000" y="1483920"/>
              <a:chExt cx="2448000" cy="1513080"/>
            </a:xfrm>
          </p:grpSpPr>
          <p:sp>
            <p:nvSpPr>
              <p:cNvPr id="141" name="Line 12"/>
              <p:cNvSpPr/>
              <p:nvPr/>
            </p:nvSpPr>
            <p:spPr>
              <a:xfrm flipV="1">
                <a:off x="5580000" y="148392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3"/>
              <p:cNvSpPr/>
              <p:nvPr/>
            </p:nvSpPr>
            <p:spPr>
              <a:xfrm>
                <a:off x="5580000" y="1484280"/>
                <a:ext cx="24480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066680" y="2438280"/>
            <a:ext cx="61722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5        13       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219320" y="2438280"/>
            <a:ext cx="61722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1        13        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2514600" y="2514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5257800" y="2514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121932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2514600" y="2514600"/>
            <a:ext cx="228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38862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52578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66294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1219320"/>
            <a:ext cx="23353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4"/>
          <a:stretch/>
        </p:blipFill>
        <p:spPr>
          <a:xfrm>
            <a:off x="3352680" y="1676520"/>
            <a:ext cx="212724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5"/>
          <a:srcRect l="0" t="6990" r="0" b="0"/>
          <a:stretch/>
        </p:blipFill>
        <p:spPr>
          <a:xfrm>
            <a:off x="5867280" y="1523880"/>
            <a:ext cx="2405160" cy="202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6"/>
          <a:stretch/>
        </p:blipFill>
        <p:spPr>
          <a:xfrm>
            <a:off x="1905120" y="48006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7"/>
          <a:stretch/>
        </p:blipFill>
        <p:spPr>
          <a:xfrm>
            <a:off x="4267080" y="4343400"/>
            <a:ext cx="108756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8"/>
          <a:stretch/>
        </p:blipFill>
        <p:spPr>
          <a:xfrm>
            <a:off x="6934320" y="4419720"/>
            <a:ext cx="9572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42917 -0.26689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0.26771 -0.21783 E">
                                      <p:cBhvr>
                                        <p:cTn id="6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0.23559 -0.28541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1219320"/>
            <a:ext cx="2335320" cy="304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352680" y="1676520"/>
            <a:ext cx="21272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rcRect l="0" t="6990" r="0" b="0"/>
          <a:stretch/>
        </p:blipFill>
        <p:spPr>
          <a:xfrm>
            <a:off x="5867280" y="1523880"/>
            <a:ext cx="2405160" cy="2027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5715000" y="29718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7"/>
          <a:stretch/>
        </p:blipFill>
        <p:spPr>
          <a:xfrm>
            <a:off x="1752480" y="2743200"/>
            <a:ext cx="108756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8"/>
          <a:stretch/>
        </p:blipFill>
        <p:spPr>
          <a:xfrm>
            <a:off x="4419720" y="2133720"/>
            <a:ext cx="957240" cy="14763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0"/>
          <p:cNvSpPr txBox="1"/>
          <p:nvPr/>
        </p:nvSpPr>
        <p:spPr>
          <a:xfrm>
            <a:off x="2362320" y="5105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181480" y="5105520"/>
            <a:ext cx="76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3581280" y="5105520"/>
            <a:ext cx="838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6705720" y="5105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25 -0.22777 E">
                                      <p:cBhvr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0.27917 -0.23889 E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1 -0.20555 E">
                                      <p:cBhvr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кенгуру"/>
          <p:cNvPicPr/>
          <p:nvPr/>
        </p:nvPicPr>
        <p:blipFill>
          <a:blip r:embed="rId1"/>
          <a:stretch/>
        </p:blipFill>
        <p:spPr>
          <a:xfrm>
            <a:off x="285840" y="0"/>
            <a:ext cx="2500200" cy="2955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42960" y="3500280"/>
            <a:ext cx="8280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змерение отрезка с помощью линей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1. Прикладываю линейку к отре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2. Совмещаю ноль на линейке с началом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3. Определяю число, соответствующее концу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4. Записываю результат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43240" y="1500120"/>
            <a:ext cx="29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енгуру"/>
          <p:cNvPicPr/>
          <p:nvPr/>
        </p:nvPicPr>
        <p:blipFill>
          <a:blip r:embed="rId1"/>
          <a:stretch/>
        </p:blipFill>
        <p:spPr>
          <a:xfrm>
            <a:off x="285840" y="1571760"/>
            <a:ext cx="150156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Рисунок6"/>
          <p:cNvPicPr/>
          <p:nvPr/>
        </p:nvPicPr>
        <p:blipFill>
          <a:blip r:embed="rId2"/>
          <a:stretch/>
        </p:blipFill>
        <p:spPr>
          <a:xfrm>
            <a:off x="7429680" y="1643040"/>
            <a:ext cx="139536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124000" y="2338560"/>
            <a:ext cx="489600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214720" y="31431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4143240" y="3786120"/>
            <a:ext cx="77796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57160" y="6429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   Новая мер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57160" y="2071800"/>
            <a:ext cx="75596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группируем 1 см 10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готовим новую мер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мерим отрез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делаем 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M1_186.jpg"/>
          <p:cNvPicPr/>
          <p:nvPr/>
        </p:nvPicPr>
        <p:blipFill>
          <a:blip r:embed="rId1"/>
          <a:stretch/>
        </p:blipFill>
        <p:spPr>
          <a:xfrm>
            <a:off x="233280" y="214200"/>
            <a:ext cx="87505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06:05Z</dcterms:created>
  <dc:creator>111</dc:creator>
  <dc:description/>
  <dc:language>en-US</dc:language>
  <cp:lastModifiedBy>Admin</cp:lastModifiedBy>
  <dcterms:modified xsi:type="dcterms:W3CDTF">2013-04-19T08:43:25Z</dcterms:modified>
  <cp:revision>9</cp:revision>
  <dc:subject/>
  <dc:title>Слайд 1</dc:title>
</cp:coreProperties>
</file>