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76000" y="259920"/>
            <a:ext cx="633564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c"/>
              </a:rPr>
              <a:t>Коммуникативные технологии на уроке русского язык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7" name="Рисунок 2" descr="https://im0-tub-ru.yandex.net/i?id=2d91bcd9126bd854dc88161b38d658c0-sr&amp;n=13&amp;exp=1"/>
          <p:cNvPicPr/>
          <p:nvPr/>
        </p:nvPicPr>
        <p:blipFill>
          <a:blip r:embed="rId1"/>
          <a:stretch/>
        </p:blipFill>
        <p:spPr>
          <a:xfrm>
            <a:off x="5076720" y="4221000"/>
            <a:ext cx="3343320" cy="192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6167160" y="333360"/>
            <a:ext cx="27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ЦЕНИВАНИ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8360" y="1341360"/>
          <a:ext cx="8064360" cy="5005440"/>
        </p:xfrm>
        <a:graphic>
          <a:graphicData uri="http://schemas.openxmlformats.org/drawingml/2006/table">
            <a:tbl>
              <a:tblPr/>
              <a:tblGrid>
                <a:gridCol w="358560"/>
                <a:gridCol w="6018480"/>
                <a:gridCol w="750960"/>
                <a:gridCol w="936360"/>
              </a:tblGrid>
              <a:tr h="26244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Критерии оценивания монологического  высказывания (М)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ои баллы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Выполнение коммуникативной задачи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Участник справился с коммуникативной задачей. Приведено не менее 10 фраз по теме высказывания. Фактические ошибки отсутствуют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Испытуемый предпринял попытку справиться с коммуникативной задачей,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но</a:t>
                      </a: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допустил фактические ошибки,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и/или</a:t>
                      </a: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привёл менее 10 фраз по теме высказывания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44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Учёт условий речевой ситуации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Учтены условия речевой ситуации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Условия речевой ситуации не учтены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44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3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Речевое оформление монологического высказывания (МР) 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Высказывание характеризуется смысловой цельностью, речевой связностью и последовательностью изложения: логические ошибки отсутствуют, последовательность изложения не нарушена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Высказывание нелогично, изложение непоследовательно. Присутствуют логические ошибки (одна или более)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440">
                <a:tc gridSpan="2"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539640" y="836640"/>
          <a:ext cx="8209080" cy="5437080"/>
        </p:xfrm>
        <a:graphic>
          <a:graphicData uri="http://schemas.openxmlformats.org/drawingml/2006/table">
            <a:tbl>
              <a:tblPr/>
              <a:tblGrid>
                <a:gridCol w="549360"/>
                <a:gridCol w="5570640"/>
                <a:gridCol w="936720"/>
                <a:gridCol w="1152360"/>
              </a:tblGrid>
              <a:tr h="57780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Критерии оценивания правильности речи за выполнение заданий 3 и 4 (Р2)*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1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ои баллы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облюдение грамматических норм</a:t>
                      </a: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Грамматических ошибок нет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Допущены грамматические ошибки (одна и более)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облюдение орфоэпических норм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Орфоэпических ошибок нет,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допущено не более двух орфоэпических ошибок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Допущены орфоэпические ошибки (три и более)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облюдение речевых норм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Речевых ошибок нет,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или допущено не более трёх речевых ошибок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Допущены речевые ошибки (четыре или более)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Речь в целом отличается богатством и точностью словаря, используются разнообразные синтаксические конструкции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По этому критерию участник итогового собеседования получает 1 балл только в случае, если  1 балл получен по критерию «Соблюдение речевых норм»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Речь отличается бедностью и/или неточностью словаря,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и/или</a:t>
                      </a: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используются однотипные синтаксические конструкции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gridSpan="2"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64000" y="213840"/>
            <a:ext cx="541800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Тема 3. Интернет – зло или благо? (Рассуждение на заданную тему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68436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СИНКВЕЙН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- э</a:t>
            </a: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тот популярный прием, представляющий собой стихотворение из пяти строк, не содержащее рифмы, впервые появился в прошлом веке в Америке на волне моды на японскую поэзию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651640" y="1628640"/>
          <a:ext cx="3024000" cy="4565880"/>
        </p:xfrm>
        <a:graphic>
          <a:graphicData uri="http://schemas.openxmlformats.org/drawingml/2006/table">
            <a:tbl>
              <a:tblPr/>
              <a:tblGrid>
                <a:gridCol w="3024000"/>
              </a:tblGrid>
              <a:tr h="7365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1-ая строка отвечает за основную тему и состоит из ключевого слова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solidFill>
                      <a:srgbClr val="eaefff"/>
                    </a:solidFill>
                  </a:tcPr>
                </a:tc>
              </a:tr>
              <a:tr h="86688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2-ая строка — два прилагательных, характеризующих это понятие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solidFill>
                      <a:srgbClr val="d3deff"/>
                    </a:solidFill>
                  </a:tcPr>
                </a:tc>
              </a:tr>
              <a:tr h="86364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3-я строка — три глагола, отвечающих за действие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solidFill>
                      <a:srgbClr val="eaefff"/>
                    </a:solidFill>
                  </a:tcPr>
                </a:tc>
              </a:tr>
              <a:tr h="110808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4-ая строка — короткое предложение, раскрывающее суть происходящего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solidFill>
                      <a:srgbClr val="d3deff"/>
                    </a:solidFill>
                  </a:tcPr>
                </a:tc>
              </a:tr>
              <a:tr h="9907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5-ая строка —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ОЦЕНКА  главного слова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solidFill>
                      <a:srgbClr val="eaefff"/>
                    </a:solidFill>
                  </a:tcPr>
                </a:tc>
              </a:tr>
            </a:tbl>
          </a:graphicData>
        </a:graphic>
      </p:graphicFrame>
      <p:sp>
        <p:nvSpPr>
          <p:cNvPr id="116" name="Прямоугольник с двумя вырезанными противолежащими углами 4"/>
          <p:cNvSpPr/>
          <p:nvPr/>
        </p:nvSpPr>
        <p:spPr>
          <a:xfrm>
            <a:off x="684360" y="3998880"/>
            <a:ext cx="1800000" cy="914400"/>
          </a:xfrm>
          <a:prstGeom prst="pie">
            <a:avLst/>
          </a:prstGeom>
          <a:gradFill rotWithShape="0">
            <a:gsLst>
              <a:gs pos="0">
                <a:srgbClr val="8eb7ff"/>
              </a:gs>
              <a:gs pos="100000">
                <a:srgbClr val="dde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Прямоугольник с двумя вырезанными противолежащими углами 5"/>
          <p:cNvSpPr/>
          <p:nvPr/>
        </p:nvSpPr>
        <p:spPr>
          <a:xfrm>
            <a:off x="2195640" y="4653000"/>
            <a:ext cx="1800000" cy="914400"/>
          </a:xfrm>
          <a:prstGeom prst="pie">
            <a:avLst/>
          </a:prstGeom>
          <a:gradFill rotWithShape="0">
            <a:gsLst>
              <a:gs pos="0">
                <a:srgbClr val="8eb7ff"/>
              </a:gs>
              <a:gs pos="100000">
                <a:srgbClr val="dde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Аргументы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Прямоугольник с двумя вырезанными противолежащими углами 6"/>
          <p:cNvSpPr/>
          <p:nvPr/>
        </p:nvSpPr>
        <p:spPr>
          <a:xfrm>
            <a:off x="3635280" y="5373720"/>
            <a:ext cx="1800360" cy="914400"/>
          </a:xfrm>
          <a:prstGeom prst="pie">
            <a:avLst/>
          </a:prstGeom>
          <a:gradFill rotWithShape="0">
            <a:gsLst>
              <a:gs pos="0">
                <a:srgbClr val="8eb7ff"/>
              </a:gs>
              <a:gs pos="100000">
                <a:srgbClr val="dde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Вывод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9" name="Picture 2" descr="https://im0-tub-ru.yandex.net/i?id=aee7caa3c98c8ea37cc6f4ab43dd0eca&amp;n=13&amp;exp=1"/>
          <p:cNvPicPr/>
          <p:nvPr/>
        </p:nvPicPr>
        <p:blipFill>
          <a:blip r:embed="rId1"/>
          <a:stretch/>
        </p:blipFill>
        <p:spPr>
          <a:xfrm>
            <a:off x="539640" y="5300640"/>
            <a:ext cx="1349640" cy="127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14480" y="214200"/>
            <a:ext cx="5267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ЕФЛ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СИ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1616760" y="1557360"/>
            <a:ext cx="733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Себя судить куда труднее, чем других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Если ты сумеешь правильно судить себя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значит, ты поистине мудр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                                                                     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А. Сент-Экзюпер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395280" y="320976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Я научился___________________________________________________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Было трудно__________________________________________________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Больше всего мне понравилось__________________________________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Могу похвалить себя за то, что__________________________________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Для меня было открытием то, что________________________________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3" name="Рисунок 4" descr="https://im0-tub-ru.yandex.net/i?id=4466f7027115a0ef6eea704ba34edb09&amp;n=13&amp;exp=1"/>
          <p:cNvPicPr/>
          <p:nvPr/>
        </p:nvPicPr>
        <p:blipFill>
          <a:blip r:embed="rId1"/>
          <a:stretch/>
        </p:blipFill>
        <p:spPr>
          <a:xfrm>
            <a:off x="1835280" y="917640"/>
            <a:ext cx="1590480" cy="2027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I:\открытый урок\slide-80.jpg"/>
          <p:cNvPicPr/>
          <p:nvPr/>
        </p:nvPicPr>
        <p:blipFill>
          <a:blip r:embed="rId1"/>
          <a:stretch/>
        </p:blipFill>
        <p:spPr>
          <a:xfrm>
            <a:off x="250920" y="1844640"/>
            <a:ext cx="8642160" cy="3352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714480" y="214200"/>
            <a:ext cx="5267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entury Gothic"/>
              </a:rPr>
              <a:t>Какого человека называют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обаятельным</a:t>
            </a:r>
            <a:r>
              <a:rPr b="1" lang="ru-RU" sz="2800" spc="-1" strike="noStrike">
                <a:solidFill>
                  <a:srgbClr val="003399"/>
                </a:solidFill>
                <a:latin typeface="Century Gothic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743960" cy="480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476360" y="260280"/>
            <a:ext cx="6696000" cy="172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c"/>
              </a:rPr>
              <a:t>Культура монологического высказывания: анализ задания 3 итогового собеседовани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1" name="Рисунок 2" descr="https://im0-tub-ru.yandex.net/i?id=2d91bcd9126bd854dc88161b38d658c0-sr&amp;n=13&amp;exp=1"/>
          <p:cNvPicPr/>
          <p:nvPr/>
        </p:nvPicPr>
        <p:blipFill>
          <a:blip r:embed="rId1"/>
          <a:stretch/>
        </p:blipFill>
        <p:spPr>
          <a:xfrm>
            <a:off x="5076720" y="4221000"/>
            <a:ext cx="3343320" cy="192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14480" y="214200"/>
            <a:ext cx="5267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entury Gothic"/>
              </a:rPr>
              <a:t>Цели урока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Прямоугольная выноска 2"/>
          <p:cNvSpPr/>
          <p:nvPr/>
        </p:nvSpPr>
        <p:spPr>
          <a:xfrm>
            <a:off x="324000" y="1700280"/>
            <a:ext cx="6624360" cy="86976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bfd5ff"/>
              </a:gs>
              <a:gs pos="100000">
                <a:srgbClr val="ebf2ff"/>
              </a:gs>
            </a:gsLst>
            <a:lin ang="16200000"/>
          </a:gradFill>
          <a:ln w="9360">
            <a:solidFill>
              <a:srgbClr val="b2c5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Создавать устное монологическое высказывание в соответствии с определённым типом речи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Прямоугольная выноска 3"/>
          <p:cNvSpPr/>
          <p:nvPr/>
        </p:nvSpPr>
        <p:spPr>
          <a:xfrm>
            <a:off x="853920" y="3063960"/>
            <a:ext cx="6624720" cy="86832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bfd5ff"/>
              </a:gs>
              <a:gs pos="100000">
                <a:srgbClr val="ebf2ff"/>
              </a:gs>
            </a:gsLst>
            <a:lin ang="16200000"/>
          </a:gradFill>
          <a:ln w="9360">
            <a:solidFill>
              <a:srgbClr val="b2c5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Грамотно выстраивать монологи в зависимости от цели высказывани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Прямоугольная выноска 4"/>
          <p:cNvSpPr/>
          <p:nvPr/>
        </p:nvSpPr>
        <p:spPr>
          <a:xfrm>
            <a:off x="2116080" y="4365720"/>
            <a:ext cx="6626160" cy="86832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bfd5ff"/>
              </a:gs>
              <a:gs pos="100000">
                <a:srgbClr val="ebf2ff"/>
              </a:gs>
            </a:gsLst>
            <a:lin ang="16200000"/>
          </a:gradFill>
          <a:ln w="9360">
            <a:solidFill>
              <a:srgbClr val="b2c5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Знать критерии оценки монологического высказывания, правильности речи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6" name="Рисунок 7" descr="https://im0-tub-ru.yandex.net/i?id=1938c45c0c3ffa9a7fcc29f66efa64d0&amp;n=13&amp;exp=1"/>
          <p:cNvPicPr/>
          <p:nvPr/>
        </p:nvPicPr>
        <p:blipFill>
          <a:blip r:embed="rId1"/>
          <a:stretch/>
        </p:blipFill>
        <p:spPr>
          <a:xfrm>
            <a:off x="7524720" y="1378080"/>
            <a:ext cx="1417680" cy="2119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https://pegas.bsu.edu.ru/pluginfile.php/903507/course/summary/2058061acbe0b36.jpg"/>
          <p:cNvPicPr/>
          <p:nvPr/>
        </p:nvPicPr>
        <p:blipFill>
          <a:blip r:embed="rId2"/>
          <a:stretch/>
        </p:blipFill>
        <p:spPr>
          <a:xfrm>
            <a:off x="324000" y="4365720"/>
            <a:ext cx="1584000" cy="208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14480" y="214200"/>
            <a:ext cx="5267160" cy="170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entury Gothic"/>
              </a:rPr>
              <a:t>Заговори, чтоб я тебя ______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Century Gothic"/>
              </a:rPr>
              <a:t>Сократ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539640" y="1989000"/>
            <a:ext cx="48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Риторика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— филологическая дисциплина, изучающая искусство речи, правила построения художественной речи, ораторское искусство, мировоззрение, красноречие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Спонтанная речь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это любая заранее не продуманная речь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0" name="Picture 5" descr="https://yt3.ggpht.com/-rjXa7iV41GU/AAAAAAAAAAI/AAAAAAAAAAA/vk-r05N7kS8/s900-c-k-no-mo-rj-c0xffffff/photo.jpg"/>
          <p:cNvPicPr/>
          <p:nvPr/>
        </p:nvPicPr>
        <p:blipFill>
          <a:blip r:embed="rId1"/>
          <a:stretch/>
        </p:blipFill>
        <p:spPr>
          <a:xfrm>
            <a:off x="5479920" y="1859040"/>
            <a:ext cx="3249720" cy="643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14480" y="214200"/>
            <a:ext cx="5267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Задание 3. Монологическое высказывание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Скругленный прямоугольник 2"/>
          <p:cNvSpPr/>
          <p:nvPr/>
        </p:nvSpPr>
        <p:spPr>
          <a:xfrm>
            <a:off x="5286240" y="2714760"/>
            <a:ext cx="3500640" cy="13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9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73"/>
                </a:solidFill>
                <a:latin typeface="Arial"/>
              </a:rPr>
              <a:t>Композиционная фотографи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Скругленный прямоугольник 3"/>
          <p:cNvSpPr/>
          <p:nvPr/>
        </p:nvSpPr>
        <p:spPr>
          <a:xfrm>
            <a:off x="285840" y="2714760"/>
            <a:ext cx="3500280" cy="13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9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73"/>
                </a:solidFill>
                <a:latin typeface="Arial"/>
              </a:rPr>
              <a:t>Жанровая фотографи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2786040" y="1125360"/>
            <a:ext cx="4143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0000"/>
                </a:solidFill>
                <a:latin typeface="Arial"/>
              </a:rPr>
              <a:t>Фотографии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95" name="Прямая со стрелкой 7"/>
          <p:cNvCxnSpPr>
            <a:stCxn id="94" idx="2"/>
          </p:cNvCxnSpPr>
          <p:nvPr/>
        </p:nvCxnSpPr>
        <p:spPr>
          <a:xfrm flipH="1">
            <a:off x="2034360" y="1857240"/>
            <a:ext cx="2823480" cy="858240"/>
          </a:xfrm>
          <a:prstGeom prst="straightConnector1">
            <a:avLst/>
          </a:prstGeom>
          <a:ln w="57240">
            <a:solidFill>
              <a:srgbClr val="4d4d4d"/>
            </a:solidFill>
            <a:miter/>
            <a:tailEnd len="med" type="arrow" w="med"/>
          </a:ln>
        </p:spPr>
      </p:cxnSp>
      <p:cxnSp>
        <p:nvCxnSpPr>
          <p:cNvPr id="96" name="Прямая со стрелкой 8"/>
          <p:cNvCxnSpPr>
            <a:stCxn id="94" idx="2"/>
          </p:cNvCxnSpPr>
          <p:nvPr/>
        </p:nvCxnSpPr>
        <p:spPr>
          <a:xfrm>
            <a:off x="4857840" y="1857240"/>
            <a:ext cx="2180160" cy="858240"/>
          </a:xfrm>
          <a:prstGeom prst="straightConnector1">
            <a:avLst/>
          </a:prstGeom>
          <a:ln w="57240">
            <a:solidFill>
              <a:srgbClr val="4d4d4d"/>
            </a:solidFill>
            <a:miter/>
            <a:tailEnd len="med" type="arrow" w="med"/>
          </a:ln>
        </p:spPr>
      </p:cxnSp>
      <p:sp>
        <p:nvSpPr>
          <p:cNvPr id="97" name="TextBox 12"/>
          <p:cNvSpPr/>
          <p:nvPr/>
        </p:nvSpPr>
        <p:spPr>
          <a:xfrm>
            <a:off x="298440" y="4292640"/>
            <a:ext cx="87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Цель описания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состоит в том, чтобы слушатель увидел, представил предмет описани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Основная задача 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– указать признаки  описываемого предмета, лица, места, явлени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Прямоугольник с двумя вырезанными противолежащими углами 13"/>
          <p:cNvSpPr/>
          <p:nvPr/>
        </p:nvSpPr>
        <p:spPr>
          <a:xfrm>
            <a:off x="985680" y="5732640"/>
            <a:ext cx="1800360" cy="914400"/>
          </a:xfrm>
          <a:prstGeom prst="pie">
            <a:avLst/>
          </a:prstGeom>
          <a:gradFill rotWithShape="0">
            <a:gsLst>
              <a:gs pos="0">
                <a:srgbClr val="8eb7ff"/>
              </a:gs>
              <a:gs pos="100000">
                <a:srgbClr val="dde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Признак 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Прямоугольник с двумя вырезанными противолежащими углами 16"/>
          <p:cNvSpPr/>
          <p:nvPr/>
        </p:nvSpPr>
        <p:spPr>
          <a:xfrm>
            <a:off x="3348000" y="5732640"/>
            <a:ext cx="1800360" cy="914400"/>
          </a:xfrm>
          <a:prstGeom prst="pie">
            <a:avLst/>
          </a:prstGeom>
          <a:gradFill rotWithShape="0">
            <a:gsLst>
              <a:gs pos="0">
                <a:srgbClr val="8eb7ff"/>
              </a:gs>
              <a:gs pos="100000">
                <a:srgbClr val="dde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Признак 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Прямоугольник с двумя вырезанными противолежащими углами 17"/>
          <p:cNvSpPr/>
          <p:nvPr/>
        </p:nvSpPr>
        <p:spPr>
          <a:xfrm>
            <a:off x="5724360" y="5732640"/>
            <a:ext cx="1800360" cy="914400"/>
          </a:xfrm>
          <a:prstGeom prst="pie">
            <a:avLst/>
          </a:prstGeom>
          <a:gradFill rotWithShape="0">
            <a:gsLst>
              <a:gs pos="0">
                <a:srgbClr val="8eb7ff"/>
              </a:gs>
              <a:gs pos="100000">
                <a:srgbClr val="dde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Признак 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08000" y="214200"/>
            <a:ext cx="5273640" cy="19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Тема 1. Бессмертный полк (на основе описания фотографии).</a:t>
            </a:r>
            <a:br>
              <a:rPr sz="2800"/>
            </a:b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2" name="Рисунок 2" descr="http://ozersk.ru/uploads/posts/2017-05/1494394903_038.jpg"/>
          <p:cNvPicPr/>
          <p:nvPr/>
        </p:nvPicPr>
        <p:blipFill>
          <a:blip r:embed="rId1"/>
          <a:stretch/>
        </p:blipFill>
        <p:spPr>
          <a:xfrm>
            <a:off x="755640" y="1916280"/>
            <a:ext cx="7704000" cy="439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56000" y="2565000"/>
            <a:ext cx="417672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Звон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т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нач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ть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дос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г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ср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дствами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облегч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ть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создан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А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4" name="Прямоугольник 2" descr=""/>
          <p:cNvPicPr/>
          <p:nvPr/>
        </p:nvPicPr>
        <p:blipFill>
          <a:blip r:embed="rId1"/>
          <a:stretch/>
        </p:blipFill>
        <p:spPr>
          <a:xfrm>
            <a:off x="189000" y="55440"/>
            <a:ext cx="8766000" cy="2432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16000" y="549000"/>
            <a:ext cx="60656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Тема 2. Случалось ли Вам в жизни сталкиваться с сюрпризами (повествование на основе жизненного опыта)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Прямоугольник с двумя вырезанными противолежащими углами 3"/>
          <p:cNvSpPr/>
          <p:nvPr/>
        </p:nvSpPr>
        <p:spPr>
          <a:xfrm>
            <a:off x="611280" y="1557360"/>
            <a:ext cx="1800000" cy="914400"/>
          </a:xfrm>
          <a:prstGeom prst="pie">
            <a:avLst/>
          </a:prstGeom>
          <a:gradFill rotWithShape="0">
            <a:gsLst>
              <a:gs pos="0">
                <a:srgbClr val="8eb7ff"/>
              </a:gs>
              <a:gs pos="100000">
                <a:srgbClr val="dde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Событие 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Прямоугольник с двумя вырезанными противолежащими углами 4"/>
          <p:cNvSpPr/>
          <p:nvPr/>
        </p:nvSpPr>
        <p:spPr>
          <a:xfrm>
            <a:off x="614520" y="2781360"/>
            <a:ext cx="1800000" cy="914400"/>
          </a:xfrm>
          <a:prstGeom prst="pie">
            <a:avLst/>
          </a:prstGeom>
          <a:gradFill rotWithShape="0">
            <a:gsLst>
              <a:gs pos="0">
                <a:srgbClr val="8eb7ff"/>
              </a:gs>
              <a:gs pos="100000">
                <a:srgbClr val="dde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Событие 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Прямоугольник с двумя вырезанными противолежащими углами 5"/>
          <p:cNvSpPr/>
          <p:nvPr/>
        </p:nvSpPr>
        <p:spPr>
          <a:xfrm>
            <a:off x="592200" y="4076640"/>
            <a:ext cx="1800000" cy="914400"/>
          </a:xfrm>
          <a:prstGeom prst="pie">
            <a:avLst/>
          </a:prstGeom>
          <a:gradFill rotWithShape="0">
            <a:gsLst>
              <a:gs pos="0">
                <a:srgbClr val="8eb7ff"/>
              </a:gs>
              <a:gs pos="100000">
                <a:srgbClr val="dde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Событие 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9" name="Picture 4" descr="https://www.academialhopital.com/wp-content/uploads/2018/05/img001-min.jpg"/>
          <p:cNvPicPr/>
          <p:nvPr/>
        </p:nvPicPr>
        <p:blipFill>
          <a:blip r:embed="rId1"/>
          <a:stretch/>
        </p:blipFill>
        <p:spPr>
          <a:xfrm>
            <a:off x="3348000" y="2205000"/>
            <a:ext cx="4722840" cy="4121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3:38:27Z</dcterms:created>
  <dc:creator>Дмитрий</dc:creator>
  <dc:description/>
  <dc:language>en-US</dc:language>
  <cp:lastModifiedBy>Skiminok</cp:lastModifiedBy>
  <dcterms:modified xsi:type="dcterms:W3CDTF">2019-12-01T09:46:55Z</dcterms:modified>
  <cp:revision>25</cp:revision>
  <dc:subject/>
  <dc:title>СОЮЗ КАК ЧАСТЬ РЕЧИ</dc:title>
</cp:coreProperties>
</file>