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4E6-C1FD-4644-89A9-0403DF60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00F-FE65-47EF-B5C8-CCCCF758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3C3-D231-4C04-AC80-1467859F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DC0-4B8F-43ED-95B2-6DD9AB88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418-33EF-4955-8E35-95AB7856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DE2-119E-47F4-83C8-66F159A6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1E8-5911-4FC1-A94C-90481519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6BA-4B3B-41E7-9C3E-79942C4D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940-09FD-4029-BE9C-E2A6390C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C5F-D347-4566-B086-9FF77983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61A-B730-4573-874B-1C83E0AD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069-E5F4-4E93-BF39-26DB5E6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9BB2-7B5A-4B18-AA84-02A7AF9A1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Рамка 5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42" name="Рамка 5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56760" y="9399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Ка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2928960" y="27147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Начать 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571680"/>
            <a:ext cx="1214640" cy="132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571680"/>
            <a:ext cx="1246320" cy="128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ttp://s40.radikal.ru/i088/1106/fe/502cafc888ad.png"/>
          <p:cNvPicPr/>
          <p:nvPr/>
        </p:nvPicPr>
        <p:blipFill>
          <a:blip r:embed="rId4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s40.radikal.ru/i088/1106/fe/502cafc888ad.png"/>
          <p:cNvPicPr/>
          <p:nvPr/>
        </p:nvPicPr>
        <p:blipFill>
          <a:blip r:embed="rId5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429000" y="3929040"/>
            <a:ext cx="2286000" cy="560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0" y="35712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нтрольно-измеритель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Окружающий мир 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Насеком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5"/>
          <p:cNvSpPr/>
          <p:nvPr/>
        </p:nvSpPr>
        <p:spPr>
          <a:xfrm>
            <a:off x="1285920" y="5357880"/>
            <a:ext cx="664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60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8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крыльев у жу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47149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4"/>
          <p:cNvSpPr/>
          <p:nvPr/>
        </p:nvSpPr>
        <p:spPr>
          <a:xfrm>
            <a:off x="15001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5"/>
          <p:cNvSpPr/>
          <p:nvPr/>
        </p:nvSpPr>
        <p:spPr>
          <a:xfrm>
            <a:off x="15001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6"/>
          <p:cNvSpPr/>
          <p:nvPr/>
        </p:nvSpPr>
        <p:spPr>
          <a:xfrm>
            <a:off x="47149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73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9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ие стадии появления бабочки написаны вер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Скругленный прямоугольник 3"/>
          <p:cNvSpPr/>
          <p:nvPr/>
        </p:nvSpPr>
        <p:spPr>
          <a:xfrm>
            <a:off x="4786200" y="2286000"/>
            <a:ext cx="3673440" cy="17146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яйцо, гусеница, куколка, 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4"/>
          <p:cNvSpPr/>
          <p:nvPr/>
        </p:nvSpPr>
        <p:spPr>
          <a:xfrm>
            <a:off x="971640" y="2286000"/>
            <a:ext cx="3529080" cy="17146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гусеница, яйцо, куколка, 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6"/>
          <p:cNvSpPr/>
          <p:nvPr/>
        </p:nvSpPr>
        <p:spPr>
          <a:xfrm>
            <a:off x="2274840" y="4500720"/>
            <a:ext cx="4799160" cy="7855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яйцо, куколка, гусеница, 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85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14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10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йди лишне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кругленный прямоугольник 3"/>
          <p:cNvSpPr/>
          <p:nvPr/>
        </p:nvSpPr>
        <p:spPr>
          <a:xfrm>
            <a:off x="128592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яще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4"/>
          <p:cNvSpPr/>
          <p:nvPr/>
        </p:nvSpPr>
        <p:spPr>
          <a:xfrm>
            <a:off x="128592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5"/>
          <p:cNvSpPr/>
          <p:nvPr/>
        </p:nvSpPr>
        <p:spPr>
          <a:xfrm>
            <a:off x="478620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мура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6"/>
          <p:cNvSpPr/>
          <p:nvPr/>
        </p:nvSpPr>
        <p:spPr>
          <a:xfrm>
            <a:off x="478620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шм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Рамка 6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54" name="Рамка 6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468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Верно: 10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Ошибки: 0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Отметка: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4440" y="2379600"/>
            <a:ext cx="81151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Время: 0 мин. 32 се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500040" y="585792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500880" y="1785960"/>
            <a:ext cx="2000160" cy="216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292824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571920" y="450072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67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1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ног у насекомы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1214280" y="3357720"/>
            <a:ext cx="700092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1214280" y="2071800"/>
            <a:ext cx="7000920" cy="5713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1214280" y="2714760"/>
            <a:ext cx="7000920" cy="5713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1214280" y="4286160"/>
            <a:ext cx="7000920" cy="50004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http://i004.radikal.ru/1108/cb/be8a59b2050f.png"/>
          <p:cNvPicPr/>
          <p:nvPr/>
        </p:nvPicPr>
        <p:blipFill>
          <a:blip r:embed="rId4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http://s40.radikal.ru/i088/1106/fe/502cafc888ad.png"/>
          <p:cNvPicPr/>
          <p:nvPr/>
        </p:nvPicPr>
        <p:blipFill>
          <a:blip r:embed="rId5"/>
          <a:srcRect l="50399" t="9891" r="0" b="0"/>
          <a:stretch/>
        </p:blipFill>
        <p:spPr>
          <a:xfrm>
            <a:off x="7194600" y="4786200"/>
            <a:ext cx="1735200" cy="1874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http://s40.radikal.ru/i088/1106/fe/502cafc888ad.png"/>
          <p:cNvPicPr/>
          <p:nvPr/>
        </p:nvPicPr>
        <p:blipFill>
          <a:blip r:embed="rId6"/>
          <a:srcRect l="51239" t="0" r="0" b="0"/>
          <a:stretch/>
        </p:blipFill>
        <p:spPr>
          <a:xfrm>
            <a:off x="214200" y="4643280"/>
            <a:ext cx="161928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81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20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2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н зеленый и прыгучий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вершенно не колючий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лугу весь день стрекочет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дивить нас песней хоче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428760" y="3567240"/>
            <a:ext cx="3929040" cy="7855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кузне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428760" y="257184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мура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4614840" y="3579840"/>
            <a:ext cx="3929040" cy="7840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ком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4614840" y="259704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гус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94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3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ое насекомое хищн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128592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стрек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128592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ком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478620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478620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кузне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08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3680" y="374760"/>
            <a:ext cx="8229600" cy="23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 С утра жужжу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веты бужу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ружу, кружу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ёд вожу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4643280" y="3792600"/>
            <a:ext cx="3143520" cy="6969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4) пч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4"/>
          <p:cNvSpPr/>
          <p:nvPr/>
        </p:nvSpPr>
        <p:spPr>
          <a:xfrm>
            <a:off x="1203480" y="2687760"/>
            <a:ext cx="3143160" cy="6969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1) м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1212840" y="3751200"/>
            <a:ext cx="3143160" cy="7146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2) 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6"/>
          <p:cNvSpPr/>
          <p:nvPr/>
        </p:nvSpPr>
        <p:spPr>
          <a:xfrm>
            <a:off x="4643280" y="2741760"/>
            <a:ext cx="3143520" cy="6966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3) ком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21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5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то общего у всех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насекомы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47149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насе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15001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хво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15001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хобо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6"/>
          <p:cNvSpPr/>
          <p:nvPr/>
        </p:nvSpPr>
        <p:spPr>
          <a:xfrm>
            <a:off x="47149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34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6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е солнце, не огонь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Не лампоч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 ночью светит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ый прямоугольник 3"/>
          <p:cNvSpPr/>
          <p:nvPr/>
        </p:nvSpPr>
        <p:spPr>
          <a:xfrm>
            <a:off x="4786200" y="22860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светля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4"/>
          <p:cNvSpPr/>
          <p:nvPr/>
        </p:nvSpPr>
        <p:spPr>
          <a:xfrm>
            <a:off x="1357200" y="22860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мура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5"/>
          <p:cNvSpPr/>
          <p:nvPr/>
        </p:nvSpPr>
        <p:spPr>
          <a:xfrm>
            <a:off x="1357200" y="36432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тар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6"/>
          <p:cNvSpPr/>
          <p:nvPr/>
        </p:nvSpPr>
        <p:spPr>
          <a:xfrm>
            <a:off x="4786200" y="36432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47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64396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7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ой части тела нет у насекомы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3"/>
          <p:cNvSpPr/>
          <p:nvPr/>
        </p:nvSpPr>
        <p:spPr>
          <a:xfrm>
            <a:off x="428760" y="350028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хво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28760" y="235728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4643280" y="3500280"/>
            <a:ext cx="392940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гру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4643280" y="2357280"/>
            <a:ext cx="392940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брю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Аня</cp:lastModifiedBy>
  <dcterms:modified xsi:type="dcterms:W3CDTF">2020-11-07T15:44:41Z</dcterms:modified>
  <cp:revision>751</cp:revision>
  <dc:subject/>
  <dc:title>Слайд 1</dc:title>
</cp:coreProperties>
</file>