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D30-CC66-4779-AE14-83399740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89C-42B1-4985-BE2A-4E195CE4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5AC-0911-45AD-A145-CF9CFA20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9614-EBCD-4B22-8292-8CFBA14F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373-9199-4F60-877A-FB15C61D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719-CF39-4822-BF46-9BCBAF95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CFB-BE39-4350-9482-D2AD43F6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836-55DE-45CB-919A-A5FC6A46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B90-9A89-413D-9CE0-5DBF6EE5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DB2-C822-4752-9A6E-CD4E3BC3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837-C89E-4021-975F-A4C48AA6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683-A0BC-4C4F-BA13-4294A444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9599-BCF9-4B95-985D-457C84395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Рамка 5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42" name="Рамка 5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56760" y="9399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Ка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2928960" y="27147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Начать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571680"/>
            <a:ext cx="1214640" cy="132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571680"/>
            <a:ext cx="1246320" cy="128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ttp://s40.radikal.ru/i088/1106/fe/502cafc888ad.png"/>
          <p:cNvPicPr/>
          <p:nvPr/>
        </p:nvPicPr>
        <p:blipFill>
          <a:blip r:embed="rId4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40.radikal.ru/i088/1106/fe/502cafc888ad.png"/>
          <p:cNvPicPr/>
          <p:nvPr/>
        </p:nvPicPr>
        <p:blipFill>
          <a:blip r:embed="rId5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429000" y="3929040"/>
            <a:ext cx="2286000" cy="560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0" y="35712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нтрольно-измерительны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Окружающий мир 1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Насеком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5"/>
          <p:cNvSpPr/>
          <p:nvPr/>
        </p:nvSpPr>
        <p:spPr>
          <a:xfrm>
            <a:off x="1285920" y="5357880"/>
            <a:ext cx="664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60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8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крыльев у жу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47149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4"/>
          <p:cNvSpPr/>
          <p:nvPr/>
        </p:nvSpPr>
        <p:spPr>
          <a:xfrm>
            <a:off x="15001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5"/>
          <p:cNvSpPr/>
          <p:nvPr/>
        </p:nvSpPr>
        <p:spPr>
          <a:xfrm>
            <a:off x="15001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6"/>
          <p:cNvSpPr/>
          <p:nvPr/>
        </p:nvSpPr>
        <p:spPr>
          <a:xfrm>
            <a:off x="47149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73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9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ие стадии появления бабочки написаны вер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Скругленный прямоугольник 3"/>
          <p:cNvSpPr/>
          <p:nvPr/>
        </p:nvSpPr>
        <p:spPr>
          <a:xfrm>
            <a:off x="4786200" y="2286000"/>
            <a:ext cx="3673440" cy="17146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яйцо, гусеница, куколка,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4"/>
          <p:cNvSpPr/>
          <p:nvPr/>
        </p:nvSpPr>
        <p:spPr>
          <a:xfrm>
            <a:off x="971640" y="2286000"/>
            <a:ext cx="3529080" cy="17146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гусеница, яйцо, куколка,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6"/>
          <p:cNvSpPr/>
          <p:nvPr/>
        </p:nvSpPr>
        <p:spPr>
          <a:xfrm>
            <a:off x="2274840" y="4500720"/>
            <a:ext cx="4799160" cy="7855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яйцо, куколка, гусеница,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85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10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айди лишне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3"/>
          <p:cNvSpPr/>
          <p:nvPr/>
        </p:nvSpPr>
        <p:spPr>
          <a:xfrm>
            <a:off x="128592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ящер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4"/>
          <p:cNvSpPr/>
          <p:nvPr/>
        </p:nvSpPr>
        <p:spPr>
          <a:xfrm>
            <a:off x="128592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5"/>
          <p:cNvSpPr/>
          <p:nvPr/>
        </p:nvSpPr>
        <p:spPr>
          <a:xfrm>
            <a:off x="478620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6"/>
          <p:cNvSpPr/>
          <p:nvPr/>
        </p:nvSpPr>
        <p:spPr>
          <a:xfrm>
            <a:off x="478620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шм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Рамка 6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54" name="Рамка 6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468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Верно: 10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Ошибки: 0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Отметка: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4440" y="2379600"/>
            <a:ext cx="81151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Время: 0 мин. 32 сек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500040" y="585792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500880" y="1785960"/>
            <a:ext cx="2000160" cy="216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292824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571920" y="450072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67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1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ног у насеком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1214280" y="3357720"/>
            <a:ext cx="700092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1214280" y="2071800"/>
            <a:ext cx="7000920" cy="5713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1214280" y="2714760"/>
            <a:ext cx="7000920" cy="5713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1214280" y="4286160"/>
            <a:ext cx="7000920" cy="50004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http://i004.radikal.ru/1108/cb/be8a59b2050f.png"/>
          <p:cNvPicPr/>
          <p:nvPr/>
        </p:nvPicPr>
        <p:blipFill>
          <a:blip r:embed="rId4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http://s40.radikal.ru/i088/1106/fe/502cafc888ad.png"/>
          <p:cNvPicPr/>
          <p:nvPr/>
        </p:nvPicPr>
        <p:blipFill>
          <a:blip r:embed="rId5"/>
          <a:srcRect l="50399" t="9891" r="0" b="0"/>
          <a:stretch/>
        </p:blipFill>
        <p:spPr>
          <a:xfrm>
            <a:off x="7194600" y="4786200"/>
            <a:ext cx="1735200" cy="1874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http://s40.radikal.ru/i088/1106/fe/502cafc888ad.png"/>
          <p:cNvPicPr/>
          <p:nvPr/>
        </p:nvPicPr>
        <p:blipFill>
          <a:blip r:embed="rId6"/>
          <a:srcRect l="51239" t="0" r="0" b="0"/>
          <a:stretch/>
        </p:blipFill>
        <p:spPr>
          <a:xfrm>
            <a:off x="214200" y="4643280"/>
            <a:ext cx="1619280" cy="19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81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2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н зеленый и прыгучий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вершенно не колючий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лугу весь день стрекочет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дивить нас песней хоче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428760" y="3567240"/>
            <a:ext cx="3929040" cy="78552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кузне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428760" y="257184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4614840" y="3579840"/>
            <a:ext cx="3929040" cy="7840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ком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4614840" y="259704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гусе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94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3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е насекомое хищн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128592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стрек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128592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ком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4786200" y="19288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4786200" y="3286080"/>
            <a:ext cx="3214800" cy="11430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кузне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08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3680" y="37476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 С утра жужжу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Цветы бужу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ужу, кружу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ёд вожу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4643280" y="3792600"/>
            <a:ext cx="314352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4) пч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1203480" y="2687760"/>
            <a:ext cx="3143160" cy="6969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1) м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1212840" y="3751200"/>
            <a:ext cx="3143160" cy="714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2) 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6"/>
          <p:cNvSpPr/>
          <p:nvPr/>
        </p:nvSpPr>
        <p:spPr>
          <a:xfrm>
            <a:off x="4643280" y="2741760"/>
            <a:ext cx="3143520" cy="69660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3) ком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21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5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то общего у всех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насеком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47149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насе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15001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хво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1500120" y="207180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хобо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6"/>
          <p:cNvSpPr/>
          <p:nvPr/>
        </p:nvSpPr>
        <p:spPr>
          <a:xfrm>
            <a:off x="4714920" y="3357720"/>
            <a:ext cx="2928960" cy="85716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34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6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 солнце, не огонь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Не лампоч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 ночью свети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3"/>
          <p:cNvSpPr/>
          <p:nvPr/>
        </p:nvSpPr>
        <p:spPr>
          <a:xfrm>
            <a:off x="4786200" y="22860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светля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4"/>
          <p:cNvSpPr/>
          <p:nvPr/>
        </p:nvSpPr>
        <p:spPr>
          <a:xfrm>
            <a:off x="1357200" y="22860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5"/>
          <p:cNvSpPr/>
          <p:nvPr/>
        </p:nvSpPr>
        <p:spPr>
          <a:xfrm>
            <a:off x="1357200" y="36432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тара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6"/>
          <p:cNvSpPr/>
          <p:nvPr/>
        </p:nvSpPr>
        <p:spPr>
          <a:xfrm>
            <a:off x="4786200" y="3643200"/>
            <a:ext cx="314352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Рамка 7"/>
          <p:cNvGrpSpPr/>
          <p:nvPr/>
        </p:nvGrpSpPr>
        <p:grpSpPr>
          <a:xfrm>
            <a:off x="-19080" y="-19080"/>
            <a:ext cx="9182160" cy="6896160"/>
            <a:chOff x="-19080" y="-19080"/>
            <a:chExt cx="9182160" cy="6896160"/>
          </a:xfrm>
        </p:grpSpPr>
        <p:pic>
          <p:nvPicPr>
            <p:cNvPr id="147" name="Рамка 7" descr=""/>
            <p:cNvPicPr/>
            <p:nvPr/>
          </p:nvPicPr>
          <p:blipFill>
            <a:blip r:embed="rId1"/>
            <a:stretch/>
          </p:blipFill>
          <p:spPr>
            <a:xfrm>
              <a:off x="-19080" y="-19080"/>
              <a:ext cx="918216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37960" y="237960"/>
              <a:ext cx="8668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64396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  <a:ea typeface="Arial"/>
              </a:rPr>
              <a:t>7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кой части тела нет у насекомы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3"/>
          <p:cNvSpPr/>
          <p:nvPr/>
        </p:nvSpPr>
        <p:spPr>
          <a:xfrm>
            <a:off x="428760" y="350028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2) хво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28760" y="2357280"/>
            <a:ext cx="392904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1) 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4643280" y="3500280"/>
            <a:ext cx="392940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4) гр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4643280" y="2357280"/>
            <a:ext cx="3929400" cy="785880"/>
          </a:xfrm>
          <a:prstGeom prst="roundRect">
            <a:avLst>
              <a:gd name="adj" fmla="val 16667"/>
            </a:avLst>
          </a:prstGeom>
          <a:solidFill>
            <a:srgbClr val="00fe7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3) брю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s49.radikal.ru/i124/1108/88/12d9c941bb9d.png"/>
          <p:cNvPicPr/>
          <p:nvPr/>
        </p:nvPicPr>
        <p:blipFill>
          <a:blip r:embed="rId2"/>
          <a:stretch/>
        </p:blipFill>
        <p:spPr>
          <a:xfrm>
            <a:off x="7572240" y="214200"/>
            <a:ext cx="1214640" cy="1328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s48.radikal.ru/i122/1108/4a/01f31e9621df.png"/>
          <p:cNvPicPr/>
          <p:nvPr/>
        </p:nvPicPr>
        <p:blipFill>
          <a:blip r:embed="rId3"/>
          <a:stretch/>
        </p:blipFill>
        <p:spPr>
          <a:xfrm>
            <a:off x="214200" y="214200"/>
            <a:ext cx="1246320" cy="12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http://s40.radikal.ru/i088/1106/fe/502cafc888ad.png"/>
          <p:cNvPicPr/>
          <p:nvPr/>
        </p:nvPicPr>
        <p:blipFill>
          <a:blip r:embed="rId4"/>
          <a:srcRect l="50399" t="9891" r="0" b="0"/>
          <a:stretch/>
        </p:blipFill>
        <p:spPr>
          <a:xfrm>
            <a:off x="6929280" y="4500720"/>
            <a:ext cx="2000520" cy="2160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http://s40.radikal.ru/i088/1106/fe/502cafc888ad.png"/>
          <p:cNvPicPr/>
          <p:nvPr/>
        </p:nvPicPr>
        <p:blipFill>
          <a:blip r:embed="rId5"/>
          <a:srcRect l="51239" t="0" r="0" b="0"/>
          <a:stretch/>
        </p:blipFill>
        <p:spPr>
          <a:xfrm>
            <a:off x="214200" y="4428360"/>
            <a:ext cx="17956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http://i004.radikal.ru/1108/cb/be8a59b2050f.png"/>
          <p:cNvPicPr/>
          <p:nvPr/>
        </p:nvPicPr>
        <p:blipFill>
          <a:blip r:embed="rId6"/>
          <a:stretch/>
        </p:blipFill>
        <p:spPr>
          <a:xfrm>
            <a:off x="3357720" y="6000840"/>
            <a:ext cx="2286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Аня</cp:lastModifiedBy>
  <dcterms:modified xsi:type="dcterms:W3CDTF">2020-11-07T15:44:41Z</dcterms:modified>
  <cp:revision>751</cp:revision>
  <dc:subject/>
  <dc:title>Слайд 1</dc:title>
</cp:coreProperties>
</file>