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8E5-2942-4B7F-8761-B5A263BF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CAF-96EA-4A00-87B6-DB13FF2E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093-E1F4-4B82-9413-F61E937F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D46-7557-4335-80A0-65C6E28F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882-F543-468B-BAAF-44784A02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3BC-4218-4C5B-B982-D6F2F93E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347-1A4D-4BE0-8D01-6CB47CF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977-1B65-4A95-957B-FFFC156B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AE9-5AC0-4B29-84DF-14E77EA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3B1-FC10-4272-9BF1-3EF8EC98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BF6-7143-4E5F-B24B-2DEEF8DD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7F4-C3A2-4DCD-91C3-9D2016C7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0704-04F0-4908-9345-316E18991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Орфографическая минутка.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024000" cy="318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762480"/>
            <a:ext cx="664200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90520"/>
            <a:ext cx="7848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26d18"/>
                </a:solidFill>
                <a:latin typeface="Comic Sans MS"/>
              </a:rPr>
              <a:t>Повторим словарные слов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Поздним летом в огор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Собирается народ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Зрел всё лето урожай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Что собрали ? Отгадай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77080" y="4437000"/>
            <a:ext cx="1793880" cy="1889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25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9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79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99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19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7023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Здесь весною было пусто.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етом выросла…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76120"/>
            <a:ext cx="842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57800" y="2209680"/>
            <a:ext cx="3124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26d18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...пуста</a:t>
            </a:r>
            <a:endParaRPr b="0" lang="en-US" sz="1800" spc="1" strike="noStrike">
              <a:ln w="9360">
                <a:solidFill>
                  <a:srgbClr val="a26d18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15000" y="2133720"/>
            <a:ext cx="4572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2767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Собираем мы в лукошко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Очень крепкую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52480" y="510552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...ртошку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33720" y="495288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</p:spTree>
  </p:cSld>
  <p:transition spd="slow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Из земли- за чуб плутовку!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Тянем сочную…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209680"/>
            <a:ext cx="2819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...рков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43000" y="198108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468600"/>
            <a:ext cx="70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Надо поклониться низко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Чтобы вытащи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105520" y="5105520"/>
            <a:ext cx="3047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р...дис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62720" y="4952880"/>
            <a:ext cx="4093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27640" y="907920"/>
            <a:ext cx="2546640" cy="2681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т дождя земля намокла-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лезай, толстуха…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352680" y="1981080"/>
            <a:ext cx="2438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...к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14800" y="1676520"/>
            <a:ext cx="485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338640"/>
            <a:ext cx="711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Comic Sans MS"/>
              </a:rPr>
              <a:t>Просит дедушка Федюшку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Comic Sans MS"/>
              </a:rPr>
              <a:t>- Собери ещё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00400" y="4876920"/>
            <a:ext cx="3352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п...труш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81280" y="4648320"/>
            <a:ext cx="457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</p:spTree>
  </p:cSld>
  <p:transition>
    <p:wheel spokes="8"/>
    <p:sndAc>
      <p:stSnd>
        <p:snd r:embed="rId5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Вот зелёный толстячок-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Круглый, гладкий…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2120" y="2057400"/>
            <a:ext cx="26668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...бач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66680" y="2057400"/>
            <a:ext cx="533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483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И красавец- велик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Тёмно- синий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502920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б...клаж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952880" y="4952880"/>
            <a:ext cx="457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26d18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26d18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12000" y="1628640"/>
            <a:ext cx="2955960" cy="311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himes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6920" y="411480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Вот и всё! Хоть и устали,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Урожай мы весь собрали!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85920" y="189000"/>
            <a:ext cx="444492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0:14:18Z</dcterms:created>
  <dc:creator>Панюхина О.В.</dc:creator>
  <dc:description/>
  <dc:language>en-US</dc:language>
  <cp:lastModifiedBy>User</cp:lastModifiedBy>
  <dcterms:modified xsi:type="dcterms:W3CDTF">2009-02-23T06:53:47Z</dcterms:modified>
  <cp:revision>51</cp:revision>
  <dc:subject/>
  <dc:title>Опыт использования информационных технологий на уроках в начальной школе №26 г.Сызрани</dc:title>
</cp:coreProperties>
</file>