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F09-40B3-4099-B054-40714CE2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BFD-CDBD-4A7E-845B-B072D85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EBE-7D16-4FDA-AF5C-E89E2C09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059-DCB2-4ADD-81A0-B3A4D1C9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208-AEA8-470F-B700-7B43B5AB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05E-69A0-4B19-8435-40CF93F0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427-DE18-4C01-9CFF-1DCFB31A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70F-028A-46F8-8C99-F9EB0B0B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4F8-13A8-4BA0-9C90-7D0D9548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6E4-4BBC-43AA-9C94-A5AEF14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D16-B3A3-4A97-8939-89F5D0E1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EF4-0813-41DB-82F1-A97C873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6EBF-547E-4EAA-9FE4-76FFF5DF3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Орфографическая минутка.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024000" cy="318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762480"/>
            <a:ext cx="664200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90520"/>
            <a:ext cx="7848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26d18"/>
                </a:solidFill>
                <a:latin typeface="Comic Sans MS"/>
              </a:rPr>
              <a:t>Повторим словарные сло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Поздним летом в огоро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Собирается народ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Зрел всё лето урожай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Что собрали ? Отгадай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77080" y="4437000"/>
            <a:ext cx="1793880" cy="1889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25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9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79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99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19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7023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Здесь весною было пусто.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етом выросла…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76120"/>
            <a:ext cx="842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57800" y="2209680"/>
            <a:ext cx="3124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26d18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...пуста</a:t>
            </a:r>
            <a:endParaRPr b="0" lang="en-US" sz="1800" spc="1" strike="noStrike">
              <a:ln w="9360">
                <a:solidFill>
                  <a:srgbClr val="a26d18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15000" y="2133720"/>
            <a:ext cx="4572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2767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Собираем мы в лукошко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Очень крепкую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52480" y="510552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...ртошку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33720" y="495288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</p:spTree>
  </p:cSld>
  <p:transition spd="slow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Из земли- за чуб плутовку!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Тянем сочную…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220968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...рков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198108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468600"/>
            <a:ext cx="701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Надо поклониться низко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Чтобы вытащить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105520" y="5105520"/>
            <a:ext cx="3047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р...дис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62720" y="4952880"/>
            <a:ext cx="4093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227640" y="907920"/>
            <a:ext cx="2546640" cy="2681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т дождя земля намокла-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лезай, толстуха…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352680" y="1981080"/>
            <a:ext cx="2438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в...к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14800" y="1676520"/>
            <a:ext cx="485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338640"/>
            <a:ext cx="711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26d18"/>
                </a:solidFill>
                <a:latin typeface="Comic Sans MS"/>
              </a:rPr>
              <a:t>Просит дедушка Федюшку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26d18"/>
                </a:solidFill>
                <a:latin typeface="Comic Sans MS"/>
              </a:rPr>
              <a:t>- Собери ещё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00400" y="4876920"/>
            <a:ext cx="3352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...труш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81280" y="4648320"/>
            <a:ext cx="457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Вот зелёный толстячок-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Круглый, гладкий…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2120" y="2057400"/>
            <a:ext cx="26668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...бач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66680" y="2057400"/>
            <a:ext cx="533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483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И красавец- велика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Тёмно- синий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502920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...клаж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52880" y="495288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12000" y="1628640"/>
            <a:ext cx="2955960" cy="3113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himes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6920" y="411480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Вот и всё! Хоть и устали,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Урожай мы весь собрали!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85920" y="189000"/>
            <a:ext cx="444492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0:14:18Z</dcterms:created>
  <dc:creator>Панюхина О.В.</dc:creator>
  <dc:description/>
  <dc:language>en-US</dc:language>
  <cp:lastModifiedBy>User</cp:lastModifiedBy>
  <dcterms:modified xsi:type="dcterms:W3CDTF">2009-02-23T06:53:47Z</dcterms:modified>
  <cp:revision>51</cp:revision>
  <dc:subject/>
  <dc:title>Опыт использования информационных технологий на уроках в начальной школе №26 г.Сызрани</dc:title>
</cp:coreProperties>
</file>