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0CC7-7F70-46EB-B01C-4330F5522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F0D7-5F4F-4A2C-9CF3-0CB45559D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8E0E-083A-4326-AD77-E52E465F9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D940-98AC-48B5-82F6-43F32D76D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9286-B22A-4B20-A91D-32127BC4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0D12-3C81-4A97-A432-B2F88C62E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2287-1F47-4BF0-A023-AFB4629BF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5023-D048-4FF3-97C2-865C7BF56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27CE-6055-4B08-ABA7-7DD0E3D6D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4356-67AD-4626-B508-CD0086F5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58D7-68CD-426F-A008-D43A7650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F109-79FC-465F-94EC-AA1DBF75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5CA08-A188-478D-9EDC-475A2596E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5e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79280" y="189000"/>
            <a:ext cx="88203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Понятие о профессиональной пригодности. </a:t>
            </a:r>
            <a:br>
              <a:rPr sz="4400"/>
            </a:b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Методы изучения способностей. Развитие способностей.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003300"/>
                </a:solidFill>
                <a:latin typeface="Arial"/>
              </a:rPr>
              <a:t>Призвание. Целеустремленность. Временная перспекти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780000" y="6308640"/>
            <a:ext cx="50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зентация соц.педагога Поспеловой И.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Профессиональная пригодност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907640" y="1700280"/>
            <a:ext cx="597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епригоднос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игод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абсолют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тносительна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оответств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изв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Профессиональная пригодност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 – гражданских качест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 – отношения к выполняемой деятель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 – дееспособности (т.е. общих способностей – интеллектуальных и др.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 – единичных (т.е. математических, музыкальных и др.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 – навыков, ум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Изучение способностей человек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Тест способносте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Тест специальных способн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) по видам психических функций - сенсорные, моторные тесты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) по видам деятельности - технические и профессионализированные тесты, т. е. соответствующие той или иной профессии (конторские, артистические и т. д.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Комплексные батареи способносте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Способности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Способности — лишь возможность при благоприятных условиях определенного освоения знаний, умений и навыко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Условия для развития специальных способносте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тер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арактер и сила во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мять и интелле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емление развива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удовлетворенность результата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уднодостижимая це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ра в себ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емление к творческому подход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7T20:42:02Z</dcterms:created>
  <dc:creator>Vladimir</dc:creator>
  <dc:description/>
  <dc:language>en-US</dc:language>
  <cp:lastModifiedBy>Vladimir</cp:lastModifiedBy>
  <dcterms:modified xsi:type="dcterms:W3CDTF">2019-01-27T21:20:15Z</dcterms:modified>
  <cp:revision>7</cp:revision>
  <dc:subject/>
  <dc:title>Понятие о профессиональной пригодности.  Методы изучения способностей. Развитие способностей.  Призвание. Целеустремленность. Временная перспектива</dc:title>
</cp:coreProperties>
</file>