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7167-1228-4618-8204-6E5FC5A7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39F8-E6DC-464F-A1A3-C75CAF23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8A88-C2EE-48DF-A205-87195EA4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604-140E-4C85-B9A8-FAECD4E8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A3BE-DBDC-4076-AE43-7ECF9499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29A-48A6-48BE-9397-8FE247E2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0F8-20A2-42BF-A4CB-DCC3CD9E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471-585E-4F72-8F4A-0EE9FFFC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D7DD-F096-439C-AE98-318F83CB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0B7-2FEC-4900-AE9E-2928FD33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B49B-1C67-4978-A251-DA137642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BC1-383C-4F2F-9538-8342AD68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8BA9-6CD1-4421-A0E1-FB49C82E7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5e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189000"/>
            <a:ext cx="8820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Понятие о профессиональной пригодности. </a:t>
            </a:r>
            <a:br>
              <a:rPr sz="4400"/>
            </a:b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Методы изучения способностей. Развитие способностей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Призвание. Целеустремленность. Временная перспект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80000" y="6308640"/>
            <a:ext cx="50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зентация соц.педагога Поспеловой И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Профессиональная пригодност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700280"/>
            <a:ext cx="597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пригод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год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бсолют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носитель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ответств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з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Профессиональная пригодност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 – гражданских каче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– отношения к выполняем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 – дееспособности (т.е. общих способностей – интеллектуальных и др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 – единичных (т.е. математических, музыкальных и др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 – навыков, ум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Изучение способностей челове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ест способност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ест специальных спосо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по видам психических функций - сенсорные, моторные тесты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по видам деятельности - технические и профессионализированные тесты, т. е. соответствующие той или иной профессии (конторские, артистические и т. д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Комплексные батареи способност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Способности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пособности — лишь возможность при благоприятных условиях определенного освоения знаний, умений и навык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Условия для развития специальных способност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арактер и сила в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мять и интелл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мление развив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удовлетворенность результат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уднодостижимая ц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а в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мление к творческому подхо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7T20:42:02Z</dcterms:created>
  <dc:creator>Vladimir</dc:creator>
  <dc:description/>
  <dc:language>en-US</dc:language>
  <cp:lastModifiedBy>Vladimir</cp:lastModifiedBy>
  <dcterms:modified xsi:type="dcterms:W3CDTF">2019-01-27T21:20:15Z</dcterms:modified>
  <cp:revision>7</cp:revision>
  <dc:subject/>
  <dc:title>Понятие о профессиональной пригодности.  Методы изучения способностей. Развитие способностей.  Призвание. Целеустремленность. Временная перспектива</dc:title>
</cp:coreProperties>
</file>