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9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B82-48F9-4319-84F2-C516C474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D7D-588E-45A1-A39F-815E583B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368-75CF-463E-8D88-8B1DF5C3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DD2-0AB6-4625-AD08-5FB3DD8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04B7-6813-4A85-BB66-2AC748C1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91D7-0DB2-4029-A58E-A02D3F7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221F-B9FF-4062-9921-39A2D555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E043-A7B8-42D3-980E-B3D776E6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C6E-4BBC-45CA-9250-92BFC97C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C6DC-4B93-48D3-8E8D-083EB956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DD26-CC68-42C1-B66A-DAA1F92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429-3739-47EB-9471-8EECD73E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0D9-8690-47A4-A00D-D75F16F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246-F9A9-4F8E-B8F7-12C2ED4B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1BB8-7067-475C-92BD-B2A9078E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4746-441A-447B-B62A-9F1DDFED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EF4-166E-44ED-9AF0-E86FA27D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264AF-E9DD-49B1-B416-3FE8E785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ADF5-49DA-4193-AD48-6B9782A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C9C2-6017-41DB-8012-0699F7F9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4FA9-B62F-4AED-B2F5-6EA7A07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3912-5A34-47A5-A232-97376AC5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B1D-F7E8-4EB4-82AA-486A4D1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0FA4-979F-4CA9-B1E6-7C56E9E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830F-A9C6-4C51-AB07-09BEDD7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160BF-0167-4D1F-9F15-6C263BE3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89C4-7A33-40DB-94D5-F9E7C377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2A0F-7035-456A-A88E-D008C083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6030-0E50-4C2E-9EEF-63F7A1F8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2221-BE06-4BD3-89C1-2ABE87B2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5C82-57D8-4FB7-9CFB-AE01D0CF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2940-F99F-4AD5-8D40-1FF60C4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DE25-B011-4098-9BE2-6D64AAD8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C25-FFB7-4B59-A36B-0FA532D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32D0-F632-4D4B-B0D9-6D37135C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64FCC-F691-4F3E-AC3E-A535E24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E096-057E-43D5-91C6-ABF4A0FB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9FF7-15A1-444B-A834-F3EB6BB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2DB1-3DFB-4518-A5EB-9427871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9E3F-0D94-4D11-8FB3-217804B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2282-557E-4554-9439-CD875B8B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4F2B-62CD-4CE6-8AFE-C7EBBC96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EB6D-EF16-4BB9-9D6C-F644473C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503F-A80C-418F-8436-229B133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64A-9A2A-4927-ABA1-2AAE28C5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2F967-AB56-41CF-B084-EC2F822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D72F-0AAB-4E24-9503-F21DE55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7BED-CCF5-4629-9301-1A6EDD52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13AD-DA02-4017-B711-3A85A5E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1C812-AF5F-4399-98DE-8CFAA784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24B6-CCAD-4FE2-8B3B-17F17AB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E5960-A804-4B98-B9BE-8ABA212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5A6B-3CEE-4C7D-A11E-1BE74DB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E1901-1000-4B8A-843E-CD182E5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13E51-DE7B-4F43-BC18-3CE24D7F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E2F-E509-4066-93C8-9428BCC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16371-4064-4AAA-8D94-25C7A1F4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C3351-1C4C-4358-B1AD-6296A596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67D6-6D89-4FB2-A6D0-F879DEE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4742-8007-4C2A-98BD-540E03F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D0CE-136F-4701-8F3F-66285DD2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07AE2-B12D-4271-AAD0-585CA71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8BFB-A4B0-4F65-942F-2B631016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49FC-1623-4B55-90A0-08B321D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78E83-2DB2-494A-9344-60B0907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3BE8-CAF7-4A62-8FA5-F875093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739-6570-41BA-B47B-72E707D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8BE63-8F4D-41E1-AE6C-16D7172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87FC-D6E7-4D99-8564-0AF98D0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E3BE-FAC6-44BF-A01F-79F7DB75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A4206-CF88-43E7-9D49-906AC8FE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D332-E33E-45CB-AC99-EF78F77E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60210-14E2-4BE3-8D52-8BC644B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B40A-D0E8-408E-8897-AD84880F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795A-762B-4975-AE55-DC27B579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78ED7-655B-4154-A086-575089D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790F-8F1D-4225-9199-2AA7CC1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465-5CA6-4E69-A654-6AD388F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C37C-AAFD-45E0-AB9A-11C105E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67DD-13C4-4A6D-BFEE-38EB1473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4597-24C3-4859-929C-617978F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9ABC-A25A-44F8-951F-9CB18B0C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4A050-D827-4F13-B5BE-FA751AF1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40C-9BC4-40F5-802F-E1FBF30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1C6B-AD7E-4F1D-91EF-AEF74543A4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F07-4281-4781-926F-641BA3FA4E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BAD-CAA2-4539-A432-D336B02726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A647-ED75-433D-83BB-E205AE6082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2D50-80E0-4F46-BD14-70A9CE7082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233-35C9-4E13-A6EF-A5C4BBC55E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D05-5AD0-4469-8A97-7D59EDE2DD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1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9"/>
          <p:cNvSpPr/>
          <p:nvPr/>
        </p:nvSpPr>
        <p:spPr>
          <a:xfrm>
            <a:off x="990720" y="628560"/>
            <a:ext cx="7638840" cy="52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1200240" y="933480"/>
            <a:ext cx="7200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Урок </a:t>
            </a:r>
            <a:r>
              <a:rPr b="1" i="1" lang="ru-RU" sz="3600" spc="-1" strike="noStrike">
                <a:solidFill>
                  <a:srgbClr val="008a3e"/>
                </a:solidFill>
                <a:latin typeface="Arial"/>
              </a:rPr>
              <a:t>литературного</a:t>
            </a: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 чтения        в </a:t>
            </a:r>
            <a:r>
              <a:rPr b="1" i="1" lang="ru-RU" sz="3600" spc="-1" strike="noStrike">
                <a:solidFill>
                  <a:srgbClr val="008a3e"/>
                </a:solidFill>
                <a:latin typeface="Arial"/>
              </a:rPr>
              <a:t>3 </a:t>
            </a: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классе на тем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«Жизнь дана на добрые де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Сказка Г. Х. Андерсена «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Рамина Екатерина Евгеньевна</a:t>
            </a: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учитель начальных классов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МОУ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ОШ №6 г. о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400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"/>
          <p:cNvSpPr/>
          <p:nvPr/>
        </p:nvSpPr>
        <p:spPr>
          <a:xfrm>
            <a:off x="5978160" y="6237360"/>
            <a:ext cx="2859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 И. Пше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800280" y="3048120"/>
            <a:ext cx="77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a3e"/>
                </a:solidFill>
                <a:latin typeface="Arial"/>
              </a:rPr>
              <a:t>Ветер целовал дерево</a:t>
            </a:r>
            <a:r>
              <a:rPr b="1" i="1" lang="ru-RU" sz="4400" spc="-1" strike="noStrike">
                <a:solidFill>
                  <a:srgbClr val="008a3e"/>
                </a:solidFill>
                <a:latin typeface="Century"/>
              </a:rPr>
              <a:t>, </a:t>
            </a:r>
            <a:r>
              <a:rPr b="1" i="1" lang="ru-RU" sz="4400" spc="-1" strike="noStrike">
                <a:solidFill>
                  <a:srgbClr val="008a3e"/>
                </a:solidFill>
                <a:latin typeface="Arial"/>
              </a:rPr>
              <a:t>роса проливала слё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1238400" y="6094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"/>
              </a:rPr>
              <a:t>Олицетвор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5"/>
          <p:cNvCxnSpPr/>
          <p:nvPr/>
        </p:nvCxnSpPr>
        <p:spPr>
          <a:xfrm>
            <a:off x="4514760" y="1676520"/>
            <a:ext cx="388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9" name="Picture 7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264280" y="5408640"/>
            <a:ext cx="947520" cy="990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Стрелка">
            <a:hlinkClick r:id="" action="ppaction://hlinkshowjump?jump=nextslide"/>
          </p:cNvPr>
          <p:cNvPicPr/>
          <p:nvPr/>
        </p:nvPicPr>
        <p:blipFill>
          <a:blip r:embed="rId2"/>
          <a:srcRect l="-20988" t="-54094" r="-32791" b="-62126"/>
          <a:stretch/>
        </p:blipFill>
        <p:spPr>
          <a:xfrm>
            <a:off x="3244680" y="5446800"/>
            <a:ext cx="947880" cy="99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539640" y="2421000"/>
            <a:ext cx="8136000" cy="3816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десная, маленькая, хорошень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ет, вздыхает, дрожит, радуется, треп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тельница, бедня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ая ёл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3"/>
          <p:cNvSpPr txBox="1"/>
          <p:nvPr/>
        </p:nvSpPr>
        <p:spPr>
          <a:xfrm>
            <a:off x="3492360" y="47628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нквей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4" name="Picture 4" descr="ель 2"/>
          <p:cNvPicPr/>
          <p:nvPr/>
        </p:nvPicPr>
        <p:blipFill>
          <a:blip r:embed="rId1"/>
          <a:stretch/>
        </p:blipFill>
        <p:spPr>
          <a:xfrm>
            <a:off x="6732720" y="333360"/>
            <a:ext cx="190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9"/>
          <p:cNvSpPr/>
          <p:nvPr/>
        </p:nvSpPr>
        <p:spPr>
          <a:xfrm>
            <a:off x="304920" y="838080"/>
            <a:ext cx="744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Сказки Андерсена побуждают задумать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В сказках Андерсена живут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8a3e"/>
                </a:solidFill>
                <a:latin typeface="Corbel"/>
              </a:rPr>
              <a:t>Домашнее задание:</a:t>
            </a:r>
            <a:br>
              <a:rPr sz="3900"/>
            </a:br>
            <a:r>
              <a:rPr b="1" i="1" lang="ru-RU" sz="2500" spc="-1" strike="noStrike">
                <a:solidFill>
                  <a:srgbClr val="008a3e"/>
                </a:solidFill>
                <a:latin typeface="Corbel"/>
              </a:rPr>
              <a:t>(на выбор)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ff"/>
                </a:solidFill>
                <a:latin typeface="Corbel"/>
              </a:rPr>
              <a:t>1) </a:t>
            </a:r>
            <a:r>
              <a:rPr b="1" lang="ru-RU" sz="3300" spc="-1" strike="noStrike">
                <a:solidFill>
                  <a:srgbClr val="0000ff"/>
                </a:solidFill>
                <a:latin typeface="Corbel"/>
              </a:rPr>
              <a:t>Перечитать сказку, разделить на части и озаглавить их.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66ff33"/>
                </a:solidFill>
                <a:latin typeface="Corbel"/>
              </a:rPr>
              <a:t>2) </a:t>
            </a:r>
            <a:r>
              <a:rPr b="1" lang="ru-RU" sz="3300" spc="-1" strike="noStrike">
                <a:solidFill>
                  <a:srgbClr val="66ff33"/>
                </a:solidFill>
                <a:latin typeface="Corbel"/>
              </a:rPr>
              <a:t>Составить диафильм к сказке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ff"/>
                </a:solidFill>
                <a:latin typeface="Corbel"/>
              </a:rPr>
              <a:t>3) </a:t>
            </a:r>
            <a:r>
              <a:rPr b="1" lang="ru-RU" sz="3300" spc="-1" strike="noStrike">
                <a:solidFill>
                  <a:srgbClr val="ff00ff"/>
                </a:solidFill>
                <a:latin typeface="Corbel"/>
              </a:rPr>
              <a:t>Придумать другую концовку к сказке «Ель»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7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4768920" y="5867280"/>
            <a:ext cx="947520" cy="990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Стрелка">
            <a:hlinkClick r:id="" action="ppaction://hlinkshowjump?jump=nextslide"/>
          </p:cNvPr>
          <p:cNvPicPr/>
          <p:nvPr/>
        </p:nvPicPr>
        <p:blipFill>
          <a:blip r:embed="rId2"/>
          <a:srcRect l="-20988" t="-54094" r="-32791" b="-62126"/>
          <a:stretch/>
        </p:blipFill>
        <p:spPr>
          <a:xfrm>
            <a:off x="3130560" y="5867280"/>
            <a:ext cx="9478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171"/>
          <p:cNvPicPr/>
          <p:nvPr/>
        </p:nvPicPr>
        <p:blipFill>
          <a:blip r:embed="rId1"/>
          <a:stretch/>
        </p:blipFill>
        <p:spPr>
          <a:xfrm>
            <a:off x="1692360" y="3141720"/>
            <a:ext cx="2484360" cy="3311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95239b"/>
          <p:cNvPicPr/>
          <p:nvPr/>
        </p:nvPicPr>
        <p:blipFill>
          <a:blip r:embed="rId2"/>
          <a:stretch/>
        </p:blipFill>
        <p:spPr>
          <a:xfrm>
            <a:off x="5796000" y="3213000"/>
            <a:ext cx="2214360" cy="31687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4"/>
          <p:cNvSpPr txBox="1"/>
          <p:nvPr/>
        </p:nvSpPr>
        <p:spPr>
          <a:xfrm>
            <a:off x="1403280" y="620640"/>
            <a:ext cx="604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3" name="Picture 5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1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imgB"/>
          <p:cNvPicPr/>
          <p:nvPr/>
        </p:nvPicPr>
        <p:blipFill>
          <a:blip r:embed="rId3"/>
          <a:stretch/>
        </p:blipFill>
        <p:spPr>
          <a:xfrm>
            <a:off x="4154400" y="474840"/>
            <a:ext cx="4426200" cy="5105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5" descr="годы-жизни"/>
          <p:cNvPicPr/>
          <p:nvPr/>
        </p:nvPicPr>
        <p:blipFill>
          <a:blip r:embed="rId4"/>
          <a:stretch/>
        </p:blipFill>
        <p:spPr>
          <a:xfrm>
            <a:off x="254160" y="2714760"/>
            <a:ext cx="3636720" cy="6634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9"/>
          <p:cNvSpPr/>
          <p:nvPr/>
        </p:nvSpPr>
        <p:spPr>
          <a:xfrm>
            <a:off x="4089240" y="419040"/>
            <a:ext cx="4534200" cy="5219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0" y="1028880"/>
            <a:ext cx="38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a3e"/>
                </a:solidFill>
                <a:latin typeface="Century"/>
              </a:rPr>
              <a:t>Г. Х. Андерс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ёлочка 3"/>
          <p:cNvPicPr/>
          <p:nvPr/>
        </p:nvPicPr>
        <p:blipFill>
          <a:blip r:embed="rId5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3"/>
          <p:cNvSpPr/>
          <p:nvPr/>
        </p:nvSpPr>
        <p:spPr>
          <a:xfrm>
            <a:off x="743040" y="-2362320"/>
            <a:ext cx="88405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7"/>
          <p:cNvSpPr txBox="1"/>
          <p:nvPr/>
        </p:nvSpPr>
        <p:spPr>
          <a:xfrm>
            <a:off x="1087560" y="1117440"/>
            <a:ext cx="688788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Жизнь дан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2" name="WordArt 18"/>
          <p:cNvSpPr txBox="1"/>
          <p:nvPr/>
        </p:nvSpPr>
        <p:spPr>
          <a:xfrm>
            <a:off x="471600" y="3801960"/>
            <a:ext cx="817884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на добрые де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33" name="Picture 28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0" y="1568520"/>
            <a:ext cx="9191520" cy="1558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8a52"/>
                </a:solidFill>
                <a:latin typeface="ZapfChanceryC"/>
              </a:rPr>
              <a:t>« </a:t>
            </a:r>
            <a:r>
              <a:rPr b="1" i="1" lang="ru-RU" sz="4400" spc="-1" strike="noStrike">
                <a:solidFill>
                  <a:srgbClr val="008a52"/>
                </a:solidFill>
                <a:latin typeface="ZapfChanceryC"/>
              </a:rPr>
              <a:t>Мы обязаны делиться с миром, что есть в нас!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097600" y="3603600"/>
            <a:ext cx="3968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8a52"/>
                </a:solidFill>
                <a:latin typeface="ZapfChanceryC"/>
              </a:rPr>
              <a:t>Г. Х. Андерсе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8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24">
            <a:hlinkClick r:id="" action="ppaction://hlinkshowjump?jump=firstslide"/>
          </p:cNvPr>
          <p:cNvSpPr/>
          <p:nvPr/>
        </p:nvSpPr>
        <p:spPr>
          <a:xfrm>
            <a:off x="5557680" y="768996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e7b9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409840" y="90468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же это за дев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швея, не масте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сама не шье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иголках круглый год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ель 2"/>
          <p:cNvPicPr/>
          <p:nvPr/>
        </p:nvPicPr>
        <p:blipFill>
          <a:blip r:embed="rId1"/>
          <a:stretch/>
        </p:blipFill>
        <p:spPr>
          <a:xfrm>
            <a:off x="6012000" y="3933720"/>
            <a:ext cx="190476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4"/>
          <p:cNvSpPr txBox="1"/>
          <p:nvPr/>
        </p:nvSpPr>
        <p:spPr>
          <a:xfrm>
            <a:off x="1908000" y="4292640"/>
            <a:ext cx="158436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8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i?id=54921582-44-72"/>
          <p:cNvPicPr/>
          <p:nvPr/>
        </p:nvPicPr>
        <p:blipFill>
          <a:blip r:embed="rId1"/>
          <a:stretch/>
        </p:blipFill>
        <p:spPr>
          <a:xfrm>
            <a:off x="971640" y="549360"/>
            <a:ext cx="4029120" cy="5256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995640" y="155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дут развиваться события да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2916360" y="2276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4859280" y="342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се закончит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51280" y="3933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5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38:11Z</dcterms:created>
  <dc:creator>DEN</dc:creator>
  <dc:description/>
  <dc:language>en-US</dc:language>
  <cp:lastModifiedBy>User</cp:lastModifiedBy>
  <dcterms:modified xsi:type="dcterms:W3CDTF">2020-11-07T13:39:43Z</dcterms:modified>
  <cp:revision>4</cp:revision>
  <dc:subject/>
  <dc:title>Слайд 1</dc:title>
</cp:coreProperties>
</file>