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19.gif" ContentType="image/gif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1FD-79A5-4F68-ACA6-55D54ACD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5A6-B335-4C9F-9761-A478ACA1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3E0-5595-4606-8902-D1615342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05A-BE83-4961-AAE1-8457C9E9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4FB8-D560-4BF1-9A99-55AF7435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F039-5AB5-4879-9C6A-BD23D1BF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42DA-ECB9-48F1-980C-1660F875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783F-5253-4437-8AB6-E5370B4C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18E0-0549-4B38-A1AB-AAA8A620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9810-7AA8-4C71-A4D9-3AF378DC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84DA-2888-4328-99DF-98FE571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6C1-4C6C-47DD-8099-9D6FC34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EB5-4B9C-4F69-9DC8-AF839076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C0E9-FDE2-4FC3-A371-7409C6B4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D97C-740B-426A-9D19-2A1D1FF9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5749-6BA6-4EC6-ABE5-99D1DF03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B419-BA35-4D35-96E4-5ABAEBEF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0C39-40EE-40EE-9CEB-241B75A2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8A2C-5BFF-43C4-923C-09DBAA6D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EE5A3-12AD-474C-8771-8348CC80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6B79-A1D3-4E5E-A983-441B522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492E5-CB89-4F75-B237-F101283F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2A3-EBD8-4A8E-B95C-E176402C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21A57-7588-4DB8-A306-AE3135BE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8C91-AA7A-4EE7-8FC4-63496E0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E65F-F703-41CF-92B9-EE6F9723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8F94-1943-41F2-9B3A-2B682D1F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BCADE-A776-4166-8A8C-846FF64F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86A1-D108-4728-A322-2E74D177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5FBA3-ECFF-439F-9E21-67E45874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86F5-4476-44FD-86F4-74334245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3192-43B6-4E68-B827-EEF4168D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E379-1450-4B52-9A79-0D512C34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90F-65BB-4892-8C3B-BF93AE59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5DBAA-E4B3-42F6-B793-3A6BE114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831F-20A9-4B72-B8B6-8E4C2C98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A1EC-C3A7-49C1-98D6-D68B8F65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20C38-5380-4B0D-A3CA-899288F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122B-6B5C-4817-A743-9C967354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8028-8CBA-4852-B9FA-514317FF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13A0-AEBC-47A5-A80F-A89F7FA9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2378-9CB0-4038-B764-6AF659CF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5B5CE-D882-46C7-AAC9-AF188A6D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2819E-2515-4508-81EC-B27C496B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1F8-CC75-4299-9924-FB2F5A00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2C624-6F2C-493C-B162-5E687440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1B9E7-D261-42C3-A0CA-5F9A9645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E4FDD-44F8-4533-BBC4-A8A95C16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5C34-49B4-4783-B51D-21CDB1A2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13DF7-FEDB-4FFE-A235-26D58EC3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C9607-502D-48A3-A330-7263239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70B5C-695D-42F6-9D40-FB8BABC9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DAC92-6D5E-446B-880C-50F3F586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6867F-49A7-4391-9A93-82B84FCD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E5EE-4569-44ED-B902-A4084AC9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65A-8334-408E-BD03-1E783C12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49802-2C95-4991-B7B1-6767F730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B3A25-505C-43E0-A868-9E209B62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F6828-1FEE-4263-8B29-FE68495F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84594-B507-4A8D-809D-8C6F77EF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3362-5F13-4DCD-8254-F4B57A62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CC704-988F-4DF5-BBA8-8C5C2C05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B692B-3195-4ABC-ABE1-260136BD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A9C3-352A-4008-88D4-2163CD0B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44B0F-E379-4BBA-875F-E9FF1720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6DB3-FF25-4BCB-AB2E-4DF1E08A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E89-4E7F-4923-B559-CEAE28FF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463B9-7E48-46CE-BD03-9E34D0E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0DD5B-F05E-41D1-90B5-F5B0E361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17A52-0AD3-4B48-B35E-DF5E1392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166F4-B199-49C2-A975-58DEBAEA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13A23-E3C5-4AF1-9A17-7A1A2CC8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E9D0E-B56C-4308-B73C-E11C48C7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F9289-5A18-4233-A87D-94607A3D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5FFAC-CE17-48D9-B3DB-A0C05760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71426-C261-474C-ADB5-3A20FFD9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20EEB-1D6B-487F-B89B-17C08D2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99B-EE11-4D8A-B1ED-A321158B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91DF-0A2B-44E5-B7DE-45E9BD21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451C8-6E78-4693-9351-7E6170C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764DB-56A8-43F9-9120-18317C14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EBFC4-A4EE-4AD9-ACBB-1D74B1F3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8C2D6-623C-462A-8D22-3BF3242F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C91-3C6E-4AB7-A6E4-2E8C347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342-34F7-4A8F-8C7D-6CCD2DE1A3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93E-5857-4B12-B130-00FE0DA5FD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1BAB-543C-4D8A-84C7-5FA813E235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7EFC-6977-443D-994F-BFBA8A1E2BD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A359-9089-410F-BECB-62DCD812E2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BEA1-3339-42A8-9DDA-7618DD6B04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0DE0-F538-4DDB-93FE-8E54509BF2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1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568840" y="5751360"/>
            <a:ext cx="947880" cy="99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2" descr="Стрелка-2">
            <a:hlinkClick r:id="" action="ppaction://hlinkshowjump?jump=previousslide"/>
          </p:cNvPr>
          <p:cNvPicPr/>
          <p:nvPr/>
        </p:nvPicPr>
        <p:blipFill>
          <a:blip r:embed="rId2"/>
          <a:srcRect l="-32791" t="-49606" r="-37384" b="-52756"/>
          <a:stretch/>
        </p:blipFill>
        <p:spPr>
          <a:xfrm>
            <a:off x="2550960" y="5818320"/>
            <a:ext cx="1051200" cy="9237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9"/>
          <p:cNvSpPr/>
          <p:nvPr/>
        </p:nvSpPr>
        <p:spPr>
          <a:xfrm>
            <a:off x="990720" y="628560"/>
            <a:ext cx="7638840" cy="5257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1200240" y="933480"/>
            <a:ext cx="7200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a3e"/>
                </a:solidFill>
                <a:latin typeface="Century"/>
              </a:rPr>
              <a:t>Урок </a:t>
            </a:r>
            <a:r>
              <a:rPr b="1" i="1" lang="ru-RU" sz="3600" spc="-1" strike="noStrike">
                <a:solidFill>
                  <a:srgbClr val="008a3e"/>
                </a:solidFill>
                <a:latin typeface="Arial"/>
              </a:rPr>
              <a:t>литературного</a:t>
            </a:r>
            <a:r>
              <a:rPr b="1" i="1" lang="ru-RU" sz="3600" spc="-1" strike="noStrike">
                <a:solidFill>
                  <a:srgbClr val="008a3e"/>
                </a:solidFill>
                <a:latin typeface="Century"/>
              </a:rPr>
              <a:t> чтения        в </a:t>
            </a:r>
            <a:r>
              <a:rPr b="1" i="1" lang="ru-RU" sz="3600" spc="-1" strike="noStrike">
                <a:solidFill>
                  <a:srgbClr val="008a3e"/>
                </a:solidFill>
                <a:latin typeface="Arial"/>
              </a:rPr>
              <a:t>3 </a:t>
            </a:r>
            <a:r>
              <a:rPr b="1" i="1" lang="ru-RU" sz="3600" spc="-1" strike="noStrike">
                <a:solidFill>
                  <a:srgbClr val="008a3e"/>
                </a:solidFill>
                <a:latin typeface="Century"/>
              </a:rPr>
              <a:t>классе на тему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«Жизнь дана на добрые де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 </a:t>
            </a:r>
            <a:r>
              <a:rPr b="1" i="1" lang="ru-RU" sz="3600" spc="-1" strike="noStrike">
                <a:solidFill>
                  <a:srgbClr val="425519"/>
                </a:solidFill>
                <a:latin typeface="Corbel"/>
              </a:rPr>
              <a:t>Сказка Г. Х. Андерсена «Ел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Рамина Екатерина Евгеньевна</a:t>
            </a:r>
            <a:r>
              <a:rPr b="1" lang="ru-RU" sz="1800" spc="-1" strike="noStrike">
                <a:solidFill>
                  <a:srgbClr val="0d0d0d"/>
                </a:solidFill>
                <a:latin typeface="Centu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"/>
              </a:rPr>
              <a:t>учитель начальных классов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"/>
              </a:rPr>
              <a:t>МОУ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СОШ №6 г. о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4000" cy="540072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1"/>
          <p:cNvSpPr/>
          <p:nvPr/>
        </p:nvSpPr>
        <p:spPr>
          <a:xfrm>
            <a:off x="5978160" y="6237360"/>
            <a:ext cx="2859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 И. Пшен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63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800280" y="3048120"/>
            <a:ext cx="77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a3e"/>
                </a:solidFill>
                <a:latin typeface="Arial"/>
              </a:rPr>
              <a:t>Ветер целовал дерево</a:t>
            </a:r>
            <a:r>
              <a:rPr b="1" i="1" lang="ru-RU" sz="4400" spc="-1" strike="noStrike">
                <a:solidFill>
                  <a:srgbClr val="008a3e"/>
                </a:solidFill>
                <a:latin typeface="Century"/>
              </a:rPr>
              <a:t>, </a:t>
            </a:r>
            <a:r>
              <a:rPr b="1" i="1" lang="ru-RU" sz="4400" spc="-1" strike="noStrike">
                <a:solidFill>
                  <a:srgbClr val="008a3e"/>
                </a:solidFill>
                <a:latin typeface="Arial"/>
              </a:rPr>
              <a:t>роса проливала слё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1238400" y="609480"/>
            <a:ext cx="708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"/>
              </a:rPr>
              <a:t>Олицетворе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Прямая со стрелкой 5"/>
          <p:cNvCxnSpPr/>
          <p:nvPr/>
        </p:nvCxnSpPr>
        <p:spPr>
          <a:xfrm>
            <a:off x="4514760" y="1676520"/>
            <a:ext cx="388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59" name="Picture 7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264280" y="5408640"/>
            <a:ext cx="947520" cy="990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Стрелка">
            <a:hlinkClick r:id="" action="ppaction://hlinkshowjump?jump=nextslide"/>
          </p:cNvPr>
          <p:cNvPicPr/>
          <p:nvPr/>
        </p:nvPicPr>
        <p:blipFill>
          <a:blip r:embed="rId2"/>
          <a:srcRect l="-20988" t="-54094" r="-32791" b="-62126"/>
          <a:stretch/>
        </p:blipFill>
        <p:spPr>
          <a:xfrm>
            <a:off x="3244680" y="5446800"/>
            <a:ext cx="947880" cy="990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539640" y="2421000"/>
            <a:ext cx="8136000" cy="38163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удесная, маленькая, хорошень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чтает, вздыхает, дрожит, радуется, треп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чтательница, бедняж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ая ёл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3"/>
          <p:cNvSpPr txBox="1"/>
          <p:nvPr/>
        </p:nvSpPr>
        <p:spPr>
          <a:xfrm>
            <a:off x="3492360" y="476280"/>
            <a:ext cx="206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нквей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4" name="Picture 4" descr="ель 2"/>
          <p:cNvPicPr/>
          <p:nvPr/>
        </p:nvPicPr>
        <p:blipFill>
          <a:blip r:embed="rId1"/>
          <a:stretch/>
        </p:blipFill>
        <p:spPr>
          <a:xfrm>
            <a:off x="6732720" y="333360"/>
            <a:ext cx="19047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9"/>
          <p:cNvSpPr/>
          <p:nvPr/>
        </p:nvSpPr>
        <p:spPr>
          <a:xfrm>
            <a:off x="304920" y="838080"/>
            <a:ext cx="744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</a:rPr>
              <a:t>Сказки Андерсена побуждают задуматься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"/>
              </a:rPr>
              <a:t>В сказках Андерсена живут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8a3e"/>
                </a:solidFill>
                <a:latin typeface="Corbel"/>
              </a:rPr>
              <a:t>Домашнее задание:</a:t>
            </a:r>
            <a:br>
              <a:rPr sz="3900"/>
            </a:br>
            <a:r>
              <a:rPr b="1" i="1" lang="ru-RU" sz="2500" spc="-1" strike="noStrike">
                <a:solidFill>
                  <a:srgbClr val="008a3e"/>
                </a:solidFill>
                <a:latin typeface="Corbel"/>
              </a:rPr>
              <a:t>(на выбор)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ff"/>
                </a:solidFill>
                <a:latin typeface="Corbel"/>
              </a:rPr>
              <a:t>1) </a:t>
            </a:r>
            <a:r>
              <a:rPr b="1" lang="ru-RU" sz="3300" spc="-1" strike="noStrike">
                <a:solidFill>
                  <a:srgbClr val="0000ff"/>
                </a:solidFill>
                <a:latin typeface="Corbel"/>
              </a:rPr>
              <a:t>Перечитать сказку, разделить на части и озаглавить их.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66ff33"/>
                </a:solidFill>
                <a:latin typeface="Corbel"/>
              </a:rPr>
              <a:t>2) </a:t>
            </a:r>
            <a:r>
              <a:rPr b="1" lang="ru-RU" sz="3300" spc="-1" strike="noStrike">
                <a:solidFill>
                  <a:srgbClr val="66ff33"/>
                </a:solidFill>
                <a:latin typeface="Corbel"/>
              </a:rPr>
              <a:t>Составить диафильм к сказке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ff"/>
                </a:solidFill>
                <a:latin typeface="Corbel"/>
              </a:rPr>
              <a:t>3) </a:t>
            </a:r>
            <a:r>
              <a:rPr b="1" lang="ru-RU" sz="3300" spc="-1" strike="noStrike">
                <a:solidFill>
                  <a:srgbClr val="ff00ff"/>
                </a:solidFill>
                <a:latin typeface="Corbel"/>
              </a:rPr>
              <a:t>Придумать другую концовку к сказке «Ель»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7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4768920" y="5867280"/>
            <a:ext cx="947520" cy="990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Стрелка">
            <a:hlinkClick r:id="" action="ppaction://hlinkshowjump?jump=nextslide"/>
          </p:cNvPr>
          <p:cNvPicPr/>
          <p:nvPr/>
        </p:nvPicPr>
        <p:blipFill>
          <a:blip r:embed="rId2"/>
          <a:srcRect l="-20988" t="-54094" r="-32791" b="-62126"/>
          <a:stretch/>
        </p:blipFill>
        <p:spPr>
          <a:xfrm>
            <a:off x="3130560" y="5867280"/>
            <a:ext cx="94788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171"/>
          <p:cNvPicPr/>
          <p:nvPr/>
        </p:nvPicPr>
        <p:blipFill>
          <a:blip r:embed="rId1"/>
          <a:stretch/>
        </p:blipFill>
        <p:spPr>
          <a:xfrm>
            <a:off x="1692360" y="3141720"/>
            <a:ext cx="2484360" cy="3311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95239b"/>
          <p:cNvPicPr/>
          <p:nvPr/>
        </p:nvPicPr>
        <p:blipFill>
          <a:blip r:embed="rId2"/>
          <a:stretch/>
        </p:blipFill>
        <p:spPr>
          <a:xfrm>
            <a:off x="5796000" y="3213000"/>
            <a:ext cx="2214360" cy="3168720"/>
          </a:xfrm>
          <a:prstGeom prst="rect">
            <a:avLst/>
          </a:prstGeom>
          <a:ln w="0">
            <a:noFill/>
          </a:ln>
        </p:spPr>
      </p:pic>
      <p:sp>
        <p:nvSpPr>
          <p:cNvPr id="372" name="WordArt 4"/>
          <p:cNvSpPr txBox="1"/>
          <p:nvPr/>
        </p:nvSpPr>
        <p:spPr>
          <a:xfrm>
            <a:off x="1403280" y="620640"/>
            <a:ext cx="6048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3" name="Picture 5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1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568840" y="5751360"/>
            <a:ext cx="947880" cy="99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Стрелка-2">
            <a:hlinkClick r:id="" action="ppaction://hlinkshowjump?jump=previousslide"/>
          </p:cNvPr>
          <p:cNvPicPr/>
          <p:nvPr/>
        </p:nvPicPr>
        <p:blipFill>
          <a:blip r:embed="rId2"/>
          <a:srcRect l="-32791" t="-49606" r="-37384" b="-52756"/>
          <a:stretch/>
        </p:blipFill>
        <p:spPr>
          <a:xfrm>
            <a:off x="2550960" y="5818320"/>
            <a:ext cx="1051200" cy="923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imgB"/>
          <p:cNvPicPr/>
          <p:nvPr/>
        </p:nvPicPr>
        <p:blipFill>
          <a:blip r:embed="rId3"/>
          <a:stretch/>
        </p:blipFill>
        <p:spPr>
          <a:xfrm>
            <a:off x="4154400" y="474840"/>
            <a:ext cx="4426200" cy="5105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5" descr="годы-жизни"/>
          <p:cNvPicPr/>
          <p:nvPr/>
        </p:nvPicPr>
        <p:blipFill>
          <a:blip r:embed="rId4"/>
          <a:stretch/>
        </p:blipFill>
        <p:spPr>
          <a:xfrm>
            <a:off x="254160" y="2714760"/>
            <a:ext cx="3636720" cy="6634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29"/>
          <p:cNvSpPr/>
          <p:nvPr/>
        </p:nvSpPr>
        <p:spPr>
          <a:xfrm>
            <a:off x="4089240" y="419040"/>
            <a:ext cx="4534200" cy="5219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2"/>
          <p:cNvSpPr/>
          <p:nvPr/>
        </p:nvSpPr>
        <p:spPr>
          <a:xfrm>
            <a:off x="0" y="1028880"/>
            <a:ext cx="38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a3e"/>
                </a:solidFill>
                <a:latin typeface="Century"/>
              </a:rPr>
              <a:t>Г. Х. Андерс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ёлочка 3"/>
          <p:cNvPicPr/>
          <p:nvPr/>
        </p:nvPicPr>
        <p:blipFill>
          <a:blip r:embed="rId5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3"/>
          <p:cNvSpPr/>
          <p:nvPr/>
        </p:nvSpPr>
        <p:spPr>
          <a:xfrm>
            <a:off x="743040" y="-2362320"/>
            <a:ext cx="884052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17"/>
          <p:cNvSpPr txBox="1"/>
          <p:nvPr/>
        </p:nvSpPr>
        <p:spPr>
          <a:xfrm>
            <a:off x="1087560" y="1117440"/>
            <a:ext cx="6887880" cy="17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Жизнь дан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00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32" name="WordArt 18"/>
          <p:cNvSpPr txBox="1"/>
          <p:nvPr/>
        </p:nvSpPr>
        <p:spPr>
          <a:xfrm>
            <a:off x="471600" y="3801960"/>
            <a:ext cx="817884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на добрые дел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33" name="Picture 28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568840" y="5751360"/>
            <a:ext cx="947880" cy="990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9" descr="Стрелка-2">
            <a:hlinkClick r:id="" action="ppaction://hlinkshowjump?jump=previousslide"/>
          </p:cNvPr>
          <p:cNvPicPr/>
          <p:nvPr/>
        </p:nvPicPr>
        <p:blipFill>
          <a:blip r:embed="rId2"/>
          <a:srcRect l="-32791" t="-49606" r="-37384" b="-52756"/>
          <a:stretch/>
        </p:blipFill>
        <p:spPr>
          <a:xfrm>
            <a:off x="2550960" y="5818320"/>
            <a:ext cx="1051200" cy="923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0" y="1568520"/>
            <a:ext cx="9191520" cy="15588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99"/>
            </a:outerShdw>
          </a:effectLst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8a52"/>
                </a:solidFill>
                <a:latin typeface="ZapfChanceryC"/>
              </a:rPr>
              <a:t>« </a:t>
            </a:r>
            <a:r>
              <a:rPr b="1" i="1" lang="ru-RU" sz="4400" spc="-1" strike="noStrike">
                <a:solidFill>
                  <a:srgbClr val="008a52"/>
                </a:solidFill>
                <a:latin typeface="ZapfChanceryC"/>
              </a:rPr>
              <a:t>Мы обязаны делиться с миром, что есть в нас!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5097600" y="3603600"/>
            <a:ext cx="3968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008a52"/>
                </a:solidFill>
                <a:latin typeface="ZapfChanceryC"/>
              </a:rPr>
              <a:t>Г. Х. Андерсе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8" descr="Стрелка">
            <a:hlinkClick r:id="" action="ppaction://hlinkshowjump?jump=nextslide"/>
          </p:cNvPr>
          <p:cNvPicPr/>
          <p:nvPr/>
        </p:nvPicPr>
        <p:blipFill>
          <a:blip r:embed="rId1"/>
          <a:srcRect l="-32791" t="-62126" r="-20988" b="-54094"/>
          <a:stretch/>
        </p:blipFill>
        <p:spPr>
          <a:xfrm>
            <a:off x="5568840" y="5751360"/>
            <a:ext cx="947880" cy="9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9" descr="Стрелка-2">
            <a:hlinkClick r:id="" action="ppaction://hlinkshowjump?jump=previousslide"/>
          </p:cNvPr>
          <p:cNvPicPr/>
          <p:nvPr/>
        </p:nvPicPr>
        <p:blipFill>
          <a:blip r:embed="rId2"/>
          <a:srcRect l="-32791" t="-49606" r="-37384" b="-52756"/>
          <a:stretch/>
        </p:blipFill>
        <p:spPr>
          <a:xfrm>
            <a:off x="2550960" y="5818320"/>
            <a:ext cx="1051200" cy="92376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24">
            <a:hlinkClick r:id="" action="ppaction://hlinkshowjump?jump=firstslide"/>
          </p:cNvPr>
          <p:cNvSpPr/>
          <p:nvPr/>
        </p:nvSpPr>
        <p:spPr>
          <a:xfrm>
            <a:off x="5557680" y="768996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7e7b9"/>
          </a:solidFill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ёлочка 3"/>
          <p:cNvPicPr/>
          <p:nvPr/>
        </p:nvPicPr>
        <p:blipFill>
          <a:blip r:embed="rId3"/>
          <a:stretch/>
        </p:blipFill>
        <p:spPr>
          <a:xfrm>
            <a:off x="0" y="5829480"/>
            <a:ext cx="101916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2409840" y="904680"/>
            <a:ext cx="37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же это за дев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швея, не мастер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сама не шьет,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иголках круглый год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ель 2"/>
          <p:cNvPicPr/>
          <p:nvPr/>
        </p:nvPicPr>
        <p:blipFill>
          <a:blip r:embed="rId1"/>
          <a:stretch/>
        </p:blipFill>
        <p:spPr>
          <a:xfrm>
            <a:off x="6012000" y="3933720"/>
            <a:ext cx="1904760" cy="2160720"/>
          </a:xfrm>
          <a:prstGeom prst="rect">
            <a:avLst/>
          </a:prstGeom>
          <a:ln w="0">
            <a:noFill/>
          </a:ln>
        </p:spPr>
      </p:pic>
      <p:sp>
        <p:nvSpPr>
          <p:cNvPr id="344" name="WordArt 4"/>
          <p:cNvSpPr txBox="1"/>
          <p:nvPr/>
        </p:nvSpPr>
        <p:spPr>
          <a:xfrm>
            <a:off x="1908000" y="4292640"/>
            <a:ext cx="158436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8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i?id=54921582-44-72"/>
          <p:cNvPicPr/>
          <p:nvPr/>
        </p:nvPicPr>
        <p:blipFill>
          <a:blip r:embed="rId1"/>
          <a:stretch/>
        </p:blipFill>
        <p:spPr>
          <a:xfrm>
            <a:off x="971640" y="549360"/>
            <a:ext cx="4029120" cy="5256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3995640" y="1557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будут развиваться события да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2916360" y="227664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4859280" y="3429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все закончитс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51280" y="3933720"/>
            <a:ext cx="446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05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2:38:11Z</dcterms:created>
  <dc:creator>DEN</dc:creator>
  <dc:description/>
  <dc:language>en-US</dc:language>
  <cp:lastModifiedBy>User</cp:lastModifiedBy>
  <dcterms:modified xsi:type="dcterms:W3CDTF">2020-11-07T13:39:43Z</dcterms:modified>
  <cp:revision>4</cp:revision>
  <dc:subject/>
  <dc:title>Слайд 1</dc:title>
</cp:coreProperties>
</file>