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E0D-A274-46FE-BB1D-22F7E968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F60-3CB7-41D2-A6E2-40ABCD32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855-2850-425A-B607-829F22F4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B70-F655-40D4-927B-654D1C81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5F4-EAFF-43CB-9F0B-BACA4CE5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661F-27F4-4868-87D8-6823F92B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B3E-9847-40E6-B33F-A9FB30AC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44B8-B2F8-4F52-9D78-348CEEA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E87-BDA0-4794-9497-276420E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59A4-AEB3-4FF0-A5AE-FF02CC98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D1CF-938A-4CD0-880F-D6ED42F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F73-055B-497C-8924-A781A8B2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6FF-EB1F-4EA4-BF5D-0FEF77CC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E38C-E96B-43C0-9060-01399D5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1A27-C5BB-4BFB-8894-F9891848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513-6114-466E-AD4B-8A96A4D6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189E-137F-48FE-9C82-AC3513B5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D9F1-75F3-4CF4-B922-2437FA14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8578-85BC-4AB0-B04D-2CCB13C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9FF0-9ADB-4408-8200-002EC30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BAC2-4DC8-4C97-B009-9CF1CF06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FA82-A6F5-4478-ADF5-B6D9BED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769-4FFA-4FF8-938A-F6F4A494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A2A3-7F7D-4A21-BAAD-59F3E89A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E2F1-A185-49A8-BAD0-97B55D0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42CB-086A-4EC9-B6FA-4301E8C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CC6E-47AC-4156-B95E-B931804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9158-848B-4F6E-97E5-FA171F3B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C0F9-3EAF-499C-A9EB-49C2EAB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2AFD-C8D8-4733-9F16-70B5F40E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EB9B-666B-40FF-A79F-54917DAF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6BB40-2DDC-4BF2-9459-0BD70A98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AD24-C7E3-44B6-9A0E-A8C3E5F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516-E54A-4534-9169-543942C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F03F-0047-4AD2-8527-E9AFB7B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F7B48-5287-48D4-AB7B-84ADB494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33CE-CD56-4D7F-8606-9C9A706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8037-E8E9-4DF4-93BF-EB4FF42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162E-66F1-44FC-9C7C-2C11337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C3BB-2304-48ED-A67B-69D6B14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D39E-9433-4E6D-9E21-8C59110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3AFE-C3D4-4189-B6B5-4F8B56AC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B362-27A4-4A5F-BDCD-BACB274A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7FA-0B25-450F-A181-B2B5281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734-858F-4B60-9D0A-39BBE52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466-EB73-4E1D-B5CF-B598EDE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3E0-A86C-4D42-8A54-C49DC5C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D2E-8AD4-4347-996A-8E97F1B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83C-03CE-4895-A8FC-C2D478C7F335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6A7C-5D84-4A0E-BDEB-C815E8E34E6B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4E7-A693-4500-8283-D67CEF4A4D57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85D-7EF9-4BCB-A4B7-1C48DB79CD1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graem-i-razvivaemsya.ru/goto/http:/3.bp.blogspot.com/-mqN_RWsOhQk/UXfNj9WKZRI/AAAAAAAAANA/bYNRlhKH1xs/s1600/97479319_original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08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МЕЛКОЙ МОТОРИКИ С ИСПОЛЬЗОВАНИЕМ НЕТРАДИЦИОННОГО МАТЕРИАЛ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58920" y="4437000"/>
            <a:ext cx="5616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иуллина Гузял Ильхамов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1 категории Муниципального  дошкольного 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 учре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 сад № 26 «Подсолнушек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7264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ПА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ира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тирова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ывать с закрытыми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ть между большим и указательным пальца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инки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вливать поочередно всеми пальцами обеих рук к столу, стараясь при этом делать вращательные движ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15464-1"/>
          <p:cNvPicPr/>
          <p:nvPr/>
        </p:nvPicPr>
        <p:blipFill>
          <a:blip r:embed="rId1"/>
          <a:stretch/>
        </p:blipFill>
        <p:spPr>
          <a:xfrm>
            <a:off x="5394240" y="1096920"/>
            <a:ext cx="327348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ожить резьбой вверх. На них поставить указательный и средний пальцы. Можно «ходить» одной, двумя руками одновременно (4 пробки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ложить по цвету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Рисовать» цветы и т.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ЕТНЫЕ ПАЛОЧКИ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адывать на плоской поверхности узоры, фигу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ть палочки одними и теми же пальцами разных рук (подушечками): двумя указательными, двумя средними и т.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ь «сруб» . Чем выше и ровнее «сруб», тем луч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НЫЙ МЯЧ-ЕЖИ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рук соответствует тексту стихотвор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ячом круги ката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д-вперед его гоня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глажу я ладошку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я сметаю крош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жму его немножк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жимает лапу кош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пальцем мяч прижм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ой рукой нач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следний трю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 летает между ру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711dd6b58d6376135a2f05f3a28d588"/>
          <p:cNvPicPr/>
          <p:nvPr/>
        </p:nvPicPr>
        <p:blipFill>
          <a:blip r:embed="rId1"/>
          <a:stretch/>
        </p:blipFill>
        <p:spPr>
          <a:xfrm>
            <a:off x="5029200" y="4054320"/>
            <a:ext cx="327960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РЕЗИНКАМИ ДЛЯ ВОЛОС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324000" y="121860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олнить небольшую ёмкость маленькими и большими резинками, спрятать небольшие игрушки (модификация игры «Волшебный мешочек»), а затем предложить детям их най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девать на указательный палец или палочку резинки одного цв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Раскладывать резинки по коробочкам или тарелкам в соответствии с цветом. Доставать прищепками большие и маленькие резинки из ём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3" descr="https://www.maam.ru/upload/blogs/detsad-627524-1475273714.jpg"/>
          <p:cNvPicPr/>
          <p:nvPr/>
        </p:nvPicPr>
        <p:blipFill>
          <a:blip r:embed="rId1"/>
          <a:srcRect l="5017" t="0" r="14346" b="4348"/>
          <a:stretch/>
        </p:blipFill>
        <p:spPr>
          <a:xfrm>
            <a:off x="5613480" y="4941720"/>
            <a:ext cx="32796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869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йте пальчик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рука- сильн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ушка – умн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чь- красиво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нестандартного оборудования направлено на решение следующих задач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ование познавательной активности и творческого воображения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зрительного , слухового восприят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сихических процессов: внимания, памяти, мышления, вообра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содической стороны речи: чувства ритма, силы голоса, дикции, выразительности ре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ПО РАЗВИТИЮ МЕЛКОЙ МОТОРИКИ РУ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дицион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кистей и пальцев рук (поглаживание, разминание); -игры с пальчиками с речевым сопровождением; -графические упражнения: штриховка, дорисовывание картинки, графические диктанты, соединение по точкам;- предметная деятельность: бумага, глина, пластилин; игры: мозаика, конструктор, шнуровка;- кукольный театры: пальчиковый, перчаточный, театр теней и т.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радицион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кистей и пальцев рук грецкими орехами, карандашами, массажными щетками, каштанами;- игры с пальчиками с использованием разнообразного материала: бросовый, природный, хозяйственно-быто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С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сы, считать количество бус (в прямом и обратном порядке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зывать бусинки на нитк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ть в коробочку с маленьким отверстием и т.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ГОВИЦ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1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ть неваляшку, снеговика, цветок, бусы, буквы, цифры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вать» в углубления больших пуговиц указательными и средними пальцами, двигаться делая по шагу на каждый ударный слог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ь пуговицы: самые крупные- в коробочку побольше, средние- в среднюю, мелкие- в маленьк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97479319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2640" y="4913280"/>
            <a:ext cx="34002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ТОЧЕ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мкать, начиная с уголка, носовой платочек так, чтобы он весь уместился в кулачк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012"/>
          <p:cNvPicPr/>
          <p:nvPr/>
        </p:nvPicPr>
        <p:blipFill>
          <a:blip r:embed="rId1"/>
          <a:stretch/>
        </p:blipFill>
        <p:spPr>
          <a:xfrm>
            <a:off x="1938240" y="3621240"/>
            <a:ext cx="34689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игранны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катать между двух ладон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ерживать карандаш каждым согнутым пальц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ерживать карандаш пальцами, расположенными так: указательный и безымянный сверху, средний и мизинец сниз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тавить локти на стол, взять карандаш за концы тремя пальцами правой и тремя пальцами левой руки и покрутить его вперед и назад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https://yt3.ggpht.com/a/AATXAJx1Yl-LqUQO8KhpmwyIlWM4cQQF39RjvoMU8g=s900-c-k-c0xffffffff-no-rj-mo"/>
          <p:cNvPicPr/>
          <p:nvPr/>
        </p:nvPicPr>
        <p:blipFill>
          <a:blip r:embed="rId1"/>
          <a:srcRect l="5552" t="0" r="0" b="6050"/>
          <a:stretch/>
        </p:blipFill>
        <p:spPr>
          <a:xfrm>
            <a:off x="6372360" y="549360"/>
            <a:ext cx="2447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ЦКИЕ ОРЕХ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ть два ореха между ладоня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поочередно между пальцами рук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несколько орехов между пальцами обеих рук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реха держать в одной руке и вращать их один вокруг друг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ЛЬЕВЫЕ ПРИЩЕП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чередно «кусать» ногтевые фаланги (от указательного к мизинцу и обратно) на ударные слоги стиха (самомассаж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лять прищепки к натянутой веревк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креплять к фигуркам из картона(лучики к солнцу, дождик к тучке и т.д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3:01:27Z</dcterms:created>
  <dc:creator>Customer</dc:creator>
  <dc:description/>
  <dc:language>en-US</dc:language>
  <cp:lastModifiedBy>ADMIN</cp:lastModifiedBy>
  <dcterms:modified xsi:type="dcterms:W3CDTF">2020-11-07T17:05:13Z</dcterms:modified>
  <cp:revision>36</cp:revision>
  <dc:subject/>
  <dc:title>Слайд 1</dc:title>
</cp:coreProperties>
</file>