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86A-E718-4C65-9E73-933E6179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523-024C-4259-B0F5-F49AC706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167-E67B-4E8D-8187-72343BC6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D95-C89D-4574-87E2-2ACFCE48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9EEF-D414-4023-A6FD-189314EF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A464-FC7C-4C8A-9231-CEE945FE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1957-0BE1-4561-B99A-D7412BFD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EAA8-B27B-4148-A9A4-7C46F5D6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E71D-8EAC-47DD-BABB-3A2469FF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D993-5A60-48A6-9803-58C38340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FC60-A5F0-42E7-89DA-0C9C9C3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8A4-19F2-4658-AF70-334858DE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8BCA-EAB7-419F-9786-19025CFE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1ED2-2101-4E0B-99A5-D7357248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0A67-12E7-43AA-BD3A-461198A3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467E-66EA-4EDA-B1CB-72574063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768D-B299-44CD-96C4-3E81B2EF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4746-74F3-4455-B0BF-282E1E8D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7D8A-F556-4784-A6B6-7E55EA41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123D-90A0-442E-B2FC-B538EB04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BFC5-47E3-4B05-9A88-A7263952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5574F-8512-43B6-A720-4215892D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211-DFE5-4E95-A2BC-7775B1AE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2D63-61CC-4A34-9DF1-36AA29DB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935F-5769-4DA3-AAC9-C648DC9D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FA932-1D10-4AD7-A67E-C65BF22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947D-DE79-4840-9EF3-755EDD77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DFE9-CBA1-49C2-B5E9-CAFA0D0F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7DC6-A69D-4D7A-BA11-14834C3F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20BBC-2EAF-47B2-905F-D3810401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5D4B-6BD3-40CD-969A-85A207A2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B8124-F0A2-4FA1-950B-0DF3781F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7E2BE-8718-451B-B5FB-B41D40DC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ABB-522A-40BD-8FF2-022144B6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84B4B-6CDC-4F28-B313-4017BF78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DBFE-EF53-4E5E-B10F-4B60E6A9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8C4B-9846-4986-A4DC-06F34949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89B2-B2DD-4729-8693-11719786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9A5F1-3142-408B-98E1-F87E128C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1A19-C146-463E-A1EF-66FC3D0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83AF-2A12-4AC4-9AE8-78150605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0C96-FCFE-4407-AC85-A9DA653D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300A-4800-479C-B8D9-D43E1003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007-4491-4858-83CA-97934F03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36F-22E8-41F2-AA3C-182A6994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406-083F-4F7F-870C-64B7765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593-4F5B-432E-84DF-6B6C57C0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183-1B2B-4428-8A4A-6E65640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7299-6AFC-4716-8557-908C47B94AF0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7963-CAB8-4FA4-AA98-3AD2614A0842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3E24-7227-4595-960C-62E57E8EFD8D}" type="slidenum">
              <a:rPr b="0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B61A-8A8D-4E48-8516-43C2FA923640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graem-i-razvivaemsya.ru/goto/http:/3.bp.blogspot.com/-mqN_RWsOhQk/UXfNj9WKZRI/AAAAAAAAANA/bYNRlhKH1xs/s1600/97479319_original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087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МЕЛКОЙ МОТОРИКИ С ИСПОЛЬЗОВАНИЕМ НЕТРАДИЦИОННОГО МАТЕРИАЛА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58920" y="4437000"/>
            <a:ext cx="5616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иуллина Гузял Ильхамов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1 категории Муниципального  дошкольного 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 учреж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 сад № 26 «Подсолнушек"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72648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УПА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ира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тирова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ывать с закрытыми глаз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ть между большим и указательным пальца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шинки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вливать поочередно всеми пальцами обеих рук к столу, стараясь при этом делать вращательные движ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15464-1"/>
          <p:cNvPicPr/>
          <p:nvPr/>
        </p:nvPicPr>
        <p:blipFill>
          <a:blip r:embed="rId1"/>
          <a:stretch/>
        </p:blipFill>
        <p:spPr>
          <a:xfrm>
            <a:off x="5394240" y="1096920"/>
            <a:ext cx="327348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ложить резьбой вверх. На них поставить указательный и средний пальцы. Можно «ходить» одной, двумя руками одновременно (4 пробки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ложить по цвету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Рисовать» цветы и т.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ЕТНЫЕ ПАЛОЧКИ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Ч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кладывать на плоской поверхности узоры, фигур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ть палочки одними и теми же пальцами разных рук (подушечками): двумя указательными, двумя средними и т.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ь «сруб» . Чем выше и ровнее «сруб», тем лучш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АЖНЫЙ МЯЧ-ЕЖИ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я рук соответствует тексту стихотвор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ячом круги ката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д-вперед его гоня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поглажу я ладошку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то я сметаю крошк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жму его немножк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жимает лапу кош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м пальцем мяч прижм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ой рукой начн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перь последний трюк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 летает между ру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4" descr="c711dd6b58d6376135a2f05f3a28d588"/>
          <p:cNvPicPr/>
          <p:nvPr/>
        </p:nvPicPr>
        <p:blipFill>
          <a:blip r:embed="rId1"/>
          <a:stretch/>
        </p:blipFill>
        <p:spPr>
          <a:xfrm>
            <a:off x="5029200" y="4054320"/>
            <a:ext cx="327960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С РЕЗИНКАМИ ДЛЯ ВОЛОС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324000" y="1218600"/>
            <a:ext cx="85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полнить небольшую ёмкость маленькими и большими резинками, спрятать небольшие игрушки (модификация игры «Волшебный мешочек»), а затем предложить детям их най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девать на указательный палец или палочку резинки одного цве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Раскладывать резинки по коробочкам или тарелкам в соответствии с цветом. Доставать прищепками большие и маленькие резинки из ёмк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3" descr="https://www.maam.ru/upload/blogs/detsad-627524-1475273714.jpg"/>
          <p:cNvPicPr/>
          <p:nvPr/>
        </p:nvPicPr>
        <p:blipFill>
          <a:blip r:embed="rId1"/>
          <a:srcRect l="5017" t="0" r="14346" b="4348"/>
          <a:stretch/>
        </p:blipFill>
        <p:spPr>
          <a:xfrm>
            <a:off x="5613480" y="4941720"/>
            <a:ext cx="327960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8692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уйте пальчик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рука- сильно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ушка – умно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ечь- красивой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ние нестандартного оборудования направлено на решение следующих задач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ование познавательной активности и творческого воображения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зрительного , слухового восприят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сихических процессов: внимания, памяти, мышления, воображ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росодической стороны речи: чувства ритма, силы голоса, дикции, выразительности реч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РАБОТЫ ПО РАЗВИТИЮ МЕЛКОЙ МОТОРИКИ РУ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дицион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 кистей и пальцев рук (поглаживание, разминание); -игры с пальчиками с речевым сопровождением; -графические упражнения: штриховка, дорисовывание картинки, графические диктанты, соединение по точкам;- предметная деятельность: бумага, глина, пластилин; игры: мозаика, конструктор, шнуровка;- кукольный театры: пальчиковый, перчаточный, театр теней и т.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радиционна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массаж кистей и пальцев рук грецкими орехами, карандашами, массажными щетками, каштанами;- игры с пальчиками с использованием разнообразного материала: бросовый, природный, хозяйственно-бытов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С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и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сы, считать количество бус (в прямом и обратном порядке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изывать бусинки на нитк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кать в коробочку с маленьким отверстием и т.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ГОВИЦ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5000"/>
            <a:ext cx="8229600" cy="41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ожить неваляшку, снеговика, цветок, бусы, буквы, цифры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тавать» в углубления больших пуговиц указательными и средними пальцами, двигаться делая по шагу на каждый ударный слог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ить пуговицы: самые крупные- в коробочку побольше, средние- в среднюю, мелкие- в маленьку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97479319_origin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62640" y="4913280"/>
            <a:ext cx="340020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ТОЧЕК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мкать, начиная с уголка, носовой платочек так, чтобы он весь уместился в кулачк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012"/>
          <p:cNvPicPr/>
          <p:nvPr/>
        </p:nvPicPr>
        <p:blipFill>
          <a:blip r:embed="rId1"/>
          <a:stretch/>
        </p:blipFill>
        <p:spPr>
          <a:xfrm>
            <a:off x="1938240" y="3621240"/>
            <a:ext cx="3468960" cy="20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стигранны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катать между двух ладон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держивать карандаш каждым согнутым пальц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держивать карандаш пальцами, расположенными так: указательный и безымянный сверху, средний и мизинец сниз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тавить локти на стол, взять карандаш за концы тремя пальцами правой и тремя пальцами левой руки и покрутить его вперед и назад 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https://yt3.ggpht.com/a/AATXAJx1Yl-LqUQO8KhpmwyIlWM4cQQF39RjvoMU8g=s900-c-k-c0xffffffff-no-rj-mo"/>
          <p:cNvPicPr/>
          <p:nvPr/>
        </p:nvPicPr>
        <p:blipFill>
          <a:blip r:embed="rId1"/>
          <a:srcRect l="5552" t="0" r="0" b="6050"/>
          <a:stretch/>
        </p:blipFill>
        <p:spPr>
          <a:xfrm>
            <a:off x="6372360" y="549360"/>
            <a:ext cx="24476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ЕЦКИЕ ОРЕХ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ть два ореха между ладоня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ивать поочередно между пальцами рук 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ивать несколько орехов между пальцами обеих рук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ореха держать в одной руке и вращать их один вокруг другог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ЕЛЬЕВЫЕ ПРИЩЕПК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очередно «кусать» ногтевые фаланги (от указательного к мизинцу и обратно) на ударные слоги стиха (самомассаж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лять прищепки к натянутой веревк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креплять к фигуркам из картона(лучики к солнцу, дождик к тучке и т.д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23:01:27Z</dcterms:created>
  <dc:creator>Customer</dc:creator>
  <dc:description/>
  <dc:language>en-US</dc:language>
  <cp:lastModifiedBy>ADMIN</cp:lastModifiedBy>
  <dcterms:modified xsi:type="dcterms:W3CDTF">2020-11-07T17:05:13Z</dcterms:modified>
  <cp:revision>36</cp:revision>
  <dc:subject/>
  <dc:title>Слайд 1</dc:title>
</cp:coreProperties>
</file>