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F4C7-9063-4E7F-8557-24A8A6AB8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057E-C04A-4D56-95E6-E1A58E3E88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B397-6E0E-4DC7-8873-63AAAAC905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B02-9830-45CA-B645-05AE8274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3BB-A480-4BB0-85F1-1FD937C8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8E7-6934-48A9-B6D3-E1D081B6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520-A8F1-4891-A167-38735F5B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DCEF-997C-4DBE-8CA2-6A9A964D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51C4-26EC-4E38-8CD8-99F5183F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0A06-BCF2-442B-9500-1FDA4971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01EF-0E51-4D8F-8D74-E40D03AB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1819-3237-433F-9C03-041E01D9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3190-D2BC-46DA-9919-26E05BB1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1742-FAF6-4568-B378-1FF763D4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8C8-9E98-41AD-AB9A-96C736FE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C810-A68B-4A32-90FE-4E71328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CC84-6823-4526-9D35-E4B0CCAB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C448-4678-48EC-816B-23CF13E7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8BD8-E32F-4D96-BE94-DC6CF31F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EFAB-5A50-41B1-9F20-023284CB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E1C2-4A80-4D1A-9412-CAFDF06B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ECE6-44AA-4A9E-AADB-D628933E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ABCA-6BBC-48D7-ABD0-244BC62D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2C7E-7E27-46CB-9D0D-CF19E511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3821-A880-4AF5-A5DE-059F4F25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01A-4A18-4E47-BE4B-F80F24D4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F0E63-123E-40FF-982B-1B95D5FD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958E-2EC5-404D-AF9B-B5F53AA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74E6-89B9-444C-976A-D0688449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44D9-F49E-4402-A039-F0B53FD3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F17D-C722-4FCA-88EC-1990E171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1BE6-EB80-4715-A826-4020F538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EE7E-EE0F-4626-BD05-A76D34EB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664D-C09A-4241-947D-4D84A754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3B94-39E8-47DA-9C19-926FA8E1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0388-D5A6-4D36-89B9-9D6E099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C5A-00C2-43B5-AE18-4F2B1272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5BF6C-FDC4-4200-856B-A9FE3E87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7C0B-901E-42DB-ABCE-5E589F78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AD0E-3DF7-4F72-84BC-5D85E3DF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08D61-C961-42F6-A27A-0B440F84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C780-46A9-4775-A6FF-CFF618EE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890F3-1C2F-4527-AA49-D9AFB0FC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44CC9-E3D4-48FC-B801-AEC32D38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F09C-7B3D-4CBE-94E2-8B36B8A2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CF8F-7CF5-42BD-911E-606C4E07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832-C454-4511-B428-E93A890C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8E0-53A2-465B-990D-1A2643B8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F51-9A33-42E6-AAD1-C93C9516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E72-007A-45EE-BA03-0166275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7D4-C986-4139-8237-13FC1100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8A71-2AC1-4F38-A50A-718993C7B87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3D8D-6E38-4A01-937B-470B56CE411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66F8-8694-485D-94B5-CB946665C20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E6CD-0BE3-4303-B02D-0C91422A02F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fullsizeMed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23920"/>
            <a:ext cx="670716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Нетрадиционные методы оздоровления детей и здоровьесберегающи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в ДОУ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24000" y="458136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Презентацию 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ксёнова Н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Воспитатель с/п МКОУ Туруно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д/с «Тере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Ноябрь – декабрь 2017.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ыхательная гимнастика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341000"/>
            <a:ext cx="50767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ложительно влияет на обменные процессы, играющие важную роль в кровоснабжении, в том числе и легочной тка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Улучшает дренажную функцию бронхов; - восстанавливает нарушенное носовое дыхан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пособствует восстановлению нормального крово - и лимфоснабж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вышает общую сопротивляемость организм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538800" cy="4408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5076720" y="2205000"/>
            <a:ext cx="393552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77151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Су-Джок 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12640"/>
            <a:ext cx="40384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Воздействует на биологически активные точки организ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тимулирует речевые зоны коры головного мозг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Способствует лечению внутренних органов, нормализует работу организма в цело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мелкую моторику ру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9900"/>
                </a:solidFill>
                <a:latin typeface="Times New Roman"/>
              </a:rPr>
              <a:t>Развивает память, внимание, связную речь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1934640"/>
            <a:ext cx="4038480" cy="4389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4427640" y="1557360"/>
            <a:ext cx="45370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Точечный массаж и самомассаж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32000" y="1700280"/>
            <a:ext cx="4103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Учит детей сознательно заботиться о своём здоровь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Является профилактикой простудных заболеван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овышает жизненный тонуса у дете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00cc"/>
                </a:solidFill>
                <a:latin typeface="Times New Roman"/>
              </a:rPr>
              <a:t>Прививает им чувство ответственности за своё здоровье, уверенность в том, что они сами могут помочь себе улучшить своё самочувстви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7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85988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Гимнастика для глаз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циркуляцию крови и внутриглазной жидкости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крепляет мышцы гл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d60093"/>
                </a:solidFill>
                <a:latin typeface="Times New Roman"/>
              </a:rPr>
              <a:t>Улучшает аккомодацию (это способность глаза человека к хорошему качеству зрения на разных расстояниях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4513320" cy="3384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fullsizeMed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Релаксац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4000" y="1628280"/>
            <a:ext cx="424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Учит детей расслаблятьс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пособствует концентрации вним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Помогает снять напряж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Снимает возбужд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4446720" y="1844640"/>
            <a:ext cx="450360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538200"/>
            <a:ext cx="80758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84280" y="1784160"/>
            <a:ext cx="355608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овышает иммунитет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напряжение и раздражитель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нимает головную бо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осстанавливает спокойное дых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0" y="-747720"/>
            <a:ext cx="9252000" cy="7605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0280" y="-603720"/>
            <a:ext cx="864252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Применение в работе ДОУ здоровьесберегающих технологий, повышает результативность воспитательно-образовательного процесса, формирует у педагогов и родителей ценностные ориентации, направленные на сохранение и укрепление здоровья воспитанников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 advTm="2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Здоровье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- это состояние полного физического, психиче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и социального благополучия, а не просто отсутствие болезней и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физических дефектов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(Всемирная организация здравоохранения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685800" y="90756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Здоровьесберегающая технология</a:t>
            </a:r>
            <a:r>
              <a:rPr b="1" i="1" lang="ru-RU" sz="3600" spc="-1" strike="noStrike">
                <a:solidFill>
                  <a:srgbClr val="9900cc"/>
                </a:solidFill>
                <a:latin typeface="Times New Roman"/>
              </a:rPr>
              <a:t> -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это система мер, включающая взаимосвязь и взаимодействие всех факторов образовательной среды, направленных на сохранение здоровья ребенка на всех этапах его обучения и развития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6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Задачи здоровьесбережения</a:t>
            </a:r>
            <a:r>
              <a:rPr b="0" lang="ru-RU" sz="3600" spc="-1" strike="noStrike">
                <a:solidFill>
                  <a:srgbClr val="3333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хранение здоровья детей и повышение двигательной активности и умственной работоспособ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адекватных условий для развития, обучения, оздоровления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</a:rPr>
              <a:t>создание положительного эмоционального настроя и снятие психоэмоционального напря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22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4287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6600cc"/>
                </a:solidFill>
                <a:latin typeface="Times New Roman"/>
              </a:rPr>
              <a:t>Здоровьесберегающие образовательные технологии делятся на </a:t>
            </a:r>
            <a:r>
              <a:rPr b="1" i="1" lang="ru-RU" sz="3600" spc="-1" strike="noStrike" u="sng">
                <a:solidFill>
                  <a:srgbClr val="6600cc"/>
                </a:solidFill>
                <a:uFillTx/>
                <a:latin typeface="Times New Roman"/>
              </a:rPr>
              <a:t>три группы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1. Технологии сохранения и стимулирования здоровь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2. Технологии обучения здоровому образу жизн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Times New Roman"/>
              </a:rPr>
              <a:t>3. Коррекционные технологи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7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сохранения и стимулирования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Динамические пауз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Подвижные и спортивные игры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Релаксаци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пальчиков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ля глаз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Гимнастика дыхательная</a:t>
            </a:r>
            <a:r>
              <a:rPr b="1" i="1" lang="ru-RU" sz="25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</a:rPr>
              <a:t>Бодрящая гимнастик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8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435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Технологии обучения здоровому образу жизни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61560" y="1916280"/>
            <a:ext cx="80758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Утренняя гимна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Физкультурные занят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Точечный массаж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Проблемно – игровые и коммуникативные иг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14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fullsizeMedia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3008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Коррекционные технологи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7240" y="1512360"/>
            <a:ext cx="82188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икуляционная гимнастик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каз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Цвет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Арт –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Су-Джок 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Times New Roman"/>
              </a:rPr>
              <a:t>Музыкотерап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84360" y="620640"/>
            <a:ext cx="7427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Гимнастика пальчиковая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пособствует овладению навыкам мелкой мотор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могает развивать реч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Повышает работоспособность коры головного моз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Развивает психические способности: мышление, память, воображе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cc"/>
                </a:solidFill>
                <a:latin typeface="Times New Roman"/>
              </a:rPr>
              <a:t>Снимает тревож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7</cp:lastModifiedBy>
  <dcterms:modified xsi:type="dcterms:W3CDTF">2020-11-07T12:39:51Z</dcterms:modified>
  <cp:revision>71</cp:revision>
  <dc:subject/>
  <dc:title>Your Title Here…</dc:title>
</cp:coreProperties>
</file>