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3124-F75F-4C02-984B-3EA4A5DB0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691-98B9-4CAC-8C21-86E1879EF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2DD3-A4BC-4BC9-A24D-120FC5971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8E3-AFD8-4FFF-A63B-A6D7C5E1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F1A-B6E2-42BF-B4DB-6A0E116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412-EE58-45A9-A7C1-29C054FC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E68-9D77-4667-8B7F-262B5997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820-7C8B-4BAF-AE2D-9B35AC85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3FF1-A23E-4227-9007-25F7E688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AAEB-23E3-49CA-B7CA-1EBD6E62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CC61-0EF0-4467-93E3-88DBCC11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4B1-ED07-4C23-B0E4-3164DBD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F302-5CC1-41B1-AF96-1C2EEA88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8BD7-EDB9-4F3B-83E9-5E09B0F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4FB-7488-4C81-BA3C-B970F68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4930-640E-46D7-9930-CB49A2B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5E17-378C-403B-A62B-213E759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F8D5-7911-4EE3-A84D-3FCDCF2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933-E91D-4CA2-B59E-30FFC2C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87A9-BC59-4E62-80FC-B9E06B8E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6B54-350D-453B-88F4-28AF7C80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67CB-3342-4F26-87C8-6A57807D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0B05-4B73-45D3-8E4E-E322302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43F3-E14E-40F7-AFD2-BE500CB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8427-BE34-4253-BAC6-8CEBFDE4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BF9-11D7-49AA-AFFC-FCD88B6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50B4-8D08-4AC9-8CCB-C3381B94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D25A-BC72-42D9-B4E4-87530CA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677D1-A524-4778-B6CC-1625086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AFF5-8687-461D-98FE-D45F0682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B542-2E3F-4348-91C9-BE03C9B9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E086C-D93E-4569-9E1A-8A7D9391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8A2A-80A7-4BF7-BFFF-74B6C75F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E7EB-0AAD-4074-9699-A7A2EA63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874F-CB82-4312-9432-597C3795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2BE8F-26AA-47A1-A18F-0C2B1AAD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734-A7FF-442A-ACCE-B04480D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C2BB-54B5-48E6-9EBC-DC4EB82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A93C-E867-4D81-972B-971B2715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B0C9-FFC1-43D4-AF5E-E13479CA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891F-AC92-4AEB-AE06-80C30E3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8595-CF4D-4936-BAD5-34DE394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28AE-E44A-4542-A67E-EF52270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F5BB-907A-4A91-8DEF-56C4F253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AB85-C934-4986-ABB7-CF47D67D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7B5B-1AB5-463E-896C-AC7A9223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073-245E-4727-9286-496D992A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231-219A-4159-9B09-912935A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E36-3F6E-4324-B7C5-91BDBB4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254-2E63-480E-8931-28971E4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1C2-E262-443B-A8B1-24DA4CE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40E2-078E-41EE-8DBD-5204B4D0ACB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027C-4C2A-40CB-92A4-3E059C46169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3873-8A0D-4C12-AF78-EAD8A1AB88D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DFC-B70C-4A07-BE31-AB655B19E3B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23920"/>
            <a:ext cx="6707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Нетрадиционные методы оздоровления детей и здоровьесберегающ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 ДО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24000" y="458136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ксёнова Н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оспитатель с/п МКОУ Турун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/с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оябрь – декабрь 2017.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341000"/>
            <a:ext cx="5076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538800" cy="4408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393552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151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1264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4427640" y="1557360"/>
            <a:ext cx="45370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3200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7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fullsizeMed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4000" y="162828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4446720" y="1844640"/>
            <a:ext cx="450360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53820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4280" y="1784160"/>
            <a:ext cx="35560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0280" y="-603720"/>
            <a:ext cx="864252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7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Бодрящ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8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61560" y="1916280"/>
            <a:ext cx="8075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Утрення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4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fullsizeMedia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7240" y="1512360"/>
            <a:ext cx="82188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Цвет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7</cp:lastModifiedBy>
  <dcterms:modified xsi:type="dcterms:W3CDTF">2020-11-07T12:39:51Z</dcterms:modified>
  <cp:revision>71</cp:revision>
  <dc:subject/>
  <dc:title>Your Title Here…</dc:title>
</cp:coreProperties>
</file>