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56E-F1DE-4F14-9822-A36EB593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AE7-639C-499A-8D24-2F1E02A2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004-4A5D-4797-917F-6748911C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8FD-DE55-4347-BD90-A5733B87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34AB-29FC-4CCB-9B07-A5FFCE5D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29E6-74C7-4504-9B8A-09973894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34B1-E3D0-4134-87B1-E40132A1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6381-93C4-46C1-BCFA-B1CAFB39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EDCF-BF04-43CA-8291-C8613E09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0F59-94F8-463B-8F6F-E691826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7E02-BA1B-44A6-94FF-70F932B0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7EB-7895-461C-BD86-F0BEC203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13A4-A255-4C79-B0E6-1DBFE227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B8F8-DE0F-4E8C-B7E4-C7B359B2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10B2-7774-4837-A238-3704CB62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00B8-8575-4ADC-ABB4-8A22B400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5630-3166-4530-8D48-77F9C2CB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CAD-610B-4E0C-8C68-BD517F23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B70-A46D-4003-B668-B59D0FBB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1FF-A383-4337-9828-4509E6E1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B6D-A595-4A73-AA87-5BF2ED15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001-1995-4BCA-B28C-EFDCF7F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28F-4C18-4E88-8071-8D7E235E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E25-3505-4988-B492-AE2C6AA2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DF0F-382F-4451-9705-BF50781ABD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2D98-0ECB-411B-94A4-01F99560D0D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Презентация Прялки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Прядись, куделя,</a:t>
            </a:r>
            <a:br>
              <a:rPr sz="4800"/>
            </a:b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 на этой неделе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дготовила: Дёшина Анастасия Леонидовна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оспитатель МКДОУ «Сузунский детский сад №2»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Вологодских и Архангельских селах прялки делали резные и ярко окрашенные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7" descr="12"/>
          <p:cNvPicPr/>
          <p:nvPr/>
        </p:nvPicPr>
        <p:blipFill>
          <a:blip r:embed="rId1"/>
          <a:stretch/>
        </p:blipFill>
        <p:spPr>
          <a:xfrm>
            <a:off x="3848040" y="260280"/>
            <a:ext cx="52959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1"/>
          <p:cNvPicPr/>
          <p:nvPr/>
        </p:nvPicPr>
        <p:blipFill>
          <a:blip r:embed="rId1"/>
          <a:stretch/>
        </p:blipFill>
        <p:spPr>
          <a:xfrm>
            <a:off x="4140360" y="1393920"/>
            <a:ext cx="5003640" cy="41702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60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бирская прялка – около метра высотой с большой лопаской- сделана из цельного куска дерева. Для ее изготовления наши предки срубали сосну или ель с корнем, из ствола выстругивали ножку с лопаской, а из горизонтального ответвления сиденье-донце. Отсюда и название этой прялки  – коренуш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рх лопаски украшали круглые «яблоки», внизу, по обеим сторонам массивной ножки расположены по две «серьги». Весьма шорок круг сюжетов, которые живописцы любили применять при росписи прялок: сцены крестьянского труда, отдыха, сказочные цветы и птицы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14"/>
          <p:cNvPicPr/>
          <p:nvPr/>
        </p:nvPicPr>
        <p:blipFill>
          <a:blip r:embed="rId1"/>
          <a:stretch/>
        </p:blipFill>
        <p:spPr>
          <a:xfrm>
            <a:off x="2268360" y="260280"/>
            <a:ext cx="498168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4316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лгими вечерами, когда все основные дела по дому уже были сделаны, женщины ставили на скамейку прялку, садились на доску- донце  и начинали пря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11" descr="1"/>
          <p:cNvPicPr/>
          <p:nvPr/>
        </p:nvPicPr>
        <p:blipFill>
          <a:blip r:embed="rId1"/>
          <a:stretch/>
        </p:blipFill>
        <p:spPr>
          <a:xfrm>
            <a:off x="4430880" y="476280"/>
            <a:ext cx="457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4321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кудели, которая прикреплялась к лопаске, осторожно вытягивали пряжу и скручивали её в нити с помощью веретена. Работали умелицы от зари до зари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дись, куделя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той недел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новой неделе недосуг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, замуж позову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7" descr="1"/>
          <p:cNvPicPr/>
          <p:nvPr/>
        </p:nvPicPr>
        <p:blipFill>
          <a:blip r:embed="rId1"/>
          <a:stretch/>
        </p:blipFill>
        <p:spPr>
          <a:xfrm>
            <a:off x="4500720" y="404640"/>
            <a:ext cx="443700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Ещё недавно в каждом сельском доме жила прялка, и ни одна девушка, женщина не могла без нее обходиться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img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381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вую прялку дарили девочке в 7 лет, приучая к труду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7" descr="1"/>
          <p:cNvPicPr/>
          <p:nvPr/>
        </p:nvPicPr>
        <p:blipFill>
          <a:blip r:embed="rId1"/>
          <a:stretch/>
        </p:blipFill>
        <p:spPr>
          <a:xfrm>
            <a:off x="3995640" y="233280"/>
            <a:ext cx="49672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ялка была ценным подарком: отец дарил ее дочери, жених - невесте, муж - жене. В некоторых местах, по обычаю, жених должен был изготовить прялку собственноручно, а старую родительскую сломать в знак помолвки. Обычно жених дарил девушке новую, сделанную и украшенную своими руками прялк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ждой местности были свои излюбленные формы прялок и узоры. 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веродвинская прялка имела фигурный резной силуэт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4" descr="1"/>
          <p:cNvPicPr/>
          <p:nvPr/>
        </p:nvPicPr>
        <p:blipFill>
          <a:blip r:embed="rId1"/>
          <a:stretch/>
        </p:blipFill>
        <p:spPr>
          <a:xfrm>
            <a:off x="4884840" y="1052640"/>
            <a:ext cx="39481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рославская украшалась мелкой резьбой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8" descr="11"/>
          <p:cNvPicPr/>
          <p:nvPr/>
        </p:nvPicPr>
        <p:blipFill>
          <a:blip r:embed="rId1"/>
          <a:stretch/>
        </p:blipFill>
        <p:spPr>
          <a:xfrm>
            <a:off x="428616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8T07:43:25Z</dcterms:created>
  <dc:creator>Admin</dc:creator>
  <dc:description/>
  <dc:language>en-US</dc:language>
  <cp:lastModifiedBy>Anna</cp:lastModifiedBy>
  <dcterms:modified xsi:type="dcterms:W3CDTF">2020-11-07T07:25:32Z</dcterms:modified>
  <cp:revision>10</cp:revision>
  <dc:subject/>
  <dc:title>Прядись, куделя,  на этой неделе</dc:title>
</cp:coreProperties>
</file>