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709-A132-48A2-A29B-F42BA0BC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CB4-A9F4-4203-8E3C-4FD43372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2DA-2A1E-4F6C-98EE-5D5371F0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5CF-DE87-497E-8F01-87889BC1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5FC4-7FF6-41E8-B2EB-557D6058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CEDE-9E0F-4ACC-A25F-BBA91656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6749-6A1D-4B4D-8AD7-60A5FE65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F1AB-C50E-4DBB-8A94-205C414B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FEC4-8171-4A7B-B1F9-61495F9F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352C-3A1E-48F0-AAE7-2234320E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43F3-3D61-474F-8205-BDB830DE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0F4-E44D-42B1-9B7B-0D733D82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C8A2-0F36-46C5-A554-71743F1F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BD04-0F04-462C-9A50-153B3D0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3286-3787-4B02-94B7-8809C1F0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E806-D222-49F0-9D8E-2D356491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86D4-47C7-4551-B255-62638669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6A5-7CA5-4598-A45C-19F70848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F84-2F23-42D4-94CA-4D661B1F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0AB-9F3C-49A9-B4F7-E6FC004B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3E0-2856-4C57-9A08-0F5EA66B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E12-AD98-4042-8E3F-3B06B2EE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59A-27FB-4163-AF94-9C8AA43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1A9-2898-448B-A06C-E6223CF9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0513-04D7-44C4-8274-680373CBF9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B1AF-AA5D-48B9-9A6B-0D455E27B57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Презентация Прялки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Прядись, куделя,</a:t>
            </a: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на этой неделе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дготовила: Дёшина Анастасия Леонидовна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оспитатель МКДОУ «Сузунский детский сад №2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Вологодских и Архангельских селах прялки делали резные и ярко окрашенные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7" descr="12"/>
          <p:cNvPicPr/>
          <p:nvPr/>
        </p:nvPicPr>
        <p:blipFill>
          <a:blip r:embed="rId1"/>
          <a:stretch/>
        </p:blipFill>
        <p:spPr>
          <a:xfrm>
            <a:off x="3848040" y="260280"/>
            <a:ext cx="52959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"/>
          <p:cNvPicPr/>
          <p:nvPr/>
        </p:nvPicPr>
        <p:blipFill>
          <a:blip r:embed="rId1"/>
          <a:stretch/>
        </p:blipFill>
        <p:spPr>
          <a:xfrm>
            <a:off x="4140360" y="1393920"/>
            <a:ext cx="5003640" cy="41702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60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бирская прялка – около метра высотой с большой лопаской- сделана из цельного куска дерева. Для ее изготовления наши предки срубали сосну или ель с корнем, из ствола выстругивали ножку с лопаской, а из горизонтального ответвления сиденье-донце. Отсюда и название этой прялки  – коренуш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рх лопаски украшали круглые «яблоки», внизу, по обеим сторонам массивной ножки расположены по две «серьги». Весьма шорок круг сюжетов, которые живописцы любили применять при росписи прялок: сцены крестьянского труда, отдыха, сказочные цветы и птицы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4"/>
          <p:cNvPicPr/>
          <p:nvPr/>
        </p:nvPicPr>
        <p:blipFill>
          <a:blip r:embed="rId1"/>
          <a:stretch/>
        </p:blipFill>
        <p:spPr>
          <a:xfrm>
            <a:off x="2268360" y="260280"/>
            <a:ext cx="498168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4316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ими вечерами, когда все основные дела по дому уже были сделаны, женщины ставили на скамейку прялку, садились на доску- донце  и начинали пря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11" descr="1"/>
          <p:cNvPicPr/>
          <p:nvPr/>
        </p:nvPicPr>
        <p:blipFill>
          <a:blip r:embed="rId1"/>
          <a:stretch/>
        </p:blipFill>
        <p:spPr>
          <a:xfrm>
            <a:off x="4430880" y="476280"/>
            <a:ext cx="457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4321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кудели, которая прикреплялась к лопаске, осторожно вытягивали пряжу и скручивали её в нити с помощью веретена. Работали умелицы от зари до зари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дись, кудел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ой недел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новой неделе недосуг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, замуж позову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7" descr="1"/>
          <p:cNvPicPr/>
          <p:nvPr/>
        </p:nvPicPr>
        <p:blipFill>
          <a:blip r:embed="rId1"/>
          <a:stretch/>
        </p:blipFill>
        <p:spPr>
          <a:xfrm>
            <a:off x="4500720" y="404640"/>
            <a:ext cx="44370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щё недавно в каждом сельском доме жила прялка, и ни одна девушка, женщина не могла без нее обходиться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g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381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вую прялку дарили девочке в 7 лет, приучая к труду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7" descr="1"/>
          <p:cNvPicPr/>
          <p:nvPr/>
        </p:nvPicPr>
        <p:blipFill>
          <a:blip r:embed="rId1"/>
          <a:stretch/>
        </p:blipFill>
        <p:spPr>
          <a:xfrm>
            <a:off x="3995640" y="233280"/>
            <a:ext cx="49672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лка была ценным подарком: отец дарил ее дочери, жених - невесте, муж - жене. В некоторых местах, по обычаю, жених должен был изготовить прялку собственноручно, а старую родительскую сломать в знак помолвки. Обычно жених дарил девушке новую, сделанную и украшенную своими руками прял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ждой местности были свои излюбленные формы прялок и узоры. 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веродвинская прялка имела фигурный резной силуэт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4" descr="1"/>
          <p:cNvPicPr/>
          <p:nvPr/>
        </p:nvPicPr>
        <p:blipFill>
          <a:blip r:embed="rId1"/>
          <a:stretch/>
        </p:blipFill>
        <p:spPr>
          <a:xfrm>
            <a:off x="4884840" y="1052640"/>
            <a:ext cx="39481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рославская украшалась мелкой резьбой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8" descr="11"/>
          <p:cNvPicPr/>
          <p:nvPr/>
        </p:nvPicPr>
        <p:blipFill>
          <a:blip r:embed="rId1"/>
          <a:stretch/>
        </p:blipFill>
        <p:spPr>
          <a:xfrm>
            <a:off x="428616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8T07:43:25Z</dcterms:created>
  <dc:creator>Admin</dc:creator>
  <dc:description/>
  <dc:language>en-US</dc:language>
  <cp:lastModifiedBy>Anna</cp:lastModifiedBy>
  <dcterms:modified xsi:type="dcterms:W3CDTF">2020-11-07T07:25:32Z</dcterms:modified>
  <cp:revision>10</cp:revision>
  <dc:subject/>
  <dc:title>Прядись, куделя,  на этой неделе</dc:title>
</cp:coreProperties>
</file>