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355-2F29-41A0-81B6-1CED752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C14-192A-4630-AF03-559C697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30D-3A8D-4CD1-B405-39091ACC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0A5-A727-4A28-83F4-B1F51116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C1BF-7E1E-4137-B8C1-E79AB36D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30F7-D625-451D-9E81-DC18E3C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6BD2-56A4-44D0-8ACE-BA36B9F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3A91-F4E2-4908-928B-BB67F8B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24F2-9AFB-437A-8D14-6A1AA60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D7C-F390-4C77-BA17-4954E8F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41C2-83C6-470B-B811-28B42069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4F0-8074-4E48-BABC-A5E1D7C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2DC7-961F-4EA8-8EE2-9DAC5EC8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3878-F04C-44D1-B46D-9028DF9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ADBA-CD86-43FD-8A7E-10A2BED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592F-72EE-4479-AF14-F254FDE1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A0A0-0733-439D-A129-4687359C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EE2-8473-4F7B-B40C-5284F026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EB6-9F1B-4205-9152-0DD6E9A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44B-0D53-4DAF-B5B7-AEE18E4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4D6-8CBE-441F-A01A-91785A4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6FC-927A-4E34-9AA0-D0B1295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B83-2932-4C20-A325-FF4BBC5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E0D-2EA0-4421-8856-17AE62E9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3DF7-37A5-4D58-A3BE-8A32098ACC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1803-A679-4FBC-9C0B-528BABF557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МАТЕМАТИКА </a:t>
            </a:r>
            <a:br>
              <a:rPr sz="7200"/>
            </a:br>
            <a:br>
              <a:rPr sz="4800"/>
            </a:br>
            <a:br>
              <a:rPr sz="4800"/>
            </a:b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1 класс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88000" y="3860280"/>
            <a:ext cx="40132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став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читель начальных кла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БОУ школы №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убина Е.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Times New Roman"/>
              </a:rPr>
              <a:t>Тема урока:</a:t>
            </a:r>
            <a:endParaRPr b="1" lang="en-US" sz="8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Times New Roman"/>
              </a:rPr>
              <a:t>« Связь между суммой и слагаемым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4800"/>
            </a:b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«Открытие нового»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9" descr="4tbpagqec"/>
          <p:cNvPicPr/>
          <p:nvPr/>
        </p:nvPicPr>
        <p:blipFill>
          <a:blip r:embed="rId1"/>
          <a:stretch/>
        </p:blipFill>
        <p:spPr>
          <a:xfrm>
            <a:off x="468360" y="1773360"/>
            <a:ext cx="799128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748720" cy="6480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Если из сум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вычесть 1 слагаемо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то получится 2 слагаемо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Если из сумм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вычесть 2 слагаемое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то получится 1 слагаемо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6600"/>
                </a:solidFill>
                <a:latin typeface="Arial Black"/>
              </a:rPr>
              <a:t>Физкультминутка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1" descr="0007-007-Fizkultminut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«Знатоков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8" name="Picture 4" descr="4tbpagqec"/>
          <p:cNvPicPr/>
          <p:nvPr/>
        </p:nvPicPr>
        <p:blipFill>
          <a:blip r:embed="rId1"/>
          <a:stretch/>
        </p:blipFill>
        <p:spPr>
          <a:xfrm>
            <a:off x="324000" y="1916280"/>
            <a:ext cx="784836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«Можно ли не считая,  используя пример на сложение, решить пример на вычитание?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6+3=9, то 9-6=3 , 9-3=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7+2=9, то 9-7=2 , 9-2=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Если 8+2=10, то 10-8=2 ,10-2=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826920" y="1052640"/>
            <a:ext cx="7953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Если из суммы вычесть 1 слагаемое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268360" y="2349360"/>
            <a:ext cx="489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о получится 2 слагаемое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1835280" y="3645000"/>
            <a:ext cx="56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Чтобы найти 1 слагаемое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1835280" y="4581360"/>
            <a:ext cx="5761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до из суммы вычесть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2 слагаемое.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 Black"/>
              </a:rPr>
              <a:t>«Решение задач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6" name="Picture 4" descr="4tbpagqec"/>
          <p:cNvPicPr/>
          <p:nvPr/>
        </p:nvPicPr>
        <p:blipFill>
          <a:blip r:embed="rId1"/>
          <a:stretch/>
        </p:blipFill>
        <p:spPr>
          <a:xfrm>
            <a:off x="395280" y="1905120"/>
            <a:ext cx="81374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img26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415440"/>
            <a:ext cx="807084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Times New Roman"/>
              </a:rPr>
              <a:t>Тема:</a:t>
            </a:r>
            <a:endParaRPr b="1" lang="en-US" sz="7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Times New Roman"/>
              </a:rPr>
              <a:t>« Связь между суммой и слагаемыми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6"/>
          <p:cNvSpPr txBox="1"/>
          <p:nvPr/>
        </p:nvSpPr>
        <p:spPr>
          <a:xfrm>
            <a:off x="1258920" y="476280"/>
            <a:ext cx="6696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1800"/>
                    </a:gs>
                    <a:gs pos="5000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latin typeface="Arial"/>
              </a:rPr>
              <a:t>Рефлекс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31" descr="00179a-008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D:\презентации\для создания презентаций\Анимационные картинки\48464139_789_thumb.gif"/>
          <p:cNvPicPr/>
          <p:nvPr/>
        </p:nvPicPr>
        <p:blipFill>
          <a:blip r:embed="rId1"/>
          <a:stretch/>
        </p:blipFill>
        <p:spPr>
          <a:xfrm>
            <a:off x="5867280" y="-458640"/>
            <a:ext cx="3456000" cy="395892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395280" y="1052640"/>
            <a:ext cx="574344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6600" spc="1" strike="noStrike">
              <a:ln w="12600">
                <a:solidFill>
                  <a:srgbClr val="ffcc66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WordArt 6"/>
          <p:cNvSpPr txBox="1"/>
          <p:nvPr/>
        </p:nvSpPr>
        <p:spPr>
          <a:xfrm>
            <a:off x="1187280" y="4221000"/>
            <a:ext cx="67327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6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ffcc6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133720"/>
            <a:ext cx="79250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Цель: познакомить с взаимосвязью между компонентами действия сложения, сформулировать правило нахождения неизвестного слагаемог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Arial Black"/>
              </a:rPr>
              <a:t>Станция</a:t>
            </a: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 </a:t>
            </a:r>
            <a:br>
              <a:rPr sz="5400"/>
            </a:br>
            <a:r>
              <a:rPr b="1" lang="ru-RU" sz="6000" spc="-1" strike="noStrike">
                <a:solidFill>
                  <a:srgbClr val="990099"/>
                </a:solidFill>
                <a:latin typeface="Arial Black"/>
              </a:rPr>
              <a:t>«Устный счёт»</a:t>
            </a:r>
            <a:endParaRPr b="1" lang="en-US" sz="60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4" name="Picture 4" descr="urok-znanii-v-1-klassie-vmiestie-druzhnaia-siem-ia_1"/>
          <p:cNvPicPr/>
          <p:nvPr/>
        </p:nvPicPr>
        <p:blipFill>
          <a:blip r:embed="rId1"/>
          <a:stretch/>
        </p:blipFill>
        <p:spPr>
          <a:xfrm>
            <a:off x="395280" y="2637000"/>
            <a:ext cx="813600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 Black"/>
              </a:rPr>
              <a:t>Станция </a:t>
            </a:r>
            <a:br>
              <a:rPr sz="4800"/>
            </a:br>
            <a:r>
              <a:rPr b="1" lang="ru-RU" sz="5400" spc="-1" strike="noStrike">
                <a:solidFill>
                  <a:srgbClr val="0000ff"/>
                </a:solidFill>
                <a:latin typeface="Arial Black"/>
              </a:rPr>
              <a:t>«Практическая работа»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06" name="Picture 4" descr="urok-znanii-v-1-klassie-vmiestie-druzhnaia-siem-ia_1"/>
          <p:cNvPicPr/>
          <p:nvPr/>
        </p:nvPicPr>
        <p:blipFill>
          <a:blip r:embed="rId1"/>
          <a:stretch/>
        </p:blipFill>
        <p:spPr>
          <a:xfrm>
            <a:off x="755640" y="3284640"/>
            <a:ext cx="7416720" cy="309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e8fb4e5b11836b20041827f92d1d879--math-worksheets-psi"/>
          <p:cNvPicPr/>
          <p:nvPr/>
        </p:nvPicPr>
        <p:blipFill>
          <a:blip r:embed="rId2"/>
          <a:stretch/>
        </p:blipFill>
        <p:spPr>
          <a:xfrm>
            <a:off x="3419640" y="2060640"/>
            <a:ext cx="26906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1979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21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364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6516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7667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1476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11"/>
          <p:cNvSpPr txBox="1"/>
          <p:nvPr/>
        </p:nvSpPr>
        <p:spPr>
          <a:xfrm>
            <a:off x="3203640" y="465300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4859280" y="436572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7667640" y="429264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WordArt 15"/>
          <p:cNvSpPr txBox="1"/>
          <p:nvPr/>
        </p:nvSpPr>
        <p:spPr>
          <a:xfrm>
            <a:off x="826920" y="3645000"/>
            <a:ext cx="244980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3995640" y="3645000"/>
            <a:ext cx="24494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20" name="WordArt 17"/>
          <p:cNvSpPr txBox="1"/>
          <p:nvPr/>
        </p:nvSpPr>
        <p:spPr>
          <a:xfrm>
            <a:off x="7164360" y="378936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21" name="AutoShape 18"/>
          <p:cNvSpPr/>
          <p:nvPr/>
        </p:nvSpPr>
        <p:spPr>
          <a:xfrm>
            <a:off x="900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19"/>
          <p:cNvSpPr txBox="1"/>
          <p:nvPr/>
        </p:nvSpPr>
        <p:spPr>
          <a:xfrm>
            <a:off x="7164360" y="378936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97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195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406728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00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745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478800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3348000" y="5013360"/>
            <a:ext cx="79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692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766764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1332000" y="386064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370836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6" name="WordArt 17"/>
          <p:cNvSpPr txBox="1"/>
          <p:nvPr/>
        </p:nvSpPr>
        <p:spPr>
          <a:xfrm>
            <a:off x="651672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4"/>
          <p:cNvSpPr/>
          <p:nvPr/>
        </p:nvSpPr>
        <p:spPr>
          <a:xfrm>
            <a:off x="90000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979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21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29272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45164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6372360" y="2492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1692360" y="436572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11"/>
          <p:cNvSpPr txBox="1"/>
          <p:nvPr/>
        </p:nvSpPr>
        <p:spPr>
          <a:xfrm>
            <a:off x="3348000" y="5013360"/>
            <a:ext cx="792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4859280" y="436572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6300720" y="479736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7" name="WordArt 14"/>
          <p:cNvSpPr txBox="1"/>
          <p:nvPr/>
        </p:nvSpPr>
        <p:spPr>
          <a:xfrm>
            <a:off x="7596360" y="422100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1258920" y="3860640"/>
            <a:ext cx="1585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умма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6588000" y="3716280"/>
            <a:ext cx="24498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50" name="WordArt 17"/>
          <p:cNvSpPr txBox="1"/>
          <p:nvPr/>
        </p:nvSpPr>
        <p:spPr>
          <a:xfrm>
            <a:off x="3851280" y="3716280"/>
            <a:ext cx="24494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 слагаемое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4"/>
          <p:cNvSpPr txBox="1"/>
          <p:nvPr/>
        </p:nvSpPr>
        <p:spPr>
          <a:xfrm>
            <a:off x="1116000" y="33336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25"/>
          <p:cNvSpPr txBox="1"/>
          <p:nvPr/>
        </p:nvSpPr>
        <p:spPr>
          <a:xfrm>
            <a:off x="2843280" y="620640"/>
            <a:ext cx="79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4498920" y="333360"/>
            <a:ext cx="7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5940360" y="76500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7307280" y="26028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29"/>
          <p:cNvSpPr txBox="1"/>
          <p:nvPr/>
        </p:nvSpPr>
        <p:spPr>
          <a:xfrm>
            <a:off x="4427640" y="2708280"/>
            <a:ext cx="79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30"/>
          <p:cNvSpPr txBox="1"/>
          <p:nvPr/>
        </p:nvSpPr>
        <p:spPr>
          <a:xfrm>
            <a:off x="2843280" y="3355920"/>
            <a:ext cx="79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31"/>
          <p:cNvSpPr txBox="1"/>
          <p:nvPr/>
        </p:nvSpPr>
        <p:spPr>
          <a:xfrm>
            <a:off x="1187280" y="270828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WordArt 32"/>
          <p:cNvSpPr txBox="1"/>
          <p:nvPr/>
        </p:nvSpPr>
        <p:spPr>
          <a:xfrm>
            <a:off x="5940360" y="321300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WordArt 33"/>
          <p:cNvSpPr txBox="1"/>
          <p:nvPr/>
        </p:nvSpPr>
        <p:spPr>
          <a:xfrm>
            <a:off x="7308720" y="2708280"/>
            <a:ext cx="79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34"/>
          <p:cNvSpPr txBox="1"/>
          <p:nvPr/>
        </p:nvSpPr>
        <p:spPr>
          <a:xfrm>
            <a:off x="1187280" y="4797360"/>
            <a:ext cx="792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35"/>
          <p:cNvSpPr txBox="1"/>
          <p:nvPr/>
        </p:nvSpPr>
        <p:spPr>
          <a:xfrm>
            <a:off x="2843280" y="5445000"/>
            <a:ext cx="79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36"/>
          <p:cNvSpPr txBox="1"/>
          <p:nvPr/>
        </p:nvSpPr>
        <p:spPr>
          <a:xfrm>
            <a:off x="4354560" y="479736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37"/>
          <p:cNvSpPr txBox="1"/>
          <p:nvPr/>
        </p:nvSpPr>
        <p:spPr>
          <a:xfrm>
            <a:off x="6012000" y="5229360"/>
            <a:ext cx="79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WordArt 38"/>
          <p:cNvSpPr txBox="1"/>
          <p:nvPr/>
        </p:nvSpPr>
        <p:spPr>
          <a:xfrm>
            <a:off x="7380360" y="4724280"/>
            <a:ext cx="792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4:45:28Z</dcterms:created>
  <dc:creator>саша</dc:creator>
  <dc:description/>
  <dc:language>en-US</dc:language>
  <cp:lastModifiedBy>Елена</cp:lastModifiedBy>
  <dcterms:modified xsi:type="dcterms:W3CDTF">2019-01-29T17:57:26Z</dcterms:modified>
  <cp:revision>10</cp:revision>
  <dc:subject/>
  <dc:title>Слайд 1</dc:title>
</cp:coreProperties>
</file>