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A8D-6D86-48FA-8C9E-69AF5DC5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A25-371C-4CC2-B31B-55F6ED2D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8E8-034F-4CAD-B8E1-8C681958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2E6-3432-4B98-9A75-57BDC008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3560-4A18-4BD0-949B-1944CD78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0078-9336-40BF-BFE6-3AD161E4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3D18-9BD3-48A3-BB5C-01B0861E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AD68-CF04-44D4-A154-326A5A97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BA3B-0EB4-48F3-8A21-0F364964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35EA-1377-49E9-B62C-A6E4048F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A199-7C93-40A5-9326-9B6AC486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824-F7AF-4055-A28A-4C615930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5423-ACAD-4E43-AC44-97C7102B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8DC1-5436-4357-8E2C-0DD2E1E3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86ED-F856-43A8-A171-64F69DFC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1391-2FD0-4D2D-83BF-3E63AE5E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D7E9-8439-43FD-9B5F-391FC579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1F0-3A13-47EC-B3CE-AE89FDA3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323-CA97-4C13-A79C-360FA912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AC3-2DE7-430D-B108-92675014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56E-273D-4510-8A57-769C9141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A07-8553-4BAA-80BE-B5A56D6D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464-F99C-4AE4-AC86-0D03B278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945-0D35-46AF-AA71-8D02919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01F9-3EB9-431C-A13E-D83F415DF3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C35F-A72D-45E8-94A3-CF653456BE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МАТЕМАТИКА </a:t>
            </a:r>
            <a:br>
              <a:rPr sz="7200"/>
            </a:br>
            <a:br>
              <a:rPr sz="4800"/>
            </a:br>
            <a:br>
              <a:rPr sz="4800"/>
            </a:b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1 класс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788000" y="3860280"/>
            <a:ext cx="40132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остав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БОУ школы №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убина Е.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Times New Roman"/>
              </a:rPr>
              <a:t>Тема урока:</a:t>
            </a:r>
            <a:endParaRPr b="1" lang="en-US" sz="8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Times New Roman"/>
              </a:rPr>
              <a:t>« Связь между суммой и слагаемыми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 Black"/>
              </a:rPr>
              <a:t>Станция </a:t>
            </a:r>
            <a:br>
              <a:rPr sz="4800"/>
            </a:br>
            <a:r>
              <a:rPr b="1" lang="ru-RU" sz="5400" spc="-1" strike="noStrike">
                <a:solidFill>
                  <a:srgbClr val="0000ff"/>
                </a:solidFill>
                <a:latin typeface="Arial Black"/>
              </a:rPr>
              <a:t>«Открытие нового»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9" descr="4tbpagqec"/>
          <p:cNvPicPr/>
          <p:nvPr/>
        </p:nvPicPr>
        <p:blipFill>
          <a:blip r:embed="rId1"/>
          <a:stretch/>
        </p:blipFill>
        <p:spPr>
          <a:xfrm>
            <a:off x="468360" y="1773360"/>
            <a:ext cx="79912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748720" cy="6480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Если из сум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вычесть 1 слагаемое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то получится 2 слагаемо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Если из сум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вычесть 2 слагаемое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то получится 1 слагаемо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 Black"/>
              </a:rPr>
              <a:t>Физкультминутка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1" descr="0007-007-Fizkultminut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 Black"/>
              </a:rPr>
              <a:t>Станция 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Arial Black"/>
              </a:rPr>
              <a:t>«Знатоков»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8" name="Picture 4" descr="4tbpagqec"/>
          <p:cNvPicPr/>
          <p:nvPr/>
        </p:nvPicPr>
        <p:blipFill>
          <a:blip r:embed="rId1"/>
          <a:stretch/>
        </p:blipFill>
        <p:spPr>
          <a:xfrm>
            <a:off x="324000" y="1916280"/>
            <a:ext cx="7848360" cy="45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«Можно ли не считая,  используя пример на сложение, решить пример на вычитание?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Если 6+3=9, то 9-6=3 , 9-3=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Если 7+2=9, то 9-7=2 , 9-2=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Если 8+2=10, то 10-8=2 ,10-2=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826920" y="1052640"/>
            <a:ext cx="7953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Если из суммы вычесть 1 слагаемое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2268360" y="2349360"/>
            <a:ext cx="489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о получится 2 слагаемое.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1835280" y="3645000"/>
            <a:ext cx="56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Чтобы найти 1 слагаемое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1835280" y="4581360"/>
            <a:ext cx="5761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до из суммы вычесть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2 слагаемое.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 Black"/>
              </a:rPr>
              <a:t>Станция 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Arial Black"/>
              </a:rPr>
              <a:t>«Решение задач»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6" name="Picture 4" descr="4tbpagqec"/>
          <p:cNvPicPr/>
          <p:nvPr/>
        </p:nvPicPr>
        <p:blipFill>
          <a:blip r:embed="rId1"/>
          <a:stretch/>
        </p:blipFill>
        <p:spPr>
          <a:xfrm>
            <a:off x="395280" y="1905120"/>
            <a:ext cx="81374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img26"/>
          <p:cNvPicPr/>
          <p:nvPr/>
        </p:nvPicPr>
        <p:blipFill>
          <a:blip r:embed="rId1"/>
          <a:stretch/>
        </p:blipFill>
        <p:spPr>
          <a:xfrm>
            <a:off x="0" y="0"/>
            <a:ext cx="9207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415440"/>
            <a:ext cx="807084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Тема:</a:t>
            </a:r>
            <a:endParaRPr b="1" lang="en-US" sz="7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Times New Roman"/>
              </a:rPr>
              <a:t>« Связь между суммой и слагаемыми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6"/>
          <p:cNvSpPr txBox="1"/>
          <p:nvPr/>
        </p:nvSpPr>
        <p:spPr>
          <a:xfrm>
            <a:off x="1258920" y="476280"/>
            <a:ext cx="6696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1800"/>
                    </a:gs>
                    <a:gs pos="5000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latin typeface="Arial"/>
              </a:rPr>
              <a:t>Рефлекс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1" descr="00179a-008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D:\презентации\для создания презентаций\Анимационные картинки\48464139_789_thumb.gif"/>
          <p:cNvPicPr/>
          <p:nvPr/>
        </p:nvPicPr>
        <p:blipFill>
          <a:blip r:embed="rId1"/>
          <a:stretch/>
        </p:blipFill>
        <p:spPr>
          <a:xfrm>
            <a:off x="5867280" y="-458640"/>
            <a:ext cx="3456000" cy="3958920"/>
          </a:xfrm>
          <a:prstGeom prst="rect">
            <a:avLst/>
          </a:prstGeom>
          <a:ln w="0">
            <a:noFill/>
          </a:ln>
        </p:spPr>
      </p:pic>
      <p:sp>
        <p:nvSpPr>
          <p:cNvPr id="195" name="WordArt 7"/>
          <p:cNvSpPr txBox="1"/>
          <p:nvPr/>
        </p:nvSpPr>
        <p:spPr>
          <a:xfrm>
            <a:off x="395280" y="1052640"/>
            <a:ext cx="574344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6600" spc="1" strike="noStrike">
              <a:ln w="12600">
                <a:solidFill>
                  <a:srgbClr val="ffcc66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WordArt 6"/>
          <p:cNvSpPr txBox="1"/>
          <p:nvPr/>
        </p:nvSpPr>
        <p:spPr>
          <a:xfrm>
            <a:off x="1187280" y="4221000"/>
            <a:ext cx="673272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6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ffcc6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133720"/>
            <a:ext cx="79250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Цель: познакомить с взаимосвязью между компонентами действия сложения, сформулировать правило нахождения неизвестного слагаемог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Arial Black"/>
              </a:rPr>
              <a:t>Станция</a:t>
            </a: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 </a:t>
            </a:r>
            <a:br>
              <a:rPr sz="5400"/>
            </a:br>
            <a:r>
              <a:rPr b="1" lang="ru-RU" sz="6000" spc="-1" strike="noStrike">
                <a:solidFill>
                  <a:srgbClr val="990099"/>
                </a:solidFill>
                <a:latin typeface="Arial Black"/>
              </a:rPr>
              <a:t>«Устный счёт»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4" name="Picture 4" descr="urok-znanii-v-1-klassie-vmiestie-druzhnaia-siem-ia_1"/>
          <p:cNvPicPr/>
          <p:nvPr/>
        </p:nvPicPr>
        <p:blipFill>
          <a:blip r:embed="rId1"/>
          <a:stretch/>
        </p:blipFill>
        <p:spPr>
          <a:xfrm>
            <a:off x="395280" y="2637000"/>
            <a:ext cx="813600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Станция </a:t>
            </a:r>
            <a:br>
              <a:rPr sz="4800"/>
            </a:br>
            <a:r>
              <a:rPr b="1" lang="ru-RU" sz="5400" spc="-1" strike="noStrike">
                <a:solidFill>
                  <a:srgbClr val="0000ff"/>
                </a:solidFill>
                <a:latin typeface="Arial Black"/>
              </a:rPr>
              <a:t>«Практическая работа»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6" name="Picture 4" descr="urok-znanii-v-1-klassie-vmiestie-druzhnaia-siem-ia_1"/>
          <p:cNvPicPr/>
          <p:nvPr/>
        </p:nvPicPr>
        <p:blipFill>
          <a:blip r:embed="rId1"/>
          <a:stretch/>
        </p:blipFill>
        <p:spPr>
          <a:xfrm>
            <a:off x="755640" y="3284640"/>
            <a:ext cx="7416720" cy="309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6e8fb4e5b11836b20041827f92d1d879--math-worksheets-psi"/>
          <p:cNvPicPr/>
          <p:nvPr/>
        </p:nvPicPr>
        <p:blipFill>
          <a:blip r:embed="rId2"/>
          <a:stretch/>
        </p:blipFill>
        <p:spPr>
          <a:xfrm>
            <a:off x="3419640" y="2060640"/>
            <a:ext cx="26906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1979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211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536400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651672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7667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1476360" y="436572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11"/>
          <p:cNvSpPr txBox="1"/>
          <p:nvPr/>
        </p:nvSpPr>
        <p:spPr>
          <a:xfrm>
            <a:off x="3203640" y="465300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4859280" y="4365720"/>
            <a:ext cx="79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WordArt 13"/>
          <p:cNvSpPr txBox="1"/>
          <p:nvPr/>
        </p:nvSpPr>
        <p:spPr>
          <a:xfrm>
            <a:off x="6300720" y="479736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7667640" y="429264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WordArt 15"/>
          <p:cNvSpPr txBox="1"/>
          <p:nvPr/>
        </p:nvSpPr>
        <p:spPr>
          <a:xfrm>
            <a:off x="826920" y="3645000"/>
            <a:ext cx="24498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9" name="WordArt 16"/>
          <p:cNvSpPr txBox="1"/>
          <p:nvPr/>
        </p:nvSpPr>
        <p:spPr>
          <a:xfrm>
            <a:off x="3995640" y="3645000"/>
            <a:ext cx="24494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20" name="WordArt 17"/>
          <p:cNvSpPr txBox="1"/>
          <p:nvPr/>
        </p:nvSpPr>
        <p:spPr>
          <a:xfrm>
            <a:off x="7164360" y="3789360"/>
            <a:ext cx="15858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у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90000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19"/>
          <p:cNvSpPr txBox="1"/>
          <p:nvPr/>
        </p:nvSpPr>
        <p:spPr>
          <a:xfrm>
            <a:off x="7164360" y="3789360"/>
            <a:ext cx="15858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у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971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195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406728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14836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30072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7451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WordArt 10"/>
          <p:cNvSpPr txBox="1"/>
          <p:nvPr/>
        </p:nvSpPr>
        <p:spPr>
          <a:xfrm>
            <a:off x="4788000" y="436572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3348000" y="5013360"/>
            <a:ext cx="792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1692360" y="436572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6300720" y="479736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7667640" y="436572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WordArt 15"/>
          <p:cNvSpPr txBox="1"/>
          <p:nvPr/>
        </p:nvSpPr>
        <p:spPr>
          <a:xfrm>
            <a:off x="1332000" y="3860640"/>
            <a:ext cx="15858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у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5" name="WordArt 16"/>
          <p:cNvSpPr txBox="1"/>
          <p:nvPr/>
        </p:nvSpPr>
        <p:spPr>
          <a:xfrm>
            <a:off x="3708360" y="3716280"/>
            <a:ext cx="24494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6" name="WordArt 17"/>
          <p:cNvSpPr txBox="1"/>
          <p:nvPr/>
        </p:nvSpPr>
        <p:spPr>
          <a:xfrm>
            <a:off x="6516720" y="3716280"/>
            <a:ext cx="24494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90000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979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211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529272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451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637236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10"/>
          <p:cNvSpPr txBox="1"/>
          <p:nvPr/>
        </p:nvSpPr>
        <p:spPr>
          <a:xfrm>
            <a:off x="1692360" y="436572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11"/>
          <p:cNvSpPr txBox="1"/>
          <p:nvPr/>
        </p:nvSpPr>
        <p:spPr>
          <a:xfrm>
            <a:off x="3348000" y="5013360"/>
            <a:ext cx="792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4859280" y="4365720"/>
            <a:ext cx="79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6300720" y="479736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14"/>
          <p:cNvSpPr txBox="1"/>
          <p:nvPr/>
        </p:nvSpPr>
        <p:spPr>
          <a:xfrm>
            <a:off x="7596360" y="4221000"/>
            <a:ext cx="79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WordArt 15"/>
          <p:cNvSpPr txBox="1"/>
          <p:nvPr/>
        </p:nvSpPr>
        <p:spPr>
          <a:xfrm>
            <a:off x="1258920" y="3860640"/>
            <a:ext cx="15858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у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49" name="WordArt 16"/>
          <p:cNvSpPr txBox="1"/>
          <p:nvPr/>
        </p:nvSpPr>
        <p:spPr>
          <a:xfrm>
            <a:off x="6588000" y="3716280"/>
            <a:ext cx="24498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0" name="WordArt 17"/>
          <p:cNvSpPr txBox="1"/>
          <p:nvPr/>
        </p:nvSpPr>
        <p:spPr>
          <a:xfrm>
            <a:off x="3851280" y="3716280"/>
            <a:ext cx="24494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4"/>
          <p:cNvSpPr txBox="1"/>
          <p:nvPr/>
        </p:nvSpPr>
        <p:spPr>
          <a:xfrm>
            <a:off x="1116000" y="333360"/>
            <a:ext cx="79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2" name="WordArt 25"/>
          <p:cNvSpPr txBox="1"/>
          <p:nvPr/>
        </p:nvSpPr>
        <p:spPr>
          <a:xfrm>
            <a:off x="2843280" y="620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WordArt 26"/>
          <p:cNvSpPr txBox="1"/>
          <p:nvPr/>
        </p:nvSpPr>
        <p:spPr>
          <a:xfrm>
            <a:off x="4498920" y="333360"/>
            <a:ext cx="79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WordArt 27"/>
          <p:cNvSpPr txBox="1"/>
          <p:nvPr/>
        </p:nvSpPr>
        <p:spPr>
          <a:xfrm>
            <a:off x="5940360" y="76500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WordArt 28"/>
          <p:cNvSpPr txBox="1"/>
          <p:nvPr/>
        </p:nvSpPr>
        <p:spPr>
          <a:xfrm>
            <a:off x="7307280" y="260280"/>
            <a:ext cx="79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WordArt 29"/>
          <p:cNvSpPr txBox="1"/>
          <p:nvPr/>
        </p:nvSpPr>
        <p:spPr>
          <a:xfrm>
            <a:off x="4427640" y="270828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30"/>
          <p:cNvSpPr txBox="1"/>
          <p:nvPr/>
        </p:nvSpPr>
        <p:spPr>
          <a:xfrm>
            <a:off x="2843280" y="3355920"/>
            <a:ext cx="792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WordArt 31"/>
          <p:cNvSpPr txBox="1"/>
          <p:nvPr/>
        </p:nvSpPr>
        <p:spPr>
          <a:xfrm>
            <a:off x="1187280" y="2708280"/>
            <a:ext cx="79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WordArt 32"/>
          <p:cNvSpPr txBox="1"/>
          <p:nvPr/>
        </p:nvSpPr>
        <p:spPr>
          <a:xfrm>
            <a:off x="5940360" y="321300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0" name="WordArt 33"/>
          <p:cNvSpPr txBox="1"/>
          <p:nvPr/>
        </p:nvSpPr>
        <p:spPr>
          <a:xfrm>
            <a:off x="7308720" y="2708280"/>
            <a:ext cx="79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34"/>
          <p:cNvSpPr txBox="1"/>
          <p:nvPr/>
        </p:nvSpPr>
        <p:spPr>
          <a:xfrm>
            <a:off x="1187280" y="4797360"/>
            <a:ext cx="79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35"/>
          <p:cNvSpPr txBox="1"/>
          <p:nvPr/>
        </p:nvSpPr>
        <p:spPr>
          <a:xfrm>
            <a:off x="2843280" y="5445000"/>
            <a:ext cx="792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36"/>
          <p:cNvSpPr txBox="1"/>
          <p:nvPr/>
        </p:nvSpPr>
        <p:spPr>
          <a:xfrm>
            <a:off x="4354560" y="4797360"/>
            <a:ext cx="79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37"/>
          <p:cNvSpPr txBox="1"/>
          <p:nvPr/>
        </p:nvSpPr>
        <p:spPr>
          <a:xfrm>
            <a:off x="6012000" y="5229360"/>
            <a:ext cx="792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38"/>
          <p:cNvSpPr txBox="1"/>
          <p:nvPr/>
        </p:nvSpPr>
        <p:spPr>
          <a:xfrm>
            <a:off x="7380360" y="4724280"/>
            <a:ext cx="79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14:45:28Z</dcterms:created>
  <dc:creator>саша</dc:creator>
  <dc:description/>
  <dc:language>en-US</dc:language>
  <cp:lastModifiedBy>Елена</cp:lastModifiedBy>
  <dcterms:modified xsi:type="dcterms:W3CDTF">2019-01-29T17:57:26Z</dcterms:modified>
  <cp:revision>10</cp:revision>
  <dc:subject/>
  <dc:title>Слайд 1</dc:title>
</cp:coreProperties>
</file>