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13.png" ContentType="image/png"/>
  <Override PartName="/ppt/media/image19.gif" ContentType="image/gif"/>
  <Override PartName="/ppt/media/image1.jpeg" ContentType="image/jpeg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9F207-C0F2-46C4-AE26-78FB78F7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D45C-09E9-4303-A706-623B057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687E9-837A-4B73-92C2-810BF724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39B4A-342F-4E2B-81B2-4C56042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D0303-6904-4FED-9E72-7F3D57B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F7AD-FD6F-4F46-B3D1-55B70A6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78182-7462-4303-A90A-623D496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7A908-6EEA-4DA0-8C69-8A85CBC3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D7741-A189-4731-87F0-9FA5BB8D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09A48-B341-4019-AF7F-9C4BC063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E97B7-0658-4225-B14E-539D9D0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94C88-C62B-450B-B436-30751663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90D8-DA8D-428A-8BA4-EB31C965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0A72-29DB-4543-9D01-79FB8CEE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CA22-089E-4509-8503-CAFAA1EF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5C615-17B1-4514-A5C2-46E4D1B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C5708-0DE7-45C9-8322-F15C12A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DDF8-B1F0-4B65-8573-41B9D5B6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7F5A2-1BDE-4ABD-92C3-E1D80132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95EA6-3076-4094-86CC-CBAEE560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B506E-007D-4A8B-9AB7-555E0518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9D5-A83B-4FE3-92B5-884165DE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74A-7995-4F59-91C3-41F26A93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1A7-AE29-40EF-AA5B-444180C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AFC-1B32-443C-AD4E-E95673C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476-64E8-43DA-B30B-EC20663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5CE-7294-4FE1-BA05-BAB3BE0F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C02-B652-4DCD-8049-55FCC2F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D33B-8A9B-410C-89E1-921F1AE9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719-F1AE-460A-9A2A-FAFBB767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2AC-AEB6-4754-8A19-9D4DE93C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365-304F-4A59-B117-7DC6409F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A1E-39E0-406F-BED2-FC055CA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3F93-F9AB-45FC-984A-62085207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EA56-BB89-41B4-83D4-939554BB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DD8C-70CB-4C38-A43F-4BA3328F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227B-A57F-47EE-8B3F-C15B25B1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45E7-A169-4549-BE71-4DB10826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D0F0-823A-44C6-BFF4-669B9FD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E4A4-EB54-442A-A80E-A4007F4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30B7-7EC1-4018-90E1-D414DB0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F9A5-E483-4DFD-A018-F041314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0149-C605-4FAE-9847-B2CCD0AF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77C7-6094-4946-8009-D374699F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166-8BB3-480B-88CC-08E1AB5D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5037-B710-4360-9E1A-95C20610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F0BF-7991-4264-872A-27F4761E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5C20-29DC-40C0-9B8E-C07D4F61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03AC-12E4-4FFD-9462-031BEA63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B6A17-C0EA-4222-81DB-EFE738D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C20C-C881-47C7-83C0-CCABA5E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7E61-A55A-4E99-9D39-ED2F9F1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BDA8-3D0B-49DD-BFF8-6E5347E7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24EB-5A84-430F-B9B7-E45982BB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2E6C-0E10-4EF8-817A-C2C7635F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4003-DB01-4814-B7B0-371B9272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D35F-8DE1-4AB9-BC58-D80A6CF6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D89A-928F-43BB-80BA-A6D3EB92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5754-780D-4285-B2E1-D0789821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A244-1629-4DA0-A1D3-FEFE284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B421-582C-4867-AA1B-5E536C2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8EAEB-D8F0-45E3-A167-AD47BCF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04A0-4A4C-4D6C-A312-FDADA98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EF3F-E10C-44A8-A645-AB405FC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0B40F-C543-4280-AE07-581443E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5230-BB5B-4544-B808-36175EE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AAFE-89B2-438B-8153-7124629E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985D-6E3F-43E8-B2DF-C7444813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82AD-99BB-4649-A09A-14198860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6BA6-BB5A-4DC4-B104-0A0E454E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36BF9-2B7A-459A-A98C-01D82644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F53B-D264-4325-A423-8B948FC6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9A97-3DDF-4FFF-B66B-15FD9B98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FDB1-F36F-40F9-896F-E33246C6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558D-10B4-4573-8612-4A5DB1CB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C86FF-26F2-49B7-AD80-3FA42F1A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9723-AC45-4162-B850-46603686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882E-9E9F-41ED-B918-96D1D9F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20AD9-BE64-4CD2-8579-4D809BC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55BE7-A5D5-4FAD-9C25-C3399D51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F66F-33D8-4B59-8133-CA2FF784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4ECB4-7926-4EDD-BE6F-D639CB3B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45F11-C340-48E0-A25F-2565FF38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25179-2C89-48C6-8FC3-8D3925C8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B7035-6DAD-42C4-ABCD-6ABBD66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C090-2582-4735-BE8E-14C70D62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D3429-C1E8-4D28-A3EE-5DFF8571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E1B1-155F-415B-B864-DFC1E1D6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63A0-24C8-4238-9141-71CB2FC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00EAE-13D3-4AC8-815A-478F1EA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B013-73ED-41FD-9F5D-3097E254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7AC2-4719-439F-B24A-04A23224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418B-55BA-472C-8304-247BF05C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1834-1E70-4F0B-8AB6-96B940A7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B107-9E3F-40A8-889F-4A440C0C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77C2F-851F-4675-9AFB-1467EADE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September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AB3-0C71-4CCE-A693-D4ABC0A6562E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27E9-3926-4F9A-83B7-33DF7ED0B85F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4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1September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2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73C-70F4-47BB-A90F-B04D3C0C7663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75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7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178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7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7A40-DF55-4F2F-BE2A-67E16BCCDA71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2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3F8-F454-4F15-97D3-8E8D4AC10747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6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8BB-B40A-42DE-B820-9BA2F6CCBA17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1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CD6-BA00-4F1D-A1CB-B1849733463C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C13D-68D4-4996-BF35-35A448FE6276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b0f0"/>
                </a:solidFill>
                <a:latin typeface="Arial"/>
              </a:rPr>
              <a:t>«Учебный год кончается –праздник начинается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G:\картинки\34.jpg"/>
          <p:cNvPicPr/>
          <p:nvPr/>
        </p:nvPicPr>
        <p:blipFill>
          <a:blip r:embed="rId1"/>
          <a:stretch/>
        </p:blipFill>
        <p:spPr>
          <a:xfrm>
            <a:off x="250920" y="4822920"/>
            <a:ext cx="1836720" cy="2035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23566"/>
          <p:cNvPicPr/>
          <p:nvPr/>
        </p:nvPicPr>
        <p:blipFill>
          <a:blip r:embed="rId2"/>
          <a:stretch/>
        </p:blipFill>
        <p:spPr>
          <a:xfrm>
            <a:off x="3451320" y="3500280"/>
            <a:ext cx="27572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826920" y="3004200"/>
            <a:ext cx="76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МУЗЫК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1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826920" y="2929680"/>
            <a:ext cx="76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ФИЗКУЛЬТУР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5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826920" y="2929680"/>
            <a:ext cx="76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АНГЛИЙСКИЙ ЯЗЫК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9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071720" y="213840"/>
            <a:ext cx="75009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Страница пятая.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«Мы и наши родители»</a:t>
            </a:r>
            <a:r>
              <a:rPr b="1" lang="ru-RU" sz="2800" spc="-1" strike="noStrike">
                <a:solidFill>
                  <a:srgbClr val="19650f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Franklin Gothic Book"/>
            </a:endParaRPr>
          </a:p>
        </p:txBody>
      </p:sp>
      <p:pic>
        <p:nvPicPr>
          <p:cNvPr id="481" name="Picture 8" descr="23566"/>
          <p:cNvPicPr/>
          <p:nvPr/>
        </p:nvPicPr>
        <p:blipFill>
          <a:blip r:embed="rId1"/>
          <a:stretch/>
        </p:blipFill>
        <p:spPr>
          <a:xfrm>
            <a:off x="2484360" y="3141720"/>
            <a:ext cx="4032360" cy="3612960"/>
          </a:xfrm>
          <a:prstGeom prst="rect">
            <a:avLst/>
          </a:prstGeom>
          <a:ln w="0">
            <a:noFill/>
          </a:ln>
        </p:spPr>
      </p:pic>
      <p:pic>
        <p:nvPicPr>
          <p:cNvPr id="482" name="Заголовок 1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8783640" cy="1295280"/>
          </a:xfrm>
          <a:prstGeom prst="rect">
            <a:avLst/>
          </a:prstGeom>
          <a:ln w="0">
            <a:noFill/>
          </a:ln>
        </p:spPr>
      </p:pic>
      <p:pic>
        <p:nvPicPr>
          <p:cNvPr id="483" name="Заголовок 1" descr=""/>
          <p:cNvPicPr/>
          <p:nvPr/>
        </p:nvPicPr>
        <p:blipFill>
          <a:blip r:embed="rId3"/>
          <a:stretch/>
        </p:blipFill>
        <p:spPr>
          <a:xfrm>
            <a:off x="1332000" y="2492280"/>
            <a:ext cx="669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1285920" y="1214280"/>
            <a:ext cx="6715080" cy="478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RAINBOW1"/>
          <p:cNvPicPr/>
          <p:nvPr/>
        </p:nvPicPr>
        <p:blipFill>
          <a:blip r:embed="rId2"/>
          <a:stretch/>
        </p:blipFill>
        <p:spPr>
          <a:xfrm>
            <a:off x="2500200" y="1357200"/>
            <a:ext cx="3889440" cy="1297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RAINBOW1"/>
          <p:cNvPicPr/>
          <p:nvPr/>
        </p:nvPicPr>
        <p:blipFill>
          <a:blip r:embed="rId3"/>
          <a:stretch/>
        </p:blipFill>
        <p:spPr>
          <a:xfrm>
            <a:off x="2652840" y="1509840"/>
            <a:ext cx="3889080" cy="129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KIDS01"/>
          <p:cNvPicPr/>
          <p:nvPr/>
        </p:nvPicPr>
        <p:blipFill>
          <a:blip r:embed="rId4"/>
          <a:stretch/>
        </p:blipFill>
        <p:spPr>
          <a:xfrm>
            <a:off x="3143160" y="4643280"/>
            <a:ext cx="3429000" cy="1422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BALLOON4"/>
          <p:cNvPicPr/>
          <p:nvPr/>
        </p:nvPicPr>
        <p:blipFill>
          <a:blip r:embed="rId5"/>
          <a:stretch/>
        </p:blipFill>
        <p:spPr>
          <a:xfrm rot="20990400">
            <a:off x="4159080" y="2231640"/>
            <a:ext cx="435240" cy="2652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giv11"/>
          <p:cNvPicPr/>
          <p:nvPr/>
        </p:nvPicPr>
        <p:blipFill>
          <a:blip r:embed="rId6"/>
          <a:stretch/>
        </p:blipFill>
        <p:spPr>
          <a:xfrm rot="1648200">
            <a:off x="4556160" y="5513400"/>
            <a:ext cx="887400" cy="814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Хорошего отдыха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PARTY2"/>
          <p:cNvPicPr/>
          <p:nvPr/>
        </p:nvPicPr>
        <p:blipFill>
          <a:blip r:embed="rId1"/>
          <a:stretch/>
        </p:blipFill>
        <p:spPr>
          <a:xfrm>
            <a:off x="1476360" y="1557360"/>
            <a:ext cx="6335640" cy="43927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2435400" y="287640"/>
            <a:ext cx="55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b0371"/>
                </a:solidFill>
                <a:latin typeface="Monotype Corsiva"/>
              </a:rPr>
              <a:t>ДО   ВСТРЕЧИ!!!</a:t>
            </a:r>
            <a:endParaRPr b="0" lang="en-US" sz="5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30628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19650f"/>
                </a:solidFill>
                <a:latin typeface="Arial"/>
              </a:rPr>
              <a:t>РУССКИЙ ЯЗЫК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116000" y="499680"/>
            <a:ext cx="7777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1._лю_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2._лю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3._лю_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4._лю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5._лю_ _ _к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6._люк_ _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7._лю_ _к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3" name="Picture 8" descr="23566"/>
          <p:cNvPicPr/>
          <p:nvPr/>
        </p:nvPicPr>
        <p:blipFill>
          <a:blip r:embed="rId1"/>
          <a:stretch/>
        </p:blipFill>
        <p:spPr>
          <a:xfrm>
            <a:off x="3492360" y="4869000"/>
            <a:ext cx="2168640" cy="198900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7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115160" y="-351360"/>
            <a:ext cx="913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_лю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_лю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_лю_ _ _к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_люк_ _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_люк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920880" y="2240640"/>
            <a:ext cx="80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17  16   9   5   18   6   1   3   13   33   32       19  16 12 16 15 25  1   15 6   14   4  16   5   1!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0" name="Picture 8" descr="23566"/>
          <p:cNvPicPr/>
          <p:nvPr/>
        </p:nvPicPr>
        <p:blipFill>
          <a:blip r:embed="rId1"/>
          <a:stretch/>
        </p:blipFill>
        <p:spPr>
          <a:xfrm>
            <a:off x="3132000" y="4437000"/>
            <a:ext cx="2889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ольник 2"/>
          <p:cNvSpPr/>
          <p:nvPr/>
        </p:nvSpPr>
        <p:spPr>
          <a:xfrm>
            <a:off x="1547640" y="1700280"/>
            <a:ext cx="68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9650f"/>
                </a:solidFill>
                <a:latin typeface="Times New Roman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9650f"/>
                </a:solidFill>
                <a:latin typeface="Times New Roman"/>
              </a:rPr>
              <a:t>           </a:t>
            </a:r>
            <a:r>
              <a:rPr b="1" lang="ru-RU" sz="4800" spc="-1" strike="noStrike">
                <a:solidFill>
                  <a:srgbClr val="19650f"/>
                </a:solidFill>
                <a:latin typeface="Times New Roman"/>
              </a:rPr>
              <a:t>ЧТЕНИЕ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826920" y="2966040"/>
            <a:ext cx="766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5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826920" y="3002760"/>
            <a:ext cx="766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650f"/>
                </a:solidFill>
                <a:latin typeface="Times New Roman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9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62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C:\Users\User\Desktop\ребусы\6284.jpg"/>
          <p:cNvPicPr/>
          <p:nvPr/>
        </p:nvPicPr>
        <p:blipFill>
          <a:blip r:embed="rId2"/>
          <a:stretch/>
        </p:blipFill>
        <p:spPr>
          <a:xfrm>
            <a:off x="285840" y="981000"/>
            <a:ext cx="8572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900000" y="189000"/>
            <a:ext cx="74469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1476360" y="55404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66" name="Picture 6" descr="Рисунок2"/>
          <p:cNvPicPr/>
          <p:nvPr/>
        </p:nvPicPr>
        <p:blipFill>
          <a:blip r:embed="rId1"/>
          <a:stretch/>
        </p:blipFill>
        <p:spPr>
          <a:xfrm>
            <a:off x="-468360" y="3573360"/>
            <a:ext cx="1809720" cy="1871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C:\Users\User\Desktop\ребусы\i.jpg"/>
          <p:cNvPicPr/>
          <p:nvPr/>
        </p:nvPicPr>
        <p:blipFill>
          <a:blip r:embed="rId2"/>
          <a:stretch/>
        </p:blipFill>
        <p:spPr>
          <a:xfrm>
            <a:off x="1332000" y="1125360"/>
            <a:ext cx="633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06:03:46Z</dcterms:created>
  <dc:creator>Ирина</dc:creator>
  <dc:description/>
  <dc:language>en-US</dc:language>
  <cp:lastModifiedBy>Кабинет 205</cp:lastModifiedBy>
  <dcterms:modified xsi:type="dcterms:W3CDTF">2017-03-02T11:23:46Z</dcterms:modified>
  <cp:revision>92</cp:revision>
  <dc:subject/>
  <dc:title>Слайд 1</dc:title>
</cp:coreProperties>
</file>