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gif" ContentType="image/gif"/>
  <Override PartName="/ppt/media/image8.gif" ContentType="image/gif"/>
  <Override PartName="/ppt/media/image7.jpeg" ContentType="image/jpeg"/>
  <Override PartName="/ppt/media/image15.gif" ContentType="image/gif"/>
  <Override PartName="/ppt/media/image13.png" ContentType="image/png"/>
  <Override PartName="/ppt/media/image19.gif" ContentType="image/gif"/>
  <Override PartName="/ppt/media/image1.jpeg" ContentType="image/jpeg"/>
  <Override PartName="/ppt/media/image18.gif" ContentType="image/gif"/>
  <Override PartName="/ppt/media/image4.png" ContentType="image/png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1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71ACF-4515-4F51-901B-BFABA523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2771D-18E3-46FC-A511-990205AE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F3B2E-DBD3-43D9-B511-9606A48C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7C081-0681-4B09-9B0E-2BD24DAB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CC683-A614-4834-88EC-DF526A41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C3FD2-2BBE-490B-8594-82B0F358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1E5AE-9EB8-47B2-BA80-D6285A31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D27D4-5361-4A37-8021-A339C1C9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8C5DF-6EDF-4FAF-9E72-F099A1B2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A8E19-E7CD-4AE7-AB32-909A7961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3D741-90D5-45D8-8DFE-B9EFBB63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18AC3-688D-4F68-9D62-186B14C3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A8F8C-E50C-44B6-A131-B6DC36BF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3A45A-B77F-45A7-A53B-8BFBAC81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FDD11-A761-436F-B6E1-D46A00E6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F4155-B2D1-42B8-9A46-5F25E15F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DC8F9-CD9B-4C6D-B0D6-E309DE2D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56E8F-151D-469B-8DA1-233E102F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80B6D-72A1-4D50-B194-0C2D094B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E0E33-1DB4-441C-83BF-1F902C91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0E2F8-9121-4532-ACD0-7D2B7473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77C-2952-468B-BAC5-DACD23E8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1EB6-0D0A-4331-8366-FA5C9F21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5AC-E8AE-424E-B0D3-97FA80D9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3517-634A-4E97-8B28-0AF57EEF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CF76-0AC6-4337-854B-1FA8770D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1E2F-7A9A-4D13-A8F3-9C2C783E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7591-B30F-4961-A6C8-55C5BACA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A35-89DA-412E-9653-F2FF2064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6DB9-CCC4-4C30-AEF4-72E2C1F0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D74-F5CC-4A28-8EEC-1E429269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319-CFAF-4032-A378-E37D85C4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79BF-A45D-4D9E-B884-E839DB4D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98DC-0FF3-4A49-8F67-A6888828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395C-6005-45B4-8A08-34408A6C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A958-42CA-40A0-B412-B17A0ACE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18C0-D452-4889-8496-18A87F09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70A8-D539-434B-8D3B-DDCE3D42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06DA-0689-44F5-BF94-3C250C44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D7AB-100F-4694-9EE7-9A61DEFE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84B6-EBF5-4993-9642-FACFDBF2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3C54-1880-4220-B49A-4A80F299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0F05-F94E-4B51-BD2F-0CFA359D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8611-43B8-4704-8835-DF2EA161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5F2D-D810-46D9-A78D-932481FB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E9BF8-79A7-4D64-882E-E45FAF8A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091D9-63DC-45C0-A42E-00A7ADDE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7E2E1-2EFD-499D-9C72-2A873878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8D420-A93F-48BD-BC3D-967FA1DC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44F55-86E7-40E8-AE0A-0677DA0B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CD458-EBE3-49E1-A964-050306D4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A1E12-BD3C-4B9F-BCC3-78ACA59F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5B397-B63E-422B-9A02-87EDCED1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74BAC-BE01-47E3-A526-5DEE567E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B6BC2-7819-4A7B-BC0E-7CCF2330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81887-20B7-4C92-AFB9-CBAE99BE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429C6-5188-43C8-9A81-09CEBF1E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3C630-E1C9-4B58-8993-F6D5F65A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E03F0-36E1-41DD-83B7-EED76DB3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A4D0B-26C4-4646-A733-F8DB49B1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2406C-038C-43BE-B5FB-F0DBBD91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8DE57-B751-40E3-A336-CAD20D1F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2B5E9-8CB2-4508-8430-B9852E9F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E56E2-31FE-4FE8-B28A-DD70247F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8BD9D-99FC-49A1-95CF-724D8CDB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6845D-BB89-4661-855D-182ACE39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2FA5C-A9F7-4A15-84CB-0E36188B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D9A1E-629D-4B05-8A6C-BB9A6842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BEEFB-3FED-4027-877E-61957ABE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252CF-7934-4714-B2BB-3DC52ACB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DB5A2-CB00-4040-8576-CDFC7855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5A582-81BF-4DA6-A633-BB12429A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B60DE-3831-4A1E-9525-B906EFAE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4C4D1-9800-4F3B-8876-AC91CB25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0C50A-4593-409A-B665-A891AFC1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E8E9E-E5F8-4F38-890B-9A50E6E8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261B4-E2A2-4365-B6C9-761A9F00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16D6C-2E6D-450E-AB30-A7FFBD05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4867D-2016-4054-A5D9-E5FBC31E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1E988-434B-4E5F-AF85-5399DB95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79FC1-C233-449F-AAF7-2C676DF1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37049-76B2-4B18-BF4E-3077178C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DE24D-CB63-4AF0-9A84-F4A8287E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6702A-F3EB-4A5A-AAED-BDB769B4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E921E-5C34-47A3-BD9F-45D5E3FB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3F20E-F644-434C-8714-2105F7C0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75C74-DC01-4529-AD64-729E7AF6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78010-5A96-4054-8DD0-7BF20E40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A079D-D320-4EBC-8D6B-BE7F8488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B3E65-7F18-49F5-8163-63487CE3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C347E-9FD6-4467-965B-4B697B7B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0B09C-EACA-4CED-B436-9770C466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DCBB4-38F6-4644-8ABA-7BCDCC39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21B22-55F7-46ED-82DB-1CD95CCF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EDDC6-279B-457E-A311-B196B758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1BE23-1D58-4800-8904-144E0470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1September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9F2A-10EC-40A5-8C0B-0B3B62DEF7B5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4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06EE-CA3F-4DCC-8305-DCCBBBB1B6C9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grpSp>
        <p:nvGrpSpPr>
          <p:cNvPr id="4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4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5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5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1September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12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B71C-6610-48D0-8255-15FD6923C180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73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175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76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178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79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F4C6-60E0-4E5E-A101-F3BE336A3E06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223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845B-E94F-4C4F-A6A2-45CDD3EC0558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67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4726-54D4-4A06-8DEB-E1F072320263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31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8407-A8DF-4739-86E1-1F44C684F27C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EC75-E890-4108-AA03-9ADCDB279FFB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b0f0"/>
                </a:solidFill>
                <a:latin typeface="Arial"/>
              </a:rPr>
              <a:t>«Учебный год кончается –праздник начинается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" descr="G:\картинки\34.jpg"/>
          <p:cNvPicPr/>
          <p:nvPr/>
        </p:nvPicPr>
        <p:blipFill>
          <a:blip r:embed="rId1"/>
          <a:stretch/>
        </p:blipFill>
        <p:spPr>
          <a:xfrm>
            <a:off x="250920" y="4822920"/>
            <a:ext cx="1836720" cy="2035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23566"/>
          <p:cNvPicPr/>
          <p:nvPr/>
        </p:nvPicPr>
        <p:blipFill>
          <a:blip r:embed="rId2"/>
          <a:stretch/>
        </p:blipFill>
        <p:spPr>
          <a:xfrm>
            <a:off x="3451320" y="3500280"/>
            <a:ext cx="27572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900000" y="189000"/>
            <a:ext cx="7446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1476360" y="554040"/>
            <a:ext cx="61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826920" y="3004200"/>
            <a:ext cx="766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МУЗЫКА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71" name="Picture 6" descr="Рисунок2"/>
          <p:cNvPicPr/>
          <p:nvPr/>
        </p:nvPicPr>
        <p:blipFill>
          <a:blip r:embed="rId1"/>
          <a:stretch/>
        </p:blipFill>
        <p:spPr>
          <a:xfrm>
            <a:off x="-468360" y="3573360"/>
            <a:ext cx="1809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900000" y="189000"/>
            <a:ext cx="7446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1476360" y="554040"/>
            <a:ext cx="61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826920" y="2929680"/>
            <a:ext cx="766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ФИЗКУЛЬТУРА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75" name="Picture 6" descr="Рисунок2"/>
          <p:cNvPicPr/>
          <p:nvPr/>
        </p:nvPicPr>
        <p:blipFill>
          <a:blip r:embed="rId1"/>
          <a:stretch/>
        </p:blipFill>
        <p:spPr>
          <a:xfrm>
            <a:off x="-468360" y="3573360"/>
            <a:ext cx="1809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900000" y="189000"/>
            <a:ext cx="7446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1476360" y="554040"/>
            <a:ext cx="61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826920" y="2929680"/>
            <a:ext cx="766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АНГЛИЙСКИЙ ЯЗЫК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79" name="Picture 6" descr="Рисунок2"/>
          <p:cNvPicPr/>
          <p:nvPr/>
        </p:nvPicPr>
        <p:blipFill>
          <a:blip r:embed="rId1"/>
          <a:stretch/>
        </p:blipFill>
        <p:spPr>
          <a:xfrm>
            <a:off x="-468360" y="3573360"/>
            <a:ext cx="1809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1071720" y="213840"/>
            <a:ext cx="750096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Страница пятая.</a:t>
            </a: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«Мы и наши родители»</a:t>
            </a:r>
            <a:r>
              <a:rPr b="1" lang="ru-RU" sz="2800" spc="-1" strike="noStrike">
                <a:solidFill>
                  <a:srgbClr val="19650f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</p:txBody>
      </p:sp>
      <p:pic>
        <p:nvPicPr>
          <p:cNvPr id="481" name="Picture 8" descr="23566"/>
          <p:cNvPicPr/>
          <p:nvPr/>
        </p:nvPicPr>
        <p:blipFill>
          <a:blip r:embed="rId1"/>
          <a:stretch/>
        </p:blipFill>
        <p:spPr>
          <a:xfrm>
            <a:off x="2484360" y="3141720"/>
            <a:ext cx="4032360" cy="3612960"/>
          </a:xfrm>
          <a:prstGeom prst="rect">
            <a:avLst/>
          </a:prstGeom>
          <a:ln w="0">
            <a:noFill/>
          </a:ln>
        </p:spPr>
      </p:pic>
      <p:pic>
        <p:nvPicPr>
          <p:cNvPr id="482" name="Заголовок 1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8783640" cy="1295280"/>
          </a:xfrm>
          <a:prstGeom prst="rect">
            <a:avLst/>
          </a:prstGeom>
          <a:ln w="0">
            <a:noFill/>
          </a:ln>
        </p:spPr>
      </p:pic>
      <p:pic>
        <p:nvPicPr>
          <p:cNvPr id="483" name="Заголовок 1" descr=""/>
          <p:cNvPicPr/>
          <p:nvPr/>
        </p:nvPicPr>
        <p:blipFill>
          <a:blip r:embed="rId3"/>
          <a:stretch/>
        </p:blipFill>
        <p:spPr>
          <a:xfrm>
            <a:off x="1332000" y="2492280"/>
            <a:ext cx="6696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3" descr=""/>
          <p:cNvPicPr/>
          <p:nvPr/>
        </p:nvPicPr>
        <p:blipFill>
          <a:blip r:embed="rId1"/>
          <a:stretch/>
        </p:blipFill>
        <p:spPr>
          <a:xfrm>
            <a:off x="1285920" y="1214280"/>
            <a:ext cx="6715080" cy="4788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6" descr="RAINBOW1"/>
          <p:cNvPicPr/>
          <p:nvPr/>
        </p:nvPicPr>
        <p:blipFill>
          <a:blip r:embed="rId2"/>
          <a:stretch/>
        </p:blipFill>
        <p:spPr>
          <a:xfrm>
            <a:off x="2500200" y="1357200"/>
            <a:ext cx="3889440" cy="12970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6" descr="RAINBOW1"/>
          <p:cNvPicPr/>
          <p:nvPr/>
        </p:nvPicPr>
        <p:blipFill>
          <a:blip r:embed="rId3"/>
          <a:stretch/>
        </p:blipFill>
        <p:spPr>
          <a:xfrm>
            <a:off x="2652840" y="1509840"/>
            <a:ext cx="3889080" cy="12967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" descr="KIDS01"/>
          <p:cNvPicPr/>
          <p:nvPr/>
        </p:nvPicPr>
        <p:blipFill>
          <a:blip r:embed="rId4"/>
          <a:stretch/>
        </p:blipFill>
        <p:spPr>
          <a:xfrm>
            <a:off x="3143160" y="4643280"/>
            <a:ext cx="3429000" cy="14227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BALLOON4"/>
          <p:cNvPicPr/>
          <p:nvPr/>
        </p:nvPicPr>
        <p:blipFill>
          <a:blip r:embed="rId5"/>
          <a:stretch/>
        </p:blipFill>
        <p:spPr>
          <a:xfrm rot="20990400">
            <a:off x="4159080" y="2231640"/>
            <a:ext cx="435240" cy="26528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" descr="giv11"/>
          <p:cNvPicPr/>
          <p:nvPr/>
        </p:nvPicPr>
        <p:blipFill>
          <a:blip r:embed="rId6"/>
          <a:stretch/>
        </p:blipFill>
        <p:spPr>
          <a:xfrm rot="1648200">
            <a:off x="4556160" y="5513400"/>
            <a:ext cx="887400" cy="81432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Хорошего отдыха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PARTY2"/>
          <p:cNvPicPr/>
          <p:nvPr/>
        </p:nvPicPr>
        <p:blipFill>
          <a:blip r:embed="rId1"/>
          <a:stretch/>
        </p:blipFill>
        <p:spPr>
          <a:xfrm>
            <a:off x="1476360" y="1557360"/>
            <a:ext cx="6335640" cy="439272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5"/>
          <p:cNvSpPr/>
          <p:nvPr/>
        </p:nvSpPr>
        <p:spPr>
          <a:xfrm>
            <a:off x="2435400" y="287640"/>
            <a:ext cx="554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b0371"/>
                </a:solidFill>
                <a:latin typeface="Monotype Corsiva"/>
              </a:rPr>
              <a:t>ДО   ВСТРЕЧИ!!!</a:t>
            </a: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900000" y="189000"/>
            <a:ext cx="7446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900000" y="306288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19650f"/>
                </a:solidFill>
                <a:latin typeface="Arial"/>
              </a:rPr>
              <a:t>РУССКИЙ ЯЗЫК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900000" y="189000"/>
            <a:ext cx="7446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1116000" y="499680"/>
            <a:ext cx="7777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1._лю_к_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2._люк_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3._лю_к_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4._люк_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5._лю_ _ _к_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6._люк_ _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7._лю_ _к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43" name="Picture 8" descr="23566"/>
          <p:cNvPicPr/>
          <p:nvPr/>
        </p:nvPicPr>
        <p:blipFill>
          <a:blip r:embed="rId1"/>
          <a:stretch/>
        </p:blipFill>
        <p:spPr>
          <a:xfrm>
            <a:off x="3492360" y="4869000"/>
            <a:ext cx="2168640" cy="198900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7"/>
          <p:cNvSpPr/>
          <p:nvPr/>
        </p:nvSpPr>
        <p:spPr>
          <a:xfrm>
            <a:off x="4115160" y="-351360"/>
            <a:ext cx="9136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1. _лю_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2. _лю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3. _лю_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4. _лю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5. _лю_ _ _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6. _люк_ 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7. _люк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4115160" y="-351360"/>
            <a:ext cx="9136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1. _лю_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2. _лю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3. _лю_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4. _лю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5. _лю_ _ _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6. _люк_ 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7. _люк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4115160" y="-351360"/>
            <a:ext cx="9136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1. _лю_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2. _лю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3. _лю_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4. _лю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5. _лю_ _ _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6. _люк_ 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7. _люк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4115160" y="-351360"/>
            <a:ext cx="9136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1. _лю_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2. _лю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3. _лю_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4. _лю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5. _лю_ _ _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6. _люк_ 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7. _люк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900000" y="189000"/>
            <a:ext cx="7446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920880" y="2240640"/>
            <a:ext cx="8043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7  16   9   5   18   6   1   3   13   33   32       19  16 12 16 15 25  1   15 6   14   4  16   5   1!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50" name="Picture 8" descr="23566"/>
          <p:cNvPicPr/>
          <p:nvPr/>
        </p:nvPicPr>
        <p:blipFill>
          <a:blip r:embed="rId1"/>
          <a:stretch/>
        </p:blipFill>
        <p:spPr>
          <a:xfrm>
            <a:off x="3132000" y="4437000"/>
            <a:ext cx="28893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рямоугольник 2"/>
          <p:cNvSpPr/>
          <p:nvPr/>
        </p:nvSpPr>
        <p:spPr>
          <a:xfrm>
            <a:off x="1547640" y="1700280"/>
            <a:ext cx="6840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9650f"/>
                </a:solidFill>
                <a:latin typeface="Times New Roman"/>
              </a:rPr>
              <a:t>         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9650f"/>
                </a:solidFill>
                <a:latin typeface="Times New Roman"/>
              </a:rPr>
              <a:t>           </a:t>
            </a:r>
            <a:r>
              <a:rPr b="1" lang="ru-RU" sz="4800" spc="-1" strike="noStrike">
                <a:solidFill>
                  <a:srgbClr val="19650f"/>
                </a:solidFill>
                <a:latin typeface="Times New Roman"/>
              </a:rPr>
              <a:t>ЧТЕНИЕ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2"/>
          <p:cNvSpPr/>
          <p:nvPr/>
        </p:nvSpPr>
        <p:spPr>
          <a:xfrm>
            <a:off x="900000" y="189000"/>
            <a:ext cx="7446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1476360" y="554040"/>
            <a:ext cx="61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826920" y="2966040"/>
            <a:ext cx="766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МАТЕМАТИКА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55" name="Picture 6" descr="Рисунок2"/>
          <p:cNvPicPr/>
          <p:nvPr/>
        </p:nvPicPr>
        <p:blipFill>
          <a:blip r:embed="rId1"/>
          <a:stretch/>
        </p:blipFill>
        <p:spPr>
          <a:xfrm>
            <a:off x="-468360" y="3573360"/>
            <a:ext cx="1809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900000" y="189000"/>
            <a:ext cx="7446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1476360" y="554040"/>
            <a:ext cx="61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826920" y="3002760"/>
            <a:ext cx="766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ОКРУЖАЮЩИЙ МИР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59" name="Picture 6" descr="Рисунок2"/>
          <p:cNvPicPr/>
          <p:nvPr/>
        </p:nvPicPr>
        <p:blipFill>
          <a:blip r:embed="rId1"/>
          <a:stretch/>
        </p:blipFill>
        <p:spPr>
          <a:xfrm>
            <a:off x="-468360" y="3573360"/>
            <a:ext cx="1809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900000" y="189000"/>
            <a:ext cx="7446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1476360" y="554040"/>
            <a:ext cx="61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62" name="Picture 6" descr="Рисунок2"/>
          <p:cNvPicPr/>
          <p:nvPr/>
        </p:nvPicPr>
        <p:blipFill>
          <a:blip r:embed="rId1"/>
          <a:stretch/>
        </p:blipFill>
        <p:spPr>
          <a:xfrm>
            <a:off x="-468360" y="3573360"/>
            <a:ext cx="1809720" cy="1871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5" descr="C:\Users\User\Desktop\ребусы\6284.jpg"/>
          <p:cNvPicPr/>
          <p:nvPr/>
        </p:nvPicPr>
        <p:blipFill>
          <a:blip r:embed="rId2"/>
          <a:stretch/>
        </p:blipFill>
        <p:spPr>
          <a:xfrm>
            <a:off x="285840" y="981000"/>
            <a:ext cx="85723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900000" y="189000"/>
            <a:ext cx="7446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1476360" y="554040"/>
            <a:ext cx="61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66" name="Picture 6" descr="Рисунок2"/>
          <p:cNvPicPr/>
          <p:nvPr/>
        </p:nvPicPr>
        <p:blipFill>
          <a:blip r:embed="rId1"/>
          <a:stretch/>
        </p:blipFill>
        <p:spPr>
          <a:xfrm>
            <a:off x="-468360" y="3573360"/>
            <a:ext cx="1809720" cy="18716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5" descr="C:\Users\User\Desktop\ребусы\i.jpg"/>
          <p:cNvPicPr/>
          <p:nvPr/>
        </p:nvPicPr>
        <p:blipFill>
          <a:blip r:embed="rId2"/>
          <a:stretch/>
        </p:blipFill>
        <p:spPr>
          <a:xfrm>
            <a:off x="1332000" y="1125360"/>
            <a:ext cx="6335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2T06:03:46Z</dcterms:created>
  <dc:creator>Ирина</dc:creator>
  <dc:description/>
  <dc:language>en-US</dc:language>
  <cp:lastModifiedBy>Кабинет 205</cp:lastModifiedBy>
  <dcterms:modified xsi:type="dcterms:W3CDTF">2017-03-02T11:23:46Z</dcterms:modified>
  <cp:revision>92</cp:revision>
  <dc:subject/>
  <dc:title>Слайд 1</dc:title>
</cp:coreProperties>
</file>