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D3D-DC91-486D-9619-C8F3307B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31A-2246-4749-B72B-8D5780E8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08C-D812-4EA1-B730-6F957DB1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E67-7292-4E28-894D-329E1934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48CC-A2F0-4205-8CBA-32763EE4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802D-C16D-4A3B-AD2F-DC80793A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D618-2D18-40E9-905F-E2A1414F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0393-CC7D-4547-A85C-2BBDA744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D4A1-3055-40BB-8D9C-3CF50C5D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3563-4551-403B-8DC5-54FF5E2E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792B-5728-4FBE-95F9-E0AA5C2D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CBC-D877-4323-8AEE-E488B652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0B49-4985-4216-B452-3E25AFB4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E985-468D-4E5C-BD50-18C7DC0F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0D29-51CF-46E1-948E-6A6355E5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8233-F5EC-4C88-A2D8-38069C46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2437-3BB5-4A44-9870-45BEFFF2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5DCB4-DD97-4077-BAB8-6108CCF0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26DCF-E604-4C08-83DF-0D2BE0CE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39C64-3644-4219-971B-93F14C2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BC214-AE0F-491C-9B91-8F893633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BACAA-C75A-4071-9EEB-E9C1F53C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EFA-21B8-419F-A8CD-5224095D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B3F59-12D9-42BB-8A62-28344E44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B107E-D27C-459F-B568-4A9FDA52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9FD32-813A-4469-B70B-BDA4D073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BE969-CF1A-49C5-AEB2-C7533FE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97360-1792-4D07-8911-67922534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6F005-DAAB-438D-8A47-575D1971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6A4F2-5231-46B1-ACDD-0257DC87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0A14F-198D-4054-92B5-9D99CE44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7A4F0-5CAD-4E1E-B697-F8677B2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EECEBA-AC54-4EC1-AC77-D044DEBD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992-7684-48E7-B0DA-534CD8D8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F8EA9-78B8-41AD-8B61-D35FA747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D781F-1C1B-4D7C-8259-5FCB625C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12732-35FC-4195-B10D-02BEA633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E4FE5-A684-4AFB-AFB6-6EE7000D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17D9E-A3D6-43F5-A934-5D6EA634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7709F-3233-40CA-8408-4F8E55A4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D94AE-0A13-4FF7-9891-F22AB745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16304-DEBC-4814-B15B-3AA93B15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9A016-F320-420C-A0A0-4738391F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F9D73-2159-404B-8153-3013B944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835-1165-41F9-BCC1-EA055C8C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B7A0B-D65F-4F92-A02F-BDB40404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A41CD-F5D2-42C4-AE4B-5F07F883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D5F3C-5638-4AD5-A860-23FB16EA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F9A44D-99A4-4715-A0BF-D10BA9F1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E0B27-BDA6-4635-AA9B-06E32BE0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49FB0-5FB7-4122-A1CC-BDD0E57C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DC566-3E4A-4D5C-A930-97A65E68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CCF08-6691-41E5-B642-E96C209B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1D389-8D42-4573-ADCE-36591065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40BFB-2B2F-4009-9410-7492ECCD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F3F-BA6D-4A41-89CE-9D2C7840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C73C9-031F-4477-9B6C-0AFAC8CB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C93F1-CF7F-4562-97B0-0F7A9371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96D19-FF28-48A7-9498-9E8F17D9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AB86B-7708-4C3C-A943-61FB4B68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FA1D7-281B-466A-9E73-71BE6488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0036A-C4B4-465A-A52D-69C438D7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5A82E-215D-4B4F-84F0-645FE710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4D26C-4E0B-4F93-A3BF-C184BDB8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B8D05-3DBC-4D21-A217-0F87FE34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75587-1FAA-4894-80F6-03CE22F1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931-FA6F-414A-B160-093C738D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89D60-0200-4B2B-819C-27C71187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056CA-5F25-44A4-87F4-C0CDFF63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1C8A5-EF13-499A-80C8-DC6F18B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B8B0C-9DB4-4B3D-A454-7B8C10FE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20228-6BB0-4194-B662-6A089E29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87E2D-1A77-4191-BEB9-B823665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B3F39-A293-4183-8975-058E6A99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2876E-548B-411C-96B7-FB7796B0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B0471-5F60-498F-930C-418EED1E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395EA-C6EC-4A4F-89B9-ADC8164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ABC-23F5-46F1-BAE6-8FBE511A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9778D-1FCA-4E95-A1F5-FFEF4457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F11F5-EAD7-46B7-9640-DDB7BDCA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22188B-6E8E-4413-B3C2-9E0A7DD5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FA9A2-6288-4DA6-8BAC-B5C524D7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1BA99-BC96-40E7-8899-1CAF17B4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96C14-1E2B-43D6-A96C-5964DB37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CEB36-DE7F-4D77-8C0D-9614E4B2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A0548-3053-4B18-A376-BD905D16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EE028-D0AE-49B2-BB10-CDFF64D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4A2D8-2948-4A6A-B834-2A16709A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2D5-16E5-43B4-AB3F-11D1BD3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D9CF3-5DB0-4F65-A5BF-78693A40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226C6-CC42-44EB-884C-42C35252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4E2B8-61A5-45D3-A891-17051B33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01DA-2A4E-4DEC-8B99-74E8516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50764-B3E4-4C83-9BC5-50B2C6A5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F68F1-AE29-46B0-B41A-73C3F313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3BBA9-194E-4B7C-A411-460A713D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92556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960480"/>
            <a:ext cx="533520" cy="171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960480"/>
            <a:ext cx="8553600" cy="1713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95364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1792-1AE9-428E-AC0B-1774CFEDEF3E}" type="slidenum">
              <a:rPr b="1" lang="ru-RU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44784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4540320"/>
            <a:ext cx="2249280" cy="5349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4532400"/>
            <a:ext cx="6784920" cy="536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4551480"/>
            <a:ext cx="20574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177840"/>
            <a:ext cx="5867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171360"/>
            <a:ext cx="838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756E-5130-4B97-B510-424ED87076AF}" type="slidenum">
              <a:rPr b="1" lang="ru-RU" sz="1400" spc="-1" strike="noStrike">
                <a:solidFill>
                  <a:srgbClr val="323232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143000"/>
            <a:ext cx="91440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200240"/>
            <a:ext cx="1295280" cy="74304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200240"/>
            <a:ext cx="7772400" cy="743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314360"/>
            <a:ext cx="12952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1651-0EB4-4A6F-8531-E090DDF98888}" type="slidenum">
              <a:rPr b="1" lang="ru-RU" sz="2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92556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960480"/>
            <a:ext cx="533520" cy="171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960480"/>
            <a:ext cx="8553600" cy="1713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95364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66F-3A5A-4F2D-8BBB-918694A6055F}" type="slidenum">
              <a:rPr b="1" lang="ru-RU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92556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960480"/>
            <a:ext cx="533520" cy="171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960480"/>
            <a:ext cx="8553600" cy="1713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95364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6C68-DCE2-44B4-B9ED-3F7CC920CEBE}" type="slidenum">
              <a:rPr b="1" lang="ru-RU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4686120"/>
            <a:ext cx="5335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B7A4-FC46-447D-B3A2-B5B0FF58A2EA}" type="slidenum">
              <a:rPr b="1" lang="ru-RU" sz="1400" spc="-1" strike="noStrike">
                <a:solidFill>
                  <a:srgbClr val="323232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34290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3497400"/>
            <a:ext cx="1463400" cy="5349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3490920"/>
            <a:ext cx="7599240" cy="5349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51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4686480"/>
            <a:ext cx="26668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3499920"/>
            <a:ext cx="1447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D4F9-3A73-4CC2-AF42-8BF06B76C764}" type="slidenum">
              <a:rPr b="1" lang="ru-RU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4686480"/>
            <a:ext cx="45720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457200"/>
            <a:ext cx="228600" cy="46864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3999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4686480"/>
            <a:ext cx="22100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4686480"/>
            <a:ext cx="55738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6056280" y="77040"/>
            <a:ext cx="399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4931-499C-4077-B04E-B4D71F49605E}" type="slidenum">
              <a:rPr b="1" lang="ru-RU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2600" y="2428920"/>
            <a:ext cx="7775640" cy="210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Garamond"/>
                <a:ea typeface="Times New Roman"/>
              </a:rPr>
              <a:t>Russia and Italy</a:t>
            </a:r>
            <a:r>
              <a:rPr b="0" lang="ru-RU" sz="4800" spc="-1" strike="noStrike">
                <a:solidFill>
                  <a:srgbClr val="323232"/>
                </a:solidFill>
                <a:latin typeface="Constantia"/>
                <a:ea typeface="Times New Roman"/>
              </a:rPr>
              <a:t>. </a:t>
            </a:r>
            <a:br>
              <a:rPr sz="4800"/>
            </a:br>
            <a:r>
              <a:rPr b="0" lang="en-US" sz="4800" spc="-1" strike="noStrike">
                <a:solidFill>
                  <a:srgbClr val="323232"/>
                </a:solidFill>
                <a:latin typeface="Garamond"/>
                <a:ea typeface="Times New Roman"/>
              </a:rPr>
              <a:t>Important to Remember</a:t>
            </a:r>
            <a:r>
              <a:rPr b="0" lang="ru-RU" sz="4800" spc="-1" strike="noStrike">
                <a:solidFill>
                  <a:srgbClr val="323232"/>
                </a:solidFill>
                <a:latin typeface="Constantia"/>
                <a:ea typeface="Times New Roman"/>
              </a:rPr>
              <a:t>!</a:t>
            </a:r>
            <a:endParaRPr b="0" lang="en-US" sz="48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4536720"/>
            <a:ext cx="67053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2" name="Рисунок 4" descr="flag-of-italy.gif"/>
          <p:cNvPicPr/>
          <p:nvPr/>
        </p:nvPicPr>
        <p:blipFill>
          <a:blip r:embed="rId1"/>
          <a:stretch/>
        </p:blipFill>
        <p:spPr>
          <a:xfrm>
            <a:off x="4929120" y="285840"/>
            <a:ext cx="3960720" cy="26431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5" descr="russia.gif"/>
          <p:cNvPicPr/>
          <p:nvPr/>
        </p:nvPicPr>
        <p:blipFill>
          <a:blip r:embed="rId2"/>
          <a:stretch/>
        </p:blipFill>
        <p:spPr>
          <a:xfrm>
            <a:off x="428760" y="285840"/>
            <a:ext cx="3892320" cy="259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17136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Garamond"/>
              </a:rPr>
              <a:t>Let’s sum up: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395280" y="134784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o you find the lesson interesting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id you find anything new for you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o you find this topic to discuss relevant today?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296208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23232"/>
                </a:solidFill>
                <a:latin typeface="Garamond"/>
              </a:rPr>
              <a:t>Benito Musolini</a:t>
            </a:r>
            <a:br>
              <a:rPr sz="3100"/>
            </a:br>
            <a:r>
              <a:rPr b="0" lang="ru-RU" sz="2000" spc="-1" strike="noStrike">
                <a:solidFill>
                  <a:srgbClr val="323232"/>
                </a:solidFill>
                <a:latin typeface="Constantia"/>
              </a:rPr>
              <a:t>1883 — 194</a:t>
            </a:r>
            <a:r>
              <a:rPr b="0" lang="en-US" sz="2000" spc="-1" strike="noStrike">
                <a:solidFill>
                  <a:srgbClr val="323232"/>
                </a:solidFill>
                <a:latin typeface="Garamond"/>
              </a:rPr>
              <a:t>5</a:t>
            </a:r>
            <a:r>
              <a:rPr b="0" lang="ru-RU" sz="2000" spc="-1" strike="noStrike">
                <a:solidFill>
                  <a:srgbClr val="323232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323232"/>
              </a:solidFill>
              <a:latin typeface="Constantia"/>
            </a:endParaRPr>
          </a:p>
        </p:txBody>
      </p:sp>
      <p:pic>
        <p:nvPicPr>
          <p:cNvPr id="355" name="Объект 4" descr=""/>
          <p:cNvPicPr/>
          <p:nvPr/>
        </p:nvPicPr>
        <p:blipFill>
          <a:blip r:embed="rId1"/>
          <a:stretch/>
        </p:blipFill>
        <p:spPr>
          <a:xfrm>
            <a:off x="642960" y="3714840"/>
            <a:ext cx="2000160" cy="1093680"/>
          </a:xfrm>
          <a:prstGeom prst="rect">
            <a:avLst/>
          </a:prstGeom>
          <a:ln w="0">
            <a:noFill/>
          </a:ln>
        </p:spPr>
      </p:pic>
      <p:pic>
        <p:nvPicPr>
          <p:cNvPr id="356" name="Объект 5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1857600" cy="2443320"/>
          </a:xfrm>
          <a:prstGeom prst="rect">
            <a:avLst/>
          </a:prstGeom>
          <a:ln w="0">
            <a:noFill/>
          </a:ln>
        </p:spPr>
      </p:pic>
      <p:sp>
        <p:nvSpPr>
          <p:cNvPr id="357" name="Заголовок 1"/>
          <p:cNvSpPr/>
          <p:nvPr/>
        </p:nvSpPr>
        <p:spPr>
          <a:xfrm>
            <a:off x="5500800" y="0"/>
            <a:ext cx="28573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23232"/>
                </a:solidFill>
                <a:latin typeface="Garamond"/>
              </a:rPr>
              <a:t>Josef Stalin</a:t>
            </a:r>
            <a:br>
              <a:rPr sz="4400"/>
            </a:br>
            <a:r>
              <a:rPr b="0" lang="ru-RU" sz="2000" spc="-1" strike="noStrike">
                <a:solidFill>
                  <a:srgbClr val="323232"/>
                </a:solidFill>
                <a:latin typeface="Constantia"/>
              </a:rPr>
              <a:t>1879 —195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8" name="Рисунок 5" descr="t7G3J.jpg"/>
          <p:cNvPicPr/>
          <p:nvPr/>
        </p:nvPicPr>
        <p:blipFill>
          <a:blip r:embed="rId3"/>
          <a:stretch/>
        </p:blipFill>
        <p:spPr>
          <a:xfrm>
            <a:off x="4000680" y="1214280"/>
            <a:ext cx="2511360" cy="321480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6" descr="9451384609565.jpg"/>
          <p:cNvPicPr/>
          <p:nvPr/>
        </p:nvPicPr>
        <p:blipFill>
          <a:blip r:embed="rId4"/>
          <a:stretch/>
        </p:blipFill>
        <p:spPr>
          <a:xfrm>
            <a:off x="6643800" y="1143000"/>
            <a:ext cx="2214360" cy="330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71680" y="1357200"/>
            <a:ext cx="81532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  <a:ea typeface="Calibri"/>
              </a:rPr>
              <a:t>What are the key features of totalitarianism?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12720" y="120024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Why was it possible to establish totalitarianism in the 20 century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315720" indent="-315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315720" indent="-31572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17136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aramond"/>
              </a:rPr>
              <a:t>Key features of totalitarianism:</a:t>
            </a:r>
            <a:endParaRPr b="0" lang="en-US" sz="32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20024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One political party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ci Italiani di Combattimento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4" name="Рисунок 3" descr="ldicea2012-0014-0004.jpg"/>
          <p:cNvPicPr/>
          <p:nvPr/>
        </p:nvPicPr>
        <p:blipFill>
          <a:blip r:embed="rId1"/>
          <a:stretch/>
        </p:blipFill>
        <p:spPr>
          <a:xfrm>
            <a:off x="5000760" y="1857240"/>
            <a:ext cx="3757320" cy="29289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8" descr="Benito1.jpg"/>
          <p:cNvPicPr/>
          <p:nvPr/>
        </p:nvPicPr>
        <p:blipFill>
          <a:blip r:embed="rId2"/>
          <a:stretch/>
        </p:blipFill>
        <p:spPr>
          <a:xfrm>
            <a:off x="611280" y="1835280"/>
            <a:ext cx="3965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aramond"/>
              </a:rPr>
              <a:t>Key features of totalitarianism:</a:t>
            </a:r>
            <a:endParaRPr b="0" lang="en-US" sz="32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20024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One political part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Soviet Union “Communist party”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Рисунок 3" descr="1001524_1000.jpg"/>
          <p:cNvPicPr/>
          <p:nvPr/>
        </p:nvPicPr>
        <p:blipFill>
          <a:blip r:embed="rId1"/>
          <a:stretch/>
        </p:blipFill>
        <p:spPr>
          <a:xfrm>
            <a:off x="428760" y="1785960"/>
            <a:ext cx="4464000" cy="31924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4" descr="img4.jpg"/>
          <p:cNvPicPr/>
          <p:nvPr/>
        </p:nvPicPr>
        <p:blipFill>
          <a:blip r:embed="rId2"/>
          <a:stretch/>
        </p:blipFill>
        <p:spPr>
          <a:xfrm>
            <a:off x="4929120" y="192888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17136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aramond"/>
              </a:rPr>
              <a:t>Key features of totalitarianism:</a:t>
            </a:r>
            <a:endParaRPr b="0" lang="en-US" sz="28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20024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Political Worship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or Cult of personality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Il Duce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Рисунок 3" descr="Letna_stalin_sousosi1.jpg"/>
          <p:cNvPicPr/>
          <p:nvPr/>
        </p:nvPicPr>
        <p:blipFill>
          <a:blip r:embed="rId1"/>
          <a:stretch/>
        </p:blipFill>
        <p:spPr>
          <a:xfrm>
            <a:off x="785880" y="2214720"/>
            <a:ext cx="3406680" cy="221436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5" descr="Bundesarchiv_Bild_183-B11231,_Nordafrika,_Truppenparade_in_Tripolis.jpg"/>
          <p:cNvPicPr/>
          <p:nvPr/>
        </p:nvPicPr>
        <p:blipFill>
          <a:blip r:embed="rId2"/>
          <a:stretch/>
        </p:blipFill>
        <p:spPr>
          <a:xfrm>
            <a:off x="6286680" y="214200"/>
            <a:ext cx="2622240" cy="43578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571680" y="45007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rague, the Czech Republi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6643800" y="464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Tripoli, Lyb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16092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114300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Persecution for political reason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Рисунок 3" descr="img10.jpg"/>
          <p:cNvPicPr/>
          <p:nvPr/>
        </p:nvPicPr>
        <p:blipFill>
          <a:blip r:embed="rId1"/>
          <a:stretch/>
        </p:blipFill>
        <p:spPr>
          <a:xfrm>
            <a:off x="571680" y="1643040"/>
            <a:ext cx="3857400" cy="28926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4" descr="leT5VXvb6kU.jpg"/>
          <p:cNvPicPr/>
          <p:nvPr/>
        </p:nvPicPr>
        <p:blipFill>
          <a:blip r:embed="rId2"/>
          <a:stretch/>
        </p:blipFill>
        <p:spPr>
          <a:xfrm>
            <a:off x="5643720" y="214200"/>
            <a:ext cx="3081240" cy="40719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5"/>
          <p:cNvSpPr/>
          <p:nvPr/>
        </p:nvSpPr>
        <p:spPr>
          <a:xfrm>
            <a:off x="5929200" y="44290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The Mask of Sorrow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Magadan, Russ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928800" y="47149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Gulag, Siberia, Russ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2"/>
          <p:cNvSpPr/>
          <p:nvPr/>
        </p:nvSpPr>
        <p:spPr>
          <a:xfrm>
            <a:off x="428760" y="1285920"/>
            <a:ext cx="678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freedom of speech or priva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ult of personality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Paranoid leaders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Press and media under complete state control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riticism of the state is severely punished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One political party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Labour and concentration camp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Mass brainwashing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142920" y="142920"/>
            <a:ext cx="87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Totalitarianis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 is a political system in which the state holds total control over the society and seeks to control all aspects of public and private life wherever possibl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7:17:39Z</dcterms:created>
  <dc:creator>777</dc:creator>
  <dc:description/>
  <dc:language>en-US</dc:language>
  <cp:lastModifiedBy>Белявская Юлия В.</cp:lastModifiedBy>
  <dcterms:modified xsi:type="dcterms:W3CDTF">2015-09-30T05:29:24Z</dcterms:modified>
  <cp:revision>21</cp:revision>
  <dc:subject/>
  <dc:title>Тоталитарные режимы в 1930-е г.г. Италия, Германия, Испания</dc:title>
</cp:coreProperties>
</file>