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A1F-94D6-4E84-B818-9C5B6F0C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0C2-73D1-4F0E-A58E-2E019BA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014-F852-4A6E-9D70-58622A17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DB5-A0D8-4BE0-92FF-4AED0FCC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13ED-EB7B-40A2-B698-3B8247D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9B55-025D-4653-9448-AA905FC1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6ED0-063C-4D9C-B73B-5204FEE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E133-283E-4337-8DDC-2522D07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8E53-28B6-45DC-895C-FC027AB5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CDC-2196-4461-B426-400B2721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C173-DA6F-4F0D-8C12-970535F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2A8-8844-403A-B937-8B53AADF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D4D5-1DE9-438C-BE1C-6C544BFD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F0C8-2138-4184-AA6B-379321E5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C4B5-0C15-4D88-87ED-95BA654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D7B3-A84A-4AB4-B16F-160BF2E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E3FA-B670-477D-B700-09C64E3D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6FA0B-8A4C-4643-A749-91DB5D7E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EF8E1-A400-4FCC-B457-B0DC8B8C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14BFF-1387-4111-AF4E-4B1CA4E9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4F8F5-B40F-44C6-A394-E16627F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807AF-584F-4D3C-9ED0-09064C87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E45-E47B-42A6-9E83-3BCB018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41655-C3BF-40DB-AF04-357A3611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8FE63-C6C3-4DF3-9873-29371E2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02519-E251-4C2B-8180-7D83718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A8630-0DFD-4F1F-BA93-FD417BD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44DB1-70B4-45B4-B7C0-5C9D0BA5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CB071-82FB-4874-9476-06AFF1AD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8C991-5996-4FAD-9012-F8CC39B5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1AF2B0-1CF4-4B7D-B30F-42E1770D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1AF66-A41F-4C1A-8019-5960A38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D65CA-EB18-4763-B48C-B92A320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ABA-A952-4CC1-99AD-6E1DA1F6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679E9-8181-44F4-BFE0-A52FC28E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BDBE9-1454-41BB-8A9B-158944DE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3FC6B-E856-4444-B16C-DDA4E88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AEC9C-B4E8-43FD-8723-1D775ED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0DBA9-0054-4D08-9059-409C556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6C56A-0236-4F83-828A-6AE1ACC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C4037-B3B0-4F03-B97D-25E00CC4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1C41C-463E-40E1-8EFC-71FB65BB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029F8-878E-4AD8-A506-9A5D531F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115FD-15F0-4142-9483-4A5AAF77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D52-6650-4B0C-96F8-26042779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100F9-9312-416D-860F-24739C5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AEA9C-2285-4565-9145-C67A8EB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7B44B-C308-409A-9E09-E940A44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76C43-26E3-4C4F-AEB9-0B41E16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37318-4F8B-4594-A7CD-89A91B7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ED80C-373F-419C-A6E6-17B0243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804B8-4B24-4E4E-98F8-9EFDB19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C7A4B-C095-408D-90D8-65F8ED0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B0AA9-9FC7-403B-8DA7-D5332163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30C7C-826B-4914-B84F-E197DBCC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2E9-9FE7-4BB6-B134-9D9028D9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3F31B-A4CE-4547-AAC1-F1CB52B3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A51E-83D4-4193-896A-7ACFFEC3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B26CF-367E-4F50-B017-E69C7DC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8563-EA02-4656-B725-D9179421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5967F-B7BB-4A5A-9EF2-CC9DFAB9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6350-F6B6-4BDA-AAE3-F9815B0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B229-0F28-480A-BE44-50DA395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C9F71-775F-4710-9E7F-C4C6E07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90530-747F-4550-8E1A-2560A14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808F-C270-4BA8-A7B0-3E64482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299-D3F4-41FF-A9E4-64B520D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4221B-AE3D-4FA8-831B-3A8965F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8CB5-45A5-4869-AFBB-4D031206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470E-045F-4A52-8A6C-AB70693B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64E07-A9EC-48E1-BE62-D3580D78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F282F-A16B-435A-B9F3-7DA35C32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7ADBCD-C0C2-4C9D-A255-F0F8D56A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633DB-92B5-42F4-98F9-6674BEB1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9563D-5DA9-4FBC-BD19-82F3F504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8623F-704C-4F4F-8070-24881EA4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0E855E-868A-4D9F-84BD-1CE0529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9CE-4BBC-4FDA-B1C7-D69C4E50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3683A-DACF-4324-A7D9-9335545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43F0B-D37A-4138-ACFD-A2695E81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B9EC5-5DE4-4193-94ED-F2B7B7E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19FB0-8409-4526-A69C-9B38F268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6057E-6E83-4DB6-A7A4-DA167002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E176-D6E4-4442-A4CB-6E2819B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570E-2788-4C3E-8C48-73BED1A9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33301-2B34-4A17-BA47-B2D506B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C1AE-AFD0-41AD-8ECC-9218BED4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5EC3B-9F11-484C-8ED1-2C840AB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639-9ED8-4FDC-A0F9-41B45B9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171360"/>
            <a:ext cx="815364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41CB9-E989-4800-8AEE-953D2101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B447-A197-4D3C-B051-04910FD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E6304-0031-42C6-A52E-29D457B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714B-4594-49AC-BC9A-F1D85594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2973240"/>
            <a:ext cx="815328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C665-A7CE-4E0E-B29B-999A6AF5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200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2973240"/>
            <a:ext cx="39787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84B3-AD2E-4257-BC19-F21BB681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60920"/>
            <a:ext cx="8153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200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2973240"/>
            <a:ext cx="262512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FE53-907C-46ED-9E36-299F7E4D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34E7-9906-4867-9447-5CCA2486E646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44784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4540320"/>
            <a:ext cx="2249280" cy="534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4532400"/>
            <a:ext cx="6784920" cy="536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4551480"/>
            <a:ext cx="20574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177840"/>
            <a:ext cx="58676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171360"/>
            <a:ext cx="838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63A3-D218-4774-970E-4B0F528C0BED}" type="slidenum">
              <a:rPr b="1" lang="ru-RU" sz="1400" spc="-1" strike="noStrike">
                <a:solidFill>
                  <a:srgbClr val="323232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143000"/>
            <a:ext cx="91440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200240"/>
            <a:ext cx="1295280" cy="74304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200240"/>
            <a:ext cx="7772400" cy="743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314360"/>
            <a:ext cx="129528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CC1-25CF-4E1E-824D-7C839FFB693B}" type="slidenum">
              <a:rPr b="1" lang="ru-RU" sz="2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3DC1-6A74-4E0C-8C98-0626B6B602A9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925560"/>
            <a:ext cx="914400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960480"/>
            <a:ext cx="533520" cy="171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960480"/>
            <a:ext cx="8553600" cy="1713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953640"/>
            <a:ext cx="53352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A598-06D6-4E32-BC92-B2A0AB75422F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4686480"/>
            <a:ext cx="26672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4686480"/>
            <a:ext cx="54216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4686120"/>
            <a:ext cx="5335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E09-3B2A-415F-8E7F-2034D75A5791}" type="slidenum">
              <a:rPr b="1" lang="ru-RU" sz="1400" spc="-1" strike="noStrike">
                <a:solidFill>
                  <a:srgbClr val="323232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3429000"/>
            <a:ext cx="9144000" cy="66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3497400"/>
            <a:ext cx="1463400" cy="534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3490920"/>
            <a:ext cx="7599240" cy="5349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51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4686480"/>
            <a:ext cx="2666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3499920"/>
            <a:ext cx="1447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652C-CE1B-4753-A710-9ADCDED87014}" type="slidenum">
              <a:rPr b="1" lang="ru-RU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4686480"/>
            <a:ext cx="457200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457200"/>
            <a:ext cx="228600" cy="46864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3999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171360"/>
            <a:ext cx="815364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200240"/>
            <a:ext cx="81532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4804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31960" indent="-20772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248120" indent="-20772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63920" indent="-20772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63920" indent="-2077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4686480"/>
            <a:ext cx="221004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2323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232"/>
                </a:solidFill>
                <a:latin typeface="Constant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4686480"/>
            <a:ext cx="55738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056280" y="77040"/>
            <a:ext cx="399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8E13-E694-4EC7-A645-BFAFD052E39D}" type="slidenum">
              <a:rPr b="1" lang="ru-RU" sz="14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2600" y="2428920"/>
            <a:ext cx="7775640" cy="210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Garamond"/>
                <a:ea typeface="Times New Roman"/>
              </a:rPr>
              <a:t>Russia and Italy</a:t>
            </a:r>
            <a:r>
              <a:rPr b="0" lang="ru-RU" sz="4800" spc="-1" strike="noStrike">
                <a:solidFill>
                  <a:srgbClr val="323232"/>
                </a:solidFill>
                <a:latin typeface="Constantia"/>
                <a:ea typeface="Times New Roman"/>
              </a:rPr>
              <a:t>. </a:t>
            </a:r>
            <a:br>
              <a:rPr sz="4800"/>
            </a:br>
            <a:r>
              <a:rPr b="0" lang="en-US" sz="4800" spc="-1" strike="noStrike">
                <a:solidFill>
                  <a:srgbClr val="323232"/>
                </a:solidFill>
                <a:latin typeface="Garamond"/>
                <a:ea typeface="Times New Roman"/>
              </a:rPr>
              <a:t>Important to Remember</a:t>
            </a:r>
            <a:r>
              <a:rPr b="0" lang="ru-RU" sz="4800" spc="-1" strike="noStrike">
                <a:solidFill>
                  <a:srgbClr val="323232"/>
                </a:solidFill>
                <a:latin typeface="Constantia"/>
                <a:ea typeface="Times New Roman"/>
              </a:rPr>
              <a:t>!</a:t>
            </a:r>
            <a:endParaRPr b="0" lang="en-US" sz="48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4536720"/>
            <a:ext cx="67053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Рисунок 4" descr="flag-of-italy.gif"/>
          <p:cNvPicPr/>
          <p:nvPr/>
        </p:nvPicPr>
        <p:blipFill>
          <a:blip r:embed="rId1"/>
          <a:stretch/>
        </p:blipFill>
        <p:spPr>
          <a:xfrm>
            <a:off x="4929120" y="285840"/>
            <a:ext cx="3960720" cy="264312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russia.gif"/>
          <p:cNvPicPr/>
          <p:nvPr/>
        </p:nvPicPr>
        <p:blipFill>
          <a:blip r:embed="rId2"/>
          <a:stretch/>
        </p:blipFill>
        <p:spPr>
          <a:xfrm>
            <a:off x="428760" y="285840"/>
            <a:ext cx="3892320" cy="259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Garamond"/>
              </a:rPr>
              <a:t>Let’s sum up:</a:t>
            </a: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85" name="TextBox 1"/>
          <p:cNvSpPr/>
          <p:nvPr/>
        </p:nvSpPr>
        <p:spPr>
          <a:xfrm>
            <a:off x="395280" y="1347840"/>
            <a:ext cx="842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o you find the lesson interesting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id you find anything new for you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o you find this topic to discuss relevant today?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70920"/>
            <a:ext cx="2962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3232"/>
                </a:solidFill>
                <a:latin typeface="Garamond"/>
              </a:rPr>
              <a:t>Benito Musolini</a:t>
            </a:r>
            <a:br>
              <a:rPr sz="3100"/>
            </a:b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1883 — 194</a:t>
            </a:r>
            <a:r>
              <a:rPr b="0" lang="en-US" sz="2000" spc="-1" strike="noStrike">
                <a:solidFill>
                  <a:srgbClr val="323232"/>
                </a:solidFill>
                <a:latin typeface="Garamond"/>
              </a:rPr>
              <a:t>5</a:t>
            </a: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323232"/>
              </a:solidFill>
              <a:latin typeface="Constantia"/>
            </a:endParaRPr>
          </a:p>
        </p:txBody>
      </p:sp>
      <p:pic>
        <p:nvPicPr>
          <p:cNvPr id="355" name="Объект 4" descr=""/>
          <p:cNvPicPr/>
          <p:nvPr/>
        </p:nvPicPr>
        <p:blipFill>
          <a:blip r:embed="rId1"/>
          <a:stretch/>
        </p:blipFill>
        <p:spPr>
          <a:xfrm>
            <a:off x="642960" y="3714840"/>
            <a:ext cx="2000160" cy="1093680"/>
          </a:xfrm>
          <a:prstGeom prst="rect">
            <a:avLst/>
          </a:prstGeom>
          <a:ln w="0">
            <a:noFill/>
          </a:ln>
        </p:spPr>
      </p:pic>
      <p:pic>
        <p:nvPicPr>
          <p:cNvPr id="356" name="Объект 5" descr=""/>
          <p:cNvPicPr/>
          <p:nvPr/>
        </p:nvPicPr>
        <p:blipFill>
          <a:blip r:embed="rId2"/>
          <a:stretch/>
        </p:blipFill>
        <p:spPr>
          <a:xfrm>
            <a:off x="714240" y="1214280"/>
            <a:ext cx="1857600" cy="2443320"/>
          </a:xfrm>
          <a:prstGeom prst="rect">
            <a:avLst/>
          </a:prstGeom>
          <a:ln w="0">
            <a:noFill/>
          </a:ln>
        </p:spPr>
      </p:pic>
      <p:sp>
        <p:nvSpPr>
          <p:cNvPr id="357" name="Заголовок 1"/>
          <p:cNvSpPr/>
          <p:nvPr/>
        </p:nvSpPr>
        <p:spPr>
          <a:xfrm>
            <a:off x="5500800" y="0"/>
            <a:ext cx="28573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23232"/>
                </a:solidFill>
                <a:latin typeface="Garamond"/>
              </a:rPr>
              <a:t>Josef Stalin</a:t>
            </a:r>
            <a:br>
              <a:rPr sz="4400"/>
            </a:br>
            <a:r>
              <a:rPr b="0" lang="ru-RU" sz="2000" spc="-1" strike="noStrike">
                <a:solidFill>
                  <a:srgbClr val="323232"/>
                </a:solidFill>
                <a:latin typeface="Constantia"/>
              </a:rPr>
              <a:t>1879 —195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Рисунок 5" descr="t7G3J.jpg"/>
          <p:cNvPicPr/>
          <p:nvPr/>
        </p:nvPicPr>
        <p:blipFill>
          <a:blip r:embed="rId3"/>
          <a:stretch/>
        </p:blipFill>
        <p:spPr>
          <a:xfrm>
            <a:off x="4000680" y="1214280"/>
            <a:ext cx="2511360" cy="321480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9451384609565.jpg"/>
          <p:cNvPicPr/>
          <p:nvPr/>
        </p:nvPicPr>
        <p:blipFill>
          <a:blip r:embed="rId4"/>
          <a:stretch/>
        </p:blipFill>
        <p:spPr>
          <a:xfrm>
            <a:off x="6643800" y="1143000"/>
            <a:ext cx="2214360" cy="3306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71680" y="1357200"/>
            <a:ext cx="81532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  <a:ea typeface="Calibri"/>
              </a:rPr>
              <a:t>What are the key features of totalitarianism?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  <a:ea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Why was it possible to establish totalitarianism in the 20 century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315720" indent="-31572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32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ne political party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ci Italiani di Combattimento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Рисунок 3" descr="ldicea2012-0014-0004.jpg"/>
          <p:cNvPicPr/>
          <p:nvPr/>
        </p:nvPicPr>
        <p:blipFill>
          <a:blip r:embed="rId1"/>
          <a:stretch/>
        </p:blipFill>
        <p:spPr>
          <a:xfrm>
            <a:off x="5000760" y="1857240"/>
            <a:ext cx="3757320" cy="29289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8" descr="Benito1.jpg"/>
          <p:cNvPicPr/>
          <p:nvPr/>
        </p:nvPicPr>
        <p:blipFill>
          <a:blip r:embed="rId2"/>
          <a:stretch/>
        </p:blipFill>
        <p:spPr>
          <a:xfrm>
            <a:off x="611280" y="1835280"/>
            <a:ext cx="3965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32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ne political party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oviet Union “Communist party”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Рисунок 3" descr="1001524_1000.jpg"/>
          <p:cNvPicPr/>
          <p:nvPr/>
        </p:nvPicPr>
        <p:blipFill>
          <a:blip r:embed="rId1"/>
          <a:stretch/>
        </p:blipFill>
        <p:spPr>
          <a:xfrm>
            <a:off x="428760" y="1785960"/>
            <a:ext cx="4464000" cy="31924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img4.jpg"/>
          <p:cNvPicPr/>
          <p:nvPr/>
        </p:nvPicPr>
        <p:blipFill>
          <a:blip r:embed="rId2"/>
          <a:stretch/>
        </p:blipFill>
        <p:spPr>
          <a:xfrm>
            <a:off x="4929120" y="192888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171360"/>
            <a:ext cx="81532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aramond"/>
              </a:rPr>
              <a:t>Key features of totalitarianism:</a:t>
            </a:r>
            <a:endParaRPr b="0" lang="en-US" sz="28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20024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Political Worship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or Cult of personality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Il Duce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Рисунок 3" descr="Letna_stalin_sousosi1.jpg"/>
          <p:cNvPicPr/>
          <p:nvPr/>
        </p:nvPicPr>
        <p:blipFill>
          <a:blip r:embed="rId1"/>
          <a:stretch/>
        </p:blipFill>
        <p:spPr>
          <a:xfrm>
            <a:off x="785880" y="2214720"/>
            <a:ext cx="3406680" cy="22143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5" descr="Bundesarchiv_Bild_183-B11231,_Nordafrika,_Truppenparade_in_Tripolis.jpg"/>
          <p:cNvPicPr/>
          <p:nvPr/>
        </p:nvPicPr>
        <p:blipFill>
          <a:blip r:embed="rId2"/>
          <a:stretch/>
        </p:blipFill>
        <p:spPr>
          <a:xfrm>
            <a:off x="6286680" y="214200"/>
            <a:ext cx="2622240" cy="43578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571680" y="45007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rague, the Czech Republi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6643800" y="464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ripoli, Lyb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160920"/>
            <a:ext cx="8153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1143000"/>
            <a:ext cx="815328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Persecution for political reason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Рисунок 3" descr="img10.jpg"/>
          <p:cNvPicPr/>
          <p:nvPr/>
        </p:nvPicPr>
        <p:blipFill>
          <a:blip r:embed="rId1"/>
          <a:stretch/>
        </p:blipFill>
        <p:spPr>
          <a:xfrm>
            <a:off x="571680" y="164304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4" descr="leT5VXvb6kU.jpg"/>
          <p:cNvPicPr/>
          <p:nvPr/>
        </p:nvPicPr>
        <p:blipFill>
          <a:blip r:embed="rId2"/>
          <a:stretch/>
        </p:blipFill>
        <p:spPr>
          <a:xfrm>
            <a:off x="5643720" y="214200"/>
            <a:ext cx="3081240" cy="40719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5929200" y="4429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he Mask of Sorrow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Magadan, Russ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928800" y="47149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Gulag, Siberia, Russ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2"/>
          <p:cNvSpPr/>
          <p:nvPr/>
        </p:nvSpPr>
        <p:spPr>
          <a:xfrm>
            <a:off x="428760" y="1285920"/>
            <a:ext cx="678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freedom of speech or priva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ult of personality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aranoid leaders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ress and media under complete state control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riticism of the state is severely punished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One political party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Labour and concentration camp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Mass brainwashing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42920" y="14292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otalitarianis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 is a political system in which the state holds total control over the society and seeks to control all aspects of public and private life wherever possible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7:17:39Z</dcterms:created>
  <dc:creator>777</dc:creator>
  <dc:description/>
  <dc:language>en-US</dc:language>
  <cp:lastModifiedBy>Белявская Юлия В.</cp:lastModifiedBy>
  <dcterms:modified xsi:type="dcterms:W3CDTF">2015-09-30T05:29:24Z</dcterms:modified>
  <cp:revision>21</cp:revision>
  <dc:subject/>
  <dc:title>Тоталитарные режимы в 1930-е г.г. Италия, Германия, Испания</dc:title>
</cp:coreProperties>
</file>