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chimes.wav" ContentType="audio/x-wav"/>
  <Override PartName="/ppt/media/image8.png" ContentType="image/png"/>
  <Override PartName="/ppt/media/hammer.wav" ContentType="audio/x-wav"/>
  <Override PartName="/ppt/media/image13.png" ContentType="image/png"/>
  <Override PartName="/ppt/media/image7.png" ContentType="image/png"/>
  <Override PartName="/ppt/media/image18.jpeg" ContentType="image/jpeg"/>
  <Override PartName="/ppt/media/image1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3F2-B6E7-4DE6-8960-A2DC575C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482-2B28-4030-9A43-84B292A2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DD8-D752-4A1A-8476-DAC3F810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493-8D8C-495B-9149-97F179A8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C71-BCD5-4B6F-A8AE-56E2F5FB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DC0-C829-4E3A-8997-9A8BB23D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08A-4BD1-4B65-9370-0503C50E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DE7-53F0-4521-B8E4-7C1DCCB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030-5A69-44C0-A8EC-8BB14C50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6FE-856E-4DFE-A105-A294EA3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E17-C509-4CAC-87F7-BADB3AE8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454-E016-4291-A9F5-13F0AD57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44F-4778-4A55-B296-92F38A75D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chimes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90720" y="685800"/>
            <a:ext cx="7315200" cy="703440"/>
          </a:xfrm>
          <a:prstGeom prst="rect">
            <a:avLst/>
          </a:prstGeom>
          <a:solidFill>
            <a:srgbClr val="f6e3b4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 Sans MS"/>
              </a:rPr>
              <a:t>Автоматизация звука </a:t>
            </a:r>
            <a:r>
              <a:rPr b="1" lang="en-US" sz="40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40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4000" spc="-1" strike="noStrike">
                <a:solidFill>
                  <a:srgbClr val="660033"/>
                </a:solidFill>
                <a:latin typeface="Comic Sans MS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>
            <a:hlinkClick r:id="rId1" action="ppaction://hlinksldjump"/>
          </p:cNvPr>
          <p:cNvSpPr/>
          <p:nvPr/>
        </p:nvSpPr>
        <p:spPr>
          <a:xfrm>
            <a:off x="990720" y="205740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Артикуляцион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>
            <a:hlinkClick r:id="rId2" action="ppaction://hlinksldjump"/>
          </p:cNvPr>
          <p:cNvSpPr/>
          <p:nvPr/>
        </p:nvSpPr>
        <p:spPr>
          <a:xfrm>
            <a:off x="990720" y="297180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>
            <a:hlinkClick r:id="rId3" action="ppaction://hlinksldjump"/>
          </p:cNvPr>
          <p:cNvSpPr/>
          <p:nvPr/>
        </p:nvSpPr>
        <p:spPr>
          <a:xfrm>
            <a:off x="990720" y="373392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 в сло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>
            <a:hlinkClick r:id="rId4" action="ppaction://hlinksldjump"/>
          </p:cNvPr>
          <p:cNvSpPr/>
          <p:nvPr/>
        </p:nvSpPr>
        <p:spPr>
          <a:xfrm>
            <a:off x="990720" y="457200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>
            <a:hlinkClick r:id="rId5" action="ppaction://hlinksldjump"/>
          </p:cNvPr>
          <p:cNvSpPr/>
          <p:nvPr/>
        </p:nvSpPr>
        <p:spPr>
          <a:xfrm>
            <a:off x="990720" y="541008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 в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352680" y="2666880"/>
            <a:ext cx="2362320" cy="1447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733920" y="2819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65760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99"/>
                </a:solidFill>
                <a:latin typeface="Comic Sans MS"/>
              </a:rPr>
              <a:t>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6019920" y="4459320"/>
            <a:ext cx="2286000" cy="1628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68" name="Picture 12" descr="ZEBRA"/>
          <p:cNvPicPr/>
          <p:nvPr/>
        </p:nvPicPr>
        <p:blipFill>
          <a:blip r:embed="rId2"/>
          <a:stretch/>
        </p:blipFill>
        <p:spPr>
          <a:xfrm>
            <a:off x="990720" y="4191120"/>
            <a:ext cx="1981080" cy="1685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69" name="Rectangle 13"/>
          <p:cNvSpPr/>
          <p:nvPr/>
        </p:nvSpPr>
        <p:spPr>
          <a:xfrm>
            <a:off x="1219320" y="228600"/>
            <a:ext cx="72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Найди «лишнюю» карти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914400" y="1523880"/>
            <a:ext cx="20574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7" descr="0014"/>
          <p:cNvPicPr/>
          <p:nvPr/>
        </p:nvPicPr>
        <p:blipFill>
          <a:blip r:embed="rId3"/>
          <a:stretch/>
        </p:blipFill>
        <p:spPr>
          <a:xfrm>
            <a:off x="1143000" y="1828800"/>
            <a:ext cx="1600200" cy="121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0058"/>
          <p:cNvPicPr/>
          <p:nvPr/>
        </p:nvPicPr>
        <p:blipFill>
          <a:blip r:embed="rId4"/>
          <a:stretch/>
        </p:blipFill>
        <p:spPr>
          <a:xfrm>
            <a:off x="5943600" y="1523880"/>
            <a:ext cx="2286000" cy="1828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73" name="AutoShape 19">
            <a:hlinkClick r:id="" action="ppaction://hlinkshowjump?jump=firstslide"/>
          </p:cNvPr>
          <p:cNvSpPr/>
          <p:nvPr/>
        </p:nvSpPr>
        <p:spPr>
          <a:xfrm>
            <a:off x="7238880" y="6172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3352680" y="2666880"/>
            <a:ext cx="2362320" cy="1447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733920" y="2819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65760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99"/>
                </a:solidFill>
                <a:latin typeface="Comic Sans MS"/>
              </a:rPr>
              <a:t>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219320" y="228600"/>
            <a:ext cx="72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Найди «лишнюю» карти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304920" y="1447920"/>
            <a:ext cx="2666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2"/>
          <p:cNvGrpSpPr/>
          <p:nvPr/>
        </p:nvGrpSpPr>
        <p:grpSpPr>
          <a:xfrm>
            <a:off x="533520" y="1752120"/>
            <a:ext cx="2374920" cy="1290600"/>
            <a:chOff x="533520" y="1752120"/>
            <a:chExt cx="2374920" cy="1290600"/>
          </a:xfrm>
        </p:grpSpPr>
        <p:sp>
          <p:nvSpPr>
            <p:cNvPr id="182" name="AutoShape 13"/>
            <p:cNvSpPr/>
            <p:nvPr/>
          </p:nvSpPr>
          <p:spPr>
            <a:xfrm rot="16200000">
              <a:off x="8568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4"/>
            <p:cNvSpPr/>
            <p:nvPr/>
          </p:nvSpPr>
          <p:spPr>
            <a:xfrm rot="16200000">
              <a:off x="48168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5"/>
            <p:cNvSpPr/>
            <p:nvPr/>
          </p:nvSpPr>
          <p:spPr>
            <a:xfrm rot="16200000">
              <a:off x="87804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 rot="16200000">
              <a:off x="1274040" y="2298600"/>
              <a:ext cx="1290600" cy="19764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 rot="16200000">
              <a:off x="166896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8"/>
            <p:cNvSpPr/>
            <p:nvPr/>
          </p:nvSpPr>
          <p:spPr>
            <a:xfrm rot="16200000">
              <a:off x="206496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533520" y="2132280"/>
              <a:ext cx="237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533520" y="2701440"/>
              <a:ext cx="237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3" descr="krokodil05"/>
          <p:cNvPicPr/>
          <p:nvPr/>
        </p:nvPicPr>
        <p:blipFill>
          <a:blip r:embed="rId1"/>
          <a:stretch/>
        </p:blipFill>
        <p:spPr>
          <a:xfrm>
            <a:off x="5867280" y="1447920"/>
            <a:ext cx="2895840" cy="1828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1" name="Picture 24" descr="27a26afebf9d"/>
          <p:cNvPicPr/>
          <p:nvPr/>
        </p:nvPicPr>
        <p:blipFill>
          <a:blip r:embed="rId2"/>
          <a:stretch/>
        </p:blipFill>
        <p:spPr>
          <a:xfrm>
            <a:off x="5943600" y="4267080"/>
            <a:ext cx="2590920" cy="1676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2" name="Picture 25" descr="0019"/>
          <p:cNvPicPr/>
          <p:nvPr/>
        </p:nvPicPr>
        <p:blipFill>
          <a:blip r:embed="rId3"/>
          <a:stretch/>
        </p:blipFill>
        <p:spPr>
          <a:xfrm>
            <a:off x="380880" y="4267080"/>
            <a:ext cx="2590920" cy="1676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93" name="AutoShape 26">
            <a:hlinkClick r:id="" action="ppaction://hlinkshowjump?jump=firstslide"/>
          </p:cNvPr>
          <p:cNvSpPr/>
          <p:nvPr/>
        </p:nvSpPr>
        <p:spPr>
          <a:xfrm>
            <a:off x="73152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7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952880" cy="42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057400" y="4572000"/>
          <a:ext cx="4952880" cy="185904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18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о утром у ре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ят рыбку рыбак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я рядышком с дружко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к следит за поплавк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AutoShape 16">
            <a:hlinkClick r:id="" action="ppaction://hlinkshowjump?jump=firstslide"/>
          </p:cNvPr>
          <p:cNvSpPr/>
          <p:nvPr/>
        </p:nvSpPr>
        <p:spPr>
          <a:xfrm>
            <a:off x="73152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8" descr="рыбак"/>
          <p:cNvPicPr/>
          <p:nvPr/>
        </p:nvPicPr>
        <p:blipFill>
          <a:blip r:embed="rId2"/>
          <a:stretch/>
        </p:blipFill>
        <p:spPr>
          <a:xfrm>
            <a:off x="6019920" y="1600200"/>
            <a:ext cx="178092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41"/>
          <p:cNvPicPr/>
          <p:nvPr/>
        </p:nvPicPr>
        <p:blipFill>
          <a:blip r:embed="rId3"/>
          <a:stretch/>
        </p:blipFill>
        <p:spPr>
          <a:xfrm>
            <a:off x="914400" y="3581280"/>
            <a:ext cx="42670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photo_47"/>
          <p:cNvPicPr/>
          <p:nvPr/>
        </p:nvPicPr>
        <p:blipFill>
          <a:blip r:embed="rId1"/>
          <a:stretch/>
        </p:blipFill>
        <p:spPr>
          <a:xfrm>
            <a:off x="1752480" y="304920"/>
            <a:ext cx="5276880" cy="6095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07" name="AutoShape 6">
            <a:hlinkClick r:id="" action="ppaction://hlinkshowjump?jump=firstslide"/>
          </p:cNvPr>
          <p:cNvSpPr/>
          <p:nvPr/>
        </p:nvSpPr>
        <p:spPr>
          <a:xfrm>
            <a:off x="73152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34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867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13" name="AutoShape 6">
            <a:hlinkClick r:id="" action="ppaction://hlinkshowjump?jump=firstslide"/>
          </p:cNvPr>
          <p:cNvSpPr/>
          <p:nvPr/>
        </p:nvSpPr>
        <p:spPr>
          <a:xfrm>
            <a:off x="807732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522720"/>
            <a:ext cx="899172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тикуляционная гимнастика. Звук 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кошк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 – «жарко», закрыть рот – «холодн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ачел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ом языка поочередно касаться верхней и нижней губ – движения вверх-вн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Лошадк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производить цоканье (щелканье) языком, касаясь не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риб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ий, плоский язык присосать к твердому небу, боковые края языка прижать к коренным зуб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епослушный язы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ыбнуться, слегка покусывать кончик широкого языч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гол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 узкого языка поднять вверх к альвеолам верхних зубов (бугорку за верхними зуба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расим верхний заборч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ыбнуться, приоткрыть рот, кончиком языка с внутренней стороны «красим» верхние зу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источкой» - кончиком язычка. Движения вверх-вниз и влево-впра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расим потол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ом языка проводить по твердому небу в направлении сзади-впе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точ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ом языка касаться альвеол верхних зу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улем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быстрыми движениями языка ударять твердым кончиком языка по альвеолам верхних зубов, произнося:«Д-д-д-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0044"/>
          <p:cNvPicPr/>
          <p:nvPr/>
        </p:nvPicPr>
        <p:blipFill>
          <a:blip r:embed="rId1"/>
          <a:stretch/>
        </p:blipFill>
        <p:spPr>
          <a:xfrm>
            <a:off x="3505320" y="2362320"/>
            <a:ext cx="236196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13"/>
          <p:cNvSpPr/>
          <p:nvPr/>
        </p:nvSpPr>
        <p:spPr>
          <a:xfrm>
            <a:off x="1600200" y="914400"/>
            <a:ext cx="594360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рычит тиг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295280" y="4419720"/>
            <a:ext cx="65534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Р – Р – Р – Р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"/>
          <p:cNvGrpSpPr/>
          <p:nvPr/>
        </p:nvGrpSpPr>
        <p:grpSpPr>
          <a:xfrm>
            <a:off x="1116000" y="115920"/>
            <a:ext cx="2519280" cy="2257200"/>
            <a:chOff x="1116000" y="115920"/>
            <a:chExt cx="2519280" cy="2257200"/>
          </a:xfrm>
        </p:grpSpPr>
        <p:pic>
          <p:nvPicPr>
            <p:cNvPr id="64" name="Picture 3" descr="59774e332cbf"/>
            <p:cNvPicPr/>
            <p:nvPr/>
          </p:nvPicPr>
          <p:blipFill>
            <a:blip r:embed="rId1"/>
            <a:stretch/>
          </p:blipFill>
          <p:spPr>
            <a:xfrm>
              <a:off x="1116000" y="11592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"/>
            <p:cNvSpPr txBox="1"/>
            <p:nvPr/>
          </p:nvSpPr>
          <p:spPr>
            <a:xfrm>
              <a:off x="2052720" y="76356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0" y="2276640"/>
            <a:ext cx="2519280" cy="2257200"/>
            <a:chOff x="0" y="2276640"/>
            <a:chExt cx="2519280" cy="2257200"/>
          </a:xfrm>
        </p:grpSpPr>
        <p:pic>
          <p:nvPicPr>
            <p:cNvPr id="67" name="Picture 6" descr="59774e332cbf"/>
            <p:cNvPicPr/>
            <p:nvPr/>
          </p:nvPicPr>
          <p:blipFill>
            <a:blip r:embed="rId2"/>
            <a:stretch/>
          </p:blipFill>
          <p:spPr>
            <a:xfrm>
              <a:off x="0" y="227664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7"/>
            <p:cNvSpPr txBox="1"/>
            <p:nvPr/>
          </p:nvSpPr>
          <p:spPr>
            <a:xfrm>
              <a:off x="936720" y="292428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826920" y="4600440"/>
            <a:ext cx="2519280" cy="2257200"/>
            <a:chOff x="826920" y="4600440"/>
            <a:chExt cx="2519280" cy="2257200"/>
          </a:xfrm>
        </p:grpSpPr>
        <p:pic>
          <p:nvPicPr>
            <p:cNvPr id="70" name="Picture 9" descr="59774e332cbf"/>
            <p:cNvPicPr/>
            <p:nvPr/>
          </p:nvPicPr>
          <p:blipFill>
            <a:blip r:embed="rId3"/>
            <a:stretch/>
          </p:blipFill>
          <p:spPr>
            <a:xfrm>
              <a:off x="826920" y="460044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10"/>
            <p:cNvSpPr txBox="1"/>
            <p:nvPr/>
          </p:nvSpPr>
          <p:spPr>
            <a:xfrm>
              <a:off x="1763640" y="524808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6477120" y="3733920"/>
            <a:ext cx="2519280" cy="2257200"/>
            <a:chOff x="6477120" y="3733920"/>
            <a:chExt cx="2519280" cy="2257200"/>
          </a:xfrm>
        </p:grpSpPr>
        <p:pic>
          <p:nvPicPr>
            <p:cNvPr id="73" name="Picture 12" descr="59774e332cbf"/>
            <p:cNvPicPr/>
            <p:nvPr/>
          </p:nvPicPr>
          <p:blipFill>
            <a:blip r:embed="rId4"/>
            <a:stretch/>
          </p:blipFill>
          <p:spPr>
            <a:xfrm>
              <a:off x="6477120" y="373392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13"/>
            <p:cNvSpPr txBox="1"/>
            <p:nvPr/>
          </p:nvSpPr>
          <p:spPr>
            <a:xfrm>
              <a:off x="7413840" y="438156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75" name="Picture 14" descr="0d86611ffc47"/>
          <p:cNvPicPr/>
          <p:nvPr/>
        </p:nvPicPr>
        <p:blipFill>
          <a:blip r:embed="rId5"/>
          <a:stretch/>
        </p:blipFill>
        <p:spPr>
          <a:xfrm>
            <a:off x="2843280" y="1197000"/>
            <a:ext cx="3672000" cy="3355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15"/>
          <p:cNvSpPr txBox="1"/>
          <p:nvPr/>
        </p:nvSpPr>
        <p:spPr>
          <a:xfrm>
            <a:off x="4572000" y="2781360"/>
            <a:ext cx="8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77" name="Picture 16" descr="solna13"/>
          <p:cNvPicPr/>
          <p:nvPr/>
        </p:nvPicPr>
        <p:blipFill>
          <a:blip r:embed="rId6"/>
          <a:stretch/>
        </p:blipFill>
        <p:spPr>
          <a:xfrm>
            <a:off x="7451640" y="0"/>
            <a:ext cx="1692360" cy="1539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8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232 L -0.19635 -0.24004 E">
                                      <p:cBhvr>
                                        <p:cTn id="6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-0.24004 L 0.51615 -0.36342 E">
                                      <p:cBhvr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4829E-006 L 0.42153 -0.36655 E">
                                      <p:cBhvr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153 -0.36655 L 1.19323 -0.57631 E">
                                      <p:cBhvr>
                                        <p:cTn id="18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6735E-006 C -0.00069 -0.00278 -0.00121 -0.00555 0.01146 -0.02359 C 0.02413 -0.04186 0.05851 -0.0858 0.07604 -0.108 C 0.09358 -0.13044 0.09809 -0.13807 0.11649 -0.15888 C 0.1349 -0.17924 0.15938 -0.20491 0.18594 -0.23104 C 0.21285 -0.25717 0.24757 -0.29071 0.27726 -0.31545 C 0.30694 -0.3402 0.32917 -0.37119 0.36458 -0.37951 C 0.39983 -0.38784 0.46111 -0.39963 0.48993 -0.3661 C 0.51858 -0.33257 0.53403 -0.23613 0.53681 -0.17877 C 0.53924 -0.12165 0.52222 -0.0717 0.50504 -0.02197 E">
                                      <p:cBhvr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199 -0.02798 L 1.23664 0.39153 E">
                                      <p:cBhvr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1221E-006 C 0.0033 -0.00809 0.0066 -0.01619 0.0191 -0.02868 C 0.0316 -0.04116 0.04236 -0.06614 0.07465 -0.07424 C 0.10694 -0.08233 0.16528 -0.09644 0.21267 -0.07771 C 0.26007 -0.05897 0.33021 -0.02313 0.35955 0.03862 C 0.38889 0.10037 0.38871 0.19681 0.38871 0.29325 E">
                                      <p:cBhvr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94 0.28678 L 0.62622 -0.54186 E">
                                      <p:cBhvr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"/>
          <p:cNvSpPr txBox="1"/>
          <p:nvPr/>
        </p:nvSpPr>
        <p:spPr>
          <a:xfrm>
            <a:off x="810108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7524720" y="544500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37236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5724360" y="5445000"/>
            <a:ext cx="5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457200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995640" y="5445000"/>
            <a:ext cx="5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050920" y="544500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262728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25092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826920" y="5445000"/>
            <a:ext cx="5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905120" y="5257800"/>
            <a:ext cx="1296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838680" y="5257800"/>
            <a:ext cx="1296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638680" y="5257800"/>
            <a:ext cx="12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7378560" y="5210280"/>
            <a:ext cx="12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6"/>
          <p:cNvSpPr txBox="1"/>
          <p:nvPr/>
        </p:nvSpPr>
        <p:spPr>
          <a:xfrm>
            <a:off x="5056200" y="146160"/>
            <a:ext cx="7192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166680" y="5257800"/>
            <a:ext cx="12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V="1">
            <a:off x="4191120" y="609480"/>
            <a:ext cx="8650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4191120" y="2306520"/>
            <a:ext cx="936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 flipV="1">
            <a:off x="4246560" y="137160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4191120" y="22352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264200" y="2306520"/>
            <a:ext cx="7189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3" descr="f995c4f06c45"/>
          <p:cNvPicPr/>
          <p:nvPr/>
        </p:nvPicPr>
        <p:blipFill>
          <a:blip r:embed="rId1"/>
          <a:stretch/>
        </p:blipFill>
        <p:spPr>
          <a:xfrm>
            <a:off x="457200" y="609480"/>
            <a:ext cx="270828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24"/>
          <p:cNvSpPr txBox="1"/>
          <p:nvPr/>
        </p:nvSpPr>
        <p:spPr>
          <a:xfrm>
            <a:off x="3564000" y="1773360"/>
            <a:ext cx="5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4" name="AutoShape 26">
            <a:hlinkClick r:id="" action="ppaction://hlinkshowjump?jump=firstslide"/>
          </p:cNvPr>
          <p:cNvSpPr/>
          <p:nvPr/>
        </p:nvSpPr>
        <p:spPr>
          <a:xfrm>
            <a:off x="7772400" y="64008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>
            <a:hlinkClick r:id="" action="ppaction://hlinkshowjump?jump=nextslide"/>
          </p:cNvPr>
          <p:cNvSpPr/>
          <p:nvPr/>
        </p:nvSpPr>
        <p:spPr>
          <a:xfrm>
            <a:off x="8458200" y="6400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"/>
          <p:cNvGrpSpPr/>
          <p:nvPr/>
        </p:nvGrpSpPr>
        <p:grpSpPr>
          <a:xfrm>
            <a:off x="250920" y="189000"/>
            <a:ext cx="1582560" cy="1800000"/>
            <a:chOff x="250920" y="189000"/>
            <a:chExt cx="1582560" cy="1800000"/>
          </a:xfrm>
        </p:grpSpPr>
        <p:sp>
          <p:nvSpPr>
            <p:cNvPr id="108" name="AutoShape 3"/>
            <p:cNvSpPr/>
            <p:nvPr/>
          </p:nvSpPr>
          <p:spPr>
            <a:xfrm>
              <a:off x="250920" y="189000"/>
              <a:ext cx="1582560" cy="180000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WordArt 4"/>
            <p:cNvSpPr txBox="1"/>
            <p:nvPr/>
          </p:nvSpPr>
          <p:spPr>
            <a:xfrm>
              <a:off x="466560" y="836280"/>
              <a:ext cx="719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0" name="Group 5"/>
          <p:cNvGrpSpPr/>
          <p:nvPr/>
        </p:nvGrpSpPr>
        <p:grpSpPr>
          <a:xfrm>
            <a:off x="1979640" y="836640"/>
            <a:ext cx="1582560" cy="1800360"/>
            <a:chOff x="1979640" y="836640"/>
            <a:chExt cx="1582560" cy="1800360"/>
          </a:xfrm>
        </p:grpSpPr>
        <p:sp>
          <p:nvSpPr>
            <p:cNvPr id="111" name="AutoShape 6"/>
            <p:cNvSpPr/>
            <p:nvPr/>
          </p:nvSpPr>
          <p:spPr>
            <a:xfrm>
              <a:off x="1979640" y="836640"/>
              <a:ext cx="1582560" cy="180036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WordArt 7"/>
            <p:cNvSpPr txBox="1"/>
            <p:nvPr/>
          </p:nvSpPr>
          <p:spPr>
            <a:xfrm>
              <a:off x="2268360" y="1484280"/>
              <a:ext cx="719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3780000" y="260280"/>
            <a:ext cx="1582560" cy="1800360"/>
            <a:chOff x="3780000" y="260280"/>
            <a:chExt cx="1582560" cy="1800360"/>
          </a:xfrm>
        </p:grpSpPr>
        <p:sp>
          <p:nvSpPr>
            <p:cNvPr id="114" name="AutoShape 9"/>
            <p:cNvSpPr/>
            <p:nvPr/>
          </p:nvSpPr>
          <p:spPr>
            <a:xfrm>
              <a:off x="3780000" y="260280"/>
              <a:ext cx="1582560" cy="180036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WordArt 10"/>
            <p:cNvSpPr txBox="1"/>
            <p:nvPr/>
          </p:nvSpPr>
          <p:spPr>
            <a:xfrm>
              <a:off x="3995640" y="907920"/>
              <a:ext cx="7192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5435640" y="1052640"/>
            <a:ext cx="1582560" cy="1800000"/>
            <a:chOff x="5435640" y="1052640"/>
            <a:chExt cx="1582560" cy="1800000"/>
          </a:xfrm>
        </p:grpSpPr>
        <p:sp>
          <p:nvSpPr>
            <p:cNvPr id="117" name="AutoShape 12"/>
            <p:cNvSpPr/>
            <p:nvPr/>
          </p:nvSpPr>
          <p:spPr>
            <a:xfrm>
              <a:off x="5435640" y="1052640"/>
              <a:ext cx="1582560" cy="180000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3"/>
            <p:cNvSpPr txBox="1"/>
            <p:nvPr/>
          </p:nvSpPr>
          <p:spPr>
            <a:xfrm>
              <a:off x="5651640" y="1700280"/>
              <a:ext cx="71892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14"/>
          <p:cNvGrpSpPr/>
          <p:nvPr/>
        </p:nvGrpSpPr>
        <p:grpSpPr>
          <a:xfrm>
            <a:off x="7236000" y="260280"/>
            <a:ext cx="1582560" cy="1800360"/>
            <a:chOff x="7236000" y="260280"/>
            <a:chExt cx="1582560" cy="1800360"/>
          </a:xfrm>
        </p:grpSpPr>
        <p:sp>
          <p:nvSpPr>
            <p:cNvPr id="120" name="AutoShape 15"/>
            <p:cNvSpPr/>
            <p:nvPr/>
          </p:nvSpPr>
          <p:spPr>
            <a:xfrm>
              <a:off x="7236000" y="260280"/>
              <a:ext cx="1582560" cy="180036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WordArt 16"/>
            <p:cNvSpPr txBox="1"/>
            <p:nvPr/>
          </p:nvSpPr>
          <p:spPr>
            <a:xfrm>
              <a:off x="7451640" y="836640"/>
              <a:ext cx="719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17"/>
          <p:cNvGrpSpPr/>
          <p:nvPr/>
        </p:nvGrpSpPr>
        <p:grpSpPr>
          <a:xfrm>
            <a:off x="2916360" y="3789360"/>
            <a:ext cx="1582560" cy="1800000"/>
            <a:chOff x="2916360" y="3789360"/>
            <a:chExt cx="1582560" cy="1800000"/>
          </a:xfrm>
        </p:grpSpPr>
        <p:sp>
          <p:nvSpPr>
            <p:cNvPr id="123" name="AutoShape 18"/>
            <p:cNvSpPr/>
            <p:nvPr/>
          </p:nvSpPr>
          <p:spPr>
            <a:xfrm>
              <a:off x="2916360" y="3789360"/>
              <a:ext cx="1582560" cy="1800000"/>
            </a:xfrm>
            <a:prstGeom prst="cube">
              <a:avLst>
                <a:gd name="adj" fmla="val 25000"/>
              </a:avLst>
            </a:prstGeom>
            <a:solidFill>
              <a:srgbClr val="9dd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WordArt 19"/>
            <p:cNvSpPr txBox="1"/>
            <p:nvPr/>
          </p:nvSpPr>
          <p:spPr>
            <a:xfrm>
              <a:off x="3132000" y="4437000"/>
              <a:ext cx="7185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5" name="AutoShape 21">
            <a:hlinkClick r:id="" action="ppaction://hlinkshowjump?jump=firstslide"/>
          </p:cNvPr>
          <p:cNvSpPr/>
          <p:nvPr/>
        </p:nvSpPr>
        <p:spPr>
          <a:xfrm>
            <a:off x="70866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2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15781 0.53009 E">
                                      <p:cBhvr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0.03125 0.43565 E">
                                      <p:cBhvr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-0.22813 0.50926 E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-0.4092 0.40417 E">
                                      <p:cBhvr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96296E-006 L -0.60608 0.51968 E">
                                      <p:cBhvr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"/>
          <p:cNvSpPr txBox="1"/>
          <p:nvPr/>
        </p:nvSpPr>
        <p:spPr>
          <a:xfrm>
            <a:off x="684360" y="37152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684360" y="1523880"/>
            <a:ext cx="108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84360" y="2781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84360" y="3933720"/>
            <a:ext cx="108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84360" y="5229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1908000" y="37152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1981080" y="152388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1979640" y="2708280"/>
            <a:ext cx="43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1908000" y="393372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1979640" y="5229360"/>
            <a:ext cx="43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6300720" y="333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WordArt 13"/>
          <p:cNvSpPr txBox="1"/>
          <p:nvPr/>
        </p:nvSpPr>
        <p:spPr>
          <a:xfrm>
            <a:off x="6300720" y="1557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6300720" y="2852640"/>
            <a:ext cx="108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15"/>
          <p:cNvSpPr txBox="1"/>
          <p:nvPr/>
        </p:nvSpPr>
        <p:spPr>
          <a:xfrm>
            <a:off x="6300720" y="407664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6300720" y="530064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7524720" y="333360"/>
            <a:ext cx="36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7596360" y="155736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7524720" y="285264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20"/>
          <p:cNvSpPr txBox="1"/>
          <p:nvPr/>
        </p:nvSpPr>
        <p:spPr>
          <a:xfrm>
            <a:off x="7524720" y="40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21"/>
          <p:cNvSpPr txBox="1"/>
          <p:nvPr/>
        </p:nvSpPr>
        <p:spPr>
          <a:xfrm>
            <a:off x="7524720" y="5300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Picture 23" descr="img9"/>
          <p:cNvPicPr/>
          <p:nvPr/>
        </p:nvPicPr>
        <p:blipFill>
          <a:blip r:embed="rId1"/>
          <a:stretch/>
        </p:blipFill>
        <p:spPr>
          <a:xfrm>
            <a:off x="2743200" y="1905120"/>
            <a:ext cx="3301920" cy="258588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25">
            <a:hlinkClick r:id="" action="ppaction://hlinkshowjump?jump=firstslide"/>
          </p:cNvPr>
          <p:cNvSpPr/>
          <p:nvPr/>
        </p:nvSpPr>
        <p:spPr>
          <a:xfrm>
            <a:off x="7238880" y="6172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о – ры – 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и – ру – 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а – ро – 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о – ра – ри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79d3286f1b7c"/>
          <p:cNvPicPr/>
          <p:nvPr/>
        </p:nvPicPr>
        <p:blipFill>
          <a:blip r:embed="rId1"/>
          <a:stretch/>
        </p:blipFill>
        <p:spPr>
          <a:xfrm>
            <a:off x="6708600" y="260280"/>
            <a:ext cx="2113200" cy="3168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8459640" y="189000"/>
            <a:ext cx="433440" cy="1439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80880" y="129528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р – ра      Ар-тур       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р – ро      Ла-ра         Кл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ыр – ры     Анна          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р – ри      Ира            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 – ру       Кира          Ю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8T06:34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