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DAA-82D8-40FD-B1AD-FB419351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DC6-551D-49F9-8610-C4231081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AB0-3F0A-474B-9766-00AF2C65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010-5C04-4599-BBBF-C398208E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FF8-F3E8-4ACD-B80E-892F754D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822-30B4-4076-9D7A-26C1F7AB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D61-C895-4786-AF07-829CC5EE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85F-F8BD-46BB-AB5D-A4C6214F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709-FFE8-463C-95C3-256CC9EB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973-12AC-4144-9ED5-5A4B59B9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279-7180-4CCF-A3F6-90272A6D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E51-2F0F-4BD6-8F6E-1C4DA631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EA28-DCF6-4462-A0F8-B70525DE6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а дорог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6028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кторина 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000080" y="5572080"/>
            <a:ext cx="7561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дреева Ирина Михайловна, преподаватель-организатор ОБ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БОУ «Токская  средня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ожет ли пешеход двигаться по автомагистр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20718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о крайней левой пол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3" descr="10.jpg"/>
          <p:cNvPicPr/>
          <p:nvPr/>
        </p:nvPicPr>
        <p:blipFill>
          <a:blip r:embed="rId5"/>
          <a:stretch/>
        </p:blipFill>
        <p:spPr>
          <a:xfrm>
            <a:off x="3714840" y="4070520"/>
            <a:ext cx="485784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то может первым начать движение (для машин горит красный свет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елёна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еше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иня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9.jpg"/>
          <p:cNvPicPr/>
          <p:nvPr/>
        </p:nvPicPr>
        <p:blipFill>
          <a:blip r:embed="rId5"/>
          <a:stretch/>
        </p:blipFill>
        <p:spPr>
          <a:xfrm>
            <a:off x="3857760" y="4140360"/>
            <a:ext cx="475776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 ли водитель красной машины въехать на пешеходный переход, если за ним образовался зато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26431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а, если на переходе нет пеше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7.jpg"/>
          <p:cNvPicPr/>
          <p:nvPr/>
        </p:nvPicPr>
        <p:blipFill>
          <a:blip r:embed="rId5"/>
          <a:stretch/>
        </p:blipFill>
        <p:spPr>
          <a:xfrm>
            <a:off x="3571920" y="4643280"/>
            <a:ext cx="50972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1.jpg"/>
          <p:cNvPicPr/>
          <p:nvPr/>
        </p:nvPicPr>
        <p:blipFill>
          <a:blip r:embed="rId5"/>
          <a:stretch/>
        </p:blipFill>
        <p:spPr>
          <a:xfrm>
            <a:off x="3143160" y="4214880"/>
            <a:ext cx="559764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2.jpg"/>
          <p:cNvPicPr/>
          <p:nvPr/>
        </p:nvPicPr>
        <p:blipFill>
          <a:blip r:embed="rId5"/>
          <a:stretch/>
        </p:blipFill>
        <p:spPr>
          <a:xfrm>
            <a:off x="3071880" y="4143240"/>
            <a:ext cx="55008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3.jpg"/>
          <p:cNvPicPr/>
          <p:nvPr/>
        </p:nvPicPr>
        <p:blipFill>
          <a:blip r:embed="rId5"/>
          <a:stretch/>
        </p:blipFill>
        <p:spPr>
          <a:xfrm>
            <a:off x="3224160" y="4214880"/>
            <a:ext cx="5415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4.jpg"/>
          <p:cNvPicPr/>
          <p:nvPr/>
        </p:nvPicPr>
        <p:blipFill>
          <a:blip r:embed="rId5"/>
          <a:stretch/>
        </p:blipFill>
        <p:spPr>
          <a:xfrm>
            <a:off x="3429000" y="4305240"/>
            <a:ext cx="52149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285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 и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5.jpg"/>
          <p:cNvPicPr/>
          <p:nvPr/>
        </p:nvPicPr>
        <p:blipFill>
          <a:blip r:embed="rId5"/>
          <a:stretch/>
        </p:blipFill>
        <p:spPr>
          <a:xfrm>
            <a:off x="3286080" y="4214880"/>
            <a:ext cx="531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де должны двигаться группы дет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071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олько по тротуарам и пешеходным дорожкам, а при их отсутствии – по обочи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о тротуа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Только по пешеходным дорож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14292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де пассажир обязан производить посадку и высадку в (из) транспортного средст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любом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Со стороны тротуара или обочины и только после полной остановки транспортного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о стороны проезжей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гут ли дети до 12-летнего возраста ездить на заднем сиденье мотоцик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50020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Могут, но только с использованием специальных детских удерживающих устрой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9" h="21600">
                <a:moveTo>
                  <a:pt x="14070" y="14281"/>
                </a:moveTo>
                <a:lnTo>
                  <a:pt x="14070" y="12323"/>
                </a:lnTo>
                <a:cubicBezTo>
                  <a:pt x="14070" y="11496"/>
                  <a:pt x="14400" y="10800"/>
                  <a:pt x="15001" y="10800"/>
                </a:cubicBezTo>
                <a:cubicBezTo>
                  <a:pt x="16132" y="10800"/>
                  <a:pt x="17029" y="9434"/>
                  <a:pt x="17029" y="7849"/>
                </a:cubicBezTo>
                <a:cubicBezTo>
                  <a:pt x="17029" y="5534"/>
                  <a:pt x="15175" y="3794"/>
                  <a:pt x="12964" y="3794"/>
                </a:cubicBezTo>
                <a:cubicBezTo>
                  <a:pt x="10754" y="3794"/>
                  <a:pt x="9082" y="5534"/>
                  <a:pt x="9082" y="7849"/>
                </a:cubicBezTo>
                <a:lnTo>
                  <a:pt x="10936" y="7849"/>
                </a:lnTo>
                <a:cubicBezTo>
                  <a:pt x="10936" y="6709"/>
                  <a:pt x="11859" y="5821"/>
                  <a:pt x="12964" y="5821"/>
                </a:cubicBezTo>
                <a:cubicBezTo>
                  <a:pt x="14070" y="5821"/>
                  <a:pt x="15001" y="6709"/>
                  <a:pt x="15001" y="7849"/>
                </a:cubicBezTo>
                <a:cubicBezTo>
                  <a:pt x="15001" y="8589"/>
                  <a:pt x="14531" y="9320"/>
                  <a:pt x="14070" y="9320"/>
                </a:cubicBezTo>
                <a:cubicBezTo>
                  <a:pt x="12964" y="9320"/>
                  <a:pt x="11859" y="10800"/>
                  <a:pt x="11859" y="12323"/>
                </a:cubicBezTo>
                <a:lnTo>
                  <a:pt x="11859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ому должен уступить дорогу водитель при выезде на дорогу с прилегающей территор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ранспортным средствам и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Имеет преимущества перед транспортными средствами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при ДТП обязан сделать водитель, причастный к н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07180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родолжить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Остановить транспортное средство, включить аварийную световую сигнализацию и выставить знак аварийной остан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крыться с места происше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разрешает движение только пешеход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3" descr="12.jpg"/>
          <p:cNvPicPr/>
          <p:nvPr/>
        </p:nvPicPr>
        <p:blipFill>
          <a:blip r:embed="rId1"/>
          <a:stretch/>
        </p:blipFill>
        <p:spPr>
          <a:xfrm>
            <a:off x="1571760" y="2071800"/>
            <a:ext cx="6073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Главная дорог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3" descr="11.jpg"/>
          <p:cNvPicPr/>
          <p:nvPr/>
        </p:nvPicPr>
        <p:blipFill>
          <a:blip r:embed="rId1"/>
          <a:stretch/>
        </p:blipFill>
        <p:spPr>
          <a:xfrm>
            <a:off x="1000080" y="2071800"/>
            <a:ext cx="6997680" cy="18572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2000160" y="42861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 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Движение запрещено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14.jpg"/>
          <p:cNvPicPr/>
          <p:nvPr/>
        </p:nvPicPr>
        <p:blipFill>
          <a:blip r:embed="rId1"/>
          <a:stretch/>
        </p:blipFill>
        <p:spPr>
          <a:xfrm>
            <a:off x="1857240" y="2286000"/>
            <a:ext cx="506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Железнодорожный переезд со шлагбаумом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45716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15.jpg"/>
          <p:cNvPicPr/>
          <p:nvPr/>
        </p:nvPicPr>
        <p:blipFill>
          <a:blip r:embed="rId1"/>
          <a:stretch/>
        </p:blipFill>
        <p:spPr>
          <a:xfrm>
            <a:off x="1428840" y="2500200"/>
            <a:ext cx="6102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Реверсивное движение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Управляющая кнопка: справка 3"/>
          <p:cNvSpPr/>
          <p:nvPr/>
        </p:nvSpPr>
        <p:spPr>
          <a:xfrm>
            <a:off x="28584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3" descr="13.jpg"/>
          <p:cNvPicPr/>
          <p:nvPr/>
        </p:nvPicPr>
        <p:blipFill>
          <a:blip r:embed="rId1"/>
          <a:stretch/>
        </p:blipFill>
        <p:spPr>
          <a:xfrm>
            <a:off x="1714680" y="2071800"/>
            <a:ext cx="5727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Управляющая кнопка: домой 4"/>
          <p:cNvSpPr/>
          <p:nvPr/>
        </p:nvSpPr>
        <p:spPr>
          <a:xfrm>
            <a:off x="7596360" y="573264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13177" y="3837"/>
                </a:moveTo>
                <a:lnTo>
                  <a:pt x="15753" y="6448"/>
                </a:ln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lnTo>
                  <a:pt x="20140" y="10800"/>
                </a:lnTo>
                <a:lnTo>
                  <a:pt x="18486" y="10800"/>
                </a:lnTo>
                <a:lnTo>
                  <a:pt x="18486" y="17989"/>
                </a:lnTo>
                <a:lnTo>
                  <a:pt x="7867" y="17989"/>
                </a:lnTo>
                <a:lnTo>
                  <a:pt x="7867" y="10800"/>
                </a:lnTo>
                <a:lnTo>
                  <a:pt x="6214" y="10800"/>
                </a:lnTo>
                <a:close/>
              </a:path>
              <a:path fill="darkenLess" w="26353" h="21600">
                <a:moveTo>
                  <a:pt x="15753" y="6448"/>
                </a:move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close/>
              </a:path>
              <a:path fill="darkenLess" w="26353" h="21600">
                <a:moveTo>
                  <a:pt x="12254" y="14299"/>
                </a:moveTo>
                <a:lnTo>
                  <a:pt x="14099" y="14299"/>
                </a:lnTo>
                <a:lnTo>
                  <a:pt x="14099" y="17989"/>
                </a:lnTo>
                <a:lnTo>
                  <a:pt x="18486" y="17989"/>
                </a:lnTo>
                <a:lnTo>
                  <a:pt x="18486" y="10800"/>
                </a:lnTo>
                <a:lnTo>
                  <a:pt x="7867" y="10800"/>
                </a:lnTo>
                <a:lnTo>
                  <a:pt x="7867" y="17989"/>
                </a:lnTo>
                <a:lnTo>
                  <a:pt x="1225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Е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Управляющая кнопка: домой 4"/>
          <p:cNvSpPr/>
          <p:nvPr/>
        </p:nvSpPr>
        <p:spPr>
          <a:xfrm>
            <a:off x="7740720" y="5661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3837"/>
                </a:moveTo>
                <a:lnTo>
                  <a:pt x="14444" y="6448"/>
                </a:ln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lnTo>
                  <a:pt x="18831" y="10800"/>
                </a:lnTo>
                <a:lnTo>
                  <a:pt x="17177" y="10800"/>
                </a:lnTo>
                <a:lnTo>
                  <a:pt x="17177" y="17989"/>
                </a:lnTo>
                <a:lnTo>
                  <a:pt x="6558" y="17989"/>
                </a:lnTo>
                <a:lnTo>
                  <a:pt x="6558" y="10800"/>
                </a:lnTo>
                <a:lnTo>
                  <a:pt x="4905" y="10800"/>
                </a:lnTo>
                <a:close/>
              </a:path>
              <a:path fill="darkenLess" w="23735" h="21600">
                <a:moveTo>
                  <a:pt x="14444" y="6448"/>
                </a:move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close/>
              </a:path>
              <a:path fill="darkenLess" w="23735" h="21600">
                <a:moveTo>
                  <a:pt x="10945" y="14299"/>
                </a:moveTo>
                <a:lnTo>
                  <a:pt x="12790" y="14299"/>
                </a:lnTo>
                <a:lnTo>
                  <a:pt x="12790" y="17989"/>
                </a:lnTo>
                <a:lnTo>
                  <a:pt x="17177" y="17989"/>
                </a:lnTo>
                <a:lnTo>
                  <a:pt x="17177" y="10800"/>
                </a:lnTo>
                <a:lnTo>
                  <a:pt x="6558" y="10800"/>
                </a:lnTo>
                <a:lnTo>
                  <a:pt x="6558" y="17989"/>
                </a:lnTo>
                <a:lnTo>
                  <a:pt x="1094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е движение транспортных средств установлено в Российской Федерац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Пра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Ле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В обои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8584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ЬНЫЕ ОТ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1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357120" y="21420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483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льная игра «Я – пешехо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тинки и схемы дорожных ситуаций из личного архива ав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перекрёст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Место пересечения, примыкания или разветвление дорог на одном уровне, ограниченное воображаемыми линиями, соединяющими соответственно противоположные, наиболее удалённые от центра перекрёстка начала закруглений проезжих ча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Выезды с прилегающих террито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справка 3">
            <a:hlinkClick r:id="rId3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главная дор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Дорога, на которой предоставлено право преимущественного проезда нерегулируемых перекрё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Дорога с твёрдым покрытием (асфальт и т.п.) по отношению к грунт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Оба вышеперечисленных опре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тротуа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Элемент дороги, предназначенный для движения безрельсовых транспортных 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Элемент дороги, предназначенный для движения пешеходов и примыкающий к проезжей части или отделённый от неё газон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Элемент дороги, предназначенный для движения маршрутных транспортных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Управляющая кнопка: справка 3">
            <a:hlinkClick r:id="rId5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е транспортное средство называется маршрутн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7859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Транспортное средство, кроме мопеда, приводимое в движение двигател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Устройство, предназначенное для перевозки по дорогам людей, грузов или оборудования, установленного на нё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Транспортное средство общего пользования (автобус, троллейбус, трамвай), предназначенное для перевозки по дорогам людей и движущееся по установленному маршруту с обозначенными местами останово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 какой полосе дороги должны двигаться велосипедис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о той, на которой меньше всего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 крайней пра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о крайней л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6.jpg"/>
          <p:cNvPicPr/>
          <p:nvPr/>
        </p:nvPicPr>
        <p:blipFill>
          <a:blip r:embed="rId5"/>
          <a:stretch/>
        </p:blipFill>
        <p:spPr>
          <a:xfrm>
            <a:off x="3886200" y="4572000"/>
            <a:ext cx="4757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 каком рисунке машины не нарушают правила дорожного дви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14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 ле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 пра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 обоих рисун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8.jpg"/>
          <p:cNvPicPr/>
          <p:nvPr/>
        </p:nvPicPr>
        <p:blipFill>
          <a:blip r:embed="rId5"/>
          <a:stretch/>
        </p:blipFill>
        <p:spPr>
          <a:xfrm>
            <a:off x="3571920" y="4143240"/>
            <a:ext cx="4843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29:00Z</dcterms:created>
  <dc:creator>Владелец</dc:creator>
  <dc:description/>
  <dc:language>en-US</dc:language>
  <cp:lastModifiedBy>1</cp:lastModifiedBy>
  <dcterms:modified xsi:type="dcterms:W3CDTF">2020-11-08T05:27:53Z</dcterms:modified>
  <cp:revision>32</cp:revision>
  <dc:subject/>
  <dc:title>Слайд 1</dc:title>
</cp:coreProperties>
</file>