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A00-7A5B-4773-9A4B-07333C20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1C0-01F7-4756-8461-652BFBF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F73-EFCE-4F9F-837F-51B00A05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4A0-5417-4464-9C4E-FF14CE17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4A0-FC86-4081-A497-46D54202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4D3-F1A3-4A3A-8999-3BB26770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FAC-53F1-4522-B284-E63AB6B9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012-FBD1-4389-9B65-874D023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019-19EC-4661-9756-7F7FE0C7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E8E-26B0-4C34-9EE0-F8F5BED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1B4-76CE-41D2-8CD1-C848F3AC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6EC-93BC-45C6-AB88-B343ED78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1F9-F421-4E72-AA7E-BFC0A8892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000080" y="5572080"/>
            <a:ext cx="7561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дреева Ирина Михайло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«Токская 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1</cp:lastModifiedBy>
  <dcterms:modified xsi:type="dcterms:W3CDTF">2020-11-08T05:27:53Z</dcterms:modified>
  <cp:revision>32</cp:revision>
  <dc:subject/>
  <dc:title>Слайд 1</dc:title>
</cp:coreProperties>
</file>