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646-7447-4972-A9C4-B23FED3E0C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DB6-1D97-438A-962F-E6A7CEA138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5D2-A2B7-46C6-A37A-7DF0857950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909-251D-4136-AFFF-480B14F663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833E-C44C-46A1-81CC-536BA7905E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C91B-137A-4705-B2B2-B68EBCE723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146-75D0-4919-AEDA-CFEE73B4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AC9-BD77-41CC-8548-F7F2DC5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5E0-1C2B-417B-8B5E-8F917DD6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F02A-2EA2-44CF-8D33-E15662E9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D8762-1239-4876-BA1E-0DC1750B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C77C4-6483-4B70-9465-2C84767D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B6338-3186-4E4D-BB88-9DA088E6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E6487-1195-440B-A131-4627A31E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92E7-5F55-480B-8E71-12345073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FB057-CE96-4896-BA84-26215FA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87907-A557-479C-A3E4-42D7230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876-EB83-40E8-B694-C6041080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93C37-21A4-4925-9019-AA831E4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176CE-4F48-4BA7-AFB9-D29EAA9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3BE0E-B1AE-4C51-9189-96AD6A24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0D800-753B-44D4-8A7F-EF9B8495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4A66B-07E2-424C-BE65-19B484E8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4C626-2127-4082-AA65-727D6389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9F910-0EFB-48D1-9E9F-6F14B7C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E6D5A-475B-4A99-850D-458D489C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BAE13-0AED-438E-9664-CDA0D34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7FE1B-BCCA-4D7A-9F59-6006D849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074-6D5E-4A00-87C6-77AFD7BE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16FEB-36E9-4453-907B-74C21BE9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D4F0B-51BC-4684-9349-DDDD57B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C81CC-05A1-4E22-B722-CFF77D6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15555-49FC-4534-9176-EAAA5CD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37CC7-3D6B-4FD2-88A7-6E00893E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213C2-F171-484E-8405-3E96CD88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3225D-39CE-45D0-93D5-562812F8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7C2E5-6570-4231-8B73-F464B074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832EA-7A2C-4C6A-8519-0507A44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0C536-DA00-414B-AF6A-F2484066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570-3C98-425B-A02F-093C25E7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559292-825F-43F7-82EC-F0C0452B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B2A6D-AB2E-47D0-A616-53E05D1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2D75E-C2B1-4B92-8A7D-079CDC4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8119A4-F336-4B1B-94F9-A160AD8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67A62-EE9E-45CF-AAC7-1031ECC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A41B0-8E20-4E81-B5F9-FE7CC85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0EB26-BB70-429A-BF54-21C7B5A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C4985-A3C1-4AC4-A47F-58201051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00C3F-EA1A-4A93-8D90-3A34E539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69E9C-973E-4865-A22D-D949500B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EF5-444C-4E04-92C3-BFDED4F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D54F6-7E65-4651-BCFE-D24849EA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9C3D1-1592-493A-9D15-CF3F9BBD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57660-50FA-4F87-935C-4D0F267A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8A070-6FE9-4683-8EA5-19F7E25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56395-2DEB-4473-9C85-6647365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54B9E-3BB2-47A5-A9B7-4C6D5E9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6DCBB-3D7E-41F1-960E-2077433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FCCF9-E168-4352-8D63-AE253546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FFB27-3382-4372-844B-E23124BC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21A6C-6C00-4F0C-A828-6C338CE8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884-6F54-4D22-A78A-DA92D98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CA963-4DFD-4DFC-83AE-E77C9607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EED53-6499-4D42-8A6A-A174D07E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111B3-D83A-414C-8F3C-1988A2B8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E1041-B60B-4751-A817-CA7EED2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27BBB-BAC2-4494-B9EC-993AE0A9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F760C-E954-4B6F-AEFD-0D973FF5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386594-5C20-4F6D-A72B-B0F74D8E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FCE43-0123-433C-B1B2-44702F7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CEC1D-35F9-446F-A0A9-00FDBBD1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2FC8C-16CB-45D0-BF08-8AA469E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C64-C665-4068-8B11-8D6360A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74630-2838-4AED-8E5E-BA7DE8B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4F25A-AA95-4B9D-8868-B5F9D8B3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FAB80-82E7-42A8-8FE4-2C27B6BB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50D-C8B9-4F17-9A49-A41AFA2C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0DF-DE13-4EDF-9EEE-787B6B9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F6D-48C1-48F4-A76D-E95637164B64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D757-B07A-4314-A321-ECEB00B34EA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608-C774-4370-AE90-3D25A9121E66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5817-3AA1-4E64-A5A6-9DEFE2926F41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E9B-0D6B-4E27-8E8B-1C959F2C115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8D3C-D6B6-4673-BA43-A0E77CDE83CC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Чрезвычайные ситуации техногенного характера и их классифик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"/>
          <p:cNvSpPr/>
          <p:nvPr/>
        </p:nvSpPr>
        <p:spPr>
          <a:xfrm>
            <a:off x="1399320" y="161280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. Основные понятия и о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476360" y="2060640"/>
            <a:ext cx="54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. Последствия ЧС техногенного харак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1476360" y="259560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3. Классификация ЧС по масштабу распространения и тяжести послед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9"/>
          <p:cNvSpPr/>
          <p:nvPr/>
        </p:nvSpPr>
        <p:spPr>
          <a:xfrm>
            <a:off x="1506600" y="3387600"/>
            <a:ext cx="56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. Перечень ЧС техногенного харак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5651640" y="4344840"/>
            <a:ext cx="1731960" cy="109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173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4"/>
          <p:cNvSpPr/>
          <p:nvPr/>
        </p:nvSpPr>
        <p:spPr>
          <a:xfrm>
            <a:off x="250920" y="115920"/>
            <a:ext cx="8569080" cy="7646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Чрезвычайная ситуация (ЧС)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 - это обстановка на определенной территории, сложившаяся в результа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9"/>
          <p:cNvSpPr/>
          <p:nvPr/>
        </p:nvSpPr>
        <p:spPr>
          <a:xfrm>
            <a:off x="539640" y="134136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аварии,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10"/>
          <p:cNvSpPr/>
          <p:nvPr/>
        </p:nvSpPr>
        <p:spPr>
          <a:xfrm>
            <a:off x="539640" y="234936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опасного природного явл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11"/>
          <p:cNvSpPr/>
          <p:nvPr/>
        </p:nvSpPr>
        <p:spPr>
          <a:xfrm>
            <a:off x="539640" y="332100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катастроф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12"/>
          <p:cNvSpPr/>
          <p:nvPr/>
        </p:nvSpPr>
        <p:spPr>
          <a:xfrm>
            <a:off x="546120" y="432900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тихийного или иного бедств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Выноска со стрелкой вправо 14"/>
          <p:cNvSpPr/>
          <p:nvPr/>
        </p:nvSpPr>
        <p:spPr>
          <a:xfrm>
            <a:off x="2651040" y="1341360"/>
            <a:ext cx="3505320" cy="3780000"/>
          </a:xfrm>
          <a:prstGeom prst="right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000000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Могут повлечь или повлек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17"/>
          <p:cNvSpPr/>
          <p:nvPr/>
        </p:nvSpPr>
        <p:spPr>
          <a:xfrm>
            <a:off x="6300720" y="1052640"/>
            <a:ext cx="2519280" cy="79200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Человеческие жерт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18"/>
          <p:cNvSpPr/>
          <p:nvPr/>
        </p:nvSpPr>
        <p:spPr>
          <a:xfrm>
            <a:off x="6315120" y="1969920"/>
            <a:ext cx="2519280" cy="79236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щерб здоровью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19"/>
          <p:cNvSpPr/>
          <p:nvPr/>
        </p:nvSpPr>
        <p:spPr>
          <a:xfrm>
            <a:off x="6340320" y="2954160"/>
            <a:ext cx="2521080" cy="79236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щерб окружающей природ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0"/>
          <p:cNvSpPr/>
          <p:nvPr/>
        </p:nvSpPr>
        <p:spPr>
          <a:xfrm>
            <a:off x="6340320" y="3933720"/>
            <a:ext cx="2521080" cy="79056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значительные материальные поте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1"/>
          <p:cNvSpPr/>
          <p:nvPr/>
        </p:nvSpPr>
        <p:spPr>
          <a:xfrm>
            <a:off x="6340320" y="4941720"/>
            <a:ext cx="2521080" cy="79092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арушение условий жизнедеятельности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25"/>
          <p:cNvSpPr/>
          <p:nvPr/>
        </p:nvSpPr>
        <p:spPr>
          <a:xfrm>
            <a:off x="250920" y="885960"/>
            <a:ext cx="0" cy="38383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27"/>
          <p:cNvSpPr/>
          <p:nvPr/>
        </p:nvSpPr>
        <p:spPr>
          <a:xfrm flipH="1">
            <a:off x="250920" y="1736640"/>
            <a:ext cx="2887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29"/>
          <p:cNvSpPr/>
          <p:nvPr/>
        </p:nvSpPr>
        <p:spPr>
          <a:xfrm flipH="1">
            <a:off x="250920" y="2744640"/>
            <a:ext cx="2887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2047"/>
          <p:cNvSpPr/>
          <p:nvPr/>
        </p:nvSpPr>
        <p:spPr>
          <a:xfrm flipH="1">
            <a:off x="250920" y="3716280"/>
            <a:ext cx="2887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2053"/>
          <p:cNvSpPr/>
          <p:nvPr/>
        </p:nvSpPr>
        <p:spPr>
          <a:xfrm flipH="1">
            <a:off x="250920" y="4724280"/>
            <a:ext cx="295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3"/>
          <p:cNvSpPr/>
          <p:nvPr/>
        </p:nvSpPr>
        <p:spPr>
          <a:xfrm>
            <a:off x="3267000" y="130320"/>
            <a:ext cx="2600280" cy="92232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рупная ава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179280" y="1844640"/>
            <a:ext cx="2448000" cy="107460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Большое количество жер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3267000" y="1844640"/>
            <a:ext cx="2600280" cy="107460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рупный материальный ущер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6372360" y="1868400"/>
            <a:ext cx="2536560" cy="105084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Тяжелые экологические послед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авая фигурная скобка 5"/>
          <p:cNvSpPr/>
          <p:nvPr/>
        </p:nvSpPr>
        <p:spPr>
          <a:xfrm rot="5400000">
            <a:off x="4110840" y="-1012680"/>
            <a:ext cx="865440" cy="8729640"/>
          </a:xfrm>
          <a:custGeom>
            <a:avLst/>
            <a:gdLst>
              <a:gd name="textAreaLeft" fmla="*/ 0 w 865440"/>
              <a:gd name="textAreaRight" fmla="*/ 312480 w 865440"/>
              <a:gd name="textAreaTop" fmla="*/ 22320 h 8729640"/>
              <a:gd name="textAreaBottom" fmla="*/ 8707320 h 872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16200" y="10800"/>
                  <a:pt x="21600" y="10800"/>
                </a:cubicBezTo>
                <a:cubicBezTo>
                  <a:pt x="162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8" name="Прямая со стрелкой 9"/>
          <p:cNvCxnSpPr>
            <a:stCxn id="343" idx="2"/>
            <a:endCxn id="344" idx="0"/>
          </p:cNvCxnSpPr>
          <p:nvPr/>
        </p:nvCxnSpPr>
        <p:spPr>
          <a:xfrm flipH="1">
            <a:off x="1402560" y="1052640"/>
            <a:ext cx="3164760" cy="792720"/>
          </a:xfrm>
          <a:prstGeom prst="straightConnector1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49" name="Прямая со стрелкой 11"/>
          <p:cNvCxnSpPr>
            <a:stCxn id="343" idx="2"/>
            <a:endCxn id="345" idx="0"/>
          </p:cNvCxnSpPr>
          <p:nvPr/>
        </p:nvCxnSpPr>
        <p:spPr>
          <a:xfrm>
            <a:off x="4566960" y="1052640"/>
            <a:ext cx="1080" cy="792720"/>
          </a:xfrm>
          <a:prstGeom prst="straightConnector1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50" name="Прямая со стрелкой 13"/>
          <p:cNvCxnSpPr>
            <a:stCxn id="343" idx="2"/>
            <a:endCxn id="346" idx="0"/>
          </p:cNvCxnSpPr>
          <p:nvPr/>
        </p:nvCxnSpPr>
        <p:spPr>
          <a:xfrm>
            <a:off x="4566960" y="1052640"/>
            <a:ext cx="3074040" cy="816480"/>
          </a:xfrm>
          <a:prstGeom prst="straightConnector1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351" name="Прямоугольник 14"/>
          <p:cNvSpPr/>
          <p:nvPr/>
        </p:nvSpPr>
        <p:spPr>
          <a:xfrm>
            <a:off x="2922480" y="3933720"/>
            <a:ext cx="3243240" cy="1224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оизводственная или транспортная катастроф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1403280" y="1343160"/>
            <a:ext cx="6121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 О В Л Е К Ш А 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Чрезвычайные ситуации техногенного характера подраз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1935" t="0" r="1935" b="156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5" name="Прямоугольник 2"/>
          <p:cNvSpPr/>
          <p:nvPr/>
        </p:nvSpPr>
        <p:spPr>
          <a:xfrm>
            <a:off x="755640" y="3573360"/>
            <a:ext cx="1008000" cy="28728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rcRect l="0" t="0" r="18121" b="0"/>
          <a:stretch/>
        </p:blipFill>
        <p:spPr>
          <a:xfrm>
            <a:off x="739800" y="5516640"/>
            <a:ext cx="8380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>
            <a:alphaModFix amt="40000"/>
          </a:blip>
          <a:stretch/>
        </p:blipFill>
        <p:spPr>
          <a:xfrm rot="5400000">
            <a:off x="1154160" y="-1131840"/>
            <a:ext cx="6858000" cy="912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58" name="Прямоугольник 1"/>
          <p:cNvSpPr/>
          <p:nvPr/>
        </p:nvSpPr>
        <p:spPr>
          <a:xfrm>
            <a:off x="900000" y="1052640"/>
            <a:ext cx="1656000" cy="28872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917640" y="3048120"/>
            <a:ext cx="1368360" cy="28872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917640" y="4724280"/>
            <a:ext cx="1368360" cy="21744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27:14Z</dcterms:created>
  <dc:creator>Леонид</dc:creator>
  <dc:description/>
  <dc:language>en-US</dc:language>
  <cp:lastModifiedBy>user</cp:lastModifiedBy>
  <dcterms:modified xsi:type="dcterms:W3CDTF">2020-11-08T09:44:17Z</dcterms:modified>
  <cp:revision>50</cp:revision>
  <dc:subject/>
  <dc:title>Презентация PowerPoint</dc:title>
</cp:coreProperties>
</file>