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B462-9140-4F64-82EE-093A38489D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70BC-A2BE-428F-BBFA-84CA735F06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75A7-5BFA-41A5-AB2F-EC7B75D69C6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61C4-787B-48CF-A048-8976BD2B627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DB79-5D06-4A41-AFA6-716ECF66DC5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487F-86BC-4D0A-8E62-55DD0AC264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748-B9D3-484B-9A89-2C4D08EA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EC2-9E1F-4BCF-9A68-36A90346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A1BA-6F77-4AA0-BB5A-A73049BB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4D2-4ABA-4B00-A080-5B7BA56B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9DF8F-EC6C-48C0-866F-3DBB1BAA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157CE-73F5-428D-9A10-4F053AFE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BA9CE-A7EE-47F7-BA96-14372B06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890BF-1946-46B2-B109-B529EC6D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E7AB0-16B1-4FA9-A073-913105F9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0F082-1D13-4FEB-8C98-F23F3AF3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E8A5D-62D6-4194-B868-E89D2CF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E8B-EB53-4807-A22C-6E6D9188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F0CE6-D688-4B9E-8048-C488FAC1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CBE02-8F85-4DED-AE4F-30C82F3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4A13C-0EBD-4BC9-852C-23311808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63AF8-C323-4CCC-8C49-52E849A7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1D68F-FC7E-4AB3-A0A8-27AF4FEB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2D8AC-7DF0-4AE1-A31E-BD22E955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5394A-BEA4-4BA9-9D4E-C600D2C6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AEA82-89B5-4C07-AFC8-B587CF50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46B3E-D3FB-4387-87A3-F3F31F70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191D8-E652-4D43-9A09-E8542FE2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EF9-7AA1-4AE8-9F1B-681BF8E3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CED50-3CBD-4FB0-8BB1-D15CD3EB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F4F07-6167-4879-AB2F-45CEB1D7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4E82C-583F-407D-B936-CF316904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D9E0B-84F6-4C93-B136-C6429869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E6E0F-CCA2-46F5-838D-ABCA782F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281C9-BFAF-466F-BC8B-0C766FCC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047A5-25CD-443B-B3F1-EA204768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A107B-6683-4008-8FB9-E6C6AF47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0CFD4-2A03-4633-8487-9B43CF40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5C3B0-B4D3-427D-9C40-9C315738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B68-375C-4506-B09C-775ACD6B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8867B-5D50-4C53-A2B9-D40D8F75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1FFFDC-7C7D-479B-AD80-A4333CBD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F4B3C-4922-466F-945B-E65FDDC2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37F35-782B-40C3-981F-ED2DE973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24A27-89E6-4697-BFB6-BD7FCBF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547F6-5F21-420D-8EC8-5C7B18F1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DABE2D-5ABD-439A-B320-4792AA1C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D1263-7F55-41EB-A8CB-0804D6B5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B7172-E6DC-4771-9BF0-AF36E9E1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37E38-995C-49FF-93CF-37C71EB0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12D-C1DD-458D-88A6-CAAD745E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984328-F1CC-4B26-BFC1-F2C46B84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37612-E080-4FB1-9303-2C7D834F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5B916-0401-4EEC-AEB8-3B9B1471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EFF87A-7E14-425C-A823-D77B70A8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AD9ED-60A4-4E52-9425-9DCCEB6A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FB835-B205-46FE-9E20-214E5890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5F32A-DBBD-4B36-AD93-E5A275BD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C83659-FC10-4ECE-A095-DA49B2F9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FB645-9D8D-4548-BB04-5B9FCB93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81CEC-F8E3-431B-B4F7-4ABC068E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4EC-4444-4002-8968-887BBA9D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9B1A4-8FFE-4952-B651-54B33E4A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BA96F-8137-4480-9A69-8CDA4BFB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C587D-93BD-4E0E-ABAE-37163AA1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39908-5FA1-4046-AE5B-5658284E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F7479-399C-4DDD-9260-96243B4B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10C74-8494-4AF5-AC75-701513DD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8FEE5-C8FE-4152-B988-E4DD3DB1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D91A8-8E54-482A-9194-56B5D1C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96A5B-24FA-4EEB-8B68-46E49109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BC4BB-0D61-4E89-B635-5E0A29F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566-70FC-4285-9203-3AC87876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AD8E9-C4D9-481D-B7A8-41552430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B7369-49B9-4B71-80C2-B5631F1A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48E21E-A4BB-4270-B4CC-35BC5F7E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9AD-59B7-449C-BE2F-B12DFEC1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5BC-3F27-4C24-83ED-5F217C3D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AA83-60F0-408D-9C24-25D84371F9D0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AEC1-0E3E-4ECF-B388-F0CB91EBD9A0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FDB7-89FE-492A-AD27-4ECD43DACA7D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8F59-2822-49AC-8356-2A1DC8399F4A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54D0-627B-4DBF-9F39-133AC96DC637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62626">
                  <a:alpha val="36078"/>
                </a:srgbClr>
              </a:gs>
              <a:gs pos="100000">
                <a:srgbClr val="0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2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3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4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F33A-5671-4223-9D75-4B33C10B2F7E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Чрезвычайные ситуации техногенного характера и их классифик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1"/>
          <p:cNvSpPr/>
          <p:nvPr/>
        </p:nvSpPr>
        <p:spPr>
          <a:xfrm>
            <a:off x="1399320" y="1612800"/>
            <a:ext cx="46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. Основные понятия и опре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476360" y="2060640"/>
            <a:ext cx="54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. Последствия ЧС техногенного харак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8"/>
          <p:cNvSpPr/>
          <p:nvPr/>
        </p:nvSpPr>
        <p:spPr>
          <a:xfrm>
            <a:off x="1476360" y="2595600"/>
            <a:ext cx="54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3. Классификация ЧС по масштабу распространения и тяжести послед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рямоугольник 9"/>
          <p:cNvSpPr/>
          <p:nvPr/>
        </p:nvSpPr>
        <p:spPr>
          <a:xfrm>
            <a:off x="1506600" y="3387600"/>
            <a:ext cx="56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. Перечень ЧС техногенного харак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1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5651640" y="4344840"/>
            <a:ext cx="1731960" cy="109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1835280" y="4365720"/>
            <a:ext cx="173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рямоугольник 4"/>
          <p:cNvSpPr/>
          <p:nvPr/>
        </p:nvSpPr>
        <p:spPr>
          <a:xfrm>
            <a:off x="250920" y="115920"/>
            <a:ext cx="8569080" cy="7646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Palatino Linotype"/>
              </a:rPr>
              <a:t>Чрезвычайная ситуация (ЧС)</a:t>
            </a: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 - это обстановка на определенной территории, сложившаяся в результа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9"/>
          <p:cNvSpPr/>
          <p:nvPr/>
        </p:nvSpPr>
        <p:spPr>
          <a:xfrm>
            <a:off x="539640" y="1341360"/>
            <a:ext cx="2087640" cy="79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аварии,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рямоугольник 10"/>
          <p:cNvSpPr/>
          <p:nvPr/>
        </p:nvSpPr>
        <p:spPr>
          <a:xfrm>
            <a:off x="539640" y="2349360"/>
            <a:ext cx="2087640" cy="79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опасного природного явлен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рямоугольник 11"/>
          <p:cNvSpPr/>
          <p:nvPr/>
        </p:nvSpPr>
        <p:spPr>
          <a:xfrm>
            <a:off x="539640" y="3321000"/>
            <a:ext cx="2087640" cy="79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катастроф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12"/>
          <p:cNvSpPr/>
          <p:nvPr/>
        </p:nvSpPr>
        <p:spPr>
          <a:xfrm>
            <a:off x="546120" y="4329000"/>
            <a:ext cx="2087640" cy="7923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тихийного или иного бедств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Выноска со стрелкой вправо 14"/>
          <p:cNvSpPr/>
          <p:nvPr/>
        </p:nvSpPr>
        <p:spPr>
          <a:xfrm>
            <a:off x="2651040" y="1341360"/>
            <a:ext cx="3505320" cy="3780000"/>
          </a:xfrm>
          <a:prstGeom prst="right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solidFill>
            <a:srgbClr val="000000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alatino Linotype"/>
              </a:rPr>
              <a:t>Могут повлечь или повлек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17"/>
          <p:cNvSpPr/>
          <p:nvPr/>
        </p:nvSpPr>
        <p:spPr>
          <a:xfrm>
            <a:off x="6300720" y="1052640"/>
            <a:ext cx="2519280" cy="79200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Человеческие жерт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18"/>
          <p:cNvSpPr/>
          <p:nvPr/>
        </p:nvSpPr>
        <p:spPr>
          <a:xfrm>
            <a:off x="6315120" y="1969920"/>
            <a:ext cx="2519280" cy="79236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щерб здоровью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19"/>
          <p:cNvSpPr/>
          <p:nvPr/>
        </p:nvSpPr>
        <p:spPr>
          <a:xfrm>
            <a:off x="6340320" y="2954160"/>
            <a:ext cx="2521080" cy="79236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щерб окружающей природной сре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20"/>
          <p:cNvSpPr/>
          <p:nvPr/>
        </p:nvSpPr>
        <p:spPr>
          <a:xfrm>
            <a:off x="6340320" y="3933720"/>
            <a:ext cx="2521080" cy="79056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значительные материальные потер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1"/>
          <p:cNvSpPr/>
          <p:nvPr/>
        </p:nvSpPr>
        <p:spPr>
          <a:xfrm>
            <a:off x="6340320" y="4941720"/>
            <a:ext cx="2521080" cy="79092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нарушение условий жизнедеятельности люд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ая соединительная линия 25"/>
          <p:cNvSpPr/>
          <p:nvPr/>
        </p:nvSpPr>
        <p:spPr>
          <a:xfrm>
            <a:off x="250920" y="885960"/>
            <a:ext cx="0" cy="383832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ая соединительная линия 27"/>
          <p:cNvSpPr/>
          <p:nvPr/>
        </p:nvSpPr>
        <p:spPr>
          <a:xfrm flipH="1">
            <a:off x="250920" y="1736640"/>
            <a:ext cx="2887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ая соединительная линия 29"/>
          <p:cNvSpPr/>
          <p:nvPr/>
        </p:nvSpPr>
        <p:spPr>
          <a:xfrm flipH="1">
            <a:off x="250920" y="2744640"/>
            <a:ext cx="2887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ая соединительная линия 2047"/>
          <p:cNvSpPr/>
          <p:nvPr/>
        </p:nvSpPr>
        <p:spPr>
          <a:xfrm flipH="1">
            <a:off x="250920" y="3716280"/>
            <a:ext cx="28872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ая соединительная линия 2053"/>
          <p:cNvSpPr/>
          <p:nvPr/>
        </p:nvSpPr>
        <p:spPr>
          <a:xfrm flipH="1">
            <a:off x="250920" y="4724280"/>
            <a:ext cx="295200" cy="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3"/>
          <p:cNvSpPr/>
          <p:nvPr/>
        </p:nvSpPr>
        <p:spPr>
          <a:xfrm>
            <a:off x="3267000" y="130320"/>
            <a:ext cx="2600280" cy="92232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Крупная ава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179280" y="1844640"/>
            <a:ext cx="2448000" cy="107460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Большое количество жер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3267000" y="1844640"/>
            <a:ext cx="2600280" cy="107460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Крупный материальный ущер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7"/>
          <p:cNvSpPr/>
          <p:nvPr/>
        </p:nvSpPr>
        <p:spPr>
          <a:xfrm>
            <a:off x="6372360" y="1868400"/>
            <a:ext cx="2536560" cy="1050840"/>
          </a:xfrm>
          <a:prstGeom prst="rect">
            <a:avLst/>
          </a:prstGeom>
          <a:noFill/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alatino Linotype"/>
              </a:rPr>
              <a:t>Тяжелые экологические послед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авая фигурная скобка 5"/>
          <p:cNvSpPr/>
          <p:nvPr/>
        </p:nvSpPr>
        <p:spPr>
          <a:xfrm rot="5400000">
            <a:off x="4110840" y="-1012680"/>
            <a:ext cx="865440" cy="8729640"/>
          </a:xfrm>
          <a:custGeom>
            <a:avLst/>
            <a:gdLst>
              <a:gd name="textAreaLeft" fmla="*/ 0 w 865440"/>
              <a:gd name="textAreaRight" fmla="*/ 312480 w 865440"/>
              <a:gd name="textAreaTop" fmla="*/ 22320 h 8729640"/>
              <a:gd name="textAreaBottom" fmla="*/ 8707320 h 872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"/>
                  <a:pt x="10800" y="178"/>
                </a:cubicBezTo>
                <a:lnTo>
                  <a:pt x="10800" y="10622"/>
                </a:lnTo>
                <a:cubicBezTo>
                  <a:pt x="10800" y="10711"/>
                  <a:pt x="16200" y="10800"/>
                  <a:pt x="21600" y="10800"/>
                </a:cubicBezTo>
                <a:cubicBezTo>
                  <a:pt x="16200" y="10800"/>
                  <a:pt x="10800" y="10889"/>
                  <a:pt x="10800" y="10978"/>
                </a:cubicBezTo>
                <a:lnTo>
                  <a:pt x="10800" y="21422"/>
                </a:lnTo>
                <a:cubicBezTo>
                  <a:pt x="10800" y="2151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8" name="Прямая со стрелкой 9"/>
          <p:cNvCxnSpPr>
            <a:stCxn id="343" idx="2"/>
            <a:endCxn id="344" idx="0"/>
          </p:cNvCxnSpPr>
          <p:nvPr/>
        </p:nvCxnSpPr>
        <p:spPr>
          <a:xfrm flipH="1">
            <a:off x="1402560" y="1052640"/>
            <a:ext cx="3164760" cy="792720"/>
          </a:xfrm>
          <a:prstGeom prst="straightConnector1">
            <a:avLst/>
          </a:prstGeom>
          <a:ln w="1260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49" name="Прямая со стрелкой 11"/>
          <p:cNvCxnSpPr>
            <a:stCxn id="343" idx="2"/>
            <a:endCxn id="345" idx="0"/>
          </p:cNvCxnSpPr>
          <p:nvPr/>
        </p:nvCxnSpPr>
        <p:spPr>
          <a:xfrm>
            <a:off x="4566960" y="1052640"/>
            <a:ext cx="1080" cy="792720"/>
          </a:xfrm>
          <a:prstGeom prst="straightConnector1">
            <a:avLst/>
          </a:prstGeom>
          <a:ln w="1260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50" name="Прямая со стрелкой 13"/>
          <p:cNvCxnSpPr>
            <a:stCxn id="343" idx="2"/>
            <a:endCxn id="346" idx="0"/>
          </p:cNvCxnSpPr>
          <p:nvPr/>
        </p:nvCxnSpPr>
        <p:spPr>
          <a:xfrm>
            <a:off x="4566960" y="1052640"/>
            <a:ext cx="3074040" cy="816480"/>
          </a:xfrm>
          <a:prstGeom prst="straightConnector1">
            <a:avLst/>
          </a:prstGeom>
          <a:ln w="1260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351" name="Прямоугольник 14"/>
          <p:cNvSpPr/>
          <p:nvPr/>
        </p:nvSpPr>
        <p:spPr>
          <a:xfrm>
            <a:off x="2922480" y="3933720"/>
            <a:ext cx="3243240" cy="1224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роизводственная или транспортная катастроф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15"/>
          <p:cNvSpPr/>
          <p:nvPr/>
        </p:nvSpPr>
        <p:spPr>
          <a:xfrm>
            <a:off x="1403280" y="1343160"/>
            <a:ext cx="61214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 О В Л Е К Ш А 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Чрезвычайные ситуации техногенного характера подраз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rcRect l="1935" t="0" r="1935" b="156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5" name="Прямоугольник 2"/>
          <p:cNvSpPr/>
          <p:nvPr/>
        </p:nvSpPr>
        <p:spPr>
          <a:xfrm>
            <a:off x="755640" y="3573360"/>
            <a:ext cx="1008000" cy="287280"/>
          </a:xfrm>
          <a:prstGeom prst="rect">
            <a:avLst/>
          </a:prstGeom>
          <a:solidFill>
            <a:srgbClr val="ffc000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2"/>
          <a:srcRect l="0" t="0" r="18121" b="0"/>
          <a:stretch/>
        </p:blipFill>
        <p:spPr>
          <a:xfrm>
            <a:off x="739800" y="5516640"/>
            <a:ext cx="8380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>
            <a:alphaModFix amt="40000"/>
          </a:blip>
          <a:stretch/>
        </p:blipFill>
        <p:spPr>
          <a:xfrm rot="5400000">
            <a:off x="1154160" y="-1131840"/>
            <a:ext cx="6858000" cy="912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58" name="Прямоугольник 1"/>
          <p:cNvSpPr/>
          <p:nvPr/>
        </p:nvSpPr>
        <p:spPr>
          <a:xfrm>
            <a:off x="900000" y="1052640"/>
            <a:ext cx="1656000" cy="288720"/>
          </a:xfrm>
          <a:prstGeom prst="rect">
            <a:avLst/>
          </a:prstGeom>
          <a:solidFill>
            <a:srgbClr val="ffc000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2"/>
          <p:cNvSpPr/>
          <p:nvPr/>
        </p:nvSpPr>
        <p:spPr>
          <a:xfrm>
            <a:off x="917640" y="3048120"/>
            <a:ext cx="1368360" cy="288720"/>
          </a:xfrm>
          <a:prstGeom prst="rect">
            <a:avLst/>
          </a:prstGeom>
          <a:solidFill>
            <a:srgbClr val="ffc000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917640" y="4724280"/>
            <a:ext cx="1368360" cy="217440"/>
          </a:xfrm>
          <a:prstGeom prst="rect">
            <a:avLst/>
          </a:prstGeom>
          <a:solidFill>
            <a:srgbClr val="ffc000">
              <a:alpha val="4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27:14Z</dcterms:created>
  <dc:creator>Леонид</dc:creator>
  <dc:description/>
  <dc:language>en-US</dc:language>
  <cp:lastModifiedBy>user</cp:lastModifiedBy>
  <dcterms:modified xsi:type="dcterms:W3CDTF">2020-11-08T09:44:17Z</dcterms:modified>
  <cp:revision>50</cp:revision>
  <dc:subject/>
  <dc:title>Презентация PowerPoint</dc:title>
</cp:coreProperties>
</file>