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12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48.jpeg" ContentType="image/jpeg"/>
  <Override PartName="/ppt/media/image5.png" ContentType="image/png"/>
  <Override PartName="/ppt/media/image43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EA0D-289B-4896-B51B-279047176F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8F08-F85F-4756-BD0E-26C6D7E391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C090-6630-492C-B8EE-E46FB8935A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4E5F-B010-4DD8-94F0-FD61ADA25C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A4EE-D2D2-4120-9CA5-BD46A82BD1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A88A-462A-40AF-AAFA-FB1C1568C3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42DC-15AA-40DD-A45F-0BF982C58D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6F7C-FBC8-49A9-A16B-BE1583C292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156F-FA5D-44C6-8DF4-89AB431707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5ADF-0B82-4D03-B2FF-0039FFA22C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0DA5-4F0C-4724-A4CA-AEC16F4010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9F37-0DE6-4553-A7B3-F5CCD6D32A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40F6-FB25-4228-B681-F8E60FF28E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F53B-6BF6-4F78-9669-B24A249B25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AC9-CE33-467B-B02A-40A5C7AFB4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AFB6-0AF8-4B89-9520-DA9E3E6598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8C1-8F92-4EE4-A1A5-7000348CB3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C075-DDC1-41BF-9F70-B26A1ACD09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E16D-81B1-4410-8006-FDB28F8399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EB7E-028F-4DAC-BE44-C6D1627EA4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E572-B4E5-4305-B6BD-8E1C0903D5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FBF1-D905-4812-8537-CAAE1D431E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3CEB-985C-4E77-A7AF-5859FE1C56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13F-0721-4A3E-8813-3C5EFA78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7D7-A021-44CD-A495-56EAFCA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152-8C74-4ABB-A7C0-162AA843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54C-ACCE-41D1-887A-3E81EF77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E399-7DA6-418C-995F-CE9DBA6A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3AE4-298D-4147-98C7-CD83E4DA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F1CF-1DEF-4C8C-8A8A-B8DD393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9ABB-FEAB-4573-9DA3-881651E4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0775-EA70-4ACC-9944-A0924352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C896-9709-4D0F-BA90-8BB38EBE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63E1-7477-4B78-AF3A-69C348E9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DEC-457E-4DD8-93B1-6C27D5AE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2691-E208-48DD-935F-748ACC01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FC4B-474A-4F8B-B478-3B486BA1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CA06-6CDF-494C-8ABE-3CF8B01C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4EB6-35B0-41FE-9F63-97440509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5C54-9167-4A8C-9653-9BAA68FD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0D38-C754-40E2-884E-A9F0FE77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F763-20B9-433B-9DDA-CF3B5B5A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6B41-7A5B-444C-88D9-48C5E61A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208E-1370-4EBC-913C-F25BE2B8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D7B59-2D94-4A8A-AA01-C1A5866C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04B-0BBA-4B1A-B4A1-29E2C7AB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3D32C-CBB1-4300-9348-A45D4451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3CD3-37AE-451F-8D07-6B9A2E0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691B-F095-4664-8FD9-C5E5BCAB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1BC1-0053-4E4A-A3DD-6DAF637A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4C52-9C97-407E-82B1-F73F9D99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25B6-9C13-4CD0-86E5-2D9A4D15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30EC-B593-4776-9CFA-DAC23866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D0A5-42BF-478A-B56E-339ABDFE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48A0-EC10-4439-83F3-F74D6518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69A65-9BAA-489A-8A09-6DC3DE9A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5DC-925D-4188-BD0A-C269BBA7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A69ED-537B-46A8-9B97-5F0BCE7A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CABF-56B5-42E0-A43B-4E9B4521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71D5-3E6E-4EE9-A770-C6B541C9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98B4-40E0-40FC-B482-243E96D1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607E5-0C12-4F09-9521-11CCC6F4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145BB-BFBF-4601-AAB7-BF027AB1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7973-E79F-4E0C-AF0B-B3EEA842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6EC05-CE54-4741-BE6D-BFDFEAE0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87FE8-A990-4FAE-83FE-D05B1DC1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B40-7B46-4CFD-A2B6-B731FB97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8DA-2919-4C46-8886-823C83F2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475-83E9-4527-83E0-09D11DC0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7DD-FBEA-4CA2-AC15-F8BE6E39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4AB-B955-41E6-A6C4-360D053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B504-5D9D-409A-B60E-C661DE0FC76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BE3D-7613-47F0-BE80-9B131CBFE9C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5192-EBDD-47AA-B454-22841CABDD3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3D74-CC48-4549-A4C6-227E4DD4527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fotolife.com.ua/albums/11/0dc77389/xl_4dc69.jpg&amp;spsite=fake-023-12361430.ru&amp;p=0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elfpix.ru/files/elfpix/imagecache/w/image/1/2009/12/23/e2943476be470d4f15d5d2d9ae2b3fc7_full.jpg&amp;spsite=fake-061-11932969.ru&amp;p=19" TargetMode="External"/><Relationship Id="rId5" Type="http://schemas.openxmlformats.org/officeDocument/2006/relationships/image" Target="../media/image38.jpeg"/><Relationship Id="rId6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gamefon.net/content/image/1267563070_320x480.jpg&amp;spsite=fake-015-12135081.ru&amp;p=10" TargetMode="External"/><Relationship Id="rId7" Type="http://schemas.openxmlformats.org/officeDocument/2006/relationships/image" Target="../media/image39.jpeg"/><Relationship Id="rId8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www.protoplex.ru/wallpapers/image_big_770.jpg&amp;spsite=fake-020-12197612.ru&amp;p=13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copypast.ru/foto5/7333/Belki/belki_042.jpg&amp;spsite=fake-039-8934168.ru&amp;p=33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ber.zakadum.ru/kartinki/%C6%E8%E2%EE%F2%ED%FB%E5/%C6%E8%E2%EE%F2%ED%FB%E5%20(37).jpg&amp;spsite=fake-017-8149545.ru&amp;p=48" TargetMode="External"/><Relationship Id="rId4" Type="http://schemas.openxmlformats.org/officeDocument/2006/relationships/image" Target="../media/image42.jpeg"/><Relationship Id="rId5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kakadu.509.com1.ru:8018/WWW/fotogal/oboi/parno/57.jpg&amp;spsite=fake-030-8383173.ru&amp;p=147" TargetMode="External"/><Relationship Id="rId6" Type="http://schemas.openxmlformats.org/officeDocument/2006/relationships/image" Target="../media/image43.jpeg"/><Relationship Id="rId7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club-edu.tambov.ru/vjpusk/vjp123/rabot/28/images/new_pa15.jpg&amp;spsite=fake-045-11945600.ru&amp;p=148" TargetMode="External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www.livt.net/Clt/Ani/Cho/Mam/Rod/Zap/zap002.jpg&amp;spsite=fake-057-10389149.ru&amp;p=347" TargetMode="External"/><Relationship Id="rId2" Type="http://schemas.openxmlformats.org/officeDocument/2006/relationships/image" Target="../media/image45.jpeg"/><Relationship Id="rId3" Type="http://schemas.openxmlformats.org/officeDocument/2006/relationships/hyperlink" Target="http://images.yandex.ru/yandsearch?ed=1&amp;rpt=simage&amp;text=&#1076;&#1086;&#1084;&#1072;&#1096;&#1085;&#1080;&#1077;%20&#1078;&#1080;&#1074;&#1086;&#1090;&#1085;&#1099;&#1077;%20&#1074;%20&#1082;&#1072;&#1088;&#1090;&#1080;&#1085;&#1082;&#1072;&#1093;&amp;img_url=basik.ru/images/2415/15.jpg&amp;spsite=fake-020-10111605.ru&amp;p=151" TargetMode="External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Rectangle 2" descr=""/>
          <p:cNvPicPr/>
          <p:nvPr/>
        </p:nvPicPr>
        <p:blipFill>
          <a:blip r:embed="rId2"/>
          <a:stretch/>
        </p:blipFill>
        <p:spPr>
          <a:xfrm>
            <a:off x="571680" y="1085760"/>
            <a:ext cx="8321400" cy="16956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000320" y="4214880"/>
            <a:ext cx="485748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ЫПОЛНИЛА ВОСПИТАТЕЛЬ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АДОУ ДЕТСКИЙ САД № 76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г. Златоуст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инегина О.Е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1" name="Рисунок 4" descr=""/>
          <p:cNvPicPr/>
          <p:nvPr/>
        </p:nvPicPr>
        <p:blipFill>
          <a:blip r:embed="rId3"/>
          <a:stretch/>
        </p:blipFill>
        <p:spPr>
          <a:xfrm>
            <a:off x="285840" y="321480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6554880" cy="977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332000" y="260280"/>
            <a:ext cx="655488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16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0f496f"/>
                </a:solidFill>
                <a:latin typeface="Century Gothic"/>
              </a:rPr>
              <a:t>Кто у кого?</a:t>
            </a:r>
            <a:endParaRPr b="0" lang="en-US" sz="6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541440" y="476280"/>
            <a:ext cx="4044960" cy="5892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85732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-8571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4950000" cy="5286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419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62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81000" y="1000080"/>
            <a:ext cx="5352840" cy="470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4321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192240"/>
            <a:ext cx="82296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5329080" cy="4319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600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256360" cy="4525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5229360" y="3716280"/>
            <a:ext cx="3663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6178320" cy="457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716360" y="3247920"/>
            <a:ext cx="4248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543280" cy="3549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4788000" y="3117960"/>
            <a:ext cx="41036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968720" cy="4751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5372280" y="2781360"/>
            <a:ext cx="33764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НАЗОВИ ЖИВОТНЫХ И ИХ ДЕТЕНЫШЕ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3" name="2" descr="Сорока-ворона. Животные в деревне. худ. А. Шахгельдян"/>
          <p:cNvPicPr/>
          <p:nvPr/>
        </p:nvPicPr>
        <p:blipFill>
          <a:blip r:embed="rId1"/>
          <a:stretch/>
        </p:blipFill>
        <p:spPr>
          <a:xfrm>
            <a:off x="880920" y="533520"/>
            <a:ext cx="58597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20741"/>
                </a:solidFill>
                <a:latin typeface="Century Gothic"/>
              </a:rPr>
              <a:t>МОХНАТЕНЬКАЯ, УСАТЕНЬКАЯ,</a:t>
            </a:r>
            <a:br>
              <a:rPr sz="2800"/>
            </a:br>
            <a:r>
              <a:rPr b="1" lang="ru-RU" sz="2800" spc="-1" strike="noStrike">
                <a:solidFill>
                  <a:srgbClr val="520741"/>
                </a:solidFill>
                <a:latin typeface="Century Gothic"/>
              </a:rPr>
              <a:t>МОЛОКО ПЬЁТ, ПЕСЕНКИ ПОЁТ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553080" cy="4287960"/>
          </a:xfrm>
          <a:prstGeom prst="rect">
            <a:avLst/>
          </a:prstGeom>
          <a:ln w="0">
            <a:noFill/>
          </a:ln>
        </p:spPr>
      </p:pic>
      <p:pic>
        <p:nvPicPr>
          <p:cNvPr id="204" name="кошка.mp3" descr=""/>
          <p:cNvPicPr/>
          <p:nvPr/>
        </p:nvPicPr>
        <p:blipFill>
          <a:blip r:embed="rId2"/>
          <a:stretch/>
        </p:blipFill>
        <p:spPr>
          <a:xfrm>
            <a:off x="8244000" y="1700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935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533520" y="4768920"/>
            <a:ext cx="6554520" cy="977760"/>
          </a:xfrm>
          <a:prstGeom prst="rect">
            <a:avLst/>
          </a:prstGeom>
          <a:ln w="0">
            <a:noFill/>
          </a:ln>
        </p:spPr>
      </p:pic>
      <p:pic>
        <p:nvPicPr>
          <p:cNvPr id="255" name="Содержимое 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2428920"/>
            <a:ext cx="2786040" cy="235728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4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71880" y="2428920"/>
            <a:ext cx="2000160" cy="23572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5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14960" y="2428920"/>
            <a:ext cx="1714320" cy="23572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6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72200" y="242892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Содержимое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500120"/>
            <a:ext cx="2571840" cy="25005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7160" y="4214880"/>
            <a:ext cx="2543400" cy="2214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14960" y="4214880"/>
            <a:ext cx="2981160" cy="21859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6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4960" y="1500120"/>
            <a:ext cx="2990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5" name="Содержимое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714680"/>
            <a:ext cx="2928960" cy="22143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4214880"/>
            <a:ext cx="2962440" cy="21430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" descr=""/>
          <p:cNvPicPr/>
          <p:nvPr/>
        </p:nvPicPr>
        <p:blipFill>
          <a:blip r:embed="rId5"/>
          <a:stretch/>
        </p:blipFill>
        <p:spPr>
          <a:xfrm>
            <a:off x="5786280" y="1741320"/>
            <a:ext cx="2928960" cy="21877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7" descr=""/>
          <p:cNvPicPr/>
          <p:nvPr/>
        </p:nvPicPr>
        <p:blipFill>
          <a:blip r:embed="rId6"/>
          <a:stretch/>
        </p:blipFill>
        <p:spPr>
          <a:xfrm>
            <a:off x="642960" y="4214880"/>
            <a:ext cx="29289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828720" y="66600"/>
            <a:ext cx="5979960" cy="1433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820800" y="1341360"/>
            <a:ext cx="6759360" cy="5375520"/>
          </a:xfrm>
          <a:prstGeom prst="rect">
            <a:avLst/>
          </a:prstGeom>
          <a:ln w="0">
            <a:noFill/>
          </a:ln>
        </p:spPr>
      </p:pic>
      <p:pic>
        <p:nvPicPr>
          <p:cNvPr id="207" name="лай.mp3" descr=""/>
          <p:cNvPicPr/>
          <p:nvPr/>
        </p:nvPicPr>
        <p:blipFill>
          <a:blip r:embed="rId3"/>
          <a:stretch/>
        </p:blipFill>
        <p:spPr>
          <a:xfrm>
            <a:off x="774072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13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АМА ПЁСТРАЯ, ЕСТ ЗЕЛЁНОЕ, ДАЁТ БЕЛО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1120680" y="103320"/>
            <a:ext cx="6416640" cy="4464000"/>
          </a:xfrm>
          <a:prstGeom prst="rect">
            <a:avLst/>
          </a:prstGeom>
          <a:ln w="0">
            <a:noFill/>
          </a:ln>
        </p:spPr>
      </p:pic>
      <p:pic>
        <p:nvPicPr>
          <p:cNvPr id="210" name="корова.mp3" descr=""/>
          <p:cNvPicPr/>
          <p:nvPr/>
        </p:nvPicPr>
        <p:blipFill>
          <a:blip r:embed="rId2"/>
          <a:stretch/>
        </p:blipFill>
        <p:spPr>
          <a:xfrm>
            <a:off x="7524720" y="155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92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539640" y="5597640"/>
            <a:ext cx="6554880" cy="1231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7201080" cy="4824720"/>
          </a:xfrm>
          <a:prstGeom prst="rect">
            <a:avLst/>
          </a:prstGeom>
          <a:ln w="0">
            <a:noFill/>
          </a:ln>
        </p:spPr>
      </p:pic>
      <p:pic>
        <p:nvPicPr>
          <p:cNvPr id="213" name="свинья.mp3" descr=""/>
          <p:cNvPicPr/>
          <p:nvPr/>
        </p:nvPicPr>
        <p:blipFill>
          <a:blip r:embed="rId3"/>
          <a:stretch/>
        </p:blipFill>
        <p:spPr>
          <a:xfrm>
            <a:off x="774072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27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2627280" y="-458640"/>
            <a:ext cx="8077320" cy="2869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1116000" y="2301840"/>
            <a:ext cx="6840720" cy="4295880"/>
          </a:xfrm>
          <a:prstGeom prst="rect">
            <a:avLst/>
          </a:prstGeom>
          <a:ln w="0">
            <a:noFill/>
          </a:ln>
        </p:spPr>
      </p:pic>
      <p:pic>
        <p:nvPicPr>
          <p:cNvPr id="216" name="коза.mp3" descr=""/>
          <p:cNvPicPr/>
          <p:nvPr/>
        </p:nvPicPr>
        <p:blipFill>
          <a:blip r:embed="rId3"/>
          <a:stretch/>
        </p:blipFill>
        <p:spPr>
          <a:xfrm>
            <a:off x="8317080" y="1700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586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585720" y="-1152360"/>
            <a:ext cx="8223480" cy="351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6409080" cy="4033800"/>
          </a:xfrm>
          <a:prstGeom prst="rect">
            <a:avLst/>
          </a:prstGeom>
          <a:ln w="0">
            <a:noFill/>
          </a:ln>
        </p:spPr>
      </p:pic>
      <p:pic>
        <p:nvPicPr>
          <p:cNvPr id="219" name="лошадь.mp3" descr=""/>
          <p:cNvPicPr/>
          <p:nvPr/>
        </p:nvPicPr>
        <p:blipFill>
          <a:blip r:embed="rId3"/>
          <a:stretch/>
        </p:blipFill>
        <p:spPr>
          <a:xfrm>
            <a:off x="7956720" y="184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9844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28680" y="146160"/>
            <a:ext cx="8364600" cy="243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6624720" cy="4248000"/>
          </a:xfrm>
          <a:prstGeom prst="rect">
            <a:avLst/>
          </a:prstGeom>
          <a:ln w="0">
            <a:noFill/>
          </a:ln>
        </p:spPr>
      </p:pic>
      <p:pic>
        <p:nvPicPr>
          <p:cNvPr id="222" name="ef74cf8d46a5.mp3" descr=""/>
          <p:cNvPicPr/>
          <p:nvPr/>
        </p:nvPicPr>
        <p:blipFill>
          <a:blip r:embed="rId3"/>
          <a:stretch/>
        </p:blipFill>
        <p:spPr>
          <a:xfrm>
            <a:off x="8101080" y="242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1256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371520" y="-6480"/>
            <a:ext cx="8364600" cy="2584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3059280" y="2276640"/>
            <a:ext cx="5832360" cy="4321080"/>
          </a:xfrm>
          <a:prstGeom prst="rect">
            <a:avLst/>
          </a:prstGeom>
          <a:ln w="0">
            <a:noFill/>
          </a:ln>
        </p:spPr>
      </p:pic>
      <p:pic>
        <p:nvPicPr>
          <p:cNvPr id="225" name="овца.mp3" descr=""/>
          <p:cNvPicPr/>
          <p:nvPr/>
        </p:nvPicPr>
        <p:blipFill>
          <a:blip r:embed="rId3"/>
          <a:stretch/>
        </p:blipFill>
        <p:spPr>
          <a:xfrm>
            <a:off x="723600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540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8:44:25Z</dcterms:created>
  <dc:creator>www.PHILka.RU</dc:creator>
  <dc:description/>
  <dc:language>en-US</dc:language>
  <cp:lastModifiedBy>User</cp:lastModifiedBy>
  <dcterms:modified xsi:type="dcterms:W3CDTF">2020-11-08T06:28:58Z</dcterms:modified>
  <cp:revision>24</cp:revision>
  <dc:subject/>
  <dc:title>Домашние животные</dc:title>
</cp:coreProperties>
</file>