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8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7D42-93A5-4C72-A1E3-EC80D49AB9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5F9-38B9-48DA-ABBC-697A7D4711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E266-5611-4B30-870E-1D23668B8D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DAD-533B-4E15-910E-AF2F33BA3B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E706-E135-4B46-ABC1-CE27B67032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098-5F64-430F-AB95-C595749B6E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DFB-7AF7-4EF5-BC4D-D0DF57EE29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2FA-B885-44E6-84D3-5C6B49750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91E-4049-4C95-BC7F-B0F20B829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B0B-054C-4F33-ACBE-D5CE15C02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499D-8892-4375-9D95-B847E76D03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636E-EBB8-419F-B441-E5F9A9F18D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D88-1F6F-42E8-90EB-8ECF1525A7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062-7198-4FA7-B915-66506FD5A9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740-5882-4325-BF84-F2AB3D879A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01BF-E72B-41B0-8450-417C9929DC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1D77-F2CE-4B21-BF87-3BC32392CB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82F-27C3-4899-AD5A-8B5254BE0F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EDD-899B-4346-8906-AC959F38A0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7B8B-B817-4AFB-B7E3-2688EE615C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746-6ACD-4243-B653-A056A7FD40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128B-6CDF-44EC-96B9-19021D0F76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6B2-2A39-4E84-B94C-227EF39B9C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9DD-AA54-44A6-A6BF-0090A45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BF1-E81B-4002-920A-58D60BD9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B9C-0EC2-4482-929D-949DDCAA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A58-DAB3-418B-B8C3-789BE1DC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FEB7-73EF-469C-BB2E-0A551702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B9A6-80C9-4EB7-B9BD-72620FC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D099-80F9-468E-8CF2-0F942F1A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F3C6-9A81-4AA5-885F-3AFA586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55D5-15F6-4533-8A2F-846F317A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119-65C7-4067-BFB8-FA2F470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8F2-230E-4EA4-92D2-23BFAE6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279-F371-4832-B291-7293AC41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A478-C410-4CAA-BF47-4EF4FCE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332D-E0A9-4C19-9789-CA2EDE3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3CD7-D942-4DB1-A549-9A3771E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887-0137-4CB7-A9E1-9CEEC7CF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D97A-E5D3-4A8A-B234-DA41707A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D87E-ACF0-40BC-9EB2-C20E2F9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E7C1-72AE-4ED1-BDE2-E10E605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D061-E46E-4A14-B412-FB4B25A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DF61-79E3-4E40-AA70-03381FC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45AF-6EEC-42C3-B930-3606B9A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F36-2628-48AE-A915-050E976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CCD0-7245-4250-A2BE-F31F722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4AC52-81FA-41CA-B376-316F397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4567-9C2C-469D-9E31-590CC6A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9A61-C724-4DF9-A97A-7541BA4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A1A2-A0FB-4B1D-8866-2624113F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D569-8F4F-4E08-9112-DC55C7BE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3CB3-9270-415D-83FB-7C65E6C4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388E-3361-49A3-8792-655FEA17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3B6A-08B2-4A7D-8CE7-D738B87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BEB2-82C1-4837-B019-D76778EB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60B-BAF1-47B6-A8FC-B2942D50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311D-136A-48C4-8B9E-910045F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D4F6-0558-4B2C-A3C6-2D7F09E7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FD0E-F0BC-4F4A-8741-EE434335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9756-6DDA-4E62-AB2F-72B92C3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5649-95DB-4B0A-B1EA-C5B0120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D3A7-1D67-496F-A7E4-80B1206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4E73-5F55-4B31-97FB-9CB952E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4F30-01E5-48FC-97A5-F6DC53CF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D24A-9AFF-42F3-BFF8-3668E586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664-D193-4AED-8CE2-5D3910E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189-9331-4E9B-B0D7-B07EEFB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640-55C4-4778-B29F-CE58C39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30C-7146-4B7C-8C1B-D20E180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570-592E-49C4-B399-EF4C20B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859-B480-4AC5-B4FE-5B8D1F7003B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FFB5-9645-472F-8B75-ABF5C1547AB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D30-6ACD-4917-B85D-47B46E37A07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BD3-897D-44E4-9A74-548FA180708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fotolife.com.ua/albums/11/0dc77389/xl_4dc69.jpg&amp;spsite=fake-023-12361430.ru&amp;p=0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elfpix.ru/files/elfpix/imagecache/w/image/1/2009/12/23/e2943476be470d4f15d5d2d9ae2b3fc7_full.jpg&amp;spsite=fake-061-11932969.ru&amp;p=19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gamefon.net/content/image/1267563070_320x480.jpg&amp;spsite=fake-015-12135081.ru&amp;p=10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www.protoplex.ru/wallpapers/image_big_770.jpg&amp;spsite=fake-020-12197612.ru&amp;p=13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copypast.ru/foto5/7333/Belki/belki_042.jpg&amp;spsite=fake-039-8934168.ru&amp;p=33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ber.zakadum.ru/kartinki/%C6%E8%E2%EE%F2%ED%FB%E5/%C6%E8%E2%EE%F2%ED%FB%E5%20(37).jpg&amp;spsite=fake-017-8149545.ru&amp;p=48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kakadu.509.com1.ru:8018/WWW/fotogal/oboi/parno/57.jpg&amp;spsite=fake-030-8383173.ru&amp;p=147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club-edu.tambov.ru/vjpusk/vjp123/rabot/28/images/new_pa15.jpg&amp;spsite=fake-045-11945600.ru&amp;p=148" TargetMode="External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www.livt.net/Clt/Ani/Cho/Mam/Rod/Zap/zap002.jpg&amp;spsite=fake-057-10389149.ru&amp;p=347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basik.ru/images/2415/15.jpg&amp;spsite=fake-020-10111605.ru&amp;p=151" TargetMode="External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2"/>
          <a:stretch/>
        </p:blipFill>
        <p:spPr>
          <a:xfrm>
            <a:off x="571680" y="1085760"/>
            <a:ext cx="8321400" cy="1695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000320" y="4214880"/>
            <a:ext cx="485748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ЫПОЛНИЛА ВОСПИТАТЕЛЬ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АДОУ ДЕТСКИЙ САД № 76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. Златоуст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инегина О.Е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3"/>
          <a:stretch/>
        </p:blipFill>
        <p:spPr>
          <a:xfrm>
            <a:off x="285840" y="321480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6554880" cy="977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332000" y="26028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6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f496f"/>
                </a:solidFill>
                <a:latin typeface="Century Gothic"/>
              </a:rPr>
              <a:t>Кто у кого?</a:t>
            </a:r>
            <a:endParaRPr b="0" lang="en-US" sz="6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541440" y="476280"/>
            <a:ext cx="4044960" cy="5892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85732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8571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4950000" cy="528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4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81000" y="1000080"/>
            <a:ext cx="5352840" cy="470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19224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5329080" cy="4319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600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256360" cy="452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5229360" y="3716280"/>
            <a:ext cx="3663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6178320" cy="457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716360" y="3247920"/>
            <a:ext cx="4248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543280" cy="354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4788000" y="3117960"/>
            <a:ext cx="41036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968720" cy="4751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372280" y="2781360"/>
            <a:ext cx="3376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ЗОВИ ЖИВОТНЫХ И ИХ ДЕТЕНЫШЕ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2" descr="Сорока-ворона. Животные в деревне. худ. А. Шахгельдян"/>
          <p:cNvPicPr/>
          <p:nvPr/>
        </p:nvPicPr>
        <p:blipFill>
          <a:blip r:embed="rId1"/>
          <a:stretch/>
        </p:blipFill>
        <p:spPr>
          <a:xfrm>
            <a:off x="880920" y="533520"/>
            <a:ext cx="5859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20741"/>
                </a:solidFill>
                <a:latin typeface="Century Gothic"/>
              </a:rPr>
              <a:t>МОХНАТЕНЬКАЯ, УСАТЕНЬКАЯ,</a:t>
            </a:r>
            <a:br>
              <a:rPr sz="2800"/>
            </a:br>
            <a:r>
              <a:rPr b="1" lang="ru-RU" sz="2800" spc="-1" strike="noStrike">
                <a:solidFill>
                  <a:srgbClr val="520741"/>
                </a:solidFill>
                <a:latin typeface="Century Gothic"/>
              </a:rPr>
              <a:t>МОЛОКО ПЬЁТ, ПЕСЕНКИ ПОЁ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553080" cy="4287960"/>
          </a:xfrm>
          <a:prstGeom prst="rect">
            <a:avLst/>
          </a:prstGeom>
          <a:ln w="0">
            <a:noFill/>
          </a:ln>
        </p:spPr>
      </p:pic>
      <p:pic>
        <p:nvPicPr>
          <p:cNvPr id="204" name="кошка.mp3" descr=""/>
          <p:cNvPicPr/>
          <p:nvPr/>
        </p:nvPicPr>
        <p:blipFill>
          <a:blip r:embed="rId2"/>
          <a:stretch/>
        </p:blipFill>
        <p:spPr>
          <a:xfrm>
            <a:off x="8244000" y="1700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935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533520" y="4768920"/>
            <a:ext cx="6554520" cy="977760"/>
          </a:xfrm>
          <a:prstGeom prst="rect">
            <a:avLst/>
          </a:prstGeom>
          <a:ln w="0">
            <a:noFill/>
          </a:ln>
        </p:spPr>
      </p:pic>
      <p:pic>
        <p:nvPicPr>
          <p:cNvPr id="255" name="Содержимое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242892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71880" y="24289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4960" y="2428920"/>
            <a:ext cx="1714320" cy="2357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72200" y="242892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Содержимое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500120"/>
            <a:ext cx="2571840" cy="2500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4214880"/>
            <a:ext cx="2543400" cy="2214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4960" y="4214880"/>
            <a:ext cx="2981160" cy="2185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4960" y="1500120"/>
            <a:ext cx="2990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Содержимое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14680"/>
            <a:ext cx="2928960" cy="2214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4214880"/>
            <a:ext cx="2962440" cy="21430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"/>
          <p:cNvPicPr/>
          <p:nvPr/>
        </p:nvPicPr>
        <p:blipFill>
          <a:blip r:embed="rId5"/>
          <a:stretch/>
        </p:blipFill>
        <p:spPr>
          <a:xfrm>
            <a:off x="5786280" y="1741320"/>
            <a:ext cx="2928960" cy="21877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"/>
          <p:cNvPicPr/>
          <p:nvPr/>
        </p:nvPicPr>
        <p:blipFill>
          <a:blip r:embed="rId6"/>
          <a:stretch/>
        </p:blipFill>
        <p:spPr>
          <a:xfrm>
            <a:off x="642960" y="4214880"/>
            <a:ext cx="2928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828720" y="66600"/>
            <a:ext cx="5979960" cy="14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820800" y="1341360"/>
            <a:ext cx="6759360" cy="5375520"/>
          </a:xfrm>
          <a:prstGeom prst="rect">
            <a:avLst/>
          </a:prstGeom>
          <a:ln w="0">
            <a:noFill/>
          </a:ln>
        </p:spPr>
      </p:pic>
      <p:pic>
        <p:nvPicPr>
          <p:cNvPr id="207" name="лай.mp3" descr=""/>
          <p:cNvPicPr/>
          <p:nvPr/>
        </p:nvPicPr>
        <p:blipFill>
          <a:blip r:embed="rId3"/>
          <a:stretch/>
        </p:blipFill>
        <p:spPr>
          <a:xfrm>
            <a:off x="774072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13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АМА ПЁСТРАЯ, ЕСТ ЗЕЛЁНОЕ, ДАЁТ БЕЛО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120680" y="103320"/>
            <a:ext cx="6416640" cy="4464000"/>
          </a:xfrm>
          <a:prstGeom prst="rect">
            <a:avLst/>
          </a:prstGeom>
          <a:ln w="0">
            <a:noFill/>
          </a:ln>
        </p:spPr>
      </p:pic>
      <p:pic>
        <p:nvPicPr>
          <p:cNvPr id="210" name="корова.mp3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92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539640" y="5597640"/>
            <a:ext cx="6554880" cy="1231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7201080" cy="4824720"/>
          </a:xfrm>
          <a:prstGeom prst="rect">
            <a:avLst/>
          </a:prstGeom>
          <a:ln w="0">
            <a:noFill/>
          </a:ln>
        </p:spPr>
      </p:pic>
      <p:pic>
        <p:nvPicPr>
          <p:cNvPr id="213" name="свинья.mp3" descr=""/>
          <p:cNvPicPr/>
          <p:nvPr/>
        </p:nvPicPr>
        <p:blipFill>
          <a:blip r:embed="rId3"/>
          <a:stretch/>
        </p:blipFill>
        <p:spPr>
          <a:xfrm>
            <a:off x="774072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27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2627280" y="-458640"/>
            <a:ext cx="8077320" cy="2869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1116000" y="2301840"/>
            <a:ext cx="6840720" cy="4295880"/>
          </a:xfrm>
          <a:prstGeom prst="rect">
            <a:avLst/>
          </a:prstGeom>
          <a:ln w="0">
            <a:noFill/>
          </a:ln>
        </p:spPr>
      </p:pic>
      <p:pic>
        <p:nvPicPr>
          <p:cNvPr id="216" name="коза.mp3" descr=""/>
          <p:cNvPicPr/>
          <p:nvPr/>
        </p:nvPicPr>
        <p:blipFill>
          <a:blip r:embed="rId3"/>
          <a:stretch/>
        </p:blipFill>
        <p:spPr>
          <a:xfrm>
            <a:off x="8317080" y="1700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8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585720" y="-1152360"/>
            <a:ext cx="8223480" cy="351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6409080" cy="4033800"/>
          </a:xfrm>
          <a:prstGeom prst="rect">
            <a:avLst/>
          </a:prstGeom>
          <a:ln w="0">
            <a:noFill/>
          </a:ln>
        </p:spPr>
      </p:pic>
      <p:pic>
        <p:nvPicPr>
          <p:cNvPr id="219" name="лошадь.mp3" descr=""/>
          <p:cNvPicPr/>
          <p:nvPr/>
        </p:nvPicPr>
        <p:blipFill>
          <a:blip r:embed="rId3"/>
          <a:stretch/>
        </p:blipFill>
        <p:spPr>
          <a:xfrm>
            <a:off x="7956720" y="184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9844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243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624720" cy="4248000"/>
          </a:xfrm>
          <a:prstGeom prst="rect">
            <a:avLst/>
          </a:prstGeom>
          <a:ln w="0">
            <a:noFill/>
          </a:ln>
        </p:spPr>
      </p:pic>
      <p:pic>
        <p:nvPicPr>
          <p:cNvPr id="222" name="ef74cf8d46a5.mp3" descr=""/>
          <p:cNvPicPr/>
          <p:nvPr/>
        </p:nvPicPr>
        <p:blipFill>
          <a:blip r:embed="rId3"/>
          <a:stretch/>
        </p:blipFill>
        <p:spPr>
          <a:xfrm>
            <a:off x="810108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256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364600" cy="2584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5832360" cy="4321080"/>
          </a:xfrm>
          <a:prstGeom prst="rect">
            <a:avLst/>
          </a:prstGeom>
          <a:ln w="0">
            <a:noFill/>
          </a:ln>
        </p:spPr>
      </p:pic>
      <p:pic>
        <p:nvPicPr>
          <p:cNvPr id="225" name="овца.mp3" descr=""/>
          <p:cNvPicPr/>
          <p:nvPr/>
        </p:nvPicPr>
        <p:blipFill>
          <a:blip r:embed="rId3"/>
          <a:stretch/>
        </p:blipFill>
        <p:spPr>
          <a:xfrm>
            <a:off x="723600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540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8:44:25Z</dcterms:created>
  <dc:creator>www.PHILka.RU</dc:creator>
  <dc:description/>
  <dc:language>en-US</dc:language>
  <cp:lastModifiedBy>User</cp:lastModifiedBy>
  <dcterms:modified xsi:type="dcterms:W3CDTF">2020-11-08T06:28:58Z</dcterms:modified>
  <cp:revision>24</cp:revision>
  <dc:subject/>
  <dc:title>Домашние животные</dc:title>
</cp:coreProperties>
</file>