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BBD-460B-4086-9367-61F54E29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357-5DE6-4F7D-A61A-D619D12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FEF-A8A9-462A-824E-3F412413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B91-7B0B-4BAB-99D0-605E7736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8D8-1A26-4A4F-8FAF-3CC5743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3F0-2262-404C-B3A7-5E245A07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6CD-A6F0-4354-B763-54AF1F0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824-4653-4282-9BA4-3AF899D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F6A-DF55-4268-942B-A5C6E35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44A-037F-4FC9-BAC1-CC2CB111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ABA-739D-4B9F-BD17-DC590852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CFC-0CDC-4515-97AE-CED088A3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E95-D605-42AA-90D1-FB4DF739C46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252360" y="0"/>
            <a:ext cx="5589360" cy="308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152960" y="5444640"/>
            <a:ext cx="496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Verdana"/>
              </a:rPr>
              <a:t>Выполнила: Половинкина О.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6227640" y="549360"/>
            <a:ext cx="2614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42920" y="285840"/>
            <a:ext cx="442908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rnd" w="6480">
            <a:solidFill>
              <a:srgbClr val="f6924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1"/>
          <p:cNvGrpSpPr/>
          <p:nvPr/>
        </p:nvGrpSpPr>
        <p:grpSpPr>
          <a:xfrm>
            <a:off x="826920" y="404640"/>
            <a:ext cx="7705440" cy="2087640"/>
            <a:chOff x="826920" y="404640"/>
            <a:chExt cx="7705440" cy="2087640"/>
          </a:xfrm>
        </p:grpSpPr>
        <p:pic>
          <p:nvPicPr>
            <p:cNvPr id="4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826920" y="404640"/>
              <a:ext cx="77054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3"/>
            <p:cNvSpPr/>
            <p:nvPr/>
          </p:nvSpPr>
          <p:spPr>
            <a:xfrm>
              <a:off x="891720" y="486720"/>
              <a:ext cx="7582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«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Поровну только смерть!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Verdana"/>
              </a:rPr>
              <a:t>Синюкова Зинаида Иванов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Подзаголовок 2" descr=""/>
          <p:cNvPicPr/>
          <p:nvPr/>
        </p:nvPicPr>
        <p:blipFill>
          <a:blip r:embed="rId1"/>
          <a:stretch/>
        </p:blipFill>
        <p:spPr>
          <a:xfrm>
            <a:off x="317520" y="1523880"/>
            <a:ext cx="4333680" cy="486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Admin\Desktop\IMG_4378.JPG"/>
          <p:cNvPicPr/>
          <p:nvPr/>
        </p:nvPicPr>
        <p:blipFill>
          <a:blip r:embed="rId2"/>
          <a:stretch/>
        </p:blipFill>
        <p:spPr>
          <a:xfrm>
            <a:off x="5413320" y="1731960"/>
            <a:ext cx="32130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3286080" cy="38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Блестят на солнце орде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Звенят торжественно медали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Гордится ими вся стра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Они свободу отстояли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сё меньше остаётся их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Седых защитников народ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Что приближали счастья миг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К победе шли четыре года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Их украшает седи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Сияют новые медали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 долгу пред ними вся стра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Тепла они не ощущали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Я в форме на парад иду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 душе царит благоговенье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Гремят фанфары раз в году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И продолжается забвенье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Мы за свободу шли на бой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ойны безусые солдаты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Чтоб защитить страну собой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Уводят мысли в сорок пятый...</a:t>
            </a:r>
            <a:br>
              <a:rPr sz="9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Рисунок 6" descr="IMG_4378.JPG"/>
          <p:cNvPicPr/>
          <p:nvPr/>
        </p:nvPicPr>
        <p:blipFill>
          <a:blip r:embed="rId1"/>
          <a:stretch/>
        </p:blipFill>
        <p:spPr>
          <a:xfrm>
            <a:off x="5437080" y="1450800"/>
            <a:ext cx="362772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s42.radikal.ru/i096/1001/08/e65ea91c18c3.jpg"/>
          <p:cNvPicPr/>
          <p:nvPr/>
        </p:nvPicPr>
        <p:blipFill>
          <a:blip r:embed="rId2"/>
          <a:stretch/>
        </p:blipFill>
        <p:spPr>
          <a:xfrm>
            <a:off x="2124000" y="2781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9">
            <a:hlinkClick r:id="" action="ppaction://hlinkshowjump?jump=nextslide"/>
          </p:cNvPr>
          <p:cNvSpPr/>
          <p:nvPr/>
        </p:nvSpPr>
        <p:spPr>
          <a:xfrm>
            <a:off x="8215200" y="6286680"/>
            <a:ext cx="35748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4788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0">
            <a:hlinkClick r:id="" action="ppaction://hlinkshowjump?jump=previousslide"/>
          </p:cNvPr>
          <p:cNvSpPr/>
          <p:nvPr/>
        </p:nvSpPr>
        <p:spPr>
          <a:xfrm rot="10800000">
            <a:off x="7632720" y="6286680"/>
            <a:ext cx="35712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4788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86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acc6"/>
                </a:solidFill>
                <a:latin typeface="Verdana"/>
              </a:rPr>
              <a:t>Зинаиде Ивановне Синюковой присвоено звание героя Советского Союз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14200" y="357120"/>
            <a:ext cx="3286080" cy="301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6480">
            <a:solidFill>
              <a:srgbClr val="be4b48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Победный день! Он и далёк и близок..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Везде салюты празднично гремят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Светлеют лица ветеранов от улыбок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А слёзы заблестят, отводят взгл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Четыре долгих и тяжёлых года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Стояла насмерть русская земля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Отцов,на фронт ушедших, на заводах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Сменяли,подрастая , сын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Как мало тех, кто воевал,осталось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Тех,кто в тылу вносил в Победу вклад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И в чьих сердцах без вида на усталость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Мы слышим грохот давних канон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Мы помним Вас,герои, поимённо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И гордо- "ветеранами"- зовём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И от потомков всей страны огромной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За ратный подвиг низкий, Вам ,поклон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m0-tub.yandex.net/i?id=2159941-04&amp;tov=0"/>
          <p:cNvPicPr/>
          <p:nvPr/>
        </p:nvPicPr>
        <p:blipFill>
          <a:blip r:embed="rId1"/>
          <a:stretch/>
        </p:blipFill>
        <p:spPr>
          <a:xfrm>
            <a:off x="3857760" y="1571760"/>
            <a:ext cx="3286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user</cp:lastModifiedBy>
  <cp:lastPrinted>2015-01-29T13:07:15Z</cp:lastPrinted>
  <dcterms:modified xsi:type="dcterms:W3CDTF">2020-11-08T16:26:14Z</dcterms:modified>
  <cp:revision>28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