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935A-DAA7-45E0-B614-FBC3BD81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4C8F-0D9E-45E0-B767-DDF4F5F7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96C-1BED-4755-B56E-6B87ED11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D57-6F6B-4098-9ACA-ED422240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90B-08C2-4597-91A6-3AC42742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4BF-180F-4692-AE47-B353853C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A42-FF9C-46A1-8CAF-2EB0FAEB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486-A746-4F6D-AD98-70261609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6F8-2BB5-45DB-91DF-6A91E72C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B88-166A-4F15-AEA9-6184194C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D77-3110-4DCB-8DA0-050FB244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B38-C849-477B-972B-833968A1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F7C2-A25D-4E7E-B487-3F09A485E500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-252360" y="0"/>
            <a:ext cx="5589360" cy="308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152960" y="5444640"/>
            <a:ext cx="496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Verdana"/>
              </a:rPr>
              <a:t>Выполнила: Половинкина О.С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ar2.ucoz.ru/_pu/2/93807.jpg"/>
          <p:cNvPicPr/>
          <p:nvPr/>
        </p:nvPicPr>
        <p:blipFill>
          <a:blip r:embed="rId1"/>
          <a:stretch/>
        </p:blipFill>
        <p:spPr>
          <a:xfrm>
            <a:off x="6227640" y="549360"/>
            <a:ext cx="261468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142920" y="285840"/>
            <a:ext cx="4429080" cy="4057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cap="rnd" w="6480">
            <a:solidFill>
              <a:srgbClr val="f6924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1" i="1" lang="ru-RU" sz="2000" spc="-1" strike="noStrike">
                <a:solidFill>
                  <a:srgbClr val="002060"/>
                </a:solidFill>
                <a:latin typeface="Verdana"/>
              </a:rPr>
              <a:t>Указом Президиума Верховного Совета СССР от 1 августа 1939 года в целях особого отличия граждан, удостоенных звания Героя Советского Союза и совершающих новые героические подвиги, учредили медаль “Золотая Звезда”, имеющую форму пятиконечной звезды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1"/>
          <p:cNvGrpSpPr/>
          <p:nvPr/>
        </p:nvGrpSpPr>
        <p:grpSpPr>
          <a:xfrm>
            <a:off x="826920" y="404640"/>
            <a:ext cx="7705440" cy="2087640"/>
            <a:chOff x="826920" y="404640"/>
            <a:chExt cx="7705440" cy="2087640"/>
          </a:xfrm>
        </p:grpSpPr>
        <p:pic>
          <p:nvPicPr>
            <p:cNvPr id="4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826920" y="404640"/>
              <a:ext cx="770544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3"/>
            <p:cNvSpPr/>
            <p:nvPr/>
          </p:nvSpPr>
          <p:spPr>
            <a:xfrm>
              <a:off x="891720" y="486720"/>
              <a:ext cx="7582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Calibri"/>
                </a:rPr>
                <a:t>     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</a:rPr>
                <a:t>«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Подвиг этот, будет в памяти жить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И в наших сердцах гореть!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Тех, кто с врагом был готов разделить,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  Поровну только смерть!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Verdana"/>
              </a:rPr>
              <a:t>Синюкова Зинаида Ивановн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Подзаголовок 2" descr=""/>
          <p:cNvPicPr/>
          <p:nvPr/>
        </p:nvPicPr>
        <p:blipFill>
          <a:blip r:embed="rId1"/>
          <a:stretch/>
        </p:blipFill>
        <p:spPr>
          <a:xfrm>
            <a:off x="317520" y="1523880"/>
            <a:ext cx="4333680" cy="4864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Users\Admin\Desktop\IMG_4378.JPG"/>
          <p:cNvPicPr/>
          <p:nvPr/>
        </p:nvPicPr>
        <p:blipFill>
          <a:blip r:embed="rId2"/>
          <a:stretch/>
        </p:blipFill>
        <p:spPr>
          <a:xfrm>
            <a:off x="5413320" y="1731960"/>
            <a:ext cx="32130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3286080" cy="38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Блестят на солнце ордена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Звенят торжественно медали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Гордится ими вся страна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Они свободу отстояли.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Всё меньше остаётся их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Седых защитников народа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Что приближали счастья миг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К победе шли четыре года.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Их украшает седина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Сияют новые медали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В долгу пред ними вся страна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Тепла они не ощущали.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Я в форме на парад иду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В душе царит благоговенье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Гремят фанфары раз в году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И продолжается забвенье.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Мы за свободу шли на бой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Войны безусые солдаты,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Чтоб защитить страну собой.</a:t>
            </a:r>
            <a:br>
              <a:rPr sz="1200"/>
            </a:br>
            <a:r>
              <a:rPr b="1" i="1" lang="ru-RU" sz="1200" spc="-1" strike="noStrike">
                <a:solidFill>
                  <a:srgbClr val="31859c"/>
                </a:solidFill>
                <a:latin typeface="Verdana"/>
              </a:rPr>
              <a:t>Уводят мысли в сорок пятый...</a:t>
            </a:r>
            <a:br>
              <a:rPr sz="9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Рисунок 6" descr="IMG_4378.JPG"/>
          <p:cNvPicPr/>
          <p:nvPr/>
        </p:nvPicPr>
        <p:blipFill>
          <a:blip r:embed="rId1"/>
          <a:stretch/>
        </p:blipFill>
        <p:spPr>
          <a:xfrm>
            <a:off x="5437080" y="1450800"/>
            <a:ext cx="362772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http://s42.radikal.ru/i096/1001/08/e65ea91c18c3.jpg"/>
          <p:cNvPicPr/>
          <p:nvPr/>
        </p:nvPicPr>
        <p:blipFill>
          <a:blip r:embed="rId2"/>
          <a:stretch/>
        </p:blipFill>
        <p:spPr>
          <a:xfrm>
            <a:off x="2124000" y="2781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5" name="Стрелка вправо 9">
            <a:hlinkClick r:id="" action="ppaction://hlinkshowjump?jump=nextslide"/>
          </p:cNvPr>
          <p:cNvSpPr/>
          <p:nvPr/>
        </p:nvSpPr>
        <p:spPr>
          <a:xfrm>
            <a:off x="8215200" y="6286680"/>
            <a:ext cx="357480" cy="428400"/>
          </a:xfrm>
          <a:prstGeom prst="rightArrow">
            <a:avLst>
              <a:gd name="adj1" fmla="val 50000"/>
              <a:gd name="adj2" fmla="val 116667"/>
            </a:avLst>
          </a:prstGeom>
          <a:gradFill rotWithShape="0">
            <a:gsLst>
              <a:gs pos="0">
                <a:srgbClr val="ffc000"/>
              </a:gs>
              <a:gs pos="100000">
                <a:srgbClr val="0d0d0d"/>
              </a:gs>
            </a:gsLst>
            <a:lin ang="5400000"/>
          </a:gradFill>
          <a:ln w="47880">
            <a:solidFill>
              <a:srgbClr val="ff0000">
                <a:alpha val="60000"/>
              </a:srgbClr>
            </a:solidFill>
            <a:miter/>
          </a:ln>
          <a:effectLst>
            <a:outerShdw dist="153753" dir="2700000" blurRad="0" rotWithShape="0">
              <a:srgbClr val="ffff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10">
            <a:hlinkClick r:id="" action="ppaction://hlinkshowjump?jump=previousslide"/>
          </p:cNvPr>
          <p:cNvSpPr/>
          <p:nvPr/>
        </p:nvSpPr>
        <p:spPr>
          <a:xfrm rot="10800000">
            <a:off x="7632720" y="6286680"/>
            <a:ext cx="357120" cy="428400"/>
          </a:xfrm>
          <a:prstGeom prst="rightArrow">
            <a:avLst>
              <a:gd name="adj1" fmla="val 50000"/>
              <a:gd name="adj2" fmla="val 116667"/>
            </a:avLst>
          </a:prstGeom>
          <a:gradFill rotWithShape="0">
            <a:gsLst>
              <a:gs pos="0">
                <a:srgbClr val="ffc000"/>
              </a:gs>
              <a:gs pos="100000">
                <a:srgbClr val="0d0d0d"/>
              </a:gs>
            </a:gsLst>
            <a:lin ang="5400000"/>
          </a:gradFill>
          <a:ln w="47880">
            <a:solidFill>
              <a:srgbClr val="ff0000">
                <a:alpha val="60000"/>
              </a:srgbClr>
            </a:solidFill>
            <a:miter/>
          </a:ln>
          <a:effectLst>
            <a:outerShdw dist="153753" dir="2700000" blurRad="0" rotWithShape="0">
              <a:srgbClr val="ffff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7868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acc6"/>
                </a:solidFill>
                <a:latin typeface="Verdana"/>
              </a:rPr>
              <a:t>Зинаиде Ивановне Синюковой присвоено звание героя Советского Союз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14200" y="357120"/>
            <a:ext cx="3286080" cy="301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6480">
            <a:solidFill>
              <a:srgbClr val="be4b48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Победный день! Он и далёк и близок...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Везде салюты празднично гремят.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Светлеют лица ветеранов от улыбок,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А слёзы заблестят, отводят взгля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Четыре долгих и тяжёлых года,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Стояла насмерть русская земля.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Отцов,на фронт ушедших, на заводах,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Сменяли,подрастая , сын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Как мало тех, кто воевал,осталось,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Тех,кто в тылу вносил в Победу вклад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И в чьих сердцах без вида на усталость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Мы слышим грохот давних канон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Мы помним Вас,герои, поимённо.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И гордо- "ветеранами"- зовём.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И от потомков всей страны огромной</a:t>
            </a:r>
            <a:br>
              <a:rPr sz="1200"/>
            </a:br>
            <a:r>
              <a:rPr b="1" i="1" lang="ru-RU" sz="1200" spc="-1" strike="noStrike">
                <a:solidFill>
                  <a:srgbClr val="17375e"/>
                </a:solidFill>
                <a:latin typeface="Verdana"/>
              </a:rPr>
              <a:t>За ратный подвиг низкий, Вам ,поклон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im0-tub.yandex.net/i?id=2159941-04&amp;tov=0"/>
          <p:cNvPicPr/>
          <p:nvPr/>
        </p:nvPicPr>
        <p:blipFill>
          <a:blip r:embed="rId1"/>
          <a:stretch/>
        </p:blipFill>
        <p:spPr>
          <a:xfrm>
            <a:off x="3857760" y="1571760"/>
            <a:ext cx="32860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58:09Z</dcterms:created>
  <dc:creator>Admin</dc:creator>
  <dc:description/>
  <dc:language>en-US</dc:language>
  <cp:lastModifiedBy>user</cp:lastModifiedBy>
  <cp:lastPrinted>2015-01-29T13:07:15Z</cp:lastPrinted>
  <dcterms:modified xsi:type="dcterms:W3CDTF">2020-11-08T16:26:14Z</dcterms:modified>
  <cp:revision>28</cp:revision>
  <dc:subject/>
  <dc:title>9 М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5381049</vt:lpwstr>
  </property>
</Properties>
</file>