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88A-81AA-4B07-A4F7-0499344C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690-F4E6-4725-96BE-7C55C414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DBE-3AF7-487B-967B-6E16CE25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7AF-91D7-4E7C-846D-3127B9BB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0A0-2BB4-41F4-B581-D1F3B1C8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E02-B25A-4D85-A711-C70CF3F2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64E-C49F-4929-BD1F-A20BD439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702-1E59-437D-B4BE-D140BDCA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098-658D-49CA-9A84-3344B1E6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597-2BA9-4D76-966F-F561AA5E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A97-4CC4-471B-9D4F-56B07796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857-0305-4364-9C68-186086C6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7ADA-A4B2-4470-AC64-22A08F8D489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42968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спользование ИКТ-технологий на уроках музыки в начальной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1500120" y="4429080"/>
            <a:ext cx="67150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аботу выполнила Кузнецова Елена Никола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учитель начальных классов и музы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МБОУ СШ №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язь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01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Дальние 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Формировать основы музыкаль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Развивать  творческие способности младших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спользуя технологии 21 века, развивать интерес обучающихся к данному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овершенствовать способности обучающихся к сотворчеству, сопережи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Ближние 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Развивать музыкальную память и слух, певческий гол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Закреплять  и расширять знания о музыке, полученные на уроке и внеклассных занятиях и мероприят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Активизировать  творческую  деятельность ребенка на уро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оздавать ситуацию успех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спользовать на уроках и внеурочной деятельности современные педагогические технологии и ИК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едагогические методы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1714320"/>
            <a:ext cx="42098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ет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етод эмоциональной драмату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ини-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ехнология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КТ-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Технология здоровьесбере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гров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28720" y="1500120"/>
            <a:ext cx="44290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азвивать  представление учеников о музыке, в том числе и с помощью ИКТ-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бучать школьников  работать с информацией,  делать 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Активизировать процесс обучения путем привлечения учащихся к исследовательск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азработать электронные карточки 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роводить физкультмину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азвивать интерес обучающися к предмету путем использования элементов игров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Трудности и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Труд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ет Интернета в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едостаток  технического  осна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азный уровень подготовк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Группа учеников проявляет пассивность при решении учеб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е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Обратиться к администрации  по поводу проведения занятий в кабинете, оборудованном Т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оздавать презентации и электронные разработки для активизации творческой деятельности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Использовать электронные карточки 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Разработать вариатив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оздавать  на уроке ситуацию успеха для каждого уче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омпьютер, проектор, эк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нтернет-ресурсы: презентации, электронные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ультимедийная библиот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етодическая литература по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Обмен опытом среди колл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Взаимосвязь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урсовая подготовка при СОИ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лан-граф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28760" y="1714680"/>
          <a:ext cx="8286480" cy="4814640"/>
        </p:xfrm>
        <a:graphic>
          <a:graphicData uri="http://schemas.openxmlformats.org/drawingml/2006/table">
            <a:tbl>
              <a:tblPr/>
              <a:tblGrid>
                <a:gridCol w="2643120"/>
                <a:gridCol w="5643360"/>
              </a:tblGrid>
              <a:tr h="5889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Время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120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- окт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ние работы  на учебный г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ная диагностика. Создание электронных карточек роста. Разработка тематических презент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 - дека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е на уроках электронных разработок: кроссвордов, загадок, тес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ение изученного в 1 полугодии материала. Проведение виктори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 -февр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и участие в конкурсе «Первые шаги» Индивидуальные консульт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открытого мероприятия с приглашением администрации и коллег. Использование на уроке  ИКТ-технолог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План-граф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00040" y="1643040"/>
          <a:ext cx="8215200" cy="3687840"/>
        </p:xfrm>
        <a:graphic>
          <a:graphicData uri="http://schemas.openxmlformats.org/drawingml/2006/table">
            <a:tbl>
              <a:tblPr/>
              <a:tblGrid>
                <a:gridCol w="2857680"/>
                <a:gridCol w="535752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Время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тр знаний с приглашением родителей, администрации и учителей-предметнико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>
                      <a:noFill/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е на уроках электронных разработок: кроссвордов, загадок, тес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ение изученного во 2 полугодии материала. Проведение викторины. Выступление на методическом объединении учи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91476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 на всех уроках и внеурочной деятельности применяются технологии сотрудничества, информационных и здоровьесберегающих технологий, а также личностно-ориентированного обуче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0-11-08T14:20:39Z</dcterms:modified>
  <cp:revision>726</cp:revision>
  <dc:subject/>
  <dc:title>Diapositiva 1</dc:title>
</cp:coreProperties>
</file>