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2EC-AC11-4449-836C-5930B84A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4E9-A6BA-4BC1-963A-15F57B93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3EC-7F87-4520-8A58-E7FCB64D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377-A8B3-4872-A11B-EB09BBCF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FEF-D9E8-4FBF-91E8-6EB3DFAC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6CF-E38F-4FF8-A26F-135A755B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8FA-2881-49F5-8CAE-6C15C629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268-D138-4F57-8BD1-50D82E8D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1ED-DE41-472C-A300-6BD71DB8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60C-34BC-4C8B-AECF-323FCC00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748-0214-407C-89B5-BBE2AF7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EA7-E0E3-4ABE-8948-7F53D84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973B-9DA6-4983-BB85-F3548C7F47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42968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спользование ИКТ-технологий на уроках музыки в начальной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1500120" y="4429080"/>
            <a:ext cx="67150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аботу выполнила Кузнецова Елена Никола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учитель начальных классов и музы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БОУ СШ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язь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01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Дальние 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Формировать основы музыкаль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Развивать  творческие способности младших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спользуя технологии 21 века, развивать интерес обучающихся к данному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овершенствовать способности обучающихся к сотворчеству, сопережи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Ближние 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Развивать музыкальную память и слух, певческий гол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Закреплять  и расширять знания о музыке, полученные на уроке и внеклассных занятиях и мероприят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Активизировать  творческую  деятельность ребенка на уро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оздавать ситуацию успе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спользовать на уроках и внеурочной деятельности современные педагогические технологии и И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едагогические методы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714320"/>
            <a:ext cx="42098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ет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етод эмоциональной драмат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ини-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ехнология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КТ-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ехнология здоровьесбере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гров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28720" y="1500120"/>
            <a:ext cx="44290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звивать  представление учеников о музыке, в том числе и с помощью ИКТ-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бучать школьников  работать с информацией,  делать 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Активизировать процесс обучения путем привлечения учащихся к исследовательск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зработать электронные карточки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роводить физкультмину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звивать интерес обучающися к предмету путем использования элементов игров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Трудности и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Труд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ет Интернета в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едостаток  технического  осна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азный уровень подготовк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Группа учеников проявляет пассивность при решении учеб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братиться к администрации  по поводу проведения занятий в кабинете, оборудованном Т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оздавать презентации и электронные разработки для активизации творческой деятельности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спользовать электронные карточки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зработать вариатив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оздавать  на уроке ситуацию успеха для каждого уче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омпьютер, проектор, эк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нтернет-ресурсы: презентации, электронные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ультимедийная библиот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етодическая литература по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бмен опытом среди колл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Взаимосвязь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урсовая подготовка при СОИ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лан-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28760" y="1714680"/>
          <a:ext cx="8286480" cy="4814640"/>
        </p:xfrm>
        <a:graphic>
          <a:graphicData uri="http://schemas.openxmlformats.org/drawingml/2006/table">
            <a:tbl>
              <a:tblPr/>
              <a:tblGrid>
                <a:gridCol w="2643120"/>
                <a:gridCol w="5643360"/>
              </a:tblGrid>
              <a:tr h="588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Время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120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- 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ние работы  на учебный г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ная диагностика. Создание электронных карточек роста. Разработка тематических презент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 - 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 на уроках электронных разработок: кроссвордов, загадок, тес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ение изученного в 1 полугодии материала. Проведение виктори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 -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и участие в конкурсе «Первые шаги» Индивидуальные консульт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открытого мероприятия с приглашением администрации и коллег. Использование на уроке  ИКТ-технолог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лан-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00040" y="1643040"/>
          <a:ext cx="8215200" cy="3687840"/>
        </p:xfrm>
        <a:graphic>
          <a:graphicData uri="http://schemas.openxmlformats.org/drawingml/2006/table">
            <a:tbl>
              <a:tblPr/>
              <a:tblGrid>
                <a:gridCol w="2857680"/>
                <a:gridCol w="53575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Время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тр знаний с приглашением родителей, администрации и учителей-предметнико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 на уроках электронных разработок: кроссвордов, загадок, тес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ение изученного во 2 полугодии материала. Проведение викторины. Выступление на методическом объединении учи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9147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 на всех уроках и внеурочной деятельности применяются технологии сотрудничества, информационных и здоровьесберегающих технологий, а также личностно-ориентированного обуче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11-08T14:20:39Z</dcterms:modified>
  <cp:revision>726</cp:revision>
  <dc:subject/>
  <dc:title>Diapositiva 1</dc:title>
</cp:coreProperties>
</file>