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6034-FE37-4CFA-AD6C-2CCF163FE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AAA9-C2F2-4D38-B33D-F13BCB139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4191-263E-454E-B701-2DAA562A1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2EEB-8919-4668-818A-8E6EE4E37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1BAF9-C510-4C3B-8AA7-003C2DCE3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E1247-7256-4F1B-B2D9-7CE0C4191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37D77-FC3A-40BC-84C4-68DC8AA13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C6382-24DD-4FA9-BACB-EF398BCBB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54872-7254-443F-8AA7-30D0B5D66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44F76-FD9E-4B1D-A627-288C15C7A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A4BBD-A1C0-4848-84B8-D81F484C0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DA4F-944F-43AC-B975-5A36FF97A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C1038-BC27-4F5C-B137-0AB700DE8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6BD1A-C7C4-4957-8FF0-EA4092260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E0EA2-B0A1-4A3D-BEFA-7B18B28A6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D8C9F-A9A6-4117-95D3-40E7D8CF5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5D0E6-4450-46D7-A1AE-65C7219B0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0F82-081E-420D-8EA1-1E0A01311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302C-B05F-4CE1-B9F2-13C6C77B6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BC4C-88D3-443E-8BCC-00D18F970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8A0C-29A0-444D-BC06-8572A44F9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4D0D-FDCD-4612-8A65-DC6222CDE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4FBC-EEB2-48A4-9662-ADAF48035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74BB-6072-43E3-8CD5-6FD46204D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8aa79c"/>
                </a:gs>
                <a:gs pos="50000">
                  <a:srgbClr val="a4c6ba"/>
                </a:gs>
                <a:gs pos="100000">
                  <a:srgbClr val="8aa79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74139"/>
                </a:gs>
                <a:gs pos="50000">
                  <a:srgbClr val="558f7d"/>
                </a:gs>
                <a:gs pos="100000">
                  <a:srgbClr val="2741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73881-241C-4389-991E-1704A84A5B8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8aa79c"/>
                </a:gs>
                <a:gs pos="50000">
                  <a:srgbClr val="a4c6ba"/>
                </a:gs>
                <a:gs pos="100000">
                  <a:srgbClr val="8aa79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74139"/>
                </a:gs>
                <a:gs pos="50000">
                  <a:srgbClr val="558f7d"/>
                </a:gs>
                <a:gs pos="100000">
                  <a:srgbClr val="2741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6D3CF-0658-4B2C-AA77-AB84C97FCD1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0605a"/>
                </a:solidFill>
                <a:latin typeface="Arial"/>
              </a:rPr>
              <a:t>История как наука</a:t>
            </a:r>
            <a:endParaRPr b="0" lang="en-US" sz="6600" spc="-1" strike="noStrike">
              <a:solidFill>
                <a:srgbClr val="3060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0605a"/>
                </a:solidFill>
                <a:latin typeface="Arial"/>
              </a:rPr>
              <a:t>Периодизация, основанная на формационном подходе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вобытно-общинный стр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владельческая форм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еодал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питал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муниз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0605a"/>
                </a:solidFill>
                <a:latin typeface="Arial"/>
              </a:rPr>
              <a:t>Периодизация, основанная на историко-социальном подходе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индустриальное (традиционное) общ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дустриальное общ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тиндустриальное общ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0605a"/>
                </a:solidFill>
                <a:latin typeface="Arial"/>
              </a:rPr>
              <a:t>Вспомогательные исторические дисциплины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леограф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енеало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номас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фрагис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умизма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роноло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тролог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еральди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Исторические источники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исьменные                Веществе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стные        Лингвистическ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1835280" y="1125360"/>
            <a:ext cx="288720" cy="50328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148360" y="1125360"/>
            <a:ext cx="431640" cy="50328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2627280" y="1052640"/>
            <a:ext cx="432000" cy="172872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924360" y="981000"/>
            <a:ext cx="431640" cy="180036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68360" y="4292640"/>
            <a:ext cx="7056360" cy="1800360"/>
          </a:xfrm>
          <a:prstGeom prst="rect">
            <a:avLst/>
          </a:prstGeom>
          <a:solidFill>
            <a:srgbClr val="a4c6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11280" y="4365720"/>
            <a:ext cx="6556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торические источники – остатки прошлого, которые связаны с деятельностью людей и отражают историю человеческого общ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0605a"/>
                </a:solidFill>
                <a:latin typeface="Arial"/>
              </a:rPr>
              <a:t>История (от греч. «</a:t>
            </a:r>
            <a:r>
              <a:rPr b="0" lang="en-US" sz="3600" spc="-1" strike="noStrike">
                <a:solidFill>
                  <a:srgbClr val="30605a"/>
                </a:solidFill>
                <a:latin typeface="Arial"/>
              </a:rPr>
              <a:t>history</a:t>
            </a:r>
            <a:r>
              <a:rPr b="0" lang="ru-RU" sz="3600" spc="-1" strike="noStrike">
                <a:solidFill>
                  <a:srgbClr val="30605a"/>
                </a:solidFill>
                <a:latin typeface="Arial"/>
              </a:rPr>
              <a:t>» - рассказ о прошлом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цесс возникновения и развития человеческого обществ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истема наук, изучающих прошлое человеч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ъект истории – исторические фак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мет истории – человеческое общ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Задачи исторической науки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341000"/>
            <a:ext cx="73864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знаватель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спитатель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гностичес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вивающ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0605a"/>
                </a:solidFill>
                <a:latin typeface="Arial"/>
              </a:rPr>
              <a:t>Методы исторического исследования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0" y="2637000"/>
          <a:ext cx="9144000" cy="3789360"/>
        </p:xfrm>
        <a:graphic>
          <a:graphicData uri="http://schemas.openxmlformats.org/drawingml/2006/table">
            <a:tbl>
              <a:tblPr/>
              <a:tblGrid>
                <a:gridCol w="2658960"/>
                <a:gridCol w="2987640"/>
                <a:gridCol w="34974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енауч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ециальные (исторические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кладные (вспомогательные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6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SzPct val="102884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огическ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SzPct val="102884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ссификаци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SzPct val="102884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ронологическ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SzPct val="102884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троспектив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SzPct val="102884"/>
                        <a:buBlip>
                          <a:blip r:embed="rId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ронологическо-проблем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SzPct val="102884"/>
                        <a:buBlip>
                          <a:blip r:embed="rId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блемно-хронологическ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SzPct val="102884"/>
                        <a:buBlip>
                          <a:blip r:embed="rId7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матическ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SzPct val="102884"/>
                        <a:buBlip>
                          <a:blip r:embed="rId8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тистическ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SzPct val="102884"/>
                        <a:buBlip>
                          <a:blip r:embed="rId9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циально-психологическ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SzPct val="102884"/>
                        <a:buBlip>
                          <a:blip r:embed="rId10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ент-анали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"/>
          <p:cNvSpPr/>
          <p:nvPr/>
        </p:nvSpPr>
        <p:spPr>
          <a:xfrm flipH="1">
            <a:off x="1403280" y="1341360"/>
            <a:ext cx="1224000" cy="115092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140360" y="1341360"/>
            <a:ext cx="0" cy="122400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80000" y="1341360"/>
            <a:ext cx="1224000" cy="115092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0605a"/>
                </a:solidFill>
                <a:latin typeface="Arial"/>
              </a:rPr>
              <a:t>Принципы исторического исследования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Объективиз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факты используются в их истинном содержа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Историз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 все явления и факты необходимо рассматривать в конкретной исторической обстанов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Социальный подхо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при интерпретации источников учитывается социальное происхождение их авт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0605a"/>
                </a:solidFill>
                <a:latin typeface="Arial"/>
              </a:rPr>
              <a:t>Историко-философские подходы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263520" y="1598760"/>
          <a:ext cx="8412120" cy="3774600"/>
        </p:xfrm>
        <a:graphic>
          <a:graphicData uri="http://schemas.openxmlformats.org/drawingml/2006/table">
            <a:tbl>
              <a:tblPr/>
              <a:tblGrid>
                <a:gridCol w="4237200"/>
                <a:gridCol w="4174920"/>
              </a:tblGrid>
              <a:tr h="184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Формационный</a:t>
                      </a:r>
                      <a:r>
                        <a:rPr b="0" lang="en-US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социально-экономический, марксистский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Цивилизацион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культурно-исторический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. Маркс, Ф. Энгельс, В.И. Лен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гель, Ясперс, Тойнби, Вик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" name=""/>
          <p:cNvSpPr/>
          <p:nvPr/>
        </p:nvSpPr>
        <p:spPr>
          <a:xfrm flipH="1">
            <a:off x="2987280" y="1197000"/>
            <a:ext cx="358920" cy="36036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724360" y="1052640"/>
            <a:ext cx="360360" cy="43164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Периодизация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анная на цивилизационном подх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анная на формационном подх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анная на историческо-социальном подх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0605a"/>
                </a:solidFill>
                <a:latin typeface="Arial"/>
              </a:rPr>
              <a:t>Периодизация, основанная на цивилизационном подходе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ревний м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редневеков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овое вр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овейшее вр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3T13:01:39Z</dcterms:created>
  <dc:creator>User</dc:creator>
  <dc:description/>
  <dc:language>en-US</dc:language>
  <cp:lastModifiedBy>User</cp:lastModifiedBy>
  <dcterms:modified xsi:type="dcterms:W3CDTF">2012-09-03T14:41:43Z</dcterms:modified>
  <cp:revision>2</cp:revision>
  <dc:subject/>
  <dc:title>История как наука</dc:title>
</cp:coreProperties>
</file>