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1BB-0983-4C85-9481-0133246B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E1C-845A-4C33-BCAE-C078ADF3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CA7-3230-4BD7-9693-241DF412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024-C767-4EFA-9238-67D63F55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F32-C354-4144-903E-2D5C3191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EAFE-5AD3-4FD6-8E35-B1D88FD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F80E-7B6A-4B57-89B3-EC85C81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3C27-B8BA-4A69-A02B-44C5496E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86A2-EEE0-42D8-9C68-4CAF6F11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3C71-0B83-4B88-A4C6-0920698A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FFE1-F6BB-4758-AA69-A3BEE015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528-AA4F-40CE-B2CC-DDEF4FEF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E7DF-4D47-4CBC-B2BF-698EFBA1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74DB-CA67-48A1-977A-502052C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3450-8870-4826-9D02-F87CE976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0471-C025-48B3-801A-EF0DE9DF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B67B-0B75-4FF9-B10D-3E5021CF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DB3-6D7A-49F4-A554-6E3BE558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6A6-C7C2-4B46-98C1-AE005296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561-CCC6-4287-A3AC-7DCF8A9B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B64-5D97-4D33-820D-8DCF20C5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B94-B3F6-4E7C-9D61-4895E722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278-6837-42ED-8B13-8ED57CC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5F7-A2AB-4021-BA9C-F62AEB9B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3036-665E-4BCD-967D-DF9ACFDDA8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F56-A393-4557-94BE-3581758B05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0605a"/>
                </a:solidFill>
                <a:latin typeface="Arial"/>
              </a:rPr>
              <a:t>История как наука</a:t>
            </a:r>
            <a:endParaRPr b="0" lang="en-US" sz="66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Периодизация, основанная на формационном подход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бытно-общинный 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владельческая 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од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ит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Периодизация, основанная на историко-социальном подход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индустриальное (традиционное)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стриальн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индустриальн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Вспомогательные исторические дисциплин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ле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неа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ом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раг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миз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р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альд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Исторические источники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               Веще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ные        Лингвис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1125360"/>
            <a:ext cx="288720" cy="503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8360" y="1125360"/>
            <a:ext cx="431640" cy="503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627280" y="1052640"/>
            <a:ext cx="432000" cy="1728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981000"/>
            <a:ext cx="431640" cy="180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292640"/>
            <a:ext cx="7056360" cy="1800360"/>
          </a:xfrm>
          <a:prstGeom prst="rect">
            <a:avLst/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4365720"/>
            <a:ext cx="655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рические источники – остатки прошлого, которые связаны с деятельностью людей и отражают историю человеческ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История (от греч. «</a:t>
            </a: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history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» - рассказ о прошлом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возникновения и развития человеческого об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наук, изучающих прошлое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 истории – исторические фа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 истории – человеческ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Задачи исторической науки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Методы исторического исследовани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637000"/>
          <a:ext cx="9144000" cy="3789360"/>
        </p:xfrm>
        <a:graphic>
          <a:graphicData uri="http://schemas.openxmlformats.org/drawingml/2006/table">
            <a:tbl>
              <a:tblPr/>
              <a:tblGrid>
                <a:gridCol w="2658960"/>
                <a:gridCol w="2987640"/>
                <a:gridCol w="349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нау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ые (историческ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ые (вспомогатель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троспекти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ологическо-пробле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но-хрон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с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псих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ент-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H="1">
            <a:off x="1403280" y="1341360"/>
            <a:ext cx="1224000" cy="1150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1341360"/>
            <a:ext cx="0" cy="1224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0000" y="1341360"/>
            <a:ext cx="1224000" cy="1150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Принципы исторического исследовани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бъективи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факты используются в их истинном содерж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Истори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все явления и факты необходимо рассматривать в конкретной исторической обстан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Социальный подх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ри интерпретации источников учитывается социальное происхождение их ав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Историко-философские подход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3520" y="1598760"/>
          <a:ext cx="8412120" cy="3774600"/>
        </p:xfrm>
        <a:graphic>
          <a:graphicData uri="http://schemas.openxmlformats.org/drawingml/2006/table">
            <a:tbl>
              <a:tblPr/>
              <a:tblGrid>
                <a:gridCol w="4237200"/>
                <a:gridCol w="4174920"/>
              </a:tblGrid>
              <a:tr h="18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ормационный</a:t>
                      </a: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оциально-экономический, марксист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Цивилизаци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ультурно-историче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. Маркс, Ф. Энгельс, В.И. Ле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гель, Ясперс, Тойнби, Ви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H="1">
            <a:off x="2987280" y="1197000"/>
            <a:ext cx="358920" cy="3603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4360" y="1052640"/>
            <a:ext cx="360360" cy="431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Периодизаци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ная на цивилизационном подх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ная на формационном подх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ная на историческо-социальном подх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Периодизация, основанная на цивилизационном подход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евек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3:01:39Z</dcterms:created>
  <dc:creator>User</dc:creator>
  <dc:description/>
  <dc:language>en-US</dc:language>
  <cp:lastModifiedBy>User</cp:lastModifiedBy>
  <dcterms:modified xsi:type="dcterms:W3CDTF">2012-09-03T14:41:43Z</dcterms:modified>
  <cp:revision>2</cp:revision>
  <dc:subject/>
  <dc:title>История как наука</dc:title>
</cp:coreProperties>
</file>