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9A93-B8D6-4F2A-BFCB-C742211E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396-FF2E-41D2-BF20-CF1AE8E7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9DE3-07FC-4B6A-A3A8-59A1179F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3745-DD2A-4D1A-8A9C-E0837008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100E-24EF-4B2D-9DD9-66FEE4B7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7806-82E6-4F70-ADCD-52B72F93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A586-A6E3-45C3-839B-1F869F13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9404-5DBB-4B8C-A184-2FDFAC0C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E856-1EC1-45FE-A162-436475AC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7948-9800-427C-BDF8-1BCBCE51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7A60-ACBA-498C-A40C-3F743271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53C8-2716-4A40-97B3-40FDBCAB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2CAA-453E-4AED-98AB-BC1E5417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4E1D-2CCA-476C-B1EF-FABA7043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9763-05FA-444B-A38B-CA83B337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8C73-8BE6-4175-9817-90B9CF19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C4E9-48D7-4F15-9216-3A9BFF9A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7516F-2B88-438A-B505-6A4A67C8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E254C-CBCB-4E0F-97BC-FFBA48FC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774B7-734B-4E28-BE07-350B183E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91AFF-1895-4EEB-AB50-E64A2842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FB489-25DF-4CA2-B3A4-7125C1FE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28A3-DD64-4DDD-AD45-4106F1A4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C2582-E2CD-45F4-93D1-C6633928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0DE16-01F5-4414-A7D1-C8ECA7EE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24B0C-475F-49D4-94F2-11331827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A9D45-4A26-4F4E-914A-D3DD7482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8A76F-6A06-472A-BD1E-B545F8A5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E7C16-3A33-4CF1-B12A-50CF1ED4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24B04-847F-4CD0-B75A-C8AD876E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8DE0C-69F5-40F3-9E95-6D361C85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06A89-B197-4C4D-A7B3-D1C6E68A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4D511-E1E2-47C9-AA15-12F1DFF6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D7AB-0774-4623-ADA5-FC0FFF3C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063D0-0213-479F-9072-27AD4FA1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80A1D-135F-4ACF-B792-FB11E579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58E69-A880-4DF4-8B51-59DDA626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43EBB-2E0C-459B-AC09-228EB1C5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4F19C-D3D7-424C-B26E-2813CFF6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6CF4D-9A1A-4637-8F6B-A16817F3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B31A6-BA77-4C8A-B79A-49730949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CCB76-4520-4FA5-962E-B1D69F2B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77E99-C8A6-427C-84F5-7CBC90C2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E133-6D55-4383-B139-BB51AFEF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9A6A-44D2-4E35-97BC-905A3C59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9A92-5341-4989-8928-52F7409B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77CB-8954-48E0-97A3-B929442A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199C-F874-4D5A-8AEE-20906595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418B55-19D1-4721-8595-937FA9BC739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9BD40-A79A-4681-BD2E-2254A69F991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14ECA-77D3-490F-8E19-7F3094E11B8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048A39-8D15-46BE-B056-0EA1708802B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6120" y="609480"/>
            <a:ext cx="8242200" cy="30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   </a:t>
            </a:r>
            <a:r>
              <a:rPr b="0" lang="ru-RU" sz="9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Киемн</a:t>
            </a:r>
            <a:r>
              <a:rPr b="0" lang="tt-RU" sz="9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әр</a:t>
            </a:r>
            <a:endParaRPr b="0" lang="en-US" sz="9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31760" y="3286080"/>
            <a:ext cx="9731520" cy="199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8800" spc="-1" strike="noStrike">
                <a:solidFill>
                  <a:srgbClr val="74330c"/>
                </a:solidFill>
                <a:latin typeface="Times New Roman"/>
                <a:ea typeface="Times New Roman"/>
              </a:rPr>
              <a:t>        </a:t>
            </a:r>
            <a:r>
              <a:rPr b="0" lang="tt-RU" sz="8000" spc="-1" strike="noStrike">
                <a:solidFill>
                  <a:srgbClr val="74330c"/>
                </a:solidFill>
                <a:latin typeface="Times New Roman"/>
                <a:ea typeface="Times New Roman"/>
              </a:rPr>
              <a:t>Оде</a:t>
            </a:r>
            <a:r>
              <a:rPr b="0" lang="ru-RU" sz="8000" spc="-1" strike="noStrike">
                <a:solidFill>
                  <a:srgbClr val="74330c"/>
                </a:solidFill>
                <a:latin typeface="Times New Roman"/>
                <a:ea typeface="Times New Roman"/>
              </a:rPr>
              <a:t>жда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847600" y="5343120"/>
            <a:ext cx="68454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2600" spc="-1" strike="noStrike">
                <a:solidFill>
                  <a:srgbClr val="212d32"/>
                </a:solidFill>
                <a:latin typeface="Times New Roman"/>
                <a:ea typeface="Times New Roman"/>
              </a:rPr>
              <a:t>1 категорияле татар теле һәм әдәбияты укытучысы Хәйруллина Фәйрүзә Сәлих кызы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3" descr=""/>
          <p:cNvPicPr/>
          <p:nvPr/>
        </p:nvPicPr>
        <p:blipFill>
          <a:blip r:embed="rId1"/>
          <a:stretch/>
        </p:blipFill>
        <p:spPr>
          <a:xfrm>
            <a:off x="2063880" y="614520"/>
            <a:ext cx="7994520" cy="5968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1966680"/>
            <a:ext cx="8596440" cy="182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9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       </a:t>
            </a:r>
            <a:r>
              <a:rPr b="0" i="1" lang="tt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лбар</a:t>
            </a:r>
            <a:endParaRPr b="0" lang="en-US" sz="9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http://www.bookin.org.ru/book/2910106.jpg"/>
          <p:cNvPicPr/>
          <p:nvPr/>
        </p:nvPicPr>
        <p:blipFill>
          <a:blip r:embed="rId1"/>
          <a:stretch/>
        </p:blipFill>
        <p:spPr>
          <a:xfrm>
            <a:off x="1084320" y="1085760"/>
            <a:ext cx="8448480" cy="5772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03440" y="1836720"/>
            <a:ext cx="859608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4000" spc="-1" strike="noStrike">
                <a:solidFill>
                  <a:srgbClr val="90c226"/>
                </a:solidFill>
                <a:latin typeface="Trebuchet MS"/>
              </a:rPr>
              <a:t>                   </a:t>
            </a:r>
            <a:r>
              <a:rPr b="0" i="1" lang="tt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фта </a:t>
            </a:r>
            <a:r>
              <a:rPr b="0" i="1" lang="tt-RU" sz="9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</a:t>
            </a:r>
            <a:r>
              <a:rPr b="0" lang="tt-RU" sz="4000" spc="-1" strike="noStrike">
                <a:solidFill>
                  <a:srgbClr val="90c226"/>
                </a:solidFill>
                <a:latin typeface="Trebuchet MS"/>
              </a:rPr>
              <a:t> 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77520" y="4527360"/>
            <a:ext cx="8596440" cy="4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1080" bIns="-1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5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3" descr=""/>
          <p:cNvPicPr/>
          <p:nvPr/>
        </p:nvPicPr>
        <p:blipFill>
          <a:blip r:embed="rId1"/>
          <a:stretch/>
        </p:blipFill>
        <p:spPr>
          <a:xfrm>
            <a:off x="992160" y="652320"/>
            <a:ext cx="9366120" cy="5918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17720" y="1619280"/>
            <a:ext cx="8596080" cy="209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9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       </a:t>
            </a:r>
            <a:r>
              <a:rPr b="0" i="1" lang="tt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яләй</a:t>
            </a:r>
            <a:endParaRPr b="0" lang="en-US" sz="9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77520" y="4527360"/>
            <a:ext cx="8596440" cy="4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1080" bIns="-1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5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2700360"/>
            <a:ext cx="859644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77520" y="4527720"/>
            <a:ext cx="859644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34" name="Рисунок 4" descr=""/>
          <p:cNvPicPr/>
          <p:nvPr/>
        </p:nvPicPr>
        <p:blipFill>
          <a:blip r:embed="rId1"/>
          <a:stretch/>
        </p:blipFill>
        <p:spPr>
          <a:xfrm>
            <a:off x="831960" y="379440"/>
            <a:ext cx="10515600" cy="6008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20960" y="1593720"/>
            <a:ext cx="8634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tt-RU" sz="3600" spc="-1" strike="noStrike">
                <a:solidFill>
                  <a:srgbClr val="90c226"/>
                </a:solidFill>
                <a:latin typeface="Trebuchet MS"/>
              </a:rPr>
              <a:t>                 </a:t>
            </a:r>
            <a:r>
              <a:rPr b="0" i="1" lang="tt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фли</a:t>
            </a:r>
            <a:endParaRPr b="0" lang="en-US" sz="9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1" descr=""/>
          <p:cNvPicPr/>
          <p:nvPr/>
        </p:nvPicPr>
        <p:blipFill>
          <a:blip r:embed="rId1"/>
          <a:stretch/>
        </p:blipFill>
        <p:spPr>
          <a:xfrm>
            <a:off x="0" y="380880"/>
            <a:ext cx="1219212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96560" y="1893600"/>
            <a:ext cx="8713800" cy="18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0" i="1" lang="tt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ез итек</a:t>
            </a:r>
            <a:endParaRPr b="0" lang="en-US" sz="9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77520" y="4527360"/>
            <a:ext cx="8596440" cy="4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1080" bIns="-1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5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http://neuroscience.spb.ru/img/pokupat-platki-2.jpg"/>
          <p:cNvPicPr/>
          <p:nvPr/>
        </p:nvPicPr>
        <p:blipFill>
          <a:blip r:embed="rId1"/>
          <a:stretch/>
        </p:blipFill>
        <p:spPr>
          <a:xfrm>
            <a:off x="1593720" y="1189080"/>
            <a:ext cx="8164800" cy="5068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6" descr=""/>
          <p:cNvPicPr/>
          <p:nvPr/>
        </p:nvPicPr>
        <p:blipFill>
          <a:blip r:embed="rId1"/>
          <a:stretch/>
        </p:blipFill>
        <p:spPr>
          <a:xfrm>
            <a:off x="2390760" y="417600"/>
            <a:ext cx="7732800" cy="6165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3689280" y="1649520"/>
            <a:ext cx="316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tt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1423800"/>
            <a:ext cx="8596440" cy="16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9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</a:t>
            </a:r>
            <a:r>
              <a:rPr b="0" lang="tt-RU" sz="8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илли киемнәр</a:t>
            </a:r>
            <a:endParaRPr b="0" lang="en-US" sz="8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7520" y="3512880"/>
            <a:ext cx="8596440" cy="15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6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</a:t>
            </a:r>
            <a:r>
              <a:rPr b="0" lang="tt-RU" sz="6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На</a:t>
            </a:r>
            <a:r>
              <a:rPr b="0" lang="ru-RU" sz="6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циональная одежда </a:t>
            </a:r>
            <a:endParaRPr b="0" lang="en-US" sz="6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1" descr=""/>
          <p:cNvPicPr/>
          <p:nvPr/>
        </p:nvPicPr>
        <p:blipFill>
          <a:blip r:embed="rId1"/>
          <a:stretch/>
        </p:blipFill>
        <p:spPr>
          <a:xfrm>
            <a:off x="731880" y="587520"/>
            <a:ext cx="4949640" cy="569592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2" descr=""/>
          <p:cNvPicPr/>
          <p:nvPr/>
        </p:nvPicPr>
        <p:blipFill>
          <a:blip r:embed="rId2"/>
          <a:stretch/>
        </p:blipFill>
        <p:spPr>
          <a:xfrm>
            <a:off x="6060960" y="587520"/>
            <a:ext cx="5291280" cy="569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" descr=""/>
          <p:cNvPicPr/>
          <p:nvPr/>
        </p:nvPicPr>
        <p:blipFill>
          <a:blip r:embed="rId1"/>
          <a:stretch/>
        </p:blipFill>
        <p:spPr>
          <a:xfrm>
            <a:off x="0" y="1071720"/>
            <a:ext cx="12192120" cy="57862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77520" y="262080"/>
            <a:ext cx="8596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            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Рус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хал</a:t>
            </a:r>
            <a:r>
              <a:rPr b="0" lang="tt-RU" sz="3600" spc="-1" strike="noStrike">
                <a:solidFill>
                  <a:srgbClr val="90c226"/>
                </a:solidFill>
                <a:latin typeface="Trebuchet MS"/>
              </a:rPr>
              <a:t>кының милли кием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"/>
          <p:cNvPicPr/>
          <p:nvPr/>
        </p:nvPicPr>
        <p:blipFill>
          <a:blip r:embed="rId1"/>
          <a:stretch/>
        </p:blipFill>
        <p:spPr>
          <a:xfrm>
            <a:off x="339840" y="585720"/>
            <a:ext cx="5106960" cy="56865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2" descr=""/>
          <p:cNvPicPr/>
          <p:nvPr/>
        </p:nvPicPr>
        <p:blipFill>
          <a:blip r:embed="rId2"/>
          <a:stretch/>
        </p:blipFill>
        <p:spPr>
          <a:xfrm>
            <a:off x="6218280" y="585720"/>
            <a:ext cx="5081400" cy="568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1" descr=""/>
          <p:cNvPicPr/>
          <p:nvPr/>
        </p:nvPicPr>
        <p:blipFill>
          <a:blip r:embed="rId1"/>
          <a:stretch/>
        </p:blipFill>
        <p:spPr>
          <a:xfrm>
            <a:off x="0" y="1619280"/>
            <a:ext cx="12192120" cy="523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3600" spc="-1" strike="noStrike">
                <a:solidFill>
                  <a:srgbClr val="90c226"/>
                </a:solidFill>
                <a:latin typeface="Trebuchet MS"/>
              </a:rPr>
              <a:t>          </a:t>
            </a:r>
            <a:r>
              <a:rPr b="0" lang="tt-RU" sz="3600" spc="-1" strike="noStrike">
                <a:solidFill>
                  <a:srgbClr val="90c226"/>
                </a:solidFill>
                <a:latin typeface="Trebuchet MS"/>
              </a:rPr>
              <a:t>Башкорт  халык милли кием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1" descr=""/>
          <p:cNvPicPr/>
          <p:nvPr/>
        </p:nvPicPr>
        <p:blipFill>
          <a:blip r:embed="rId1"/>
          <a:stretch/>
        </p:blipFill>
        <p:spPr>
          <a:xfrm>
            <a:off x="1266840" y="274680"/>
            <a:ext cx="3944880" cy="613872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2" descr=""/>
          <p:cNvPicPr/>
          <p:nvPr/>
        </p:nvPicPr>
        <p:blipFill>
          <a:blip r:embed="rId2"/>
          <a:stretch/>
        </p:blipFill>
        <p:spPr>
          <a:xfrm>
            <a:off x="6375240" y="274680"/>
            <a:ext cx="3760920" cy="613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1" descr=""/>
          <p:cNvPicPr/>
          <p:nvPr/>
        </p:nvPicPr>
        <p:blipFill>
          <a:blip r:embed="rId1"/>
          <a:stretch/>
        </p:blipFill>
        <p:spPr>
          <a:xfrm>
            <a:off x="0" y="1176480"/>
            <a:ext cx="12192120" cy="57988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77520" y="274680"/>
            <a:ext cx="859644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3600" spc="-1" strike="noStrike">
                <a:solidFill>
                  <a:srgbClr val="90c226"/>
                </a:solidFill>
                <a:latin typeface="Trebuchet MS"/>
              </a:rPr>
              <a:t>          </a:t>
            </a:r>
            <a:r>
              <a:rPr b="0" lang="tt-RU" sz="3600" spc="-1" strike="noStrike">
                <a:solidFill>
                  <a:srgbClr val="90c226"/>
                </a:solidFill>
                <a:latin typeface="Trebuchet MS"/>
              </a:rPr>
              <a:t>Чуваш халыкының милли  кием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1476360"/>
            <a:ext cx="10515600" cy="34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3600" spc="-1" strike="noStrike">
                <a:solidFill>
                  <a:srgbClr val="90c226"/>
                </a:solidFill>
                <a:latin typeface="Trebuchet MS"/>
              </a:rPr>
              <a:t>                     </a:t>
            </a:r>
            <a:r>
              <a:rPr b="0" i="1" lang="tt-RU" sz="10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улык</a:t>
            </a:r>
            <a:endParaRPr b="0" lang="en-US" sz="107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"/>
          <p:cNvPicPr/>
          <p:nvPr/>
        </p:nvPicPr>
        <p:blipFill>
          <a:blip r:embed="rId1"/>
          <a:stretch/>
        </p:blipFill>
        <p:spPr>
          <a:xfrm>
            <a:off x="1104840" y="784080"/>
            <a:ext cx="4159440" cy="5715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http://www.classifieds24.ru/images/5554/5553536/large_1.jpg"/>
          <p:cNvPicPr/>
          <p:nvPr/>
        </p:nvPicPr>
        <p:blipFill>
          <a:blip r:embed="rId2"/>
          <a:stretch/>
        </p:blipFill>
        <p:spPr>
          <a:xfrm>
            <a:off x="4989600" y="784080"/>
            <a:ext cx="60958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1859400"/>
            <a:ext cx="7904160" cy="19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0" lang="ru-RU" sz="9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аубулыгыз  </a:t>
            </a:r>
            <a:endParaRPr b="0" lang="en-US" sz="9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2" descr=""/>
          <p:cNvPicPr/>
          <p:nvPr/>
        </p:nvPicPr>
        <p:blipFill>
          <a:blip r:embed="rId1"/>
          <a:stretch/>
        </p:blipFill>
        <p:spPr>
          <a:xfrm>
            <a:off x="627120" y="534960"/>
            <a:ext cx="11037960" cy="5813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2700360"/>
            <a:ext cx="859644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rebuchet MS"/>
              </a:rPr>
              <a:t>                   </a:t>
            </a:r>
            <a:r>
              <a:rPr b="0" i="1" lang="tt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үрек</a:t>
            </a:r>
            <a:endParaRPr b="0" lang="en-US" sz="9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77520" y="4527360"/>
            <a:ext cx="8596440" cy="4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1080" bIns="-1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5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12" descr="C:\Users\Z\Downloads\одежда\распечатка\юююю.jpg"/>
          <p:cNvPicPr/>
          <p:nvPr/>
        </p:nvPicPr>
        <p:blipFill>
          <a:blip r:embed="rId1"/>
          <a:stretch/>
        </p:blipFill>
        <p:spPr>
          <a:xfrm>
            <a:off x="2978280" y="1096920"/>
            <a:ext cx="4728960" cy="4624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2233440" y="3244680"/>
            <a:ext cx="644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tt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tt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әк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1" descr=""/>
          <p:cNvPicPr/>
          <p:nvPr/>
        </p:nvPicPr>
        <p:blipFill>
          <a:blip r:embed="rId1"/>
          <a:stretch/>
        </p:blipFill>
        <p:spPr>
          <a:xfrm>
            <a:off x="1646280" y="874800"/>
            <a:ext cx="7850160" cy="5343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3"/>
          <p:cNvSpPr/>
          <p:nvPr/>
        </p:nvSpPr>
        <p:spPr>
          <a:xfrm>
            <a:off x="2543040" y="1504800"/>
            <a:ext cx="535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tt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tt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үлмәк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8T14:52:37Z</dcterms:created>
  <dc:creator>Z</dc:creator>
  <dc:description/>
  <dc:language>en-US</dc:language>
  <cp:lastModifiedBy>Z</cp:lastModifiedBy>
  <dcterms:modified xsi:type="dcterms:W3CDTF">2017-02-20T19:48:57Z</dcterms:modified>
  <cp:revision>18</cp:revision>
  <dc:subject/>
  <dc:title>Киемнәр</dc:title>
</cp:coreProperties>
</file>