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DFBE-EC69-44FC-B198-3EFE480F1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00D1-E679-491B-AABB-E92EB7D95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6CDA-B6E2-4024-8890-D0D17DB7D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9CDE-0CF2-4D43-B100-2A597733F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CCAFE-6835-4E5D-960F-764FDE647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42828-A792-41D6-ADF3-6C97A1F7F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3D6E5-2943-4CB3-A17A-9329345A5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01DAE-8DE4-4D91-B51F-C999A9240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E068E-113F-4BAD-B366-09F83A2C0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06C01-5ED9-45E9-A3BE-CFCE441AE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A6FD1-6131-49E9-BDE5-3F203E6B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6632-A1EB-4038-97D8-D152CBBAA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250B3-F815-421A-87EC-43B35D50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4D51C-9548-4AF3-ABDC-DB5F9895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E25C2-AB9C-483A-AC7C-245F18072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F78A5-49FC-4678-9526-3075F0075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3BEA1-36B2-4D38-A29C-94F4C03B9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789F8-140A-431B-B55D-16A5B33CB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36EE1-4C02-473C-90A1-15536BED4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C35E5-6DFC-41EE-871F-1E23901B6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BF7B2-345A-4282-8F7C-7D42F5B12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986F6-E6AA-4AE0-B062-980BD4636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4523-9468-4A35-82B1-CE5A49D37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7FA4B-2DE5-47F7-9145-11C3E5A60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E1CF9-0804-49A4-AC31-1E40418E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164FF-2743-414A-899E-A2A9BA14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30555-3820-40DB-9687-3DD874DA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CADC6-A42E-43A2-8183-39806BE7F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E2D90-8F3C-4A95-A96D-D278E6914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B53AA-B4AD-487F-85E7-440A1230C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4236E-2795-467E-B411-6B29D7D3C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11D41-D101-42E3-87DD-222B32B1B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0FBEE-CD0A-4C19-AA93-605FB05C9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02BB-49FF-497C-8C60-AF95AD709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597C4-3960-4AA3-9292-641FA4F0B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ACAA9-9EB1-460F-86D6-D6101782D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D69DE-F571-4302-A226-749996C23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0BCE2-10DA-4A17-B304-DEE2AC60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BFD2D-2856-47C9-95E8-827FEC7F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5FCEA-5D88-4225-B703-2A7F776D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1B203-32A0-46EC-A5D5-50D0ADAAC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DC9C4-471A-44C9-BE05-2603BA6CE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583D3-BBB6-47EB-83F1-AACCF8B7C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6AFD-8821-4D23-A8FF-69D348F8A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62A7-A90B-465F-A0E3-4A0A90842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B67D-89A1-428E-B69B-D77040F0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34C1-3FF0-45AB-BA3A-45CAFC14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27E2-FD26-46D4-B560-DA7FB02E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41299C-43E9-434B-97EC-52253192E409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360" y="-7920"/>
            <a:ext cx="12192480" cy="6865920"/>
            <a:chOff x="-360" y="-7920"/>
            <a:chExt cx="12192480" cy="6865920"/>
          </a:xfrm>
        </p:grpSpPr>
        <p:sp>
          <p:nvSpPr>
            <p:cNvPr id="53" name="Straight Connector 31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Isosceles Triangle 26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Isosceles Triangle 30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18"/>
            <p:cNvSpPr/>
            <p:nvPr/>
          </p:nvSpPr>
          <p:spPr>
            <a:xfrm rot="10800000">
              <a:off x="0" y="-360"/>
              <a:ext cx="842760" cy="566604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317898-D918-46F0-BB0D-2F8E69D4CC14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A4056E-56A3-41B7-94E7-E5056EE066EC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6782FF-7813-46B3-A8E1-FADDA4F71867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6120" y="609480"/>
            <a:ext cx="8242200" cy="302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6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    </a:t>
            </a:r>
            <a:r>
              <a:rPr b="0" lang="ru-RU" sz="96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Киемн</a:t>
            </a:r>
            <a:r>
              <a:rPr b="0" lang="tt-RU" sz="96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әр</a:t>
            </a:r>
            <a:endParaRPr b="0" lang="en-US" sz="9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31760" y="3286080"/>
            <a:ext cx="9731520" cy="199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t-RU" sz="8800" spc="-1" strike="noStrike">
                <a:solidFill>
                  <a:srgbClr val="74330c"/>
                </a:solidFill>
                <a:latin typeface="Times New Roman"/>
                <a:ea typeface="Times New Roman"/>
              </a:rPr>
              <a:t>        </a:t>
            </a:r>
            <a:r>
              <a:rPr b="0" lang="tt-RU" sz="8000" spc="-1" strike="noStrike">
                <a:solidFill>
                  <a:srgbClr val="74330c"/>
                </a:solidFill>
                <a:latin typeface="Times New Roman"/>
                <a:ea typeface="Times New Roman"/>
              </a:rPr>
              <a:t>Оде</a:t>
            </a:r>
            <a:r>
              <a:rPr b="0" lang="ru-RU" sz="8000" spc="-1" strike="noStrike">
                <a:solidFill>
                  <a:srgbClr val="74330c"/>
                </a:solidFill>
                <a:latin typeface="Times New Roman"/>
                <a:ea typeface="Times New Roman"/>
              </a:rPr>
              <a:t>жда</a:t>
            </a:r>
            <a:endParaRPr b="0" lang="en-US" sz="80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2847600" y="5343120"/>
            <a:ext cx="684540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t-RU" sz="2600" spc="-1" strike="noStrike">
                <a:solidFill>
                  <a:srgbClr val="212d32"/>
                </a:solidFill>
                <a:latin typeface="Times New Roman"/>
                <a:ea typeface="Times New Roman"/>
              </a:rPr>
              <a:t>1 категорияле татар теле һәм әдәбияты укытучысы Хәйруллина Фәйрүзә Сәлих кызы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Рисунок 3" descr=""/>
          <p:cNvPicPr/>
          <p:nvPr/>
        </p:nvPicPr>
        <p:blipFill>
          <a:blip r:embed="rId1"/>
          <a:stretch/>
        </p:blipFill>
        <p:spPr>
          <a:xfrm>
            <a:off x="2063880" y="614520"/>
            <a:ext cx="7994520" cy="5968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1966680"/>
            <a:ext cx="8596440" cy="182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t-RU" sz="96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        </a:t>
            </a:r>
            <a:r>
              <a:rPr b="0" i="1" lang="tt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лбар</a:t>
            </a:r>
            <a:endParaRPr b="0" lang="en-US" sz="9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6" descr="http://www.bookin.org.ru/book/2910106.jpg"/>
          <p:cNvPicPr/>
          <p:nvPr/>
        </p:nvPicPr>
        <p:blipFill>
          <a:blip r:embed="rId1"/>
          <a:stretch/>
        </p:blipFill>
        <p:spPr>
          <a:xfrm>
            <a:off x="1084320" y="1085760"/>
            <a:ext cx="8448480" cy="57722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03440" y="1836720"/>
            <a:ext cx="8596080" cy="182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t-RU" sz="4000" spc="-1" strike="noStrike">
                <a:solidFill>
                  <a:srgbClr val="90c226"/>
                </a:solidFill>
                <a:latin typeface="Trebuchet MS"/>
              </a:rPr>
              <a:t>                   </a:t>
            </a:r>
            <a:r>
              <a:rPr b="0" i="1" lang="tt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фта </a:t>
            </a:r>
            <a:r>
              <a:rPr b="0" i="1" lang="tt-RU" sz="96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</a:t>
            </a:r>
            <a:r>
              <a:rPr b="0" lang="tt-RU" sz="4000" spc="-1" strike="noStrike">
                <a:solidFill>
                  <a:srgbClr val="90c226"/>
                </a:solidFill>
                <a:latin typeface="Trebuchet MS"/>
              </a:rPr>
              <a:t>  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77520" y="4527360"/>
            <a:ext cx="8596440" cy="4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1080" bIns="-1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500" spc="-1" strike="noStrike">
              <a:solidFill>
                <a:srgbClr val="7f7f7f"/>
              </a:solidFill>
              <a:latin typeface="Trebuchet MS"/>
            </a:endParaRPr>
          </a:p>
        </p:txBody>
      </p:sp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Рисунок 3" descr=""/>
          <p:cNvPicPr/>
          <p:nvPr/>
        </p:nvPicPr>
        <p:blipFill>
          <a:blip r:embed="rId1"/>
          <a:stretch/>
        </p:blipFill>
        <p:spPr>
          <a:xfrm>
            <a:off x="992160" y="652320"/>
            <a:ext cx="9366120" cy="59184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17720" y="1619280"/>
            <a:ext cx="8596080" cy="209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t-RU" sz="96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        </a:t>
            </a:r>
            <a:r>
              <a:rPr b="0" i="1" lang="tt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яләй</a:t>
            </a:r>
            <a:endParaRPr b="0" lang="en-US" sz="9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77520" y="4527360"/>
            <a:ext cx="8596440" cy="4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1080" bIns="-1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500" spc="-1" strike="noStrike">
              <a:solidFill>
                <a:srgbClr val="7f7f7f"/>
              </a:solidFill>
              <a:latin typeface="Trebuchet MS"/>
            </a:endParaRPr>
          </a:p>
        </p:txBody>
      </p:sp>
    </p:spTree>
  </p:cSld>
  <p:transition spd="slow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77520" y="2700360"/>
            <a:ext cx="8596440" cy="18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77520" y="4527720"/>
            <a:ext cx="859644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2000" spc="-1" strike="noStrike">
              <a:solidFill>
                <a:srgbClr val="7f7f7f"/>
              </a:solidFill>
              <a:latin typeface="Trebuchet MS"/>
            </a:endParaRPr>
          </a:p>
        </p:txBody>
      </p:sp>
      <p:pic>
        <p:nvPicPr>
          <p:cNvPr id="234" name="Рисунок 4" descr=""/>
          <p:cNvPicPr/>
          <p:nvPr/>
        </p:nvPicPr>
        <p:blipFill>
          <a:blip r:embed="rId1"/>
          <a:stretch/>
        </p:blipFill>
        <p:spPr>
          <a:xfrm>
            <a:off x="831960" y="379440"/>
            <a:ext cx="10515600" cy="6008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920960" y="1593720"/>
            <a:ext cx="863424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tt-RU" sz="3600" spc="-1" strike="noStrike">
                <a:solidFill>
                  <a:srgbClr val="90c226"/>
                </a:solidFill>
                <a:latin typeface="Trebuchet MS"/>
              </a:rPr>
              <a:t>                 </a:t>
            </a:r>
            <a:r>
              <a:rPr b="0" i="1" lang="tt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фли</a:t>
            </a:r>
            <a:endParaRPr b="0" lang="en-US" sz="9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Рисунок 1" descr=""/>
          <p:cNvPicPr/>
          <p:nvPr/>
        </p:nvPicPr>
        <p:blipFill>
          <a:blip r:embed="rId1"/>
          <a:stretch/>
        </p:blipFill>
        <p:spPr>
          <a:xfrm>
            <a:off x="0" y="380880"/>
            <a:ext cx="12192120" cy="60962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96560" y="1893600"/>
            <a:ext cx="8713800" cy="184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t-RU" sz="4000" spc="-1" strike="noStrike">
                <a:solidFill>
                  <a:srgbClr val="000000"/>
                </a:solidFill>
                <a:latin typeface="Trebuchet MS"/>
              </a:rPr>
              <a:t>           </a:t>
            </a:r>
            <a:r>
              <a:rPr b="0" i="1" lang="tt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ез итек</a:t>
            </a:r>
            <a:endParaRPr b="0" lang="en-US" sz="9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77520" y="4527360"/>
            <a:ext cx="8596440" cy="4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1080" bIns="-1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500" spc="-1" strike="noStrike">
              <a:solidFill>
                <a:srgbClr val="7f7f7f"/>
              </a:solidFill>
              <a:latin typeface="Trebuchet MS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5" descr="http://neuroscience.spb.ru/img/pokupat-platki-2.jpg"/>
          <p:cNvPicPr/>
          <p:nvPr/>
        </p:nvPicPr>
        <p:blipFill>
          <a:blip r:embed="rId1"/>
          <a:stretch/>
        </p:blipFill>
        <p:spPr>
          <a:xfrm>
            <a:off x="1593720" y="1189080"/>
            <a:ext cx="8164800" cy="50688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Рисунок 6" descr=""/>
          <p:cNvPicPr/>
          <p:nvPr/>
        </p:nvPicPr>
        <p:blipFill>
          <a:blip r:embed="rId1"/>
          <a:stretch/>
        </p:blipFill>
        <p:spPr>
          <a:xfrm>
            <a:off x="2390760" y="417600"/>
            <a:ext cx="7732800" cy="61657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Прямоугольник 1"/>
          <p:cNvSpPr/>
          <p:nvPr/>
        </p:nvSpPr>
        <p:spPr>
          <a:xfrm>
            <a:off x="3689280" y="1649520"/>
            <a:ext cx="316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tt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н</a:t>
            </a:r>
            <a:endParaRPr b="0" lang="en-US" sz="9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77520" y="1423800"/>
            <a:ext cx="8596440" cy="161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t-RU" sz="96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</a:t>
            </a:r>
            <a:r>
              <a:rPr b="0" lang="tt-RU" sz="8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Милли киемнәр</a:t>
            </a:r>
            <a:endParaRPr b="0" lang="en-US" sz="8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77520" y="3512880"/>
            <a:ext cx="8596440" cy="151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t-RU" sz="66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 </a:t>
            </a:r>
            <a:r>
              <a:rPr b="0" lang="tt-RU" sz="66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На</a:t>
            </a:r>
            <a:r>
              <a:rPr b="0" lang="ru-RU" sz="66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циональная одежда </a:t>
            </a:r>
            <a:endParaRPr b="0" lang="en-US" sz="6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Рисунок 1" descr=""/>
          <p:cNvPicPr/>
          <p:nvPr/>
        </p:nvPicPr>
        <p:blipFill>
          <a:blip r:embed="rId1"/>
          <a:stretch/>
        </p:blipFill>
        <p:spPr>
          <a:xfrm>
            <a:off x="731880" y="587520"/>
            <a:ext cx="4949640" cy="569592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2" descr=""/>
          <p:cNvPicPr/>
          <p:nvPr/>
        </p:nvPicPr>
        <p:blipFill>
          <a:blip r:embed="rId2"/>
          <a:stretch/>
        </p:blipFill>
        <p:spPr>
          <a:xfrm>
            <a:off x="6060960" y="587520"/>
            <a:ext cx="5291280" cy="56959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Рисунок 1" descr=""/>
          <p:cNvPicPr/>
          <p:nvPr/>
        </p:nvPicPr>
        <p:blipFill>
          <a:blip r:embed="rId1"/>
          <a:stretch/>
        </p:blipFill>
        <p:spPr>
          <a:xfrm>
            <a:off x="0" y="1071720"/>
            <a:ext cx="12192120" cy="578628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77520" y="262080"/>
            <a:ext cx="85964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              </a:t>
            </a: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Рус</a:t>
            </a: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 </a:t>
            </a: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хал</a:t>
            </a:r>
            <a:r>
              <a:rPr b="0" lang="tt-RU" sz="3600" spc="-1" strike="noStrike">
                <a:solidFill>
                  <a:srgbClr val="90c226"/>
                </a:solidFill>
                <a:latin typeface="Trebuchet MS"/>
              </a:rPr>
              <a:t>кының милли киеме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Рисунок 1" descr=""/>
          <p:cNvPicPr/>
          <p:nvPr/>
        </p:nvPicPr>
        <p:blipFill>
          <a:blip r:embed="rId1"/>
          <a:stretch/>
        </p:blipFill>
        <p:spPr>
          <a:xfrm>
            <a:off x="339840" y="585720"/>
            <a:ext cx="5106960" cy="5686560"/>
          </a:xfrm>
          <a:prstGeom prst="rect">
            <a:avLst/>
          </a:prstGeom>
          <a:ln w="0">
            <a:noFill/>
          </a:ln>
        </p:spPr>
      </p:pic>
      <p:pic>
        <p:nvPicPr>
          <p:cNvPr id="249" name="Рисунок 2" descr=""/>
          <p:cNvPicPr/>
          <p:nvPr/>
        </p:nvPicPr>
        <p:blipFill>
          <a:blip r:embed="rId2"/>
          <a:stretch/>
        </p:blipFill>
        <p:spPr>
          <a:xfrm>
            <a:off x="6218280" y="585720"/>
            <a:ext cx="5081400" cy="5686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Рисунок 1" descr=""/>
          <p:cNvPicPr/>
          <p:nvPr/>
        </p:nvPicPr>
        <p:blipFill>
          <a:blip r:embed="rId1"/>
          <a:stretch/>
        </p:blipFill>
        <p:spPr>
          <a:xfrm>
            <a:off x="0" y="1619280"/>
            <a:ext cx="12192120" cy="523872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70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t-RU" sz="3600" spc="-1" strike="noStrike">
                <a:solidFill>
                  <a:srgbClr val="90c226"/>
                </a:solidFill>
                <a:latin typeface="Trebuchet MS"/>
              </a:rPr>
              <a:t>          </a:t>
            </a:r>
            <a:r>
              <a:rPr b="0" lang="tt-RU" sz="3600" spc="-1" strike="noStrike">
                <a:solidFill>
                  <a:srgbClr val="90c226"/>
                </a:solidFill>
                <a:latin typeface="Trebuchet MS"/>
              </a:rPr>
              <a:t>Башкорт  халык милли киеме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Рисунок 1" descr=""/>
          <p:cNvPicPr/>
          <p:nvPr/>
        </p:nvPicPr>
        <p:blipFill>
          <a:blip r:embed="rId1"/>
          <a:stretch/>
        </p:blipFill>
        <p:spPr>
          <a:xfrm>
            <a:off x="1266840" y="274680"/>
            <a:ext cx="3944880" cy="6138720"/>
          </a:xfrm>
          <a:prstGeom prst="rect">
            <a:avLst/>
          </a:prstGeom>
          <a:ln w="0">
            <a:noFill/>
          </a:ln>
        </p:spPr>
      </p:pic>
      <p:pic>
        <p:nvPicPr>
          <p:cNvPr id="253" name="Рисунок 2" descr=""/>
          <p:cNvPicPr/>
          <p:nvPr/>
        </p:nvPicPr>
        <p:blipFill>
          <a:blip r:embed="rId2"/>
          <a:stretch/>
        </p:blipFill>
        <p:spPr>
          <a:xfrm>
            <a:off x="6375240" y="274680"/>
            <a:ext cx="3760920" cy="6138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Рисунок 1" descr=""/>
          <p:cNvPicPr/>
          <p:nvPr/>
        </p:nvPicPr>
        <p:blipFill>
          <a:blip r:embed="rId1"/>
          <a:stretch/>
        </p:blipFill>
        <p:spPr>
          <a:xfrm>
            <a:off x="0" y="1176480"/>
            <a:ext cx="12192120" cy="579888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77520" y="274680"/>
            <a:ext cx="8596440" cy="110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t-RU" sz="3600" spc="-1" strike="noStrike">
                <a:solidFill>
                  <a:srgbClr val="90c226"/>
                </a:solidFill>
                <a:latin typeface="Trebuchet MS"/>
              </a:rPr>
              <a:t>          </a:t>
            </a:r>
            <a:r>
              <a:rPr b="0" lang="tt-RU" sz="3600" spc="-1" strike="noStrike">
                <a:solidFill>
                  <a:srgbClr val="90c226"/>
                </a:solidFill>
                <a:latin typeface="Trebuchet MS"/>
              </a:rPr>
              <a:t>Чуваш халыкының милли  киеме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1476360"/>
            <a:ext cx="10515600" cy="34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t-RU" sz="3600" spc="-1" strike="noStrike">
                <a:solidFill>
                  <a:srgbClr val="90c226"/>
                </a:solidFill>
                <a:latin typeface="Trebuchet MS"/>
              </a:rPr>
              <a:t>                     </a:t>
            </a:r>
            <a:r>
              <a:rPr b="0" i="1" lang="tt-RU" sz="10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улык</a:t>
            </a:r>
            <a:endParaRPr b="0" lang="en-US" sz="107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p:transition spd="slow">
    <p:circl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Рисунок 1" descr=""/>
          <p:cNvPicPr/>
          <p:nvPr/>
        </p:nvPicPr>
        <p:blipFill>
          <a:blip r:embed="rId1"/>
          <a:stretch/>
        </p:blipFill>
        <p:spPr>
          <a:xfrm>
            <a:off x="1104840" y="784080"/>
            <a:ext cx="4159440" cy="5715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" descr="http://www.classifieds24.ru/images/5554/5553536/large_1.jpg"/>
          <p:cNvPicPr/>
          <p:nvPr/>
        </p:nvPicPr>
        <p:blipFill>
          <a:blip r:embed="rId2"/>
          <a:stretch/>
        </p:blipFill>
        <p:spPr>
          <a:xfrm>
            <a:off x="4989600" y="784080"/>
            <a:ext cx="609588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1859400"/>
            <a:ext cx="7904160" cy="19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</a:t>
            </a:r>
            <a:r>
              <a:rPr b="0" lang="ru-RU" sz="9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аубулыгыз  </a:t>
            </a:r>
            <a:endParaRPr b="0" lang="en-US" sz="9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Рисунок 2" descr=""/>
          <p:cNvPicPr/>
          <p:nvPr/>
        </p:nvPicPr>
        <p:blipFill>
          <a:blip r:embed="rId1"/>
          <a:stretch/>
        </p:blipFill>
        <p:spPr>
          <a:xfrm>
            <a:off x="627120" y="534960"/>
            <a:ext cx="11037960" cy="5813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77520" y="2700360"/>
            <a:ext cx="8596440" cy="182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t-RU" sz="4000" spc="-1" strike="noStrike">
                <a:solidFill>
                  <a:srgbClr val="000000"/>
                </a:solidFill>
                <a:latin typeface="Trebuchet MS"/>
              </a:rPr>
              <a:t>                   </a:t>
            </a:r>
            <a:r>
              <a:rPr b="0" i="1" lang="tt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үрек</a:t>
            </a:r>
            <a:endParaRPr b="0" lang="en-US" sz="9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77520" y="4527360"/>
            <a:ext cx="8596440" cy="4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1080" bIns="-1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500" spc="-1" strike="noStrike">
              <a:solidFill>
                <a:srgbClr val="7f7f7f"/>
              </a:solidFill>
              <a:latin typeface="Trebuchet MS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Рисунок 12" descr="C:\Users\Z\Downloads\одежда\распечатка\юююю.jpg"/>
          <p:cNvPicPr/>
          <p:nvPr/>
        </p:nvPicPr>
        <p:blipFill>
          <a:blip r:embed="rId1"/>
          <a:stretch/>
        </p:blipFill>
        <p:spPr>
          <a:xfrm>
            <a:off x="2978280" y="1096920"/>
            <a:ext cx="4728960" cy="46245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Прямоугольник 1"/>
          <p:cNvSpPr/>
          <p:nvPr/>
        </p:nvSpPr>
        <p:spPr>
          <a:xfrm>
            <a:off x="2233440" y="3244680"/>
            <a:ext cx="644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tt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tt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әк</a:t>
            </a:r>
            <a:endParaRPr b="0" lang="en-US" sz="9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Рисунок 1" descr=""/>
          <p:cNvPicPr/>
          <p:nvPr/>
        </p:nvPicPr>
        <p:blipFill>
          <a:blip r:embed="rId1"/>
          <a:stretch/>
        </p:blipFill>
        <p:spPr>
          <a:xfrm>
            <a:off x="1646280" y="874800"/>
            <a:ext cx="7850160" cy="53434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ик 3"/>
          <p:cNvSpPr/>
          <p:nvPr/>
        </p:nvSpPr>
        <p:spPr>
          <a:xfrm>
            <a:off x="2543040" y="1504800"/>
            <a:ext cx="5356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tt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tt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үлмәк</a:t>
            </a:r>
            <a:endParaRPr b="0" lang="en-US" sz="9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18T14:52:37Z</dcterms:created>
  <dc:creator>Z</dc:creator>
  <dc:description/>
  <dc:language>en-US</dc:language>
  <cp:lastModifiedBy>Z</cp:lastModifiedBy>
  <dcterms:modified xsi:type="dcterms:W3CDTF">2017-02-20T19:48:57Z</dcterms:modified>
  <cp:revision>18</cp:revision>
  <dc:subject/>
  <dc:title>Киемнәр</dc:title>
</cp:coreProperties>
</file>