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070E-AC8A-4E6B-9D7D-BFA666BED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6FA5-F1C1-4975-8DBF-7F4C9E44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65BF-BEE9-4321-897F-1D22419CB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D2EC-FA9E-45F8-AFA1-346C2A3F0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8CA5-950B-44B1-B123-6EF5E13C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D7B9-E4D5-4AF9-81DA-7448D363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3830-E670-4B25-910C-FB2FF56A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58A1-0D1B-4559-90E8-4FB5F0DA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A2FA-05C7-4A07-86D8-18E64450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69EF-A0B9-4081-B972-3BCFCA29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BB88-E101-4B39-BC3A-0D6E8128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614D-B40B-4C83-AE67-8CEFBC21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83D0-40B7-4FEE-B07E-CEAABFFCF4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s://2.bp.blogspot.com/-_T6YVfNljSg/W2lN1U2oZKI/AAAAAAAAF-Y/MbsQt1jcIaouawF376kb7HiDlZW66PMfgCLcBGAs/s1600/powerpoint-power-point-background-wallpaper-page-background-photo-picture-image-gif-%2B%25283%2529.jpeg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 дошкольное образовательное учреждение «Детский сад №11»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ru-RU" sz="5400" spc="-1" strike="noStrike">
                <a:solidFill>
                  <a:srgbClr val="cc0066"/>
                </a:solidFill>
                <a:latin typeface="Calibri"/>
              </a:rPr>
              <a:t>Кинезиологические упражнения</a:t>
            </a:r>
            <a:br>
              <a:rPr sz="5400"/>
            </a:br>
            <a:r>
              <a:rPr b="1" i="1" lang="ru-RU" sz="5400" spc="-1" strike="noStrike">
                <a:solidFill>
                  <a:srgbClr val="cc0066"/>
                </a:solidFill>
                <a:latin typeface="Calibri"/>
              </a:rPr>
              <a:t>для дошкольников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943240" y="5028840"/>
            <a:ext cx="2971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шакина Марина Александр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ttps://2.bp.blogspot.com/-_T6YVfNljSg/W2lN1U2oZKI/AAAAAAAAF-Y/MbsQt1jcIaouawF376kb7HiDlZW66PMfgCLcBGAs/s1600/powerpoint-power-point-background-wallpaper-page-background-photo-picture-image-gif-%2B%25283%2529.jpeg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181120" y="2666520"/>
            <a:ext cx="3962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2200" spc="-1" strike="noStrike">
                <a:solidFill>
                  <a:srgbClr val="002060"/>
                </a:solidFill>
                <a:latin typeface="Calibri"/>
              </a:rPr>
              <a:t>"Дыхание носом"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пражнение заключается в том, что дети дышат только одной ноздрей. При этом важно правильно располагать пальцы рук: правая ноздря закрывается правым большим пальцем, левая - мизинцем левой руки. Остальные пальцы всегда направлены вверх. Важно глубоко и неторопливо дышат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609480" y="2590920"/>
            <a:ext cx="4343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s://2.bp.blogspot.com/-_T6YVfNljSg/W2lN1U2oZKI/AAAAAAAAF-Y/MbsQt1jcIaouawF376kb7HiDlZW66PMfgCLcBGAs/s1600/powerpoint-power-point-background-wallpaper-page-background-photo-picture-image-gif-%2B%25283%2529.jpeg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8320" y="213336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“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Надуй шарик”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сходное положение -  лежа на спине. Детям расслабить мышцы живота, начать вдох, надувая в животе воображаемый шарик, например, красного цвета (цвета необходимо менять). Пауза - задержка дыхания. Выдох - втянуть живот как можно сильнее. Пауза - вдох, при этом губы вытягиваются трубочкой и с шумом «пьют» возду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228600" y="2971800"/>
            <a:ext cx="44956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s://2.bp.blogspot.com/-_T6YVfNljSg/W2lN1U2oZKI/AAAAAAAAF-Y/MbsQt1jcIaouawF376kb7HiDlZW66PMfgCLcBGAs/s1600/powerpoint-power-point-background-wallpaper-page-background-photo-picture-image-gif-%2B%25283%2529.jpeg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Calibri"/>
              </a:rPr>
              <a:t>Телесные упражнения</a:t>
            </a:r>
            <a:r>
              <a:rPr b="1" lang="ru-RU" sz="3200" spc="-1" strike="noStrike">
                <a:solidFill>
                  <a:srgbClr val="cc0066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48320" y="2133720"/>
            <a:ext cx="39621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500" spc="-1" strike="noStrike">
                <a:solidFill>
                  <a:srgbClr val="002060"/>
                </a:solidFill>
                <a:latin typeface="Calibri"/>
              </a:rPr>
              <a:t>«Мельница»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ука и противоположная нога вращаются круговыми движениями сначала вперед, затем назад, одновременно с вращением глаз вправо, влево, вверх, вниз. Время выполнения 1-2 минуты. Дыхание произвольно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380988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https://2.bp.blogspot.com/-_T6YVfNljSg/W2lN1U2oZKI/AAAAAAAAF-Y/MbsQt1jcIaouawF376kb7HiDlZW66PMfgCLcBGAs/s1600/powerpoint-power-point-background-wallpaper-page-background-photo-picture-image-gif-%2B%25283%2529.jpeg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266720" y="2209680"/>
            <a:ext cx="4038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«Перекрестное  марширование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Любим мы маршировать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Руки, ноги поднимат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ужно шагать, высоко поднимая колени попеременно касаясь правой и левой рукой по противоположной ноге. Сделать 6 пар движений. Затем,шагать касаясь рукой одноименного колена. Сделать 6 пар движений. Закончить касаниями по противоположной ног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1143000" y="2590920"/>
            <a:ext cx="2514600" cy="37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s://2.bp.blogspot.com/-_T6YVfNljSg/W2lN1U2oZKI/AAAAAAAAF-Y/MbsQt1jcIaouawF376kb7HiDlZW66PMfgCLcBGAs/s1600/powerpoint-power-point-background-wallpaper-page-background-photo-picture-image-gif-%2B%25283%2529.jpeg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0" y="2209320"/>
            <a:ext cx="3581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1" lang="ru-RU" sz="2500" spc="-1" strike="noStrike">
                <a:solidFill>
                  <a:srgbClr val="002060"/>
                </a:solidFill>
                <a:latin typeface="Calibri"/>
              </a:rPr>
              <a:t>«Колено – локоть»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тоя. Поднять и согнуть левую ногу в колене, локтем правой руки дотронуться до колена левой ноги, затем тоже с правой ногой и левой рукой. Повторить упражнение 8–10 раз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1219320" y="1981080"/>
            <a:ext cx="25444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s://2.bp.blogspot.com/-_T6YVfNljSg/W2lN1U2oZKI/AAAAAAAAF-Y/MbsQt1jcIaouawF376kb7HiDlZW66PMfgCLcBGAs/s1600/powerpoint-power-point-background-wallpaper-page-background-photo-picture-image-gif-%2B%25283%2529.jpeg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952880" y="2133720"/>
            <a:ext cx="37339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1" lang="ru-RU" sz="2500" spc="-1" strike="noStrike">
                <a:solidFill>
                  <a:srgbClr val="002060"/>
                </a:solidFill>
                <a:latin typeface="Calibri"/>
              </a:rPr>
              <a:t>«Крюки».</a:t>
            </a:r>
            <a:r>
              <a:rPr b="1" i="1" lang="ru-RU" sz="25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ожно выполнять стоя, сидя, лежа. Скрестите лодыжки ног, как удобно. Затем вытяните руки вперед, скрестив ладони друг к другу, сцепив пальцы в замок, вывернуть руки внутрь на уровне груди так, чтобы локти были направлены вниз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1219320" y="2286000"/>
            <a:ext cx="293364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s://2.bp.blogspot.com/-_T6YVfNljSg/W2lN1U2oZKI/AAAAAAAAF-Y/MbsQt1jcIaouawF376kb7HiDlZW66PMfgCLcBGAs/s1600/powerpoint-power-point-background-wallpaper-page-background-photo-picture-image-gif-%2B%25283%2529.jpeg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091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Для того чтобы дети настроились на работу и потом после нее отдохнули и эмоционально и физически, существуют специальные упражнения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Calibri"/>
              </a:rPr>
              <a:t>Тонус и релакса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«Яблоки в саду»,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«Кулачки»,  «Лед и огонь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cc0066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cc0066"/>
                </a:solidFill>
                <a:latin typeface="Calibri"/>
              </a:rPr>
              <a:t>Глазодвигательные упражн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2200" spc="-1" strike="noStrike">
                <a:solidFill>
                  <a:srgbClr val="002060"/>
                </a:solidFill>
                <a:latin typeface="Calibri"/>
              </a:rPr>
              <a:t>«Глаза и язык»,  «Восьмерка», 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«Взгляд влево вверх», «Слон»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«Глаз – путешественник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s://2.bp.blogspot.com/-_T6YVfNljSg/W2lN1U2oZKI/AAAAAAAAF-Y/MbsQt1jcIaouawF376kb7HiDlZW66PMfgCLcBGAs/s1600/powerpoint-power-point-background-wallpaper-page-background-photo-picture-image-gif-%2B%25283%2529.jpeg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Учёные, занимающиеся вопросами развития речи, указывают на то, что одной из важнейших проблем дошкольного детства на современном этапе является увеличение количества детей с патологиями в развитии речи. Самый благоприятный период для развития интеллектуальных, речевых, творческих возможностей человека от 3 до 9 лет, когда кора больших полушарий ещё окончательно не сформирована. Именно в этом возрасте необходимо развивать память, восприятие, мышление, и особенно, реч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s://2.bp.blogspot.com/-_T6YVfNljSg/W2lN1U2oZKI/AAAAAAAAF-Y/MbsQt1jcIaouawF376kb7HiDlZW66PMfgCLcBGAs/s1600/powerpoint-power-point-background-wallpaper-page-background-photo-picture-image-gif-%2B%25283%2529.jpeg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5331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КИНЕЗИОЛОГИЯ – наука о развитии головного мозга через движение, о развитии умственных способностей и физического здоровья через определённые двигательные упражн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Кинезиологические упражнения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- комплекс движений, позволяющих активизировать межполушарное взаимодействие, при котором полушария обмениваются информацией, происходит синхронизация их рабо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s://2.bp.blogspot.com/-_T6YVfNljSg/W2lN1U2oZKI/AAAAAAAAF-Y/MbsQt1jcIaouawF376kb7HiDlZW66PMfgCLcBGAs/s1600/powerpoint-power-point-background-wallpaper-page-background-photo-picture-image-gif-%2B%25283%2529.jpeg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гимнастики мозга можно проводить в виде физкультминуток или как самостоятельную часть заняти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инезиологические упражнения помогают улучшить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Yu Gothic Medium"/>
              </a:rPr>
              <a:t>Памя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Yu Gothic Medium"/>
              </a:rPr>
              <a:t>Внима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Yu Gothic Medium"/>
              </a:rPr>
              <a:t>Реч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Yu Gothic Medium"/>
              </a:rPr>
              <a:t>Пространственные представл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Yu Gothic Medium"/>
              </a:rPr>
              <a:t>Мелкую и общую моторик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Yu Gothic Medium"/>
              </a:rPr>
              <a:t>Снизить утомляем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Yu Gothic Medium"/>
              </a:rPr>
              <a:t>Повысить способность к произвольному контрол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Yu Gothic Medium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Yu Gothic Medium"/>
              </a:rPr>
              <a:t>При этом, чем интенсивнее нагрузка, тем значительнее эти изменения. Данная методика позволяет выявить скрытые способности ребёнка и расширить границы возможностей его мозга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незиологическими движениями пользовались Гиппократ и Аристотел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s://2.bp.blogspot.com/-_T6YVfNljSg/W2lN1U2oZKI/AAAAAAAAF-Y/MbsQt1jcIaouawF376kb7HiDlZW66PMfgCLcBGAs/s1600/powerpoint-power-point-background-wallpaper-page-background-photo-picture-image-gif-%2B%25283%2529.jpeg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400" spc="-1" strike="noStrike">
                <a:solidFill>
                  <a:srgbClr val="cc0066"/>
                </a:solidFill>
                <a:latin typeface="Calibri"/>
              </a:rPr>
              <a:t>Виды кинезиологических упражнений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тяжки нормализуют гипертонус (неконтролируемое чрезмерное мышечное напряжение) и гипотонус (неконтролируемая мышечная вялость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ыхательные упражнения улучшают ритмику организма, развивают самоконтроль и произволь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лазодвигательные упражнения позволяют расширить поле зрения, улучшить восприятие. Однонаправленные и разнонаправленные движения глаз и языка развивают межполушарное взаимодействие и повышают энергетизацию организ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выполнении телесных движений развивается межполушарное взаимодействие, снимаются непроизвольные, непреднамеренные движения и мышечные зажимы. Оказывается, человеку для закрепления мысли необходимо движ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пражнения для релаксации способствуют расслаблению, снятию напряжения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s://2.bp.blogspot.com/-_T6YVfNljSg/W2lN1U2oZKI/AAAAAAAAF-Y/MbsQt1jcIaouawF376kb7HiDlZW66PMfgCLcBGAs/s1600/powerpoint-power-point-background-wallpaper-page-background-photo-picture-image-gif-%2B%25283%2529.jpeg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Calibri"/>
              </a:rPr>
              <a:t>«Растяжк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1219320" y="2362320"/>
            <a:ext cx="2896920" cy="3498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266720" y="2285640"/>
            <a:ext cx="4038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“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неговик”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ставьте, что каждый из вас только что слепленный снеговик. Тело твердое, как замерзший снег. Пришла весна, пригрело солнце, и снеговик начал таять. Сначала “тает” и повисает голова, затем опускаются плечи, расслабляются руки и т. д. В конце упражнения ребенок мягко падает на пол и изображает лужицу воды. Необходимо расслабиться. Пригрело солнышко, вода в лужице стала испаряться и превратилась в легкое облачко. Дует ветер и гонит облачко по неб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s://2.bp.blogspot.com/-_T6YVfNljSg/W2lN1U2oZKI/AAAAAAAAF-Y/MbsQt1jcIaouawF376kb7HiDlZW66PMfgCLcBGAs/s1600/powerpoint-power-point-background-wallpaper-page-background-photo-picture-image-gif-%2B%25283%2529.jpeg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0" y="2209680"/>
            <a:ext cx="4114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“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Дерево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ходное положение – сидя на корточках. Спрятать голову в колени, обхватить их руками. Представьте, что вы - семечко, которое постепенно прорастает и превращается в дерево. Медленно поднимитесь на ноги, затем распрямите туловище, вытяните руки вверх. Затем напрягите тело и вытянитесь. Подул ветер – вы раскачиваетесь, как дерев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762120" y="1981080"/>
            <a:ext cx="344808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s://2.bp.blogspot.com/-_T6YVfNljSg/W2lN1U2oZKI/AAAAAAAAF-Y/MbsQt1jcIaouawF376kb7HiDlZW66PMfgCLcBGAs/s1600/powerpoint-power-point-background-wallpaper-page-background-photo-picture-image-gif-%2B%25283%2529.jpeg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266720" y="1447920"/>
            <a:ext cx="4876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       “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Тряпичная кукла и солдат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сходное положение – стоя. Полностью выпрямитесь и вытянитесь в струнку как солдат. Застыньте в этой позе, как будто вы одеревенели, и не двигайтесь. Теперь наклонитесь вперед и расставьте руки, чтобы они болтались как тряпки. Станьте такими же мягкими и подвижными, как тряпичная кукла. Слегка согните колени и почувствуйте, как ваши кости становятся мягкими, а суставы очень подвижными. Теперь снова покажите солдата, вытянутого в струнку и абсолютно прямого и негнущегося, как будто вырезанного из дерева. Дети попеременно бывают то солдатом, то куклой, до тех пор, пока вы не почувствуете, что они уже вполне расслабилис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762120" y="1600200"/>
            <a:ext cx="1447560" cy="4191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1981080" y="380988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s://2.bp.blogspot.com/-_T6YVfNljSg/W2lN1U2oZKI/AAAAAAAAF-Y/MbsQt1jcIaouawF376kb7HiDlZW66PMfgCLcBGAs/s1600/powerpoint-power-point-background-wallpaper-page-background-photo-picture-image-gif-%2B%25283%2529.jpeg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Calibri"/>
              </a:rPr>
              <a:t>Дыхательные упражн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876560" y="213336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“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Свеча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сходное положение – сидя за столом. Представьте, что перед вами стоит большая свеча. Сделайте глубокий вдох и постарайтесь одним выдохом задуть свечу. А теперь представьте перед собой 5 маленьких свечек. Сделайте глубокий вдох и задуйте эти свечи маленькими порциями выдох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1295280" y="2362320"/>
            <a:ext cx="31258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0-01T15:56:44Z</dcterms:created>
  <dc:creator>илюша</dc:creator>
  <dc:description/>
  <dc:language>en-US</dc:language>
  <cp:lastModifiedBy>илюша</cp:lastModifiedBy>
  <dcterms:modified xsi:type="dcterms:W3CDTF">2020-11-08T19:07:44Z</dcterms:modified>
  <cp:revision>23</cp:revision>
  <dc:subject/>
  <dc:title>Слайд 1</dc:title>
</cp:coreProperties>
</file>