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E4B-BA4E-47E3-9018-E9A6F2FB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0D2-CA35-4153-B78A-6E803ECC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D56-47FF-41AB-8684-30F9A709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41E-C507-4772-B60B-6F4033FE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C3F2-71D4-466C-A627-649A1AF4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766-8CA5-45B0-A31E-C767DAC6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6D8-1297-4457-8515-DD6821B7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CE5-6BAD-480B-B299-D283A3C2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8B5-4187-458A-84B5-1239F69C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73C-0CCA-4867-A714-6FE18906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025-F78C-4BD9-AD4F-E9D0265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1A1C-33FF-45DA-B361-35FD2EAC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6739-0C3B-4F77-B206-9F79AC7C4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 дошкольное образовательное учреждение «Детский сад №11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5400" spc="-1" strike="noStrike">
                <a:solidFill>
                  <a:srgbClr val="cc0066"/>
                </a:solidFill>
                <a:latin typeface="Calibri"/>
              </a:rPr>
              <a:t>Кинезиологические упражнения</a:t>
            </a:r>
            <a:br>
              <a:rPr sz="5400"/>
            </a:br>
            <a:r>
              <a:rPr b="1" i="1" lang="ru-RU" sz="5400" spc="-1" strike="noStrike">
                <a:solidFill>
                  <a:srgbClr val="cc0066"/>
                </a:solidFill>
                <a:latin typeface="Calibri"/>
              </a:rPr>
              <a:t>для дошкольник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943240" y="5028840"/>
            <a:ext cx="2971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акина Марина Александ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181120" y="2666520"/>
            <a:ext cx="3962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"Дыхание носом"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жнение заключается в том, что дети дышат только одной ноздрей. При этом важно правильно располагать пальцы рук: правая ноздря закрывается правым большим пальцем, левая - мизинцем левой руки. Остальные пальцы всегда направлены вверх. Важно глубоко и неторопливо дыша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213336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“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Надуй шарик”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ходное положение -  лежа на спине. Детям расслабить мышцы живота, начать вдох, надувая в животе воображаемый шарик, например, красного цвета (цвета необходимо менять). Пауза - задержка дыхания. Выдох - втянуть живот как можно сильнее. Пауза - вдох, при этом губы вытягиваются трубочкой и с шумом «пьют» возду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4495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Телесные упражнения</a:t>
            </a:r>
            <a:r>
              <a:rPr b="1" lang="ru-RU" sz="3200" spc="-1" strike="noStrike">
                <a:solidFill>
                  <a:srgbClr val="cc0066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2133720"/>
            <a:ext cx="3962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«Мельница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ука и противоположная нога вращаются круговыми движениями сначала вперед, затем назад, одновременно с вращением глаз вправо, влево, вверх, вниз. Время выполнения 1-2 минуты. Дыхание произвольно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38098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66720" y="2209680"/>
            <a:ext cx="403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«Перекрестное  марширование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Любим мы маршировать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Руки, ноги поднима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ужно шагать, высоко поднимая колени попеременно касаясь правой и левой рукой по противоположной ноге. Сделать 6 пар движений. Затем,шагать касаясь рукой одноименного колена. Сделать 6 пар движений. Закончить касаниями по противоположной ног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251460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0" y="2209320"/>
            <a:ext cx="358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«Колено – локоть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оя. Поднять и согнуть левую ногу в колене, локтем правой руки дотронуться до колена левой ноги, затем тоже с правой ногой и левой рукой. Повторить упражнение 8–10 раз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2544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52880" y="2133720"/>
            <a:ext cx="37339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«Крюки».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жно выполнять стоя, сидя, лежа. Скрестите лодыжки ног, как удобно. Затем вытяните руки вперед, скрестив ладони друг к другу, сцепив пальцы в замок, вывернуть руки внутрь на уровне груди так, чтобы локти были направлены вниз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29336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Для того чтобы дети настроились на работу и потом после нее отдохнули и эмоционально и физически, существуют специальные упражнен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Тонус и релакс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«Яблоки в саду»,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«Кулачки»,  «Лед и огонь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c0066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Глазодвигательные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«Глаза и язык»,  «Восьмерка»,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«Взгляд влево вверх», «Слон»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«Глаз – путешественник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чёные, занимающиеся вопросами развития речи, указывают на то, что одной из важнейших проблем дошкольного детства на современном этапе является увеличение количества детей с патологиями в развитии речи. Самый благоприятный период для развития интеллектуальных, речевых, творческих возможностей человека от 3 до 9 лет, когда кора больших полушарий ещё окончательно не сформирована. Именно в этом возрасте необходимо развивать память, восприятие, мышление, и особенно, ре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ИНЕЗИОЛОГИЯ – наука о развитии головного мозга через движение, о развитии умственных способностей и физического здоровья через определённые двигательные упражн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Кинезиологические упражнения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- комплекс движений, позволяющих активизировать межполушарное взаимодействие, при котором полушария обмениваются информацией, происходит синхронизация их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гимнастики мозга можно проводить в виде физкультминуток или как самостоятельную часть занят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незиологические упражнения помогают улучшить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Вним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Ре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Пространственные представ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Мелкую и общую мотори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Снизить утомляем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Повысить способность к произвольному контрол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Yu Gothic Medium"/>
              </a:rPr>
              <a:t>При этом, чем интенсивнее нагрузка, тем значительнее эти изменения. Данная методика позволяет выявить скрытые способности ребёнка и расширить границы возможностей его мозга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зиологическими движениями пользовались Гиппократ и Аристотел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Виды кинезиологических упражнений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яжки нормализуют гипертонус (неконтролируемое чрезмерное мышечное напряжение) и гипотонус (неконтролируемая мышечная вялость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ыхательные упражнения улучшают ритмику организма, развивают самоконтроль и произволь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зодвигательные упражнения позволяют расширить поле зрения, улучшить восприятие. Однонаправленные и разнонаправленные движения глаз и языка развивают межполушарное взаимодействие и повышают энергетизацию орган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выполнении телесных движений развивается межполушарное взаимодействие, снимаются непроизвольные, непреднамеренные движения и мышечные зажимы. Оказывается, человеку для закрепления мысли необходимо дви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жнения для релаксации способствуют расслаблению, снятию напряжения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«Растяж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2896920" cy="3498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266720" y="2285640"/>
            <a:ext cx="4038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“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неговик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ьте, что каждый из вас только что слепленный снеговик. Тело твердое, как замерзший снег. Пришла весна, пригрело солнце, и снеговик начал таять. Сначала “тает” и повисает голова, затем опускаются плечи, расслабляются руки и т. д. В конце упражнения ребенок мягко падает на пол и изображает лужицу воды. Необходимо расслабиться. Пригрело солнышко, вода в лужице стала испаряться и превратилась в легкое облачко. Дует ветер и гонит облачко по неб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0" y="22096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“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ерево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ходное положение – сидя на корточках. Спрятать голову в колени, обхватить их руками. Представьте, что вы - семечко, которое постепенно прорастает и превращается в дерево. Медленно поднимитесь на ноги, затем распрямите туловище, вытяните руки вверх. Затем напрягите тело и вытянитесь. Подул ветер – вы раскачиваетесь, как дере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34480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66720" y="144792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      “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Тряпичная кукла и солдат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ходное положение – стоя. Полностью выпрямитесь и вытянитесь в струнку как солдат. Застыньте в этой позе, как будто вы одеревенели, и не двигайтесь. Теперь наклонитесь вперед и расставьте руки, чтобы они болтались как тряпки. Станьте такими же мягкими и подвижными, как тряпичная кукла. Слегка согните колени и почувствуйте, как ваши кости становятся мягкими, а суставы очень подвижными. Теперь снова покажите солдата, вытянутого в струнку и абсолютно прямого и негнущегося, как будто вырезанного из дерева. Дети попеременно бывают то солдатом, то куклой, до тех пор, пока вы не почувствуете, что они уже вполне расслабилис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1447560" cy="4191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1981080" y="38098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s://2.bp.blogspot.com/-_T6YVfNljSg/W2lN1U2oZKI/AAAAAAAAF-Y/MbsQt1jcIaouawF376kb7HiDlZW66PMfgCLcBGAs/s1600/powerpoint-power-point-background-wallpaper-page-background-photo-picture-image-gif-%2B%25283%2529.jpeg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Дыхательные упраж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876560" y="21333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“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веча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ходное положение – сидя за столом. Представьте, что перед вами стоит большая свеча. Сделайте глубокий вдох и постарайтесь одним выдохом задуть свечу. А теперь представьте перед собой 5 маленьких свечек. Сделайте глубокий вдох и задуйте эти свечи маленькими порциями выдох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3125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01T15:56:44Z</dcterms:created>
  <dc:creator>илюша</dc:creator>
  <dc:description/>
  <dc:language>en-US</dc:language>
  <cp:lastModifiedBy>илюша</cp:lastModifiedBy>
  <dcterms:modified xsi:type="dcterms:W3CDTF">2020-11-08T19:07:44Z</dcterms:modified>
  <cp:revision>23</cp:revision>
  <dc:subject/>
  <dc:title>Слайд 1</dc:title>
</cp:coreProperties>
</file>