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2DB-3B5B-4E0F-A14D-AD262FA4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B30-2C21-45FF-A997-0233D41C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C63-F1FB-46AD-ABE3-6FD5D9DA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EA7-A3BF-4B63-8127-0984A5DF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806-03E6-4A27-9128-F9155C52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883-8C0F-48B2-9AD8-081B8665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14C-507A-45F3-BC2B-00845772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2EA-F0F4-4C41-BDC6-51D983F4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E55-A496-446C-BC92-8724095F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0BF-F2E4-4753-B3ED-FD7C80D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710-9062-4CD2-91B1-574DC79E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4BD-1278-4D0C-8438-1A3728E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E122-12AD-4D8A-9C2F-88B09AA213E5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9000" y="1122480"/>
            <a:ext cx="5651640" cy="19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 Light"/>
              </a:rPr>
              <a:t>Л.Н.Толстой </a:t>
            </a:r>
            <a:br>
              <a:rPr sz="3700"/>
            </a:br>
            <a:r>
              <a:rPr b="1" lang="ru-RU" sz="3700" spc="-1" strike="noStrike">
                <a:solidFill>
                  <a:srgbClr val="000000"/>
                </a:solidFill>
                <a:latin typeface="Calibri Light"/>
              </a:rPr>
              <a:t>«Старый дед и внучек»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литературного чтения 2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Школа Росс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Л"/>
          <p:cNvPicPr/>
          <p:nvPr/>
        </p:nvPicPr>
        <p:blipFill>
          <a:blip r:embed="rId1"/>
          <a:stretch/>
        </p:blipFill>
        <p:spPr>
          <a:xfrm>
            <a:off x="-60480" y="11160"/>
            <a:ext cx="2413080" cy="332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Библиотека в библиотеке FictionBook"/>
          <p:cNvPicPr/>
          <p:nvPr/>
        </p:nvPicPr>
        <p:blipFill>
          <a:blip r:embed="rId2"/>
          <a:stretch/>
        </p:blipFill>
        <p:spPr>
          <a:xfrm>
            <a:off x="468360" y="3990960"/>
            <a:ext cx="4486320" cy="2808360"/>
          </a:xfrm>
          <a:prstGeom prst="rect">
            <a:avLst/>
          </a:prstGeom>
          <a:ln w="0">
            <a:noFill/>
          </a:ln>
        </p:spPr>
      </p:pic>
      <p:sp>
        <p:nvSpPr>
          <p:cNvPr id="45" name="Текст 5"/>
          <p:cNvSpPr/>
          <p:nvPr/>
        </p:nvSpPr>
        <p:spPr>
          <a:xfrm>
            <a:off x="6233040" y="5181480"/>
            <a:ext cx="27745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Зверева М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ОБУ «Знамен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еспублика Марий Э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2020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Библиотека в библиотеке FictionBook"/>
          <p:cNvPicPr/>
          <p:nvPr/>
        </p:nvPicPr>
        <p:blipFill>
          <a:blip r:embed="rId1"/>
          <a:stretch/>
        </p:blipFill>
        <p:spPr>
          <a:xfrm>
            <a:off x="4500720" y="3789360"/>
            <a:ext cx="4485960" cy="2808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324000" y="11592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акие чувства вы испытали, когда прочитали рассказ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24000" y="1052640"/>
            <a:ext cx="65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очему дедушку не сажали за стол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24000" y="1557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очему приняли решение давать ему еду в лоханке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8160" y="2492280"/>
            <a:ext cx="67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складывал Миша из дощече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-127800" y="2997360"/>
            <a:ext cx="89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отреагировали на занятие сына родите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1520" y="3500280"/>
            <a:ext cx="62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почитать родител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6920" y="4149720"/>
            <a:ext cx="56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у учит нас этот расска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7280" y="5714640"/>
            <a:ext cx="8856720" cy="114300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 Light"/>
              </a:rPr>
              <a:t>Кто родителей почитает, тот вовек не погибает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8" name="Picture 4" descr="https://i0.wp.com/heaclub.ru/tim/c0fb3756a7451bc0eeecd248bee103c2/poslovici.jpg"/>
          <p:cNvPicPr/>
          <p:nvPr/>
        </p:nvPicPr>
        <p:blipFill>
          <a:blip r:embed="rId1"/>
          <a:stretch/>
        </p:blipFill>
        <p:spPr>
          <a:xfrm>
            <a:off x="395280" y="333360"/>
            <a:ext cx="81392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Интернет- ресурсы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68360" y="9079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/search?img_url=http%3A%2F%2Fm1.vgorode.ru%2F1605178%2F68314296%2F6.jpeg&amp;uinfo=sw-1920-sh-1080-ww-1899-wh-947-pd-1-wp-16x9_1920x1080&amp;text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ый%20дед%20и%20внучек%20толстой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eask=1&amp;pos=6&amp;lr=75&amp;r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366480" y="2565360"/>
            <a:ext cx="42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dsearch?text=%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й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=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      </a:t>
            </a: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Лев Николаевич  Толстой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Picture 5" descr="Л"/>
          <p:cNvPicPr/>
          <p:nvPr/>
        </p:nvPicPr>
        <p:blipFill>
          <a:blip r:embed="rId1"/>
          <a:stretch/>
        </p:blipFill>
        <p:spPr>
          <a:xfrm>
            <a:off x="2992320" y="1825560"/>
            <a:ext cx="31593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55640" y="333000"/>
            <a:ext cx="76960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Лев Николаевич Толстой прожил 82 года и всю свою жизнь посвятил литературе. Его книги переведены на многие языки, их читают во всем мире. Полное собрание сочинений насчитывает 90 томов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Области от 11 сентября 2009 года писатель Толстой Лев Николаев. - 4 May 2013 - Blog - Chronicles"/>
          <p:cNvPicPr/>
          <p:nvPr/>
        </p:nvPicPr>
        <p:blipFill>
          <a:blip r:embed="rId1"/>
          <a:stretch/>
        </p:blipFill>
        <p:spPr>
          <a:xfrm>
            <a:off x="2843280" y="1700280"/>
            <a:ext cx="4114800" cy="4937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857160" y="542916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сная Поля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прошло все детство Толстого, его трех братьев и младшей сестры, здесь писатель прожил большую часть сво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857160" y="361800"/>
            <a:ext cx="73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л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в Николаевич Толст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28 августа) 9 сентября 1828 года в Крапивенском уезде Тульской губернии, в наследственном имении матери – Ясной Поля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763640" y="1562040"/>
            <a:ext cx="5402160" cy="4076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071960" y="538200"/>
            <a:ext cx="4387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859 г. Толстой открыл в Ясной Поляне школу для крестьянских детей, а затем помог открыть более 20 школ в окрестных деревн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издавал педагогический журнал «Ясная Поляна» в 1862 году и писал поучительные сказки и рассказы для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4071960" y="3092400"/>
            <a:ext cx="3938400" cy="3200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" name="Прямоугольник 5"/>
          <p:cNvSpPr/>
          <p:nvPr/>
        </p:nvSpPr>
        <p:spPr>
          <a:xfrm>
            <a:off x="5086440" y="6308640"/>
            <a:ext cx="19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ченики Льва Толст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63680" y="468360"/>
            <a:ext cx="3100320" cy="3595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" name="Прямоугольник 6"/>
          <p:cNvSpPr/>
          <p:nvPr/>
        </p:nvSpPr>
        <p:spPr>
          <a:xfrm>
            <a:off x="684360" y="4437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. Н. Толстой с детьми крестьян Ясной Поля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графия 19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Книга: Снегурочка, Толстой А.Н. , 45 руб , доставка, почтой, купить - КомБук (Combook.RU)"/>
          <p:cNvPicPr/>
          <p:nvPr/>
        </p:nvPicPr>
        <p:blipFill>
          <a:blip r:embed="rId1"/>
          <a:stretch/>
        </p:blipFill>
        <p:spPr>
          <a:xfrm>
            <a:off x="755640" y="2565360"/>
            <a:ext cx="1871640" cy="24861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Скачать Шедевры книжной иллюстрации - Толстой Л.Н. - Филипок 2011, PDF, RUS torrent - Torrents.DataHunt"/>
          <p:cNvPicPr/>
          <p:nvPr/>
        </p:nvPicPr>
        <p:blipFill>
          <a:blip r:embed="rId2"/>
          <a:stretch/>
        </p:blipFill>
        <p:spPr>
          <a:xfrm>
            <a:off x="3276720" y="1844640"/>
            <a:ext cx="1582560" cy="2108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Толстой Л.Н. - Акула Скачать книгу"/>
          <p:cNvPicPr/>
          <p:nvPr/>
        </p:nvPicPr>
        <p:blipFill>
          <a:blip r:embed="rId3"/>
          <a:stretch/>
        </p:blipFill>
        <p:spPr>
          <a:xfrm>
            <a:off x="5508720" y="1989000"/>
            <a:ext cx="1800000" cy="242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Рассказы о животных Толстой, Л.Н."/>
          <p:cNvPicPr/>
          <p:nvPr/>
        </p:nvPicPr>
        <p:blipFill>
          <a:blip r:embed="rId4"/>
          <a:stretch/>
        </p:blipFill>
        <p:spPr>
          <a:xfrm>
            <a:off x="3995640" y="4221000"/>
            <a:ext cx="159552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Л. Н. Толстой. Рассказы о природе для детей"/>
          <p:cNvPicPr/>
          <p:nvPr/>
        </p:nvPicPr>
        <p:blipFill>
          <a:blip r:embed="rId5"/>
          <a:stretch/>
        </p:blipFill>
        <p:spPr>
          <a:xfrm>
            <a:off x="2268360" y="3860640"/>
            <a:ext cx="1656000" cy="2617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Книга Толстой Лев Николаевич - Собрание произведений для детей скачать бесплатно. Скачать Толстой Лев Николаевич - Собрание прои"/>
          <p:cNvPicPr/>
          <p:nvPr/>
        </p:nvPicPr>
        <p:blipFill>
          <a:blip r:embed="rId6"/>
          <a:stretch/>
        </p:blipFill>
        <p:spPr>
          <a:xfrm>
            <a:off x="6948360" y="4076640"/>
            <a:ext cx="1727280" cy="221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Толстой лев николаевич - детям: книги, рекомендации, рецензии, отзывы"/>
          <p:cNvPicPr/>
          <p:nvPr/>
        </p:nvPicPr>
        <p:blipFill>
          <a:blip r:embed="rId7"/>
          <a:stretch/>
        </p:blipFill>
        <p:spPr>
          <a:xfrm>
            <a:off x="179280" y="4437000"/>
            <a:ext cx="1440000" cy="21132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http://im1-tub-ru.yandex.net/i?id=ba21558290c640bd21df08e4b41a16de-58-144&amp;n=21"/>
          <p:cNvPicPr/>
          <p:nvPr/>
        </p:nvPicPr>
        <p:blipFill>
          <a:blip r:embed="rId8"/>
          <a:stretch/>
        </p:blipFill>
        <p:spPr>
          <a:xfrm>
            <a:off x="2124000" y="765000"/>
            <a:ext cx="1670040" cy="215928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3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6" descr="http://im3-tub-ru.yandex.net/i?id=0d747f80c79c0dffead7150e86d7bb6b-77-144&amp;n=21"/>
          <p:cNvPicPr/>
          <p:nvPr/>
        </p:nvPicPr>
        <p:blipFill>
          <a:blip r:embed="rId9"/>
          <a:stretch/>
        </p:blipFill>
        <p:spPr>
          <a:xfrm>
            <a:off x="4500720" y="907920"/>
            <a:ext cx="1635120" cy="187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http://im1-tub-ru.yandex.net/i?id=afd980e4c415ba2c9746f2791206aca2-31-144&amp;n=21"/>
          <p:cNvPicPr/>
          <p:nvPr/>
        </p:nvPicPr>
        <p:blipFill>
          <a:blip r:embed="rId10"/>
          <a:stretch/>
        </p:blipFill>
        <p:spPr>
          <a:xfrm>
            <a:off x="7451640" y="404640"/>
            <a:ext cx="1441440" cy="1846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http://im0-tub-ru.yandex.net/i?id=3628ff47ec9bb6f4af23dd426c303018-44-144&amp;n=21"/>
          <p:cNvPicPr/>
          <p:nvPr/>
        </p:nvPicPr>
        <p:blipFill>
          <a:blip r:embed="rId11"/>
          <a:stretch/>
        </p:blipFill>
        <p:spPr>
          <a:xfrm>
            <a:off x="5724360" y="4869000"/>
            <a:ext cx="1440000" cy="180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4" descr="http://im2-tub-ru.yandex.net/i?id=76e4ec98c387f4d4db2cec432e42f96e-67-144&amp;n=21"/>
          <p:cNvPicPr/>
          <p:nvPr/>
        </p:nvPicPr>
        <p:blipFill>
          <a:blip r:embed="rId12"/>
          <a:stretch/>
        </p:blipFill>
        <p:spPr>
          <a:xfrm>
            <a:off x="324000" y="549360"/>
            <a:ext cx="1463400" cy="1942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6" descr="http://im1-tub-ru.yandex.net/i?id=da6a65e18d269276d769b934abfa5764-77-144&amp;n=21"/>
          <p:cNvPicPr/>
          <p:nvPr/>
        </p:nvPicPr>
        <p:blipFill>
          <a:blip r:embed="rId13"/>
          <a:stretch/>
        </p:blipFill>
        <p:spPr>
          <a:xfrm>
            <a:off x="7380360" y="2060640"/>
            <a:ext cx="1689120" cy="1655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263520" y="0"/>
            <a:ext cx="85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Книги для детей Л. Н. Толст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6813720" cy="130500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Л.Н.Толсто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«Старый дед и внучек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2" name="Picture 2" descr="Урок литературного чтения во 2 классе по теме"/>
          <p:cNvPicPr/>
          <p:nvPr/>
        </p:nvPicPr>
        <p:blipFill>
          <a:blip r:embed="rId1"/>
          <a:stretch/>
        </p:blipFill>
        <p:spPr>
          <a:xfrm>
            <a:off x="244440" y="1413000"/>
            <a:ext cx="8648640" cy="552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C:\Users\Tanya_B\Pictures\850374.jpg"/>
          <p:cNvPicPr/>
          <p:nvPr/>
        </p:nvPicPr>
        <p:blipFill>
          <a:blip r:embed="rId1"/>
          <a:stretch/>
        </p:blipFill>
        <p:spPr>
          <a:xfrm>
            <a:off x="1709640" y="20520"/>
            <a:ext cx="5742000" cy="4816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2"/>
          <a:stretch/>
        </p:blipFill>
        <p:spPr>
          <a:xfrm>
            <a:off x="1714680" y="4713120"/>
            <a:ext cx="561636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Библиотека в библиотеке FictionBook"/>
          <p:cNvPicPr/>
          <p:nvPr/>
        </p:nvPicPr>
        <p:blipFill>
          <a:blip r:embed="rId1"/>
          <a:stretch/>
        </p:blipFill>
        <p:spPr>
          <a:xfrm>
            <a:off x="34920" y="1147680"/>
            <a:ext cx="3600360" cy="3027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1979640" y="115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426840" y="801720"/>
            <a:ext cx="20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хань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708360" y="117468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лая или продолговатая посуда для стирки белья, мытья посуды, сливания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858480" y="248436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вестк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995640" y="306540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на брата или жена сына, а также замужняя женщина по отношению к братьям и сёстрам её мужа (и их жёнам и мужья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155520" y="4778280"/>
            <a:ext cx="41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аживает – сладит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44520" y="523728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Хорошо устроить, упорядочи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387360" y="570384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Справиться, привести кого-либо к согла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6:51:04Z</dcterms:created>
  <dc:creator>VIENNA XP</dc:creator>
  <dc:description/>
  <dc:language>en-US</dc:language>
  <cp:lastModifiedBy>HP</cp:lastModifiedBy>
  <dcterms:modified xsi:type="dcterms:W3CDTF">2020-11-08T17:22:25Z</dcterms:modified>
  <cp:revision>14</cp:revision>
  <dc:subject/>
  <dc:title>Народная мораль в характере главных героев   Л.Н.Толстого «Старый дед и внуче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