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C99-9349-4FCB-BAEF-1C80CF9E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854-6DAB-48C1-AA4A-8B28E32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2DD-9A83-4575-84D9-66DAE4D6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292D-AD49-4DCF-8656-005CDDD7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F39C-283E-48E2-A78A-F183572C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7F39-F741-42DC-89F3-741CFEC5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03B4-C2C9-46BC-A121-54DA3E37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B3CE-302F-4404-BFA3-2385E958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917F-DCDE-4551-A135-A058C4AD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3301-FADD-44B4-A1CA-21AF01A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6B70-3641-4947-B65C-B10BBDCA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A96-1F8F-4628-96C1-09C7224C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5356-8587-423E-B672-82442BC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0371-9413-4769-A92A-507FC1B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180A-6B12-4AB7-A652-7B2CA991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3764-F379-48CF-BA88-1B41EC59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CDA8-AD46-4D64-8CD7-F5266C01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D63-3C74-4441-8F62-4F45B2F7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33F-A89A-43D0-8213-710154BB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1FF-6D04-46A5-B8C0-B97EA0D2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5F5-6103-4498-B2FB-58EDEAF4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FFF-CF07-460F-BB91-170772F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2FE-4DD1-4110-AF45-18E739E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8BB-4532-446E-BFB9-6186BFD7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A62F-7E57-4268-8DF1-1F74984F38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69DA-3CBA-4C3F-8E45-6335CC0EB7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номастика.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Годонимы города Ох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оженова Екатерина, 7 Б клас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БОУ СОШ №7 г. Ох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м. Д.М.Карбыше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ородские окраины..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Военка"/>
          <p:cNvPicPr/>
          <p:nvPr/>
        </p:nvPicPr>
        <p:blipFill>
          <a:blip r:embed="rId1"/>
          <a:stretch/>
        </p:blipFill>
        <p:spPr>
          <a:xfrm>
            <a:off x="1219320" y="1676520"/>
            <a:ext cx="350496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Дамир"/>
          <p:cNvPicPr/>
          <p:nvPr/>
        </p:nvPicPr>
        <p:blipFill>
          <a:blip r:embed="rId2"/>
          <a:stretch/>
        </p:blipFill>
        <p:spPr>
          <a:xfrm>
            <a:off x="5029200" y="3962520"/>
            <a:ext cx="3581280" cy="2311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6172200" y="3505320"/>
            <a:ext cx="1676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ами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1031400" y="4191120"/>
            <a:ext cx="369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енный городок (Военка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оциологический опрос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местных жителе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ною были заданы следующие 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) Знаете ли вы, в честь кого или чего названа улица, на которой вы проживает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) Нравится ли вам название этой улицы и хотели бы вы ее переименовать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4572000" y="1752480"/>
          <a:ext cx="4305240" cy="39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52480"/>
                    <a:ext cx="4305240" cy="39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ха – здесь и сейча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5" descr="новая Дзержинского"/>
          <p:cNvPicPr/>
          <p:nvPr/>
        </p:nvPicPr>
        <p:blipFill>
          <a:blip r:embed="rId1"/>
          <a:stretch/>
        </p:blipFill>
        <p:spPr>
          <a:xfrm>
            <a:off x="1447920" y="16765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438560" y="3733920"/>
            <a:ext cx="2942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Дзержинског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7" descr="60 лет СССР"/>
          <p:cNvPicPr/>
          <p:nvPr/>
        </p:nvPicPr>
        <p:blipFill>
          <a:blip r:embed="rId2"/>
          <a:stretch/>
        </p:blipFill>
        <p:spPr>
          <a:xfrm>
            <a:off x="5029200" y="1676520"/>
            <a:ext cx="3124080" cy="2133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5105520" y="3809880"/>
            <a:ext cx="304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60 лет ССС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10" descr="skr_11112010163323"/>
          <p:cNvPicPr/>
          <p:nvPr/>
        </p:nvPicPr>
        <p:blipFill>
          <a:blip r:embed="rId3"/>
          <a:stretch/>
        </p:blipFill>
        <p:spPr>
          <a:xfrm>
            <a:off x="1447920" y="4343400"/>
            <a:ext cx="2819160" cy="1871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1668960" y="6172200"/>
            <a:ext cx="2481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ворец Куль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16" descr="i?id=1493cd63c35ddaded21b1c2458d9499f-l&amp;n=13"/>
          <p:cNvPicPr/>
          <p:nvPr/>
        </p:nvPicPr>
        <p:blipFill>
          <a:blip r:embed="rId4"/>
          <a:stretch/>
        </p:blipFill>
        <p:spPr>
          <a:xfrm>
            <a:off x="5105520" y="4267080"/>
            <a:ext cx="2971800" cy="1990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7"/>
          <p:cNvSpPr/>
          <p:nvPr/>
        </p:nvSpPr>
        <p:spPr>
          <a:xfrm>
            <a:off x="4912200" y="6172200"/>
            <a:ext cx="3524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елла на въезде в гор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0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Спасибо 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а внимание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69800" y="5943600"/>
            <a:ext cx="7313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то же такое ономастика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44640" y="2362320"/>
            <a:ext cx="6461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омастика -  в языкознании - совокупность собственных имен, имеющихся в язык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дел языкознания, который изучает собственные имен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и и задачи исследова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579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Цел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ширить кругозор в области ономастик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ить историю родного город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1828800"/>
            <a:ext cx="35816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дач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знать, как возникли названия улиц, и таким образом, изучить историю и географию своего родного город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ить вопрос о роли названия улицы для ее жител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азделы ономасти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тн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Те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Хрематоними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Антроп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о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ргоним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агмоними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Топоними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оспоминания о прошлом Охи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4" descr="Старая Оха 2"/>
          <p:cNvPicPr/>
          <p:nvPr/>
        </p:nvPicPr>
        <p:blipFill>
          <a:blip r:embed="rId1"/>
          <a:stretch/>
        </p:blipFill>
        <p:spPr>
          <a:xfrm>
            <a:off x="1447920" y="1676520"/>
            <a:ext cx="3276360" cy="2235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Старая Оха"/>
          <p:cNvPicPr/>
          <p:nvPr/>
        </p:nvPicPr>
        <p:blipFill>
          <a:blip r:embed="rId2"/>
          <a:stretch/>
        </p:blipFill>
        <p:spPr>
          <a:xfrm>
            <a:off x="5359320" y="1676520"/>
            <a:ext cx="3218040" cy="4800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Старая Оха 1"/>
          <p:cNvPicPr/>
          <p:nvPr/>
        </p:nvPicPr>
        <p:blipFill>
          <a:blip r:embed="rId3"/>
          <a:stretch/>
        </p:blipFill>
        <p:spPr>
          <a:xfrm>
            <a:off x="1447920" y="4038480"/>
            <a:ext cx="3276360" cy="2457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о волнам нашей памяти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600" y="6477120"/>
            <a:ext cx="49528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ывшая улица Лен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бывшая Ленина"/>
          <p:cNvPicPr/>
          <p:nvPr/>
        </p:nvPicPr>
        <p:blipFill>
          <a:blip r:embed="rId1"/>
          <a:stretch/>
        </p:blipFill>
        <p:spPr>
          <a:xfrm>
            <a:off x="3429000" y="4572000"/>
            <a:ext cx="236232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Бывшая Дзержинского"/>
          <p:cNvPicPr/>
          <p:nvPr/>
        </p:nvPicPr>
        <p:blipFill>
          <a:blip r:embed="rId2"/>
          <a:stretch/>
        </p:blipFill>
        <p:spPr>
          <a:xfrm>
            <a:off x="5257800" y="1828800"/>
            <a:ext cx="331488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282280" y="4152960"/>
            <a:ext cx="3603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ывшая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зержинск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7" descr="Дзержинский Ф"/>
          <p:cNvPicPr/>
          <p:nvPr/>
        </p:nvPicPr>
        <p:blipFill>
          <a:blip r:embed="rId3"/>
          <a:stretch/>
        </p:blipFill>
        <p:spPr>
          <a:xfrm>
            <a:off x="1295280" y="1828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ердце нашего город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18" descr="Дворец культуры"/>
          <p:cNvPicPr/>
          <p:nvPr/>
        </p:nvPicPr>
        <p:blipFill>
          <a:blip r:embed="rId1"/>
          <a:stretch/>
        </p:blipFill>
        <p:spPr>
          <a:xfrm>
            <a:off x="1523880" y="1828800"/>
            <a:ext cx="2438640" cy="1657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1"/>
          <p:cNvSpPr/>
          <p:nvPr/>
        </p:nvSpPr>
        <p:spPr>
          <a:xfrm>
            <a:off x="914400" y="350532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ворец Культуры, 1965 г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22" descr="площадь Ленина"/>
          <p:cNvPicPr/>
          <p:nvPr/>
        </p:nvPicPr>
        <p:blipFill>
          <a:blip r:embed="rId2"/>
          <a:stretch/>
        </p:blipFill>
        <p:spPr>
          <a:xfrm>
            <a:off x="914400" y="4191120"/>
            <a:ext cx="3505320" cy="1861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3"/>
          <p:cNvSpPr/>
          <p:nvPr/>
        </p:nvSpPr>
        <p:spPr>
          <a:xfrm>
            <a:off x="3332520" y="6172200"/>
            <a:ext cx="2980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лощадь им. Лени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24" descr="памятник Ленину"/>
          <p:cNvPicPr/>
          <p:nvPr/>
        </p:nvPicPr>
        <p:blipFill>
          <a:blip r:embed="rId3"/>
          <a:stretch/>
        </p:blipFill>
        <p:spPr>
          <a:xfrm>
            <a:off x="5410080" y="1828800"/>
            <a:ext cx="2514600" cy="1768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5"/>
          <p:cNvSpPr/>
          <p:nvPr/>
        </p:nvSpPr>
        <p:spPr>
          <a:xfrm>
            <a:off x="5269320" y="3581280"/>
            <a:ext cx="3131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амятник В.И. Ленин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6" descr="площадь Ленина"/>
          <p:cNvPicPr/>
          <p:nvPr/>
        </p:nvPicPr>
        <p:blipFill>
          <a:blip r:embed="rId4"/>
          <a:stretch/>
        </p:blipFill>
        <p:spPr>
          <a:xfrm>
            <a:off x="4952880" y="4648320"/>
            <a:ext cx="3505320" cy="1382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лица им. Блюхе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5" descr="Блюхер В"/>
          <p:cNvPicPr/>
          <p:nvPr/>
        </p:nvPicPr>
        <p:blipFill>
          <a:blip r:embed="rId1"/>
          <a:stretch/>
        </p:blipFill>
        <p:spPr>
          <a:xfrm>
            <a:off x="914400" y="1828800"/>
            <a:ext cx="3962520" cy="2581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Блюхера"/>
          <p:cNvPicPr/>
          <p:nvPr/>
        </p:nvPicPr>
        <p:blipFill>
          <a:blip r:embed="rId2"/>
          <a:stretch/>
        </p:blipFill>
        <p:spPr>
          <a:xfrm>
            <a:off x="5181480" y="35812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2209680" y="5181480"/>
            <a:ext cx="266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Блюхер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лицы им. Цапко и 60 лет ССС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4" descr="Цапко"/>
          <p:cNvPicPr/>
          <p:nvPr/>
        </p:nvPicPr>
        <p:blipFill>
          <a:blip r:embed="rId1"/>
          <a:stretch/>
        </p:blipFill>
        <p:spPr>
          <a:xfrm>
            <a:off x="3505320" y="1676520"/>
            <a:ext cx="2539800" cy="1866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676520" y="3581280"/>
            <a:ext cx="67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Александр Трофимович Цапко (1884-192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6" descr="ул"/>
          <p:cNvPicPr/>
          <p:nvPr/>
        </p:nvPicPr>
        <p:blipFill>
          <a:blip r:embed="rId2"/>
          <a:stretch/>
        </p:blipFill>
        <p:spPr>
          <a:xfrm>
            <a:off x="1143000" y="4114800"/>
            <a:ext cx="3048120" cy="1917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396800" y="6172200"/>
            <a:ext cx="260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60 лет ССС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92800" y="6095880"/>
            <a:ext cx="2392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ица им. Цапко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5" descr="IMG_20180321_003051_0"/>
          <p:cNvPicPr/>
          <p:nvPr/>
        </p:nvPicPr>
        <p:blipFill>
          <a:blip r:embed="rId3"/>
          <a:stretch/>
        </p:blipFill>
        <p:spPr>
          <a:xfrm>
            <a:off x="4876920" y="4114800"/>
            <a:ext cx="3352680" cy="1932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03-20T21:42:1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