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7DE3-73CC-48AA-8AA2-638F6E15F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F57E-8997-4E50-95E5-22CF6452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9F71-3CD5-48FF-A6AA-6D647391C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7A62-732B-4D9C-A956-18C47F108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C2D6-A926-492D-B76F-7627C7E2B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9D6A7-7EB4-45E5-8405-42239664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AB5F-3E62-4FCD-9AA7-42CDEC8E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150B-D724-4E10-AE67-3FFF350F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1F76-886A-411C-92CE-2A8E91ED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51FAD-6CD9-4189-8E53-8DA46778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51C1-DBBB-479B-8DE6-1C26BE64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B6A9-E63D-4C32-9852-B8EAAF9E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86CB5-90BF-4895-BE5C-4B1B4899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316C-248C-4344-96DE-B659BE68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DE27B-F4A9-4876-84FE-282A032F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9641-772A-4C94-A37C-C8502B5AB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FAFA-D03A-4917-9F6B-86C5C53AF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2A48-F67B-4CBF-976C-99B20A03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2E1F-153F-4642-B751-6941422D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BFCD-EEE3-437A-928B-595A7B5C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1A27-43CC-4ACE-82E5-1E9AAAC1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45BA-21CC-45A3-B926-E7A349D9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372C-62FF-4BC7-842B-58AFAE32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5EF8-CCCB-483B-AD61-1F8A2026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0250-9C3E-430F-BBB9-6FBE9D3865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DCBA-D890-453B-95BD-6F648D8BDED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Ономастика.</a:t>
            </a:r>
            <a:br>
              <a:rPr sz="4000"/>
            </a:b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Годонимы города Охи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876560"/>
            <a:ext cx="72388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Боженова Екатерина, 7 Б класс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БОУ СОШ №7 г. Охи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им. Д.М.Карбышев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Городские окраины..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6" name="Picture 4" descr="Военка"/>
          <p:cNvPicPr/>
          <p:nvPr/>
        </p:nvPicPr>
        <p:blipFill>
          <a:blip r:embed="rId1"/>
          <a:stretch/>
        </p:blipFill>
        <p:spPr>
          <a:xfrm>
            <a:off x="1219320" y="1676520"/>
            <a:ext cx="3504960" cy="2259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Дамир"/>
          <p:cNvPicPr/>
          <p:nvPr/>
        </p:nvPicPr>
        <p:blipFill>
          <a:blip r:embed="rId2"/>
          <a:stretch/>
        </p:blipFill>
        <p:spPr>
          <a:xfrm>
            <a:off x="5029200" y="3962520"/>
            <a:ext cx="3581280" cy="23112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7"/>
          <p:cNvSpPr/>
          <p:nvPr/>
        </p:nvSpPr>
        <p:spPr>
          <a:xfrm>
            <a:off x="6172200" y="3505320"/>
            <a:ext cx="16765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Дамир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1031400" y="4191120"/>
            <a:ext cx="3695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оенный городок (Военка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Социологический опрос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местных жителей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ною были заданы следующие вопросы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) Знаете ли вы, в честь кого или чего названа улица, на которой вы проживаете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2) Нравится ли вам название этой улицы и хотели бы вы ее переименовать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4572000" y="1752480"/>
          <a:ext cx="4305240" cy="39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52480"/>
                    <a:ext cx="4305240" cy="39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ха – здесь и сейчас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Picture 5" descr="новая Дзержинского"/>
          <p:cNvPicPr/>
          <p:nvPr/>
        </p:nvPicPr>
        <p:blipFill>
          <a:blip r:embed="rId1"/>
          <a:stretch/>
        </p:blipFill>
        <p:spPr>
          <a:xfrm>
            <a:off x="1447920" y="1676520"/>
            <a:ext cx="2819160" cy="21142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6"/>
          <p:cNvSpPr/>
          <p:nvPr/>
        </p:nvSpPr>
        <p:spPr>
          <a:xfrm>
            <a:off x="1438560" y="3733920"/>
            <a:ext cx="2942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лица Дзержинского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Picture 7" descr="60 лет СССР"/>
          <p:cNvPicPr/>
          <p:nvPr/>
        </p:nvPicPr>
        <p:blipFill>
          <a:blip r:embed="rId2"/>
          <a:stretch/>
        </p:blipFill>
        <p:spPr>
          <a:xfrm>
            <a:off x="5029200" y="1676520"/>
            <a:ext cx="3124080" cy="21333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8"/>
          <p:cNvSpPr/>
          <p:nvPr/>
        </p:nvSpPr>
        <p:spPr>
          <a:xfrm>
            <a:off x="5105520" y="3809880"/>
            <a:ext cx="3047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лица 60 лет СССР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10" descr="skr_11112010163323"/>
          <p:cNvPicPr/>
          <p:nvPr/>
        </p:nvPicPr>
        <p:blipFill>
          <a:blip r:embed="rId3"/>
          <a:stretch/>
        </p:blipFill>
        <p:spPr>
          <a:xfrm>
            <a:off x="1447920" y="4343400"/>
            <a:ext cx="2819160" cy="18716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1"/>
          <p:cNvSpPr/>
          <p:nvPr/>
        </p:nvSpPr>
        <p:spPr>
          <a:xfrm>
            <a:off x="1668960" y="6172200"/>
            <a:ext cx="24818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Дворец Культур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16" descr="i?id=1493cd63c35ddaded21b1c2458d9499f-l&amp;n=13"/>
          <p:cNvPicPr/>
          <p:nvPr/>
        </p:nvPicPr>
        <p:blipFill>
          <a:blip r:embed="rId4"/>
          <a:stretch/>
        </p:blipFill>
        <p:spPr>
          <a:xfrm>
            <a:off x="5105520" y="4267080"/>
            <a:ext cx="2971800" cy="19908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7"/>
          <p:cNvSpPr/>
          <p:nvPr/>
        </p:nvSpPr>
        <p:spPr>
          <a:xfrm>
            <a:off x="4912200" y="6172200"/>
            <a:ext cx="35244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телла на въезде в город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404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Спасибо </a:t>
            </a:r>
            <a:br>
              <a:rPr sz="4000"/>
            </a:b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за внимание!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369800" y="5943600"/>
            <a:ext cx="7313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Что же такое ономастика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844640" y="2362320"/>
            <a:ext cx="64612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номастика -  в языкознании - совокупность собственных имен, имеющихся в языке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Раздел языкознания, который изучает собственные имен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Цели и задачи исследовани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579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Цели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Расширить кругозор в области ономастики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Изучить историю родного город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81120" y="1828800"/>
            <a:ext cx="35816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Задачи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знать, как возникли названия улиц, и таким образом, изучить историю и географию своего родного города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Изучить вопрос о роли названия улицы для ее жителей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Разделы ономастик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Этноними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Теоними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Хрематонимик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Антропоними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Зооними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Эргоними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рагмонимик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Топонимик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Воспоминания о прошлом Охи…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Picture 4" descr="Старая Оха 2"/>
          <p:cNvPicPr/>
          <p:nvPr/>
        </p:nvPicPr>
        <p:blipFill>
          <a:blip r:embed="rId1"/>
          <a:stretch/>
        </p:blipFill>
        <p:spPr>
          <a:xfrm>
            <a:off x="1447920" y="1676520"/>
            <a:ext cx="3276360" cy="2235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Старая Оха"/>
          <p:cNvPicPr/>
          <p:nvPr/>
        </p:nvPicPr>
        <p:blipFill>
          <a:blip r:embed="rId2"/>
          <a:stretch/>
        </p:blipFill>
        <p:spPr>
          <a:xfrm>
            <a:off x="5359320" y="1676520"/>
            <a:ext cx="3218040" cy="4800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Старая Оха 1"/>
          <p:cNvPicPr/>
          <p:nvPr/>
        </p:nvPicPr>
        <p:blipFill>
          <a:blip r:embed="rId3"/>
          <a:stretch/>
        </p:blipFill>
        <p:spPr>
          <a:xfrm>
            <a:off x="1447920" y="4038480"/>
            <a:ext cx="3276360" cy="2457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о волнам нашей памяти…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14600" y="6477120"/>
            <a:ext cx="49528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Бывшая улица Ленин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4" descr="бывшая Ленина"/>
          <p:cNvPicPr/>
          <p:nvPr/>
        </p:nvPicPr>
        <p:blipFill>
          <a:blip r:embed="rId1"/>
          <a:stretch/>
        </p:blipFill>
        <p:spPr>
          <a:xfrm>
            <a:off x="3429000" y="4572000"/>
            <a:ext cx="2362320" cy="1944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Бывшая Дзержинского"/>
          <p:cNvPicPr/>
          <p:nvPr/>
        </p:nvPicPr>
        <p:blipFill>
          <a:blip r:embed="rId2"/>
          <a:stretch/>
        </p:blipFill>
        <p:spPr>
          <a:xfrm>
            <a:off x="5257800" y="1828800"/>
            <a:ext cx="3314880" cy="23241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5282280" y="4152960"/>
            <a:ext cx="36036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ывшая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лиц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Дзержинског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7" descr="Дзержинский Ф"/>
          <p:cNvPicPr/>
          <p:nvPr/>
        </p:nvPicPr>
        <p:blipFill>
          <a:blip r:embed="rId3"/>
          <a:stretch/>
        </p:blipFill>
        <p:spPr>
          <a:xfrm>
            <a:off x="1295280" y="1828800"/>
            <a:ext cx="3200400" cy="2400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Сердце нашего город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Picture 18" descr="Дворец культуры"/>
          <p:cNvPicPr/>
          <p:nvPr/>
        </p:nvPicPr>
        <p:blipFill>
          <a:blip r:embed="rId1"/>
          <a:stretch/>
        </p:blipFill>
        <p:spPr>
          <a:xfrm>
            <a:off x="1523880" y="1828800"/>
            <a:ext cx="2438640" cy="16574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21"/>
          <p:cNvSpPr/>
          <p:nvPr/>
        </p:nvSpPr>
        <p:spPr>
          <a:xfrm>
            <a:off x="914400" y="3505320"/>
            <a:ext cx="3886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Дворец Культуры, 1965 г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22" descr="площадь Ленина"/>
          <p:cNvPicPr/>
          <p:nvPr/>
        </p:nvPicPr>
        <p:blipFill>
          <a:blip r:embed="rId2"/>
          <a:stretch/>
        </p:blipFill>
        <p:spPr>
          <a:xfrm>
            <a:off x="914400" y="4191120"/>
            <a:ext cx="3505320" cy="18619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3"/>
          <p:cNvSpPr/>
          <p:nvPr/>
        </p:nvSpPr>
        <p:spPr>
          <a:xfrm>
            <a:off x="3332520" y="6172200"/>
            <a:ext cx="29804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лощадь им. Ленин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24" descr="памятник Ленину"/>
          <p:cNvPicPr/>
          <p:nvPr/>
        </p:nvPicPr>
        <p:blipFill>
          <a:blip r:embed="rId3"/>
          <a:stretch/>
        </p:blipFill>
        <p:spPr>
          <a:xfrm>
            <a:off x="5410080" y="1828800"/>
            <a:ext cx="2514600" cy="17683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25"/>
          <p:cNvSpPr/>
          <p:nvPr/>
        </p:nvSpPr>
        <p:spPr>
          <a:xfrm>
            <a:off x="5269320" y="3581280"/>
            <a:ext cx="3131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амятник В.И. Ленину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26" descr="площадь Ленина"/>
          <p:cNvPicPr/>
          <p:nvPr/>
        </p:nvPicPr>
        <p:blipFill>
          <a:blip r:embed="rId4"/>
          <a:stretch/>
        </p:blipFill>
        <p:spPr>
          <a:xfrm>
            <a:off x="4952880" y="4648320"/>
            <a:ext cx="3505320" cy="1382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Улица им. Блюхер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Picture 5" descr="Блюхер В"/>
          <p:cNvPicPr/>
          <p:nvPr/>
        </p:nvPicPr>
        <p:blipFill>
          <a:blip r:embed="rId1"/>
          <a:stretch/>
        </p:blipFill>
        <p:spPr>
          <a:xfrm>
            <a:off x="914400" y="1828800"/>
            <a:ext cx="3962520" cy="2581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Блюхера"/>
          <p:cNvPicPr/>
          <p:nvPr/>
        </p:nvPicPr>
        <p:blipFill>
          <a:blip r:embed="rId2"/>
          <a:stretch/>
        </p:blipFill>
        <p:spPr>
          <a:xfrm>
            <a:off x="5181480" y="3581280"/>
            <a:ext cx="3505320" cy="26290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2209680" y="5181480"/>
            <a:ext cx="2667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лица Блюхер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Улицы им. Цапко и 60 лет СССР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Picture 4" descr="Цапко"/>
          <p:cNvPicPr/>
          <p:nvPr/>
        </p:nvPicPr>
        <p:blipFill>
          <a:blip r:embed="rId1"/>
          <a:stretch/>
        </p:blipFill>
        <p:spPr>
          <a:xfrm>
            <a:off x="3505320" y="1676520"/>
            <a:ext cx="2539800" cy="18669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1676520" y="3581280"/>
            <a:ext cx="6781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Александр Трофимович Цапко (1884-1920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6" descr="ул"/>
          <p:cNvPicPr/>
          <p:nvPr/>
        </p:nvPicPr>
        <p:blipFill>
          <a:blip r:embed="rId2"/>
          <a:stretch/>
        </p:blipFill>
        <p:spPr>
          <a:xfrm>
            <a:off x="1143000" y="4114800"/>
            <a:ext cx="3048120" cy="19177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1396800" y="6172200"/>
            <a:ext cx="2606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лица 60 лет СССР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392800" y="6095880"/>
            <a:ext cx="2392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лица им. Цапко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AutoShape 1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AutoShape 1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AutoShape 2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AutoShape 2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AutoShape 2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25" descr="IMG_20180321_003051_0"/>
          <p:cNvPicPr/>
          <p:nvPr/>
        </p:nvPicPr>
        <p:blipFill>
          <a:blip r:embed="rId3"/>
          <a:stretch/>
        </p:blipFill>
        <p:spPr>
          <a:xfrm>
            <a:off x="4876920" y="4114800"/>
            <a:ext cx="3352680" cy="1932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8-03-20T21:42:12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